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9202-2D37-48F0-8806-ECC24E4B6B1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B3E7-6BAA-42B1-8A8C-80DDDDD26AE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3DF4-CAA5-4B2B-8FA4-31CCE63270B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5966-61B0-43D8-9DAF-832DF64C9F2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0B97-9362-46FA-A561-7797F1B2D32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51B3-1243-4052-BD4E-8705B608C6E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B3F0-0FF6-4267-B9BA-689CF7A1DE2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0ABB-3808-42C6-BA66-6727EAEE3A0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C133-AE1F-4EF2-BF21-2A5F53491EC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9923-A218-4325-9A7D-4B343C23683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14AE-38B9-4C02-95B8-52FA0AD2579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8EF7-EFDB-45DC-BD76-7CB9927CDD3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3905-E88C-463F-8189-A49FEC36668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0EBD-7CA7-4BA6-AE80-A55DEC96117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C537-E02C-4E93-A735-14B9B7C4B2B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0191-1A1E-4F61-9AE4-0A43A39B081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D303-1F61-4D20-A124-EB3F03DB3B9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D324-C7A9-4062-99CA-141926A52A4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B2BB8-B51E-4C1D-AD11-B3AE9CBA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7C54E-8789-4F54-AE6F-75BBBD4C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21530-6988-4612-82A2-BE8F91FD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58DF1-025D-422F-9415-385D555B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3A08-4E96-4F23-8BAD-BFF897434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5313-D1BD-424C-9282-830CD3BAA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D973-34F4-405E-A746-6E65F51C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77B9-F3B5-44C7-A12D-5BDCA382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362F-EF37-435E-927D-1F21AA44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C340-A8C2-42BE-B9F3-47BF4531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81B78-41AE-42F4-87BE-05482C65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F3FD0-11B9-4EEF-8F62-9DA8F2BE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2434A-B7F1-431E-9F66-F0CE2A89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D681-95F8-4C32-8DFA-8218328D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4589-F2D0-4940-BDDF-8381C763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B657-141C-444F-A98F-4159A0FE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FD60-CE9E-4F3A-BA20-9196E9D6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435D2-B78C-4827-8F2C-D8FDD6ED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3B0B1-02C2-4B7F-84C8-EDC062F6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266E4-75F8-4B9F-B5CE-2678BBFB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6B073-ABF1-4954-B340-CB740193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EFE24-21CD-4EE3-806F-05194CC4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4B1F1-CD00-45C0-96DE-B4F3E403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E4851-7DCE-4869-8399-D5EFB49C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E5A0-07A3-4238-A327-A8DBF2EFD405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276C-A30C-4FE2-A69E-89C3658682E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5803-8350-4FE6-9276-B7AEC64C0995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1A4E-63DF-42BC-8EF2-D1D21C11D0C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 het werk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de klas en pri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2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0223-6A55-4C72-BB8E-2A1FA186D05B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B03B-A38E-46D9-A0A8-E49CEA4CE6F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communicatieproc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54764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3851280" y="2060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27640" y="2060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403280" y="5229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ntvanger 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924360" y="5229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oodschap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372360" y="5229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nder  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476360" y="3213000"/>
            <a:ext cx="1800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372360" y="3213000"/>
            <a:ext cx="165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waarnem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interpret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imes New Roman"/>
              </a:rPr>
              <a:t>reager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2050920" y="450828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2050920" y="2565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2987640" y="2349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5508720" y="2349360"/>
            <a:ext cx="576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877080" y="256536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6948360" y="4508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5580000" y="5516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Line 18"/>
          <p:cNvSpPr/>
          <p:nvPr/>
        </p:nvSpPr>
        <p:spPr>
          <a:xfrm flipH="1">
            <a:off x="3347640" y="551664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technieken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baal met woor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le communicatie ; lichaamsta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90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6490-4701-414F-8037-B238785BEAB0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B139-AE53-4C41-AEC8-BC93917C4FA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5599080" y="3809880"/>
            <a:ext cx="2054160" cy="20545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F92D-41BC-483C-8214-BC86C85DEF77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24EA-D9AD-41BA-90F6-CDBAFC337E3C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1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oorzaakt door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Zende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aal (gebruik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volled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congruen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n……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man_communicatie_7411474"/>
          <p:cNvPicPr/>
          <p:nvPr/>
        </p:nvPicPr>
        <p:blipFill>
          <a:blip r:embed="rId1"/>
          <a:stretch/>
        </p:blipFill>
        <p:spPr>
          <a:xfrm>
            <a:off x="5638680" y="3262320"/>
            <a:ext cx="2819520" cy="2114640"/>
          </a:xfrm>
          <a:prstGeom prst="rect">
            <a:avLst/>
          </a:prstGeom>
          <a:ln w="0">
            <a:noFill/>
          </a:ln>
        </p:spPr>
      </p:pic>
      <p:sp>
        <p:nvSpPr>
          <p:cNvPr id="18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6EC9-EE67-4476-8B45-79CC95443EAE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3CBE-F58A-4E17-856C-CA31E95AB9B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9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Veroorzaakt door Onvange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ne rui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ferentieka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kennis/n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n……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53DD-9202-4E8D-8CB6-67C0570CF59D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0DF2-5557-47A5-A33F-276573103CA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iscommunicatie 3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toren in de situ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latie tussen de gespreksperson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houd van de boodscha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02DC-B3EE-451A-87B8-4A58DF344FE7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9A9B-C6A3-443B-BE8C-C5316F4FF3B5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isen aan 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langstell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en ruimte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ptatie en resp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iet je eigen opvatting overd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lte laten vallen ma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C13A-A4B0-409D-A766-E1E3FE5D7897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C62E-6369-4DC4-9E2F-A5BC148E1F0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istervaardighei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en houd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ogconta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jd voor iemand 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pect voor de ander/accept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nikken ( hummen.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duidelijking/doorvr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amenvatten/gevoelens beno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7640" y="1142640"/>
            <a:ext cx="7213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Actief Luis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62040" y="2095560"/>
            <a:ext cx="721368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arom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emand kan zijn verhaal kwijt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serieus geno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oelt zich geaccepteerd, gewaardeerd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an soms zelf zijn probleem al oploss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5" descr="serieus"/>
          <p:cNvPicPr/>
          <p:nvPr/>
        </p:nvPicPr>
        <p:blipFill>
          <a:blip r:embed="rId1"/>
          <a:stretch/>
        </p:blipFill>
        <p:spPr>
          <a:xfrm>
            <a:off x="6629400" y="228600"/>
            <a:ext cx="2362320" cy="1714680"/>
          </a:xfrm>
          <a:prstGeom prst="rect">
            <a:avLst/>
          </a:prstGeom>
          <a:ln w="0">
            <a:noFill/>
          </a:ln>
        </p:spPr>
      </p:pic>
      <p:sp>
        <p:nvSpPr>
          <p:cNvPr id="212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F1A3-B5AF-4788-A30C-BA2947267057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8F9C-5F7B-45D0-8C85-3639BFA7633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2535-159E-4F58-AA32-D717CC5C4883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BC2A-CF27-4E0D-8B81-AE8AD651063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aarne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e je met je zintui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bjectie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ebaseerd op fei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oleerbaar/meetba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bjectief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e persoonlijke waarnem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kleurd door je me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F10E-1F4D-4FAE-BEE9-E8E6A96B0E21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61AE-26C6-460F-9F30-F46426052D4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arnemen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at neem jij waar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3" name="Picture 4" descr="perception_vase"/>
          <p:cNvPicPr/>
          <p:nvPr/>
        </p:nvPicPr>
        <p:blipFill>
          <a:blip r:embed="rId1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vrouw oud of jong"/>
          <p:cNvPicPr/>
          <p:nvPr/>
        </p:nvPicPr>
        <p:blipFill>
          <a:blip r:embed="rId2"/>
          <a:stretch/>
        </p:blipFill>
        <p:spPr>
          <a:xfrm>
            <a:off x="5257800" y="2209680"/>
            <a:ext cx="2908440" cy="2971800"/>
          </a:xfrm>
          <a:prstGeom prst="rect">
            <a:avLst/>
          </a:prstGeom>
          <a:ln w="0">
            <a:noFill/>
          </a:ln>
        </p:spPr>
      </p:pic>
      <p:sp>
        <p:nvSpPr>
          <p:cNvPr id="22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VOORBEEL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4" descr="j0195384"/>
          <p:cNvPicPr/>
          <p:nvPr/>
        </p:nvPicPr>
        <p:blipFill>
          <a:blip r:embed="rId1"/>
          <a:stretch/>
        </p:blipFill>
        <p:spPr>
          <a:xfrm>
            <a:off x="1577880" y="2946240"/>
            <a:ext cx="1797120" cy="1833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216724"/>
          <p:cNvPicPr/>
          <p:nvPr/>
        </p:nvPicPr>
        <p:blipFill>
          <a:blip r:embed="rId2"/>
          <a:stretch/>
        </p:blipFill>
        <p:spPr>
          <a:xfrm>
            <a:off x="5942160" y="1781280"/>
            <a:ext cx="1450800" cy="182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j0240719"/>
          <p:cNvPicPr/>
          <p:nvPr/>
        </p:nvPicPr>
        <p:blipFill>
          <a:blip r:embed="rId3"/>
          <a:stretch/>
        </p:blipFill>
        <p:spPr>
          <a:xfrm>
            <a:off x="6084720" y="4119480"/>
            <a:ext cx="1165320" cy="1825560"/>
          </a:xfrm>
          <a:prstGeom prst="rect">
            <a:avLst/>
          </a:prstGeom>
          <a:ln w="0">
            <a:noFill/>
          </a:ln>
        </p:spPr>
      </p:pic>
      <p:sp>
        <p:nvSpPr>
          <p:cNvPr id="113" name="Tijdelijke aanduiding voor datum 5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8C19-6F1E-4D4D-877F-39B2A7085851}" type="datetime">
              <a:rPr b="0" lang="nl-NL" sz="1200" spc="-1" strike="noStrike">
                <a:solidFill>
                  <a:srgbClr val="ffffff"/>
                </a:solidFill>
                <a:latin typeface="Garamond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ijdelijke aanduiding voor dianumm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41E9-08FA-4B70-B9A3-D71A65F362A7}" type="slidenum">
              <a:rPr b="0" lang="nl-NL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ijdelijke aanduiding voor voettekst 7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Garamond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11" descr="ANd9GcRalqXkh3gG36tvhspbCKSHgA9vpx3kb8I_t40NANpzU2sp-LqL1caBF9w"/>
          <p:cNvPicPr/>
          <p:nvPr/>
        </p:nvPicPr>
        <p:blipFill>
          <a:blip r:embed="rId4"/>
          <a:stretch/>
        </p:blipFill>
        <p:spPr>
          <a:xfrm>
            <a:off x="457200" y="609480"/>
            <a:ext cx="2057400" cy="1481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22FA-C299-4283-9F19-6B0E17803269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CD29-79E3-470E-83CD-7821F080126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SERV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wust en doelgericht waarne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 objectief mogelij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orgeven van verkregen gegevens: rappor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C15D-2390-47AE-8BEB-016CEAF4049D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3003-441B-4D24-A6C5-660F2531C23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erpre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ekenis geven aan de informa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vertalen van de boodschap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1A4A-593E-490C-B82A-1525531CD07D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8817-FF14-4AF3-920D-B7641910797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ijdelijke aanduiding voor voettekst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mmunicatie</a:t>
            </a:r>
            <a:br>
              <a:rPr sz="4000"/>
            </a:br>
            <a:br>
              <a:rPr sz="14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t is communicati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formatie overbre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n de ene persoon naar de ande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9" descr="ANd9GcTiVR6MMbnSl1Cgn2FyqxFXMewp0MKJTbgICm-5Gr4Udx1dRpJj_QN3yw"/>
          <p:cNvPicPr/>
          <p:nvPr/>
        </p:nvPicPr>
        <p:blipFill>
          <a:blip r:embed="rId1"/>
          <a:stretch/>
        </p:blipFill>
        <p:spPr>
          <a:xfrm>
            <a:off x="5029200" y="2286000"/>
            <a:ext cx="1828800" cy="1071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0895-3B94-4229-8E91-42AE01C37A5B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FED1-D9A5-4665-9819-85FC391F543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deling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chriftelij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gita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uisteren/sprek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zen/schrijve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Een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Med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Kran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rad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Tweezijdige 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In gesprek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Persoonlij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elefo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omputer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(actie-reacti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C597-A106-4490-8C0E-A3D39A66949D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A175-72F3-41BC-B87B-5095509B938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atum 4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EECE-010A-4AB5-9917-DE4C560B97FB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9BD1-2475-4CE4-AD12-2D886B686FAE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ijdelijke aanduiding voor voettekst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rbaal en non verba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Verbaal: met woor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0%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n verbaal: zonder woorde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ichaamstaal: 9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faalangst"/>
          <p:cNvPicPr/>
          <p:nvPr/>
        </p:nvPicPr>
        <p:blipFill>
          <a:blip r:embed="rId1"/>
          <a:stretch/>
        </p:blipFill>
        <p:spPr>
          <a:xfrm>
            <a:off x="2743200" y="3505320"/>
            <a:ext cx="3619440" cy="3184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05AF-25F0-4D88-A47B-5A6D8B12599A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9F8A-266D-4CA4-864A-20294605504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Non verbale communicatie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zichtsuitdrukki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uding die je aanneem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fstand t.o.v. een and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leding/verzorg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emgebruik (intonatie, volume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ba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pen en gesloten houd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oe zit je rechterbuurvrouw/man er in de les bij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at kan je hieraan opmerken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tel degene wat jou opvalt aan haar/zijn houding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ijdelijke aanduiding voor datum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6646-A87F-45CF-957B-1442B0CB7727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ijdelijke aanduiding voor voettekst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ijdelijke aanduiding voor dianumm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FBEA-0CFC-434B-A28B-8FD1744DBF6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BD68-702A-4BA8-BD3E-26604B15437E}" type="datetime">
              <a:rPr b="0" lang="nl-NL" sz="1200" spc="-1" strike="noStrike">
                <a:solidFill>
                  <a:srgbClr val="ffffff"/>
                </a:solidFill>
                <a:latin typeface="Arial"/>
              </a:rPr>
              <a:t>28-07-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ijdelijke aanduiding voor dianumm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DB2C-A447-4BBA-89B1-A8B64BBC5D4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congruen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erbale en non verbale communicatie stemmen niet overeen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ie kan een voorbeeld benoem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ijdelijke aanduiding voor voettekst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TA communicatie 2016 NH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8:28:44Z</dcterms:created>
  <dc:creator>NH/ JB</dc:creator>
  <dc:description/>
  <dc:language>en-US</dc:language>
  <cp:lastModifiedBy>Nienke Hoogeveen</cp:lastModifiedBy>
  <dcterms:modified xsi:type="dcterms:W3CDTF">2016-11-03T10:56:08Z</dcterms:modified>
  <cp:revision>24</cp:revision>
  <dc:subject/>
  <dc:title>Communicatie</dc:title>
</cp:coreProperties>
</file>