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33C9-E81F-4109-91BC-8D4ED0DCA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F762-BE4A-42BB-BF57-AE0FA9014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1944-94F6-49FF-A4BB-C0663A044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92C8-42EE-4D73-9CBD-7A69DD257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CBB63-EFD2-4481-A894-74030D952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1BFA0-0E11-4B57-8E85-F1B6EA8D5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71C4A-4735-44CB-BBF2-3802C363D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92576-C9FC-47B8-93A7-DF8C2038C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6666F-DA37-486B-BB0E-8677287C3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67181-730A-44B5-99B4-7FFF5684E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B2035-8927-4EAB-94AA-8FCE7A63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A7EA-DD19-4CB5-8E70-6763E22CD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8AF22-F2B2-430C-8E69-F94E94EEF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D174F-7FE9-49BC-BB2C-0A7A3A223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C9510-6797-4867-B951-A43325807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1A552-C8E9-4ACD-9F52-C9E7C3393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18D24-C151-4BE0-9146-337E997CD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C558-415F-4398-8DA1-3DC0B0ABE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22BE-60DC-40E4-B107-A197ED08B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2772-E9EC-4425-9D9C-8373E9118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C5DF-66C3-41E4-8569-6C5A89733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2589-F72D-4337-A24D-56932EA11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2095-A57F-457A-913A-71C12E276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62C6-B30E-4948-BA43-2A5686F57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575f6d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418320" y="420120"/>
                <a:ext cx="4266720" cy="40356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Oval 6"/>
              <p:cNvSpPr/>
              <p:nvPr/>
            </p:nvSpPr>
            <p:spPr>
              <a:xfrm>
                <a:off x="837000" y="840600"/>
                <a:ext cx="3431160" cy="31932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1255320" y="1261080"/>
                <a:ext cx="2594520" cy="235584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1590120" y="1597680"/>
                <a:ext cx="1923120" cy="16830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Oval 12"/>
              <p:cNvSpPr/>
              <p:nvPr/>
            </p:nvSpPr>
            <p:spPr>
              <a:xfrm>
                <a:off x="3837240" y="3830760"/>
                <a:ext cx="2612880" cy="239724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Oval 13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Oval 14"/>
              <p:cNvSpPr/>
              <p:nvPr/>
            </p:nvSpPr>
            <p:spPr>
              <a:xfrm>
                <a:off x="4409280" y="4398480"/>
                <a:ext cx="1466640" cy="125964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Oval 16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Oval 17"/>
              <p:cNvSpPr/>
              <p:nvPr/>
            </p:nvSpPr>
            <p:spPr>
              <a:xfrm>
                <a:off x="4851360" y="506880"/>
                <a:ext cx="3632760" cy="340668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Oval 18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5563440" y="1216080"/>
                <a:ext cx="2207160" cy="198756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39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d2611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b435b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34C8E-80F3-4E43-863E-0CC8656663E0}" type="datetime">
              <a:rPr b="1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675EE-8C29-4C0F-B2D9-9F1408F13CFD}" type="slidenum">
              <a:rPr b="1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575f6d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Group 3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Group 4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Oval 5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"/>
                <p:cNvSpPr/>
                <p:nvPr/>
              </p:nvSpPr>
              <p:spPr>
                <a:xfrm>
                  <a:off x="418320" y="420120"/>
                  <a:ext cx="4266720" cy="40356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Oval 7"/>
                <p:cNvSpPr/>
                <p:nvPr/>
              </p:nvSpPr>
              <p:spPr>
                <a:xfrm>
                  <a:off x="837000" y="840600"/>
                  <a:ext cx="3431160" cy="31932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Oval 8"/>
                <p:cNvSpPr/>
                <p:nvPr/>
              </p:nvSpPr>
              <p:spPr>
                <a:xfrm>
                  <a:off x="1255320" y="1261080"/>
                  <a:ext cx="2594520" cy="235584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Oval 9"/>
                <p:cNvSpPr/>
                <p:nvPr/>
              </p:nvSpPr>
              <p:spPr>
                <a:xfrm>
                  <a:off x="1590120" y="1597680"/>
                  <a:ext cx="1923120" cy="16830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Group 10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Oval 11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Oval 12"/>
                <p:cNvSpPr/>
                <p:nvPr/>
              </p:nvSpPr>
              <p:spPr>
                <a:xfrm>
                  <a:off x="3518640" y="3515400"/>
                  <a:ext cx="3247560" cy="302544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Oval 13"/>
                <p:cNvSpPr/>
                <p:nvPr/>
              </p:nvSpPr>
              <p:spPr>
                <a:xfrm>
                  <a:off x="3837240" y="3830760"/>
                  <a:ext cx="2612880" cy="239724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Oval 14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Oval 15"/>
                <p:cNvSpPr/>
                <p:nvPr/>
              </p:nvSpPr>
              <p:spPr>
                <a:xfrm>
                  <a:off x="4409280" y="4398480"/>
                  <a:ext cx="1466640" cy="125964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Group 16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Oval 17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Oval 18"/>
                <p:cNvSpPr/>
                <p:nvPr/>
              </p:nvSpPr>
              <p:spPr>
                <a:xfrm>
                  <a:off x="4851360" y="506880"/>
                  <a:ext cx="3632760" cy="340668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Oval 19"/>
                <p:cNvSpPr/>
                <p:nvPr/>
              </p:nvSpPr>
              <p:spPr>
                <a:xfrm>
                  <a:off x="5208840" y="861480"/>
                  <a:ext cx="2917800" cy="269568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Oval 20"/>
                <p:cNvSpPr/>
                <p:nvPr/>
              </p:nvSpPr>
              <p:spPr>
                <a:xfrm>
                  <a:off x="5563440" y="1216080"/>
                  <a:ext cx="2207160" cy="198756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Oval 21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Line 22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fe863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Line 23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fe863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Line 24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fe86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39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d2611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b435b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57B39-400E-43D2-A3EA-8AD2509A8679}" type="datetime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9CECC-2FB2-4096-8503-9C1FBBAB91AB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A869B-AFDA-4C22-B93D-CDCC6D0955D4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24DF1-54B6-4741-8C38-5D9EDBC1CA98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1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Feedback H3, blz 115 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Is informatie van iemand over de effecten van het gedrag van een andere persoon op hem of ha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schrijf waarnem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Geef geen oorde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Terugkoppelen van gedra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ijdelijke aanduiding voor datum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5A4F7-036B-4186-8B0E-B781C0091C4E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ijdelijke aanduiding voor dianumm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91F46-B277-42DB-8D9A-457B80EA2634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Picture 4" descr="C:\Users\kag.hoogeveen\OneDrive - Noorderpoort\Pictures\Pictures\images.png"/>
          <p:cNvPicPr/>
          <p:nvPr/>
        </p:nvPicPr>
        <p:blipFill>
          <a:blip r:embed="rId1"/>
          <a:stretch/>
        </p:blipFill>
        <p:spPr>
          <a:xfrm>
            <a:off x="3348000" y="1341360"/>
            <a:ext cx="40323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32189-2DDC-402E-93DF-651C8C62F102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E1E46-A1EB-48BE-AE87-397D70FA9C73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Verschil feedback en kritie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Kritiek is be- of veroordele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Feedback is beschrijven van waarneming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Kritiek wijst schuldige a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Feedback  geeft geen oorde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Kritiek eist gedragsverande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Feedback geeft keuzemogelijkhe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915CD-A250-4DB4-9D41-6C7C87ADDB49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AC106-71D8-4E63-AC33-EB671359B088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Regels voor feedbac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Geef een ik-boodscha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schrijf je waarnem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schrijf het effect dat het op jou hee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Wees specifiek in tijd, plaat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lak na het voorv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19C82-E23F-40CB-91C8-E184F78EFE10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297AA-4A37-4889-A2B5-60BBA8190888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Vervolg regels feedbac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schrijf alleen veranderbaar gedra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Geef de ander ruimte voor react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Iemand hoeft het niet met je eens te zij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Niet te veel ineens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51B02-2C7A-4D2B-91FE-FE83B75905C6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3D19D-2361-492D-A8B6-A1F248E72B6B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Doel van feedbac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erduidelijkt relaties tussen person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Geef je inzicht 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b435b"/>
              </a:buClr>
              <a:buSzPct val="11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Hoe je met mensen omga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b435b"/>
              </a:buClr>
              <a:buSzPct val="11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Hoe jij op mensen overkom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11907-3D5E-4B96-A554-C99D83FB94D1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06FB0-ACD3-42CB-9649-675058D9F743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Vervolg doel van feedbac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ergroot je zelfkenn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Ondersteunt en bevordert positief gedra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Corrigeert negatief of ongewenst gedra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Draagt bij aan effectieve communicat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A47FB-1CCA-40E0-BF71-676E216F6471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1E8E2-5A98-4495-ABC1-1D568646947F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Ontvangen van feedbac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1.luis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2 Vat sam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3. Waardeer/beoordeel wat is gezeg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Denk er over na!!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A55C5-04A1-4DB5-B960-94B2BB9655BB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B612E-CAC1-43BA-8DF9-FDCA11B10A96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Vervolg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Pas je gedrag aan of ni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Ga niet in de verdedig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96830-E9B3-4D86-8BA1-31F6EABE182C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D61D1-D84F-48C1-A998-B47CB726A48E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Denk na over een conflict(je) dat je had met je ouders/vrienden/st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Hoe verliep het confli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Noteer hoe je het volgens de feedback regels beter had kunnen oploss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ertel dit aan de klas/groep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Opdracht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09:26:29Z</dcterms:created>
  <dc:creator>custom</dc:creator>
  <dc:description/>
  <dc:language>en-US</dc:language>
  <cp:lastModifiedBy>Nienke Hoogeveen</cp:lastModifiedBy>
  <dcterms:modified xsi:type="dcterms:W3CDTF">2016-11-04T07:47:02Z</dcterms:modified>
  <cp:revision>12</cp:revision>
  <dc:subject/>
  <dc:title>Feedback</dc:title>
</cp:coreProperties>
</file>