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A728-DF73-4D8D-90DA-A3C673EC6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359A-7F03-4114-9199-82A9209AA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4F1E-3442-4151-8038-A19398A73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D819-DD4B-4276-ADB6-A7827E0E4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A96A6-AFF6-4603-9EA1-C7D348838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1C5F5-DF54-4881-BD37-CAA45BD77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2157C-D9EE-4DF7-A9FE-3FB8CEDE0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15E2A-15CB-4E4B-910F-45A4C2C7F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34CBA-7001-4FDD-9913-1DD9CD2E0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B5D37-D556-40E7-B585-306E0CE5A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162BD-30A1-42A4-A8D4-ABC3F077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9472-C5E6-48C1-8CE6-16C3D10B6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8E21B-9AE2-4B01-A774-86C0B8BC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9C138-693F-4A15-A349-FE395601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AECB8-38E8-47A2-90D4-E280C9C61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D2970-5B09-4626-ABA6-BD3930A92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0155B-A4C8-4A9E-B723-966B3043E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D220-A036-4859-AF72-91532E81C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64D1-EBED-4762-B9F0-E0DEDD1D1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7DC9-0124-4B39-8BBB-C5B136FDF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06D6-EC9F-4A03-A351-115EF7D14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EA60-90D9-4A54-BD83-8EF420C9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2B16-047A-4315-9F1C-C4963F850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10AC-6039-4552-A575-D9D60F49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575f6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418320" y="420120"/>
                <a:ext cx="4266720" cy="40356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837000" y="840600"/>
                <a:ext cx="3431160" cy="31932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1255320" y="1261080"/>
                <a:ext cx="2594520" cy="235584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1590120" y="1597680"/>
                <a:ext cx="1923120" cy="16830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3837240" y="3830760"/>
                <a:ext cx="2612880" cy="239724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4409280" y="4398480"/>
                <a:ext cx="1466640" cy="125964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16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4851360" y="506880"/>
                <a:ext cx="3632760" cy="340668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Oval 18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5563440" y="1216080"/>
                <a:ext cx="2207160" cy="198756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39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2611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D31C0-23F8-47BE-9EF1-18E4D572D321}" type="datetime">
              <a:rPr b="1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06DAC-1786-422D-8CC2-31D0255CA74B}" type="slidenum">
              <a:rPr b="1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575f6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3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4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5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"/>
                <p:cNvSpPr/>
                <p:nvPr/>
              </p:nvSpPr>
              <p:spPr>
                <a:xfrm>
                  <a:off x="418320" y="420120"/>
                  <a:ext cx="4266720" cy="40356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Oval 7"/>
                <p:cNvSpPr/>
                <p:nvPr/>
              </p:nvSpPr>
              <p:spPr>
                <a:xfrm>
                  <a:off x="837000" y="840600"/>
                  <a:ext cx="3431160" cy="31932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Oval 8"/>
                <p:cNvSpPr/>
                <p:nvPr/>
              </p:nvSpPr>
              <p:spPr>
                <a:xfrm>
                  <a:off x="1255320" y="1261080"/>
                  <a:ext cx="2594520" cy="235584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Oval 9"/>
                <p:cNvSpPr/>
                <p:nvPr/>
              </p:nvSpPr>
              <p:spPr>
                <a:xfrm>
                  <a:off x="1590120" y="1597680"/>
                  <a:ext cx="1923120" cy="16830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10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1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Oval 12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Oval 13"/>
                <p:cNvSpPr/>
                <p:nvPr/>
              </p:nvSpPr>
              <p:spPr>
                <a:xfrm>
                  <a:off x="3837240" y="3830760"/>
                  <a:ext cx="2612880" cy="239724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Oval 14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Oval 15"/>
                <p:cNvSpPr/>
                <p:nvPr/>
              </p:nvSpPr>
              <p:spPr>
                <a:xfrm>
                  <a:off x="4409280" y="4398480"/>
                  <a:ext cx="1466640" cy="125964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16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7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18"/>
                <p:cNvSpPr/>
                <p:nvPr/>
              </p:nvSpPr>
              <p:spPr>
                <a:xfrm>
                  <a:off x="4851360" y="506880"/>
                  <a:ext cx="3632760" cy="340668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19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Oval 20"/>
                <p:cNvSpPr/>
                <p:nvPr/>
              </p:nvSpPr>
              <p:spPr>
                <a:xfrm>
                  <a:off x="5563440" y="1216080"/>
                  <a:ext cx="2207160" cy="198756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Oval 21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Line 22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fe863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fe863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Line 24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fe8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39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2611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E8267-541C-416B-A1C7-98E302E6A196}" type="datetime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CF795-A339-4DDF-865A-59B76F19493C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01A8A-8595-4FAE-AEFB-0109F5115886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473ED-EBF9-4CF9-B718-9AC8A73D6F2F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1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Feedback H3, blz 115 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Is informatie van iemand over de effecten van het gedrag van een andere persoon op hem of ha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waarne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geen oorde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Terugkoppelen van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ijdelijke aanduiding voor datum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E7801-1EA3-4239-B413-515E2A3A43FD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ijdelijke aanduiding voor dianumm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7424B-0F1C-444D-896B-28E2B398F98F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4" descr="C:\Users\kag.hoogeveen\OneDrive - Noorderpoort\Pictures\Pictures\images.png"/>
          <p:cNvPicPr/>
          <p:nvPr/>
        </p:nvPicPr>
        <p:blipFill>
          <a:blip r:embed="rId1"/>
          <a:stretch/>
        </p:blipFill>
        <p:spPr>
          <a:xfrm>
            <a:off x="3348000" y="1341360"/>
            <a:ext cx="40323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674A0-E0A6-44FA-B16F-574A8A15FBE1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3B8D1-DAD6-4AA3-A263-4AB7960D5A01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schil feedback en kritie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Kritiek is be- of veroordel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Feedback is beschrijven van waarneming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Kritiek wijst schuldige a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Feedback  geeft geen oorde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Kritiek eist gedragsverand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Feedback geeft keuzemogelijkhe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71361-AE23-4CD8-B4B2-10009D7509B6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D8AC5-2E64-49E1-8FD7-6A49D71CB4BD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Regels voor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een ik-boodscha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je waarnem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het effect dat het op jou hee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Wees specifiek in tijd, plaa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lak na het voorv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CBCC9-5526-483B-86E5-4C4BAC7E3156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5392D-AD41-420D-867E-1408D6C42B05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volg regels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alleen veranderbaar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de ander ruimte voor react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Iemand hoeft het niet met je eens te zij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Niet te veel ineens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4772C-E656-4352-AD30-8BEFBB8C0B50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67ECB-1155-423B-8616-1832B5892209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Doel van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duidelijkt relaties tussen person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je inzicht 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oe je met mensen omga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oe jij op mensen overkom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7DCE1-567A-4B7E-8D20-BCC51991CA0B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5E657-E83D-49B2-A6E9-CC5BC22772DB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volg doel van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groot je zelfkenn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Ondersteunt en bevordert positief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Corrigeert negatief of ongewenst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raagt bij aan effectieve communicat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576C4-336B-484C-9EF8-61CCA8DB0A69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AA9D2-1148-4087-B62C-0C793B5272D0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Ontvangen van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1.luis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2 Vat sam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3. Waardeer/beoordeel wat is gezeg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enk er over na!!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BE991-BB62-4D3B-ABBC-04B29E58FC42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0F244-FF3A-4D03-8F1E-49BFC5F11F0E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volg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Pas je gedrag aan of ni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a niet in de verdedig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3120B-B5A2-424C-B1DA-4CDF3EFB3FCB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47903-7598-43F4-9F2F-9216149C79C4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enk na over een conflict(je) dat je had met je ouders/vrienden/st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Hoe verliep het confli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Noteer hoe je het volgens de feedback regels beter had kunnen oploss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tel dit aan de klas/groep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Opdracht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09:26:29Z</dcterms:created>
  <dc:creator>custom</dc:creator>
  <dc:description/>
  <dc:language>en-US</dc:language>
  <cp:lastModifiedBy>Nienke Hoogeveen</cp:lastModifiedBy>
  <dcterms:modified xsi:type="dcterms:W3CDTF">2016-11-04T07:47:02Z</dcterms:modified>
  <cp:revision>12</cp:revision>
  <dc:subject/>
  <dc:title>Feedback</dc:title>
</cp:coreProperties>
</file>