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1A3F-1EB6-4B64-AF36-8B045DA5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64C0-1F5D-472A-86B7-30AD579D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DB0B-E789-48EE-B03D-9464CFD4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199A-3FE9-47ED-B8E0-7ED9FB74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40B5-7440-4691-9EAD-629E22CD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11E5-FE33-4FAE-AD00-D316845C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180F-1BF9-485A-B143-CA527756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F7F7-96EA-4852-88D9-D790C641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D821-34C0-48D7-9D50-CFC4F83A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8620-51F8-4A2C-A3ED-02CC198D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58B8-2598-4C18-9BB2-9E4FB8B7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F7BA-20E7-40D7-9D1F-738AE1C5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E4B3-9CC0-4794-9A3E-D7F27F31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B6B2-5404-403A-B725-B0007B2A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6EFE-B542-432F-A576-6F8462D8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BCAF-5EAD-4EFB-8CC2-026A395D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B8D9-08E2-422D-A3DC-65F315E4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BF67-32A3-435E-A55B-1187C213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7726-7F87-4A1A-967C-3EB568C0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9723-3840-4669-A279-3D2E9E89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31C7-471C-4579-81B2-2C5405AB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BCFD-8268-45A6-B5FC-050658BC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B8D8-A880-4DBF-92FF-78F8254D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31E-9705-425A-A28E-6A363491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6720" cy="4035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32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58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30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2880" cy="23972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96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2760" cy="3406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7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72BC-86D7-45CF-B4F7-02E7DA9ADCFC}" type="datetime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947D-C725-4065-8405-283F61D3AA4A}" type="slidenum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6720" cy="4035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32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58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30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2880" cy="23972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96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2760" cy="3406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7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AF06-9944-4E0F-86AB-56FF13517D12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8600-3640-49A1-B2A9-D52C21DE8B8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D4F3-6283-44E1-97A4-5B93FAC8970D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4C92-BA68-4CA3-9E53-36177633A8B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Feedback H3, blz 115 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s informatie van iemand over de effecten van het gedrag van een andere persoon op hem of ha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waarne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Terugkoppelen van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jdelijke aanduiding voor datum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A909-F255-455D-9760-4644ACE48B8C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D4EE-5529-40DA-B0FE-B73241524852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C:\Users\kag.hoogeveen\OneDrive - Noorderpoort\Pictures\Pictures\images.png"/>
          <p:cNvPicPr/>
          <p:nvPr/>
        </p:nvPicPr>
        <p:blipFill>
          <a:blip r:embed="rId1"/>
          <a:stretch/>
        </p:blipFill>
        <p:spPr>
          <a:xfrm>
            <a:off x="3348000" y="1341360"/>
            <a:ext cx="4032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884C-4B90-41FD-BB46-E13B2DABC676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2AD3-8ABC-4C09-A2BB-AA0E6E1606DE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schil feedback en kritie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is be- of veroordel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is beschrijven van waarnemi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wijst schuldige 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 geeft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eist gedragsveran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geeft keuzemogelijkhe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9735-4961-4E5E-8111-6AB1C68B4465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8A6B-8F07-4809-AAD9-4764D4DEB7D6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Regels voor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een ik-boodsch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je waarne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het effect dat het op jou he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ees specifiek in tijd, pla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lak na het voo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998F-32E2-42FF-A71C-809A4EBDAFB9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2380-4317-46EA-ACDE-1B2D4D3CF705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regels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alleen veranderbaar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de ander ruimte voor reac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emand hoeft het niet met je eens te zij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iet te veel ineen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3FEC-6FB7-48F7-9C77-A7ED341972A8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0F27-AA65-48F5-AD2F-4B1538566353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pers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je inzicht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e met mensen omga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ij op mensen overkom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118C-F68F-4A98-80D9-818B8695FC60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88B0-5241-49D9-BF63-10AFE9F8D768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groot je zelfk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Ondersteunt en bevordert positief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orrigeert negatief of ongewenst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raagt bij aan effectieve communica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DC70-41F5-4A6B-8F2E-22677D75844D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C766-7CBC-42F7-BFD2-E186EB18FF93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ntvangen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1.lu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2 Vat s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3. Waardeer/beoordeel wat is gezeg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er over na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A850-5CA2-4147-8F25-D0659590852F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CAE2-6294-4C44-B19D-3339AAD392E1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Pas je gedrag aan of n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a niet in de verdedi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FCF3-444B-4B32-9693-68694677BC8F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99EB-4EE7-4339-8027-2EB748B010E2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na over een conflict(je) dat je had met je ouders/vrienden/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oe verliep het confl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oteer hoe je het volgens de feedback regels beter had kunnen oplos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dit aan de klas/groep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26:29Z</dcterms:created>
  <dc:creator>custom</dc:creator>
  <dc:description/>
  <dc:language>en-US</dc:language>
  <cp:lastModifiedBy>Nienke Hoogeveen</cp:lastModifiedBy>
  <dcterms:modified xsi:type="dcterms:W3CDTF">2016-11-04T07:47:02Z</dcterms:modified>
  <cp:revision>12</cp:revision>
  <dc:subject/>
  <dc:title>Feedback</dc:title>
</cp:coreProperties>
</file>