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390-1724-4522-8384-06DC65AD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C838-C28A-41ED-9092-1D168C5C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13BC-5C26-4A26-B7BE-59E4DD41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793-E584-4453-B9C2-CD27048C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0677-B61A-4C8B-BEB1-B2A6FB86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0A5B-A900-4B7E-8981-FAAC9A27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F92B-92A7-454A-B337-1F1897BE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73A5-63EF-45F7-AEF8-18F74AE9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6746-C254-4F8E-AB01-7EBE8555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29B6-DFCE-4FAF-B28B-89C8FCA2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843B-06EB-43DD-9C84-272E1605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1A3-A7DB-4EED-B047-428D9969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31AA-B612-43F0-996D-5509050E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39BD-157D-40D6-BC0E-B267B3E8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FB20-65D5-4E31-9705-B556D71F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3003-47E9-4916-97E8-12A01003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206B-1D64-493F-8E02-408C54EE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A0E-B96D-4EB5-A044-059E264B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A21-20C2-4AFA-A00A-F86EE7C3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95B-6800-4410-A54D-FA319112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F3A-20D1-42A3-A07D-688C46B8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874-AD01-4EE5-A62D-10C572F4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A44-6BA8-479B-9DC5-502AB9F4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A9A-9F4C-4F2A-BB7F-984E5A43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9AE9-0026-4E01-8C4B-19CE3ABD8218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5319-5278-47D9-A3F7-CD33A762C837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B079-5636-448C-96FC-EFA86292C800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1A7E-6932-490B-A79B-1A2DA4A8BB5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8BE2-C221-42BA-8D5E-42F7EF1D9065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7955-2C6B-4F75-8238-AB52E90684A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3, blz 115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3CC9-77D4-496C-B07C-ACD616BDCB34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F5E1-6731-4DF0-9493-D149AC55143A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4071-0FC6-4F44-AE5C-962BBC0EFA74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53CE-9B92-4317-82C9-D0A36E77717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0598-7000-400F-9D33-D9B9D2ED854C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6C08-34B9-454E-A372-6C1806BF4C9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3FA8-4389-4AF1-BB53-3BD65920875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74E9-9A5A-442F-8F72-FE23124977C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3ACC-3232-4AD2-81E1-DF129E0A3699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981E-A437-448C-8BB2-ED8A2466BAA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5A6A-DFE2-45EA-AA3D-339379CF54DC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A9DC-F1EB-4923-A462-819B81D295D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C6C3-BAB9-434C-8FBB-B37BD43373C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A9B8-CCD5-4D17-92BF-EF658613BD6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. 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3D8D-6122-4EEB-98AE-B7302A173DC0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8A5B-F58A-4B4D-8759-4C0D080650A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943A-2F52-4011-BCD0-B93A58571D9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2510-7649-43B1-8D19-8205C57762F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6-11-04T07:47:02Z</dcterms:modified>
  <cp:revision>12</cp:revision>
  <dc:subject/>
  <dc:title>Feedback</dc:title>
</cp:coreProperties>
</file>