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992BD8-0A62-4DD4-AA47-21853801EBDF}" type="slidenum">
              <a:rPr b="0" lang="nl-NL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2F3219-6896-4B12-BDA4-4555F36F7DDC}" type="slidenum">
              <a:rPr b="0" lang="nl-NL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52F3-CC02-434F-B81B-95C0EEAE8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7EB3-7045-4CEB-8E63-98712036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87CD-CC1B-4795-A84B-C1CF9864F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3809-9BF8-44AE-8BFF-84AD49C56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9DA8-DF7A-4E91-8BDD-EF0A3084C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353D-8499-46B6-859B-E2F121C7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149E-1B41-42C0-9031-AB66A266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A270-469E-497F-BCD9-C0D765C2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8F40-EF0A-4EA1-A4C2-175BCF0A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0503E-6BE8-424A-8E8C-D33AE8FB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7910-EFD7-4319-99B9-190B5A49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0672-A1E8-4650-A524-F6A5D70E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8D39-3CA9-4BE2-9097-CB0A840B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1431-A54F-4E5D-B0ED-CA0AF11F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800E-30CC-4DFD-98B6-79D8EB36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714B-40AA-401F-8A59-0B482B578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C891-6ECA-47B1-BE99-38D335DA0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EA28E-BB1B-4C2F-A435-745131258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4D7CE-412E-48AA-AEE4-DE827E1D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F83A8-C175-4C38-B87A-61261C33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CDC81-C79D-4EE7-9C48-88095C0A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9FE02-034A-4BF1-A1D9-C0B5CE54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92BF-9805-45AD-9571-2D19F56F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61351-CE50-4E82-912F-C8EF35EF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C3AA6-DCC6-45CF-B8CD-D824636C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00100-19D9-483B-A1B1-273D2EEC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A2C57-751A-41AD-9193-690808D0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758A4-E82F-453C-8D17-CAD79AD3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1352A-E1C9-42AB-B86B-B8A600E41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76AA5-02EE-4C6F-B8AE-A4456F39A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723BE-D062-4596-97F5-23604545D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7B0CD-EEFC-419B-B6FA-6556912A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48ADB-8044-4738-B1A5-30B67F38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3F7C-E4E5-432B-A974-84FCD66D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19636-7825-4D2D-95FA-37F32967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1BBDF-4310-43FF-B935-395D78C7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84AF3-5C7C-4E93-8F28-FA305703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AC300-5394-474C-B9F6-7194F239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84810-E363-4AB7-950E-575409A5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4D848-A31C-47BC-A604-93CA9D4B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A7F7A-DD00-46B9-96BA-3D134D04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9BECF-F4C7-4DD2-96C1-3324D7BD9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48A14-CA1B-4909-90F2-6EA55C7A3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335B-14E3-4EF3-8A90-C4EA3C49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2AB6-7DB7-43A7-8B12-FCAA5B89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02D9-9DFE-4E4B-B703-4425F70E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F283-317E-4FBB-85AD-EC1B1172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E41B-13D9-4B8A-B40C-1C80B15A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61EADC-2EAA-4D95-8792-6BE0F772F828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96AB51-4D38-4518-89A1-BA87DA14686E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2BF1E3-B5AC-4CE5-821F-2408CDD9E5AF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8EEF9A-09EA-46EB-8F8B-ED43C44A48DC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Anatomie en pathologie</a:t>
            </a:r>
            <a:br>
              <a:rPr sz="3600"/>
            </a:b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H 7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Bewegen van de onderkaak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Beweging van de OK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ond sluiten = </a:t>
            </a:r>
            <a:r>
              <a:rPr b="0" lang="nl-NL" sz="1800" spc="-1" strike="noStrike">
                <a:solidFill>
                  <a:srgbClr val="00b0f0"/>
                </a:solidFill>
                <a:latin typeface="Trebuchet MS"/>
              </a:rPr>
              <a:t>detrac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ond openen = </a:t>
            </a: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eleva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waards; </a:t>
            </a:r>
            <a:r>
              <a:rPr b="0" lang="nl-NL" sz="1800" spc="-1" strike="noStrike">
                <a:solidFill>
                  <a:srgbClr val="eb7766"/>
                </a:solidFill>
                <a:latin typeface="Trebuchet MS"/>
              </a:rPr>
              <a:t>protrac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chterwaards; </a:t>
            </a:r>
            <a:r>
              <a:rPr b="0" lang="nl-NL" sz="1800" spc="-1" strike="noStrike">
                <a:solidFill>
                  <a:srgbClr val="90c226"/>
                </a:solidFill>
                <a:latin typeface="Trebuchet MS"/>
              </a:rPr>
              <a:t>retrac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ombinaties van verschillende bewegi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                   </a:t>
            </a: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=circumduc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2" name="Afbeelding 1" descr="Mandibula (gewervelden) - Wikipedia"/>
          <p:cNvPicPr/>
          <p:nvPr/>
        </p:nvPicPr>
        <p:blipFill>
          <a:blip r:embed="rId1"/>
          <a:stretch/>
        </p:blipFill>
        <p:spPr>
          <a:xfrm>
            <a:off x="4932360" y="1332000"/>
            <a:ext cx="337824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Afbeelding 5" descr=""/>
          <p:cNvPicPr/>
          <p:nvPr/>
        </p:nvPicPr>
        <p:blipFill>
          <a:blip r:embed="rId1"/>
          <a:srcRect l="32613" t="38017" r="25878" b="11781"/>
          <a:stretch/>
        </p:blipFill>
        <p:spPr>
          <a:xfrm>
            <a:off x="539640" y="907920"/>
            <a:ext cx="73929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Bewegen van het kaakgewricht?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oor welke anatomische structuur kan de onderkaak ten opzichte van de sched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De spieren die de OK bewegen zijn de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1800" spc="-1" strike="noStrike">
                <a:solidFill>
                  <a:srgbClr val="404040"/>
                </a:solidFill>
                <a:latin typeface="Trebuchet MS"/>
              </a:rPr>
              <a:t>m. temporalis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1800" spc="-1" strike="noStrike">
                <a:solidFill>
                  <a:srgbClr val="404040"/>
                </a:solidFill>
                <a:latin typeface="Trebuchet MS"/>
              </a:rPr>
              <a:t>m. masseter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1800" spc="-1" strike="noStrike">
                <a:solidFill>
                  <a:srgbClr val="404040"/>
                </a:solidFill>
                <a:latin typeface="Trebuchet MS"/>
              </a:rPr>
              <a:t>m. pt mediali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de m. pterygoïdeus lateralis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1800" spc="-1" strike="noStrike">
                <a:solidFill>
                  <a:srgbClr val="404040"/>
                </a:solidFill>
                <a:latin typeface="Trebuchet MS"/>
              </a:rPr>
              <a:t>trekt de onderkaak naar vo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7 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Weet je nog wat een circumductie is?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1800" spc="-1" strike="noStrike">
                <a:solidFill>
                  <a:srgbClr val="404040"/>
                </a:solidFill>
                <a:latin typeface="Trebuchet MS"/>
              </a:rPr>
              <a:t>Gecombineerde bewegi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Opdrach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lle opdrachten maken van het lesboek van de behandelde hoofdstukken van deze wee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elfstudie tijdens de l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4" name="Afbeelding 3" descr="Leren in de 21ste eeuw | de volledige talkshow on Vimeo"/>
          <p:cNvPicPr/>
          <p:nvPr/>
        </p:nvPicPr>
        <p:blipFill>
          <a:blip r:embed="rId1"/>
          <a:stretch/>
        </p:blipFill>
        <p:spPr>
          <a:xfrm>
            <a:off x="2897280" y="3987720"/>
            <a:ext cx="406080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Huiswerk:</a:t>
            </a:r>
            <a:br>
              <a:rPr sz="3200"/>
            </a:br>
            <a:br>
              <a:rPr sz="3200"/>
            </a:b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begrippenlijst</a:t>
            </a:r>
            <a:br>
              <a:rPr sz="3200"/>
            </a:b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puntsgewijze samenstelling</a:t>
            </a:r>
            <a:br>
              <a:rPr sz="3200"/>
            </a:br>
            <a:br>
              <a:rPr sz="3200"/>
            </a:br>
            <a:r>
              <a:rPr b="0" lang="nl-NL" sz="3200" spc="-1" strike="noStrike">
                <a:solidFill>
                  <a:srgbClr val="ff0000"/>
                </a:solidFill>
                <a:latin typeface="Trebuchet MS"/>
              </a:rPr>
              <a:t>Extra: </a:t>
            </a: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richtlijn infectie preventie volgende week overhoring 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6" name="Tijdelijke aanduiding voor inhoud 3" descr="Sclera picto's"/>
          <p:cNvPicPr/>
          <p:nvPr/>
        </p:nvPicPr>
        <p:blipFill>
          <a:blip r:embed="rId1"/>
          <a:stretch/>
        </p:blipFill>
        <p:spPr>
          <a:xfrm>
            <a:off x="755640" y="414972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08:53:22Z</dcterms:created>
  <dc:creator>E. Sprenger</dc:creator>
  <dc:description/>
  <dc:language>en-US</dc:language>
  <cp:lastModifiedBy>Jannet van den Berg</cp:lastModifiedBy>
  <dcterms:modified xsi:type="dcterms:W3CDTF">2017-02-02T09:41:40Z</dcterms:modified>
  <cp:revision>7</cp:revision>
  <dc:subject/>
  <dc:title>Anatomie en pathologie Hoofdstuk 7</dc:title>
</cp:coreProperties>
</file>