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12C-12B1-46CE-BC94-369FD88B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7D05-495B-4CD6-8556-F9DBF1A1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645-E431-44EE-ADDE-E3A194B6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9E65-75BF-42AB-BA26-89972A38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47A-E10F-40EF-9741-3425B2AF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8FE2-8639-4845-A1DD-491FDB10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86F-BC32-465D-B1DA-85F371C8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C7A-48BA-4220-BF59-B728726C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3C45-1B44-455B-ADF9-4CACC6D3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337-D3DD-46E7-B3BE-56F944A1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CA3-3772-467C-805B-AE6E7C56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EF5-BA32-4F44-A5FD-6CA953C2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6748-70A9-4D2A-9B74-8B1B9DB78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Anatomie en pathologie</a:t>
            </a: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Hoofdstuk 2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Het kaakgewric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35640" y="3573360"/>
            <a:ext cx="17654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richt= beweegbare verbinding tussen 2 of meer botstu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ewrichtsk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richtssmeer prod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ewricht k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3789360"/>
            <a:ext cx="158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cessus condylari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t in os tempo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lt i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uberculum articulare (opho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scu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rticulari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kraakbeenschij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ussen schedel en kaakkopje(pr co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verdeling Onder en Boven kant gewrichts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buitenzijde gewrichtskapsels stabiliseren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bindweefsel banden OK versteviging(k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 op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lev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uiten mond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c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vor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achter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links of rechts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aterale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binatie van beweging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ircumd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egi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Rotatie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draaiende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Translatie       verschuiv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kaakkopje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naar voren richting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9999"/>
                </a:solidFill>
                <a:latin typeface="Arial"/>
              </a:rPr>
              <a:t>tuberculum articul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Probeer dat een bij jezelf te te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Voel bij je processus condylar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opening is dan een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re mondopening is 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nk de mond open wat gebeurd er d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gebeurd er bij naar sinister en dexter te schuiv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ene kaakkopje maakt een  kleine ro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ndere kaakkopje maak een trans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eg met je buurvrouw wanneer wat gebeu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2:34:14Z</dcterms:created>
  <dc:creator>E. Sprenger</dc:creator>
  <dc:description/>
  <dc:language>en-US</dc:language>
  <cp:lastModifiedBy>E. Sprenger</cp:lastModifiedBy>
  <dcterms:modified xsi:type="dcterms:W3CDTF">2009-12-08T13:18:52Z</dcterms:modified>
  <cp:revision>6</cp:revision>
  <dc:subject/>
  <dc:title>Dia 1</dc:title>
</cp:coreProperties>
</file>