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FE41A-660A-4DE3-BEB7-C92189BE4489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6F226-2DBF-4BFD-81C5-AC821EB22F6F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071-38E7-4C6F-8454-799F9475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1F6-B08A-41DE-8031-A33B851A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333-8071-406A-9F07-D33C2F48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6C3-FCF8-4066-A249-AECB49EC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88ED-892A-4C36-83F9-FB560656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C998-BC75-4AFD-9B90-B906083A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C879-60DE-4074-BA05-BAB387E2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07FA-3838-4924-8A0A-A6460FDC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0171-004A-43E0-85E0-02094C05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68C8-5014-429E-ACC3-E0408935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4130-9723-4095-B8C9-EEBBBCEE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159-2CAC-424E-8E12-31DD73F3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4BA5-B1DE-4529-873D-A7A860E6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7C73-BFF2-4D6E-BA29-47824B4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0C6D-552C-40B9-830A-0736FC5E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1287-EDC8-485C-9E66-443E2AFF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A808-6A32-457E-AB60-89D92AC2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30A7-B82F-47B0-A9E3-85BFC537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FBC9-6B98-433A-938F-85838B63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D72B-DCFA-4EA6-A281-160C72E7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9849E-7F8A-4795-8AC4-48DF9D7B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DF07-05CD-4579-BE4A-2E8B1A69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042-ED6F-4D09-9EEC-522A4C8F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8F61-09E1-4D57-8364-A923BF3D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7BCA-5A5E-4E56-8991-65B1FF65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0210-B6DC-4667-936E-EE0C1D3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3115-71A6-4DD4-89C5-E7DF4D5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479C-C946-4FEA-8B6B-E41DB7D0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B0173-935E-4491-BCE4-B5DABFC0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7764-F1D7-4242-A21C-10550991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75AF-30F6-4D75-B198-BF24CC93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0DC3-6DA3-47FA-94F5-13D6A616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78B76-CDEF-4E0C-A529-3CC81F1D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A78-C8CE-49AA-8F74-028498F3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FE9B-C880-4437-9418-C8E832FF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BD67-3D71-46AE-84B3-3001ADA4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80519-729C-471E-BF2E-A461A482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789F-A925-48DF-BD9D-FE368FF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989C8-6BC9-44B6-9570-29D63C4F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463A9-5452-4959-95FE-D95F08A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B8BD6-C9F4-4EE8-840C-A56D5490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30FB-9832-4444-A5C8-D443EF8F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CA38-C89A-418F-B0DE-131F78F6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FDE-F544-4B4B-A071-F955872C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3A3-BAD8-4B69-B509-C5A33EC7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1A9-4990-48C3-9E92-54E45C1C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007-2095-4ABA-8BA0-D6807D08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EA9-D257-45B9-9DDA-D9DFD122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1E3D1-6C5B-47E5-A9FD-0F53A092B4F9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FB056-2AFF-42C9-A1FE-58D3BF77843A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3FFC6-AA9D-44B1-8D5F-97FB3613A4BB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71AB1-6487-4B14-8252-862053638B6C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atomie en pathologie</a:t>
            </a: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 7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de onderka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ing van de O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sluiten = </a:t>
            </a:r>
            <a:r>
              <a:rPr b="0" lang="nl-NL" sz="1800" spc="-1" strike="noStrike">
                <a:solidFill>
                  <a:srgbClr val="00b0f0"/>
                </a:solidFill>
                <a:latin typeface="Trebuchet MS"/>
              </a:rPr>
              <a:t>d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openen =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ele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waards; </a:t>
            </a:r>
            <a:r>
              <a:rPr b="0" lang="nl-NL" sz="1800" spc="-1" strike="noStrike">
                <a:solidFill>
                  <a:srgbClr val="eb7766"/>
                </a:solidFill>
                <a:latin typeface="Trebuchet MS"/>
              </a:rPr>
              <a:t>pro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chterwaards; </a:t>
            </a:r>
            <a:r>
              <a:rPr b="0" lang="nl-NL" sz="1800" spc="-1" strike="noStrike">
                <a:solidFill>
                  <a:srgbClr val="90c226"/>
                </a:solidFill>
                <a:latin typeface="Trebuchet MS"/>
              </a:rPr>
              <a:t>r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binaties van verschillen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=circum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Afbeelding 1" descr="Mandibula (gewervelden) - Wikipedia"/>
          <p:cNvPicPr/>
          <p:nvPr/>
        </p:nvPicPr>
        <p:blipFill>
          <a:blip r:embed="rId1"/>
          <a:stretch/>
        </p:blipFill>
        <p:spPr>
          <a:xfrm>
            <a:off x="4932360" y="1332000"/>
            <a:ext cx="3378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Afbeelding 5" descr=""/>
          <p:cNvPicPr/>
          <p:nvPr/>
        </p:nvPicPr>
        <p:blipFill>
          <a:blip r:embed="rId1"/>
          <a:srcRect l="32613" t="38017" r="25878" b="11781"/>
          <a:stretch/>
        </p:blipFill>
        <p:spPr>
          <a:xfrm>
            <a:off x="539640" y="907920"/>
            <a:ext cx="7392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het kaakgewricht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welke anatomische structuur kan de onderkaak ten opzichte van de sched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pieren die de OK bewegen zijn d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temporal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masset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pt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m. pterygoïdeus lateral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trekt de onderkaak naar v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7 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t je nog wat een circumductie is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Gecombineer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opdrachten maken van het lesboek van de behandelde hoofdstukken van deze we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studie tijdens de 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Afbeelding 3" descr="Leren in de 21ste eeuw | de volledige talkshow on Vimeo"/>
          <p:cNvPicPr/>
          <p:nvPr/>
        </p:nvPicPr>
        <p:blipFill>
          <a:blip r:embed="rId1"/>
          <a:stretch/>
        </p:blipFill>
        <p:spPr>
          <a:xfrm>
            <a:off x="2897280" y="3987720"/>
            <a:ext cx="4060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Extra: </a:t>
            </a: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richtlijn infectie preventie volgende week overhoring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755640" y="414972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53:22Z</dcterms:created>
  <dc:creator>E. Sprenger</dc:creator>
  <dc:description/>
  <dc:language>en-US</dc:language>
  <cp:lastModifiedBy>Jannet van den Berg</cp:lastModifiedBy>
  <dcterms:modified xsi:type="dcterms:W3CDTF">2017-02-02T09:41:40Z</dcterms:modified>
  <cp:revision>7</cp:revision>
  <dc:subject/>
  <dc:title>Anatomie en pathologie Hoofdstuk 7</dc:title>
</cp:coreProperties>
</file>