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EBD-3771-4E35-B3AA-039326A9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E37-E112-42B2-8792-C2A328DC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02D-A37F-48B9-A7ED-EAF73A0D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657-43FC-4640-8B0C-51B5775F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AAD-CAD3-49D6-9B0C-B4EE3240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84C-FDCA-424D-9B3A-54394346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7A7-A267-49AD-8A57-F9C489C6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87B-71A3-4954-8329-AC719D6A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F01-0E74-49A8-834C-C40D5DFB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B3F-184B-4F16-8354-E67999C5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BFE-D048-46F9-B218-DAB7AE88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A5F-B76A-4C24-BEBE-EF47978A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5EFB-6B1F-4D33-9515-9E65CEBB9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natomie en pathologi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Hoofdstuk 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Het kaakgewric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17654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= beweegbare verbinding tussen 2 of meer botstu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s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ssmeer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 k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378936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cessus condy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t in os temp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t i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uberculum articulare (opho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scu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rticu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kraakbeenschij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ussen schedel en kaakkopje(pr 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verdeling Onder en Boven kant gewrichts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uitenzijde gewrichtskapsels stabiliser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indweefsel banden OK versteviging(k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 op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lev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en mond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c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vo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achte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links of rechts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ateral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binatie van beweging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ircum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egi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Rotatie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draaiend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Translatie       verschuiv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kaakkopje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naar voren richting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9999"/>
                </a:solidFill>
                <a:latin typeface="Arial"/>
              </a:rPr>
              <a:t>tuberculum articul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robeer dat een bij jezelf te te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Voel bij je processus condylar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opening is dan ee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re mondopening is 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nk de mond open wat gebeurd er d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gebeurd er bij naar sinister en dexter te schuiv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ne kaakkopje maakt een  kleine ro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ndere kaakkopje maak een trans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met je buurvrouw wanneer wat gebeu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34:14Z</dcterms:created>
  <dc:creator>E. Sprenger</dc:creator>
  <dc:description/>
  <dc:language>en-US</dc:language>
  <cp:lastModifiedBy>E. Sprenger</cp:lastModifiedBy>
  <dcterms:modified xsi:type="dcterms:W3CDTF">2009-12-08T13:18:52Z</dcterms:modified>
  <cp:revision>6</cp:revision>
  <dc:subject/>
  <dc:title>Dia 1</dc:title>
</cp:coreProperties>
</file>