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06F-049C-45DA-B9D8-7D73DD08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5AB-A2A2-424B-B33C-DABCB1CB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6BC-B1F2-4911-B1F7-45034B3D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75A-9067-40D6-97E6-4CAF1035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49B6-22EF-4468-BADF-E8281128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A3A3-8491-4FCB-B4F5-D47F9F88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DD2E-B8AE-4E55-8773-AFB90D1F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F25C-E14A-4248-A548-BD8AF167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8F37-A7A2-4E10-B665-1D3C94BA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B7B1-65B0-4A74-8B36-B70B2210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A268-F6FC-498F-BCB0-F92FBEB4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55A-3758-4F9C-B818-E6EF1421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03EC-2C40-4AB4-835F-A75C6116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1650-4CDA-4C27-ACDE-36B68151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4438-06BC-469E-9FD8-EDC675FF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FF90-9D0C-4D40-84AE-71A2213B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5AC3-CA10-4849-8ED2-238045E1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6146-CD2F-4421-90E3-DF646084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5357-21D6-47C8-8DD4-2D52FDB9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0688-36F3-43B8-B1DF-FB70EA02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D18F-C8E8-43CA-8FF7-EF3608FB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6EB6C-2119-4B9A-9C7A-F7C65610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5F7-F88D-424F-8ACB-7982090B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5844-A849-4F42-A48E-9AB2C3BC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FEEB-54C3-4585-A366-BA1EF91E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E5AE2-5B78-487D-B5C7-DD4F1D0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FBC7-B18C-440D-9AC0-C523C489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6781-04F6-45A9-8E36-8FC574E5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F73F-83AD-4106-A3BB-795325D6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F514-5214-4164-A87A-6720E63B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78C7-4040-483A-B056-31DE1CE3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045DB-91A0-4891-904B-B4C8FC14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2647-6424-4EC9-B44C-CA194129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F7E-C749-45F3-A372-9EE9F382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3C47-487A-43B9-BCD8-8FF9F9AB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72C5E-2191-4037-8715-6C44A2AE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BAF97-505E-4949-B6C4-1C204441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85930-E012-4DFE-B80A-587C3221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391E-C8E3-4CF4-910F-2AC62A29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F5D4F-1EFF-4BA4-B6D4-ED6CD231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C0293-E5F5-4405-A401-7B6FA834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64AB-022A-4E2C-8193-4B85CA9B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22B8-8759-4E4A-B778-5EF74A26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4C0-C725-4242-B75A-40941A30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8FB-56CF-4FFF-93D1-8C2016B9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B31-1DCA-40DF-801B-6B25E16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D8B-0F1B-48BE-829D-B283C3DD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8B8-5A9A-48C1-8014-58607271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BFE0B-55B0-4CEA-B781-E13AE7C0B5F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C1B47-E8BD-4F90-B4A4-32BF6888FC7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17C34-3524-474C-815B-D7A7D007A23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66E3A-1D4A-4BB0-9B08-B61DF087BE7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 6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Spieren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A &amp; P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Afbeelding 1" descr="Sternocleidomastoid muscle - wikidoc"/>
          <p:cNvPicPr/>
          <p:nvPr/>
        </p:nvPicPr>
        <p:blipFill>
          <a:blip r:embed="rId1"/>
          <a:stretch/>
        </p:blipFill>
        <p:spPr>
          <a:xfrm>
            <a:off x="1154160" y="2997360"/>
            <a:ext cx="2552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ndbodem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horen tot de skelet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langrijkste naar beneden trekken van de O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spieren zijn gehecht aan het os hyoi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yl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geni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digatricus= buik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verzicht boek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2.3 zijn mondbodem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Rechthoek 1"/>
          <p:cNvSpPr/>
          <p:nvPr/>
        </p:nvSpPr>
        <p:spPr>
          <a:xfrm>
            <a:off x="2563920" y="324468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oek de functies op en noteer deze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lsnek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gezichtspieren;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1.m. buccinator  en  2.m. orbular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spanning 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geen insertie en origo, articulatie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Leer de schema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177300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k de opdra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Schema’s bestuderen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2411280" y="3246480"/>
            <a:ext cx="36115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troduc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stelsel regelt de houding en beweging van het menselijk licha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4" descr="Muscles of the Body by arvalis on DeviantArt"/>
          <p:cNvPicPr/>
          <p:nvPr/>
        </p:nvPicPr>
        <p:blipFill>
          <a:blip r:embed="rId1"/>
          <a:stretch/>
        </p:blipFill>
        <p:spPr>
          <a:xfrm>
            <a:off x="3635280" y="2637000"/>
            <a:ext cx="51847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Doel: </a:t>
            </a:r>
            <a:br>
              <a:rPr sz="3200"/>
            </a:b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kennis van spieren in het hoofdhalsgebied t.b.v. de THK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8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14320" y="2492280"/>
            <a:ext cx="75042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ing 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luitend trek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usttoestand is de spier uitgere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stand door een andere spier of zwaarte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werkende spier is een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antagonist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p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628280"/>
            <a:ext cx="6348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uw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upra 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3 ervan vormen: mond bodem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ingua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mische spieren (aangezichtsspier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ra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lsnek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entraal zenuw stelsil</a:t>
            </a:r>
            <a:br>
              <a:rPr sz="4000"/>
            </a:b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Z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en : motorische prikk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oofdhalsgebied soor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Skelet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beide aan een botstuk be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uid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aan het bot/huid bevestig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030a0"/>
                </a:solidFill>
                <a:latin typeface="Trebuchet MS"/>
              </a:rPr>
              <a:t>Kring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 weefsels bevestigd bijvoorbeeld de 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Afbeelding 2" descr="Beeld van verloop van spiervezels van de musculus orbicularis oris"/>
          <p:cNvPicPr/>
          <p:nvPr/>
        </p:nvPicPr>
        <p:blipFill>
          <a:blip r:embed="rId1"/>
          <a:stretch/>
        </p:blipFill>
        <p:spPr>
          <a:xfrm>
            <a:off x="1812960" y="3573360"/>
            <a:ext cx="39416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pieren (musculus = m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7030a0"/>
                </a:solidFill>
                <a:latin typeface="Trebuchet MS"/>
              </a:rPr>
              <a:t>Origo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 = oorspro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Trebuchet MS"/>
              </a:rPr>
              <a:t>Insertie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= aanhecht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lk is het meest bewegelij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auw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1413000"/>
            <a:ext cx="6348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skeletspieren, zijn met beide uiteinden aan een botstuk bes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wegen OK zodat het voedsel gekauwd kan word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tempo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asse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late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30:31Z</dcterms:created>
  <dc:creator>E. Sprenger</dc:creator>
  <dc:description/>
  <dc:language>en-US</dc:language>
  <cp:lastModifiedBy>Jannet van den Berg</cp:lastModifiedBy>
  <dcterms:modified xsi:type="dcterms:W3CDTF">2017-01-09T16:11:57Z</dcterms:modified>
  <cp:revision>7</cp:revision>
  <dc:subject/>
  <dc:title>Hoofdstuk 6 Anatomie en Pathologie</dc:title>
</cp:coreProperties>
</file>