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AD95-BA4E-49C0-9827-F66A5334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22F2-F44A-411C-85D4-D2EFDC31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7571-5198-4784-9935-FA8E848E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F91E-354A-4614-B3F5-CB8653DD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82A5-2428-4D57-A78B-BBA8DFBC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67B9-2A20-46C3-9B6F-46B682A9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0F7-769A-4549-AAE3-365EED29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2564-8736-429F-98A8-6A4E94B9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F463-4D86-4557-89D9-CEF7B99B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0A6-337E-49E2-9DD9-186F5FB1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6EB-314C-442F-82E2-FB3EA06A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4217-E113-4518-B53E-37E1039F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FBAF-BC67-4A96-8880-E28124D0C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Anatomie en pathologie</a:t>
            </a: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Hoofdstuk 2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Het kaakgewric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35640" y="3573360"/>
            <a:ext cx="17654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richt= beweegbare verbinding tussen 2 of meer botstu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ewrichtsk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richtssmeer prod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ewricht k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3789360"/>
            <a:ext cx="158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cessus condylari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t in os tempo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lt i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uberculum articulare (opho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scu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rticulari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kraakbeenschij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ussen schedel en kaakkopje(pr co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verdeling Onder en Boven kant gewrichts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buitenzijde gewrichtskapsels stabiliseren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bindweefsel banden OK versteviging(k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 op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lev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uiten mond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c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vor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achter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links of rechts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aterale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binatie van beweging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ircumd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egi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Rotatie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draaiende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Translatie       verschuiv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kaakkopje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naar voren richting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9999"/>
                </a:solidFill>
                <a:latin typeface="Arial"/>
              </a:rPr>
              <a:t>tuberculum articul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Probeer dat een bij jezelf te te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Voel bij je processus condylar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e opening is dan een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re mondopening is 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nk de mond open wat gebeurd er d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gebeurd er bij naar sinister en dexter te schuiv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ene kaakkopje maakt een  kleine ro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ndere kaakkopje maak een trans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eg met je buurvrouw wanneer wat gebeu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2:34:14Z</dcterms:created>
  <dc:creator>E. Sprenger</dc:creator>
  <dc:description/>
  <dc:language>en-US</dc:language>
  <cp:lastModifiedBy>E. Sprenger</cp:lastModifiedBy>
  <dcterms:modified xsi:type="dcterms:W3CDTF">2009-12-08T13:18:52Z</dcterms:modified>
  <cp:revision>6</cp:revision>
  <dc:subject/>
  <dc:title>Dia 1</dc:title>
</cp:coreProperties>
</file>