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48E5-4945-4928-A152-9DC325FD3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B6DA-6180-4595-80BD-B78C3A46C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3A02-06FC-4C37-B522-E344BBE2C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58D9-5FC9-4D57-8A9F-822E993E5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7D031-E7BC-4752-BF82-4F84339D3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FFF40-8DDF-4A28-A4FF-2DB1F4792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F1B7C-3417-4081-9EF3-A7497F39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69701-A4C1-47AE-ADC5-AB75A76D9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34516-8F6B-4B23-9411-A1B81E43A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AE9AF-9F7E-4CF2-88F6-CDB6C2D00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2E4B2-AC14-4BDE-A631-19EC3CF1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379C-A354-467C-A2A0-F549A6BD4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208C7-F8D8-4144-B716-72658541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DAFE2-4605-455E-98ED-C9C64AAF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6895F-48DF-43FD-AE3E-CCD7C6EF7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4B4FD-4E2C-4655-9ABD-7C51BEF05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21ADA-6C51-4CD5-9C0F-A92EF6998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A46A-C21F-4882-AD54-9F698480D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26BC-2E99-4B51-9884-1ECF9FBC5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AB83-ECA9-4041-ABB0-01E137266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B587-2D08-4FA2-A0F7-0FEC572E9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9F75-71E8-43AD-A9F0-A1794464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8F22-4726-40D7-83B3-DA14B5D7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42BF-A8A0-4F4A-A298-756226FF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B48EC-B6F2-4404-B054-ECD6273FFDDC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6F26D-B031-48AE-83C9-96D6A88682F5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vankasteel.nl/eerstelijn/eerstelijnafb/kaak1/kaak1.gif&amp;imgrefurl=http://www.vankasteel.nl/eerstelijn/kaakklachten.htm&amp;h=540&amp;w=954&amp;sz=135&amp;hl=nl&amp;start=1&amp;usg=__aESijRSoe4NXZ-CvalxUKfSbxR4=&amp;tbnid=Z2OFmfXwXNxK1M:&amp;tbnh=84&amp;tbnw=148&amp;prev=/images%3Fq%3Dkaakkopje%26gbv%3D2%26hl%3Dnl%26sa%3D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3d-illustration.de/anatomie/Hals_gesamt.jpg&amp;imgrefurl=http://www.3d-illustration.de/anatomie/hals.html&amp;h=526&amp;w=692&amp;sz=50&amp;hl=nl&amp;start=20&amp;usg=__VkNsTnx5mgDYXw010DlB_Y7i0_M=&amp;tbnid=aYLxeKQiiC-19M:&amp;tbnh=106&amp;tbnw=139&amp;prev=/images%3Fq%3DOs%2BHyo%25C3%25AFdeum%26start%3D18%26gbv%3D2%26ndsp%3D18%26hl%3Dnl%26sa%3DN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nl.wikipedia.org/w/index.php?title=Os_frontale&amp;action=edit" TargetMode="External"/><Relationship Id="rId2" Type="http://schemas.openxmlformats.org/officeDocument/2006/relationships/hyperlink" Target="http://nl.wikipedia.org/w/index.php?title=Voorhoofdsbeen&amp;action=edit" TargetMode="External"/><Relationship Id="rId3" Type="http://schemas.openxmlformats.org/officeDocument/2006/relationships/hyperlink" Target="http://nl.wikipedia.org/w/index.php?title=Os_parietale&amp;action=edit" TargetMode="External"/><Relationship Id="rId4" Type="http://schemas.openxmlformats.org/officeDocument/2006/relationships/hyperlink" Target="http://nl.wikipedia.org/w/index.php?title=Os_parietale&amp;action=edit" TargetMode="External"/><Relationship Id="rId5" Type="http://schemas.openxmlformats.org/officeDocument/2006/relationships/hyperlink" Target="http://nl.wikipedia.org/w/index.php?title=Wandbeen&amp;action=edit" TargetMode="External"/><Relationship Id="rId6" Type="http://schemas.openxmlformats.org/officeDocument/2006/relationships/hyperlink" Target="http://nl.wikipedia.org/w/index.php?title=Os_temporale&amp;action=edit" TargetMode="External"/><Relationship Id="rId7" Type="http://schemas.openxmlformats.org/officeDocument/2006/relationships/hyperlink" Target="http://nl.wikipedia.org/w/index.php?title=Slaapbeen&amp;action=edit" TargetMode="External"/><Relationship Id="rId8" Type="http://schemas.openxmlformats.org/officeDocument/2006/relationships/hyperlink" Target="http://nl.wikipedia.org/w/index.php?title=Os_occipitale&amp;action=edit" TargetMode="External"/><Relationship Id="rId9" Type="http://schemas.openxmlformats.org/officeDocument/2006/relationships/hyperlink" Target="http://nl.wikipedia.org/w/index.php?title=Os_occipitale&amp;action=edit" TargetMode="External"/><Relationship Id="rId10" Type="http://schemas.openxmlformats.org/officeDocument/2006/relationships/hyperlink" Target="http://nl.wikipedia.org/w/index.php?title=Achterhoofdsbeen&amp;action=edit" TargetMode="External"/><Relationship Id="rId11" Type="http://schemas.openxmlformats.org/officeDocument/2006/relationships/hyperlink" Target="http://nl.wikipedia.org/wiki/Os_sphenoidale" TargetMode="External"/><Relationship Id="rId12" Type="http://schemas.openxmlformats.org/officeDocument/2006/relationships/hyperlink" Target="http://nl.wikipedia.org/wiki/Os_sphenoidale" TargetMode="External"/><Relationship Id="rId13" Type="http://schemas.openxmlformats.org/officeDocument/2006/relationships/hyperlink" Target="http://nl.wikipedia.org/wiki/Wiggebeen" TargetMode="External"/><Relationship Id="rId14" Type="http://schemas.openxmlformats.org/officeDocument/2006/relationships/hyperlink" Target="http://www.memorizer.net/nl/menselijk_lichaam/skelet/botten_overzicht/png/voorhoofdsbeen.png" TargetMode="External"/><Relationship Id="rId15" Type="http://schemas.openxmlformats.org/officeDocument/2006/relationships/image" Target="../media/image2.jpeg"/><Relationship Id="rId16" Type="http://schemas.openxmlformats.org/officeDocument/2006/relationships/hyperlink" Target="http://www.memorizer.net/nl/menselijk_lichaam/skelet/botten_overzicht/png2/wandbeen.png" TargetMode="External"/><Relationship Id="rId17" Type="http://schemas.openxmlformats.org/officeDocument/2006/relationships/image" Target="../media/image3.jpeg"/><Relationship Id="rId18" Type="http://schemas.openxmlformats.org/officeDocument/2006/relationships/hyperlink" Target="http://www.memorizer.net/nl/menselijk_lichaam/skelet/botten_overzicht/png2/slaapbeen.png" TargetMode="External"/><Relationship Id="rId19" Type="http://schemas.openxmlformats.org/officeDocument/2006/relationships/image" Target="../media/image4.jpeg"/><Relationship Id="rId20" Type="http://schemas.openxmlformats.org/officeDocument/2006/relationships/hyperlink" Target="http://www.memorizer.net/nl/menselijk_lichaam/skelet/botten_overzicht/png2/achterhoofdsbeen.png" TargetMode="External"/><Relationship Id="rId21" Type="http://schemas.openxmlformats.org/officeDocument/2006/relationships/image" Target="../media/image5.jpeg"/><Relationship Id="rId22" Type="http://schemas.openxmlformats.org/officeDocument/2006/relationships/hyperlink" Target="http://images.google.nl/imgres?imgurl=http://www.memorizer.net/nl/menselijk_lichaam/skelet/botten_overzicht/png/wiggebeen.png&amp;imgrefurl=http://www.memorizer.net/nl/menselijk_lichaam/skelet/botten_overzicht/&amp;h=400&amp;w=252&amp;sz=201&amp;hl=nl&amp;start=1&amp;usg=__eNG9NlMtYgqHd9IZRoOzJg5hDUw=&amp;tbnid=UWnT-5Zcv5yqUM:&amp;tbnh=124&amp;tbnw=78&amp;prev=/images%3Fq%3Dwiggebeen%26gbv%3D2%26hl%3Dnl%26sa%3DG" TargetMode="External"/><Relationship Id="rId23" Type="http://schemas.openxmlformats.org/officeDocument/2006/relationships/image" Target="../media/image6.jpeg"/><Relationship Id="rId2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nl.wikipedia.org/wiki/Os_zygomaticum" TargetMode="External"/><Relationship Id="rId2" Type="http://schemas.openxmlformats.org/officeDocument/2006/relationships/hyperlink" Target="http://nl.wikipedia.org/wiki/Os_zygomaticum" TargetMode="External"/><Relationship Id="rId3" Type="http://schemas.openxmlformats.org/officeDocument/2006/relationships/hyperlink" Target="http://nl.wikipedia.org/wiki/Jukbeen" TargetMode="External"/><Relationship Id="rId4" Type="http://schemas.openxmlformats.org/officeDocument/2006/relationships/hyperlink" Target="http://nl.wikipedia.org/wiki/Maxilla_%28anatomie%29" TargetMode="External"/><Relationship Id="rId5" Type="http://schemas.openxmlformats.org/officeDocument/2006/relationships/hyperlink" Target="http://nl.wikipedia.org/wiki/Os_nasale" TargetMode="External"/><Relationship Id="rId6" Type="http://schemas.openxmlformats.org/officeDocument/2006/relationships/hyperlink" Target="http://nl.wikipedia.org/wiki/Neusbeen" TargetMode="External"/><Relationship Id="rId7" Type="http://schemas.openxmlformats.org/officeDocument/2006/relationships/hyperlink" Target="http://nl.wikipedia.org/wiki/Onderkaak" TargetMode="External"/><Relationship Id="rId8" Type="http://schemas.openxmlformats.org/officeDocument/2006/relationships/hyperlink" Target="http://nl.wikipedia.org/wiki/Os_palatinum" TargetMode="External"/><Relationship Id="rId9" Type="http://schemas.openxmlformats.org/officeDocument/2006/relationships/hyperlink" Target="http://nl.wikipedia.org/wiki/Os_palatinum" TargetMode="External"/><Relationship Id="rId10" Type="http://schemas.openxmlformats.org/officeDocument/2006/relationships/hyperlink" Target="http://nl.wikipedia.org/w/index.php?title=Os_lacrimale&amp;action=edit" TargetMode="External"/><Relationship Id="rId11" Type="http://schemas.openxmlformats.org/officeDocument/2006/relationships/hyperlink" Target="http://nl.wikipedia.org/w/index.php?title=Os_lacrimale&amp;action=edit" TargetMode="External"/><Relationship Id="rId12" Type="http://schemas.openxmlformats.org/officeDocument/2006/relationships/hyperlink" Target="http://nl.wikipedia.org/w/index.php?title=Traanbeen&amp;action=edit" TargetMode="External"/><Relationship Id="rId13" Type="http://schemas.openxmlformats.org/officeDocument/2006/relationships/hyperlink" Target="http://nl.wikipedia.org/w/index.php?title=Vomer&amp;action=edit" TargetMode="External"/><Relationship Id="rId14" Type="http://schemas.openxmlformats.org/officeDocument/2006/relationships/hyperlink" Target="http://nl.wikipedia.org/w/index.php?title=Conchae_nasale_inferior&amp;action=edit" TargetMode="External"/><Relationship Id="rId15" Type="http://schemas.openxmlformats.org/officeDocument/2006/relationships/hyperlink" Target="http://nl.wikipedia.org/w/index.php?title=Conchae_nasale_inferior&amp;action=edit" TargetMode="External"/><Relationship Id="rId16" Type="http://schemas.openxmlformats.org/officeDocument/2006/relationships/hyperlink" Target="http://nl.wikipedia.org/w/index.php?title=Conchae_nasale_inferior&amp;action=edit" TargetMode="External"/><Relationship Id="rId17" Type="http://schemas.openxmlformats.org/officeDocument/2006/relationships/hyperlink" Target="http://www.bartleby.com/107/Images/small/image173.jpg" TargetMode="External"/><Relationship Id="rId18" Type="http://schemas.openxmlformats.org/officeDocument/2006/relationships/image" Target="../media/image7.jpeg"/><Relationship Id="rId19" Type="http://schemas.openxmlformats.org/officeDocument/2006/relationships/hyperlink" Target="http://images.google.nl/imgres?imgurl=http://www.theodora.com/anatomy/images/image170.gif&amp;imgrefurl=http://www.theodora.com/anatomy/the_inferior_nasal_concha.html&amp;h=411&amp;w=510&amp;sz=90&amp;hl=nl&amp;start=14&amp;usg=__Vnp8cSbPLf_0pnyi6ooZKLo3n6c=&amp;tbnid=aWCT-yY0OlPn_M:&amp;tbnh=106&amp;tbnw=131&amp;prev=/images%3Fq%3Dconchae%2Bnasale%2Binferior%26gbv%3D2%26hl%3Dnl%26sa%3DG" TargetMode="External"/><Relationship Id="rId20" Type="http://schemas.openxmlformats.org/officeDocument/2006/relationships/image" Target="../media/image8.jpeg"/><Relationship Id="rId2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hno-forum.com/images/000000998b0f1a10c.jpg&amp;imgrefurl=http://hno-forum.com/onlineaufklaerung/nnhop/index.html&amp;h=450&amp;w=459&amp;sz=86&amp;hl=nl&amp;start=14&amp;usg=__4GTIJF1N_6aG5iiBLIN7WuiWBDA=&amp;tbnid=3UsW9ijcvflfmM:&amp;tbnh=125&amp;tbnw=128&amp;prev=/images%3Fq%3DSinus%2Bmaxillaris%26gbv%3D2%26hl%3Dnl%26sa%3D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memorizer.net/nl/menselijk_lichaam/skelet/botten_overzicht/png/jukbeen.png&amp;imgrefurl=http://www.memorizer.net/nl/menselijk_lichaam/skelet/botten_overzicht/%3Fname%3Djukbeen&amp;h=400&amp;w=252&amp;sz=198&amp;hl=nl&amp;start=6&amp;usg=__Y65argEME3fxoRWp2FdugsadnaY=&amp;tbnid=b40ymHhYexJfXM:&amp;tbnh=124&amp;tbnw=78&amp;prev=/images%3Fq%3Dos%2Bzygomaticum%26gbv%3D2%26hl%3Dnl%26sa%3DG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google.nl/imgres?imgurl=http://www.theodora.com/anatomy/images/image167.gif&amp;imgrefurl=http://www.theodora.com/anatomy/the_zygomatic_bone.html&amp;h=384&amp;w=444&amp;sz=80&amp;hl=nl&amp;start=14&amp;usg=__DXv09u8Xgdc9RPPaq1lU9s00N5s=&amp;tbnid=ARaSM51Z92f4GM:&amp;tbnh=110&amp;tbnw=127&amp;prev=/images%3Fq%3DOs%2Bzygomaticus%26gbv%3D2%26hl%3Dnl%26sa%3DG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uni-mainz.de/FB/Medizin/Anatomie/makro1/ma012.gif&amp;imgrefurl=http://www.uni-mainz.de/FB/Medizin/Anatomie/makro1/ma012.htm&amp;h=297&amp;w=284&amp;sz=19&amp;hl=nl&amp;start=1&amp;usg=__HiRvKGqZtef8UM4Yr2q36k2TPPA=&amp;tbnid=HI_1ehltPFPNyM:&amp;tbnh=116&amp;tbnw=111&amp;prev=/images%3Fq%3DCorpus%2Bmandibulae%26gbv%3D2%26hl%3Dnl%26sa%3D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Anatomie en pathologie hoofdstuk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976560" y="2662200"/>
            <a:ext cx="304020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48248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292929"/>
                </a:solidFill>
                <a:latin typeface="Arial"/>
              </a:rPr>
              <a:t>Processus condylaris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=kaakkopj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292929"/>
                </a:solidFill>
                <a:latin typeface="Arial"/>
              </a:rPr>
              <a:t>Processus coronoïdeus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=opstijgende tak, aanhechting kauwspier!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292929"/>
                </a:solidFill>
                <a:uFillTx/>
                <a:latin typeface="Arial"/>
              </a:rPr>
              <a:t>Botafzetting kaakkopje maakt groei OK mogelijk!!!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Tussen deze 2 in: </a:t>
            </a:r>
            <a:r>
              <a:rPr b="1" lang="nl-NL" sz="2400" spc="-1" strike="noStrike">
                <a:solidFill>
                  <a:srgbClr val="292929"/>
                </a:solidFill>
                <a:latin typeface="Arial"/>
              </a:rPr>
              <a:t>Angulus mandibulae=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kaakhoek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Binnenkant: </a:t>
            </a:r>
            <a:r>
              <a:rPr b="1" lang="nl-NL" sz="2400" spc="-1" strike="noStrike">
                <a:solidFill>
                  <a:srgbClr val="292929"/>
                </a:solidFill>
                <a:latin typeface="Arial"/>
              </a:rPr>
              <a:t>foramen mandibula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zenuwtak OK naar binne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32720" y="1557360"/>
            <a:ext cx="140940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s nasale(neusbee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Steun harde deel neusru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Scheiding tussenschot: </a:t>
            </a:r>
            <a:r>
              <a:rPr b="1" lang="nl-NL" sz="3200" spc="-1" strike="noStrike">
                <a:solidFill>
                  <a:srgbClr val="292929"/>
                </a:solidFill>
                <a:latin typeface="Arial"/>
              </a:rPr>
              <a:t>Vomer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usbijholt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Verbindingen door smale buisjes, vochtafvloeiing door zwartekracht, pus ophoping kan door ontsteking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Gewichts verlaging vel kleine bijholt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Grootste in bijholte in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1" lang="nl-NL" sz="3200" spc="-1" strike="noStrike">
                <a:solidFill>
                  <a:srgbClr val="292929"/>
                </a:solidFill>
                <a:latin typeface="Arial"/>
              </a:rPr>
              <a:t>Os</a:t>
            </a: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nl-NL" sz="3200" spc="-1" strike="noStrike">
                <a:solidFill>
                  <a:srgbClr val="292929"/>
                </a:solidFill>
                <a:latin typeface="Arial"/>
              </a:rPr>
              <a:t>Frontalis</a:t>
            </a:r>
            <a:r>
              <a:rPr b="0" lang="nl-NL" sz="2000" spc="-1" strike="noStrike">
                <a:solidFill>
                  <a:srgbClr val="292929"/>
                </a:solidFill>
                <a:latin typeface="Arial"/>
              </a:rPr>
              <a:t>(voorhoofdsbijholte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Os Hyoïdeum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os botstuk niet aan schedel vast, door spieren en vezels, ter hoogte strottenhoofd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unctie spreken en slikk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48360" y="260280"/>
            <a:ext cx="132372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48248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Meeste beenderen uit </a:t>
            </a:r>
            <a:r>
              <a:rPr b="0" lang="nl-NL" sz="2800" spc="-1" strike="noStrike" u="sng">
                <a:solidFill>
                  <a:srgbClr val="292929"/>
                </a:solidFill>
                <a:uFillTx/>
                <a:latin typeface="Arial"/>
              </a:rPr>
              <a:t>compact bot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2 lagen met  lagen rode beenmerg(vorming rode bloedcellen) er tussen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292929"/>
                </a:solidFill>
                <a:uFillTx/>
                <a:latin typeface="Arial"/>
              </a:rPr>
              <a:t>Periost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(botvlies) aan buitenzijde geeft ruimte tot groei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Binnenzijde afbraak door speciale cellen, ruimte voor schedelinhoud groei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700360" y="404640"/>
            <a:ext cx="2305080" cy="15624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24000" y="501336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nte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Leeftijd os, minder elastisch en kans op fractur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292929"/>
                </a:solidFill>
                <a:latin typeface="Arial"/>
              </a:rPr>
              <a:t>Resorptie</a:t>
            </a: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 processus alveolaris ook na extracti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211640" y="3573360"/>
            <a:ext cx="197172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De sche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uncties skelet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tevigheid aan lichaam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Bescherming organen etc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anhechtingsplaats spier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Beweg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s(bo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Embryonale period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Fontanellen: waar bevinden die zich?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Sluiten: kleine 4 maande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             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2 jaar grot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Fontanellen veranderen na groei in </a:t>
            </a:r>
            <a:r>
              <a:rPr b="1" lang="nl-NL" sz="2800" spc="-1" strike="noStrike">
                <a:solidFill>
                  <a:srgbClr val="292929"/>
                </a:solidFill>
                <a:latin typeface="Arial"/>
              </a:rPr>
              <a:t>suture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*</a:t>
            </a:r>
            <a:r>
              <a:rPr b="1" i="1" lang="nl-NL" sz="2800" spc="-1" strike="noStrike">
                <a:solidFill>
                  <a:srgbClr val="292929"/>
                </a:solidFill>
                <a:latin typeface="Arial"/>
              </a:rPr>
              <a:t>Aangezichtsschedel &amp; Hersensched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Hersenschedel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lanchnocranium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De menselijke schedel bestaat uit 22 botten en is daarmee het meest uitgebreide deel van het skelet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Schedeldak=bovenzijde van hersensched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Schedelbasis: openingen bloedvaten en zenuwen(kwetsbaar, schedebasisfractuur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 verschillende botten van een mensenschedel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Botten in de </a:t>
            </a:r>
            <a:r>
              <a:rPr b="1" lang="nl-NL" sz="3200" spc="-1" strike="noStrike">
                <a:solidFill>
                  <a:srgbClr val="292929"/>
                </a:solidFill>
                <a:latin typeface="Arial"/>
              </a:rPr>
              <a:t>hersensched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(splanchnocranium) (8)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nl-NL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nl-NL" sz="28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os frontale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 (</a:t>
            </a:r>
            <a:r>
              <a:rPr b="0" lang="nl-NL" sz="28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voorhoofdsbeen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os 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4"/>
              </a:rPr>
              <a:t>pariëtale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(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5"/>
              </a:rPr>
              <a:t>wandbeen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) (2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6"/>
              </a:rPr>
              <a:t>os temporale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(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7"/>
              </a:rPr>
              <a:t>slaapbeen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) (2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8"/>
              </a:rPr>
              <a:t>os 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9"/>
              </a:rPr>
              <a:t>occipitale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(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0"/>
              </a:rPr>
              <a:t>achterhoofdsbeen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1"/>
              </a:rPr>
              <a:t>os 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2"/>
              </a:rPr>
              <a:t>sphenoidale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(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3"/>
              </a:rPr>
              <a:t>wiggebeen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2" name="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6804000" y="2708280"/>
            <a:ext cx="514440" cy="819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7380360" y="3284640"/>
            <a:ext cx="857160" cy="819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6012000" y="3716280"/>
            <a:ext cx="857160" cy="819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7236000" y="4365720"/>
            <a:ext cx="857160" cy="819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rId22"/>
          </p:cNvPr>
          <p:cNvPicPr/>
          <p:nvPr/>
        </p:nvPicPr>
        <p:blipFill>
          <a:blip r:embed="rId23"/>
          <a:stretch/>
        </p:blipFill>
        <p:spPr>
          <a:xfrm>
            <a:off x="5940360" y="4941720"/>
            <a:ext cx="74304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otten in de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angezichtsschedel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(14):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neurocranium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os ethmoidale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os 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zygomaticum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(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jukbeen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) (2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4"/>
              </a:rPr>
              <a:t>maxilla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(bovenkaak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5"/>
              </a:rPr>
              <a:t>os nasale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(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6"/>
              </a:rPr>
              <a:t>neusbeen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) (2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7"/>
              </a:rPr>
              <a:t>mandibula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(onderkaak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8"/>
              </a:rPr>
              <a:t>os 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9"/>
              </a:rPr>
              <a:t>palatinum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(verhemeltebeen) (2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0"/>
              </a:rPr>
              <a:t>os 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1"/>
              </a:rPr>
              <a:t>lacrimale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(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2"/>
              </a:rPr>
              <a:t>traanbeen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)(2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3"/>
              </a:rPr>
              <a:t>vomer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4"/>
              </a:rPr>
              <a:t>conchae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5"/>
              </a:rPr>
              <a:t> nasale 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6"/>
              </a:rPr>
              <a:t>inferior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(2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9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108000" y="4581360"/>
            <a:ext cx="1392120" cy="12351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5724360" y="5589720"/>
            <a:ext cx="124812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Maxil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292929"/>
                </a:solidFill>
                <a:latin typeface="Arial"/>
              </a:rPr>
              <a:t>Aangezichtsschedel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 (splanchnocranium): groeit minder sne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en is kleiner bij kinderen dan   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              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hersenschede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Bodem oogka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292929"/>
                </a:solidFill>
                <a:latin typeface="Arial"/>
              </a:rPr>
              <a:t>Processus alveolaris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: verhoging! alveolen(tandkassen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292929"/>
                </a:solidFill>
                <a:latin typeface="Arial"/>
              </a:rPr>
              <a:t>Processus palatinus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= gehemelt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292929"/>
                </a:solidFill>
                <a:latin typeface="Arial"/>
              </a:rPr>
              <a:t>Sinus maxillaris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= kaakholte ook wel </a:t>
            </a:r>
            <a:r>
              <a:rPr b="1" lang="nl-NL" sz="1800" spc="-1" strike="noStrike">
                <a:solidFill>
                  <a:srgbClr val="292929"/>
                </a:solidFill>
                <a:latin typeface="Arial"/>
              </a:rPr>
              <a:t>Antrum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292929"/>
                </a:solidFill>
                <a:latin typeface="Arial"/>
              </a:rPr>
              <a:t>(volwassenen 3 cm groot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999933"/>
                </a:solidFill>
                <a:latin typeface="Arial"/>
              </a:rPr>
              <a:t>*Wat was ook alweer een antrumperforatie?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24720" y="4869000"/>
            <a:ext cx="121932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Os zygomatic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Groot deel oogka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292929"/>
                </a:solidFill>
                <a:latin typeface="Arial"/>
              </a:rPr>
              <a:t>Arcus zygomaticus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ontspringt in O Z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2 stukken: </a:t>
            </a:r>
            <a:r>
              <a:rPr b="1" lang="nl-NL" sz="2400" spc="-1" strike="noStrike">
                <a:solidFill>
                  <a:srgbClr val="292929"/>
                </a:solidFill>
                <a:latin typeface="Arial"/>
              </a:rPr>
              <a:t>os zygomaticum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292929"/>
                </a:solidFill>
                <a:latin typeface="Arial"/>
              </a:rPr>
              <a:t>                      </a:t>
            </a:r>
            <a:r>
              <a:rPr b="1" lang="nl-NL" sz="2400" spc="-1" strike="noStrike">
                <a:solidFill>
                  <a:srgbClr val="292929"/>
                </a:solidFill>
                <a:latin typeface="Arial"/>
              </a:rPr>
              <a:t>os temporal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Jukboog geeft steun wangspieren:dun(trauma gevaar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2924280"/>
            <a:ext cx="743040" cy="11811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92720" y="260280"/>
            <a:ext cx="120960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Mandibu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Hoefijzervormi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292929"/>
                </a:solidFill>
                <a:latin typeface="Arial"/>
              </a:rPr>
              <a:t>Corpus mandibulae</a:t>
            </a: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= horizontale de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292929"/>
                </a:solidFill>
                <a:latin typeface="Arial"/>
              </a:rPr>
              <a:t>Foramen mentale</a:t>
            </a: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= opening ter hoogte van premolaren, zenuw! Binnen      buit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292929"/>
                </a:solidFill>
                <a:latin typeface="Arial"/>
              </a:rPr>
              <a:t>Processes alveaolaris</a:t>
            </a: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Processes= uitsteeks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843280" y="4437000"/>
            <a:ext cx="1443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16360" y="4437000"/>
            <a:ext cx="50328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64000" y="1484280"/>
            <a:ext cx="105732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9:44:35Z</dcterms:created>
  <dc:creator>E. Sprenger</dc:creator>
  <dc:description/>
  <dc:language>en-US</dc:language>
  <cp:lastModifiedBy>E. Sprenger</cp:lastModifiedBy>
  <dcterms:modified xsi:type="dcterms:W3CDTF">2008-10-15T08:46:38Z</dcterms:modified>
  <cp:revision>7</cp:revision>
  <dc:subject/>
  <dc:title>Anatomie en pathologie hoofdstuk 1,2,3</dc:title>
</cp:coreProperties>
</file>