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88D-5AD9-424F-8B17-EA2CD156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298-2E11-4E1B-BF6B-E387CB5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E00-4B1B-4CC1-8952-2A29298F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E1A-EE19-4932-A300-B846CF0D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E1EA-BDE4-4AB8-B24D-BFFD23C9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284-48B1-4ED1-8EDA-52BCF6D4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B22A-FAAB-459C-8854-FD6F52B0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45F1-033B-4F28-A9BE-B82051CC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D8C1-C298-489F-BE8F-BEF34D26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F2D3-D671-4EE7-9DE9-2BA687B2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D70C-083F-4B03-933D-647327CD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597-A40C-4370-9AB5-7A0658D6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0187-452B-4F5E-A4D7-15B7EF2A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1818-293E-47E6-8F07-67C25217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B7B3-63AB-432D-BD1F-D762D20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669D-DEEB-485E-81B6-CA9CC302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776B-4ABC-48EC-91BB-FE6EE432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CE83-74D2-4CD8-B80A-8B0277DD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A4F2-869C-44DF-B87F-701C966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89E5-8BA7-4C3D-B504-4B274BB3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F80D-1520-441C-82DF-D11826E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270F-0EBF-4747-816D-5FB1A9F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6C1-816C-4521-BCCA-50EBAE6A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79A4-D0C9-4869-8A72-7E60C78A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9746-1687-469B-8907-D6D8C6A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6590-0AC1-44DC-A0FF-2FA8AF86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42E4-69FD-44E9-B804-AA5AB263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A9A4-976B-4B44-80C4-FBCC7A37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D8304-01DC-4ABC-BCD6-C19FB157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0D42-2DDB-4F39-8B0A-610BEB34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804B-9116-4351-AA9B-E69FFD4D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1DEC8-F0ED-42C2-9621-B38EA16C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78A5-8751-4BFE-941A-4FB72687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6EB-BCC7-4112-9D89-12594742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4DA7-E3A4-4BD3-B5E7-D2A4CC36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87AE-36D0-4422-9970-C3B284C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81FAC-6F63-4349-BCE1-5F7EF968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5FD5-3846-4F20-80EB-F6A3F3D9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99E0F-03B3-474A-AACC-9B911B9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EAF5-8C1B-404D-B54D-DD50A74E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DAE0-8748-4A67-A647-51C97646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A0863-4608-41C0-B739-A3FC2F69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ABB3-A8F7-437C-B6A1-28AC3EB1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3F4-05A8-453E-B2AD-31701F76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0B0-46D4-4778-949B-EA9C2238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362-D9CC-4F7E-AB50-2B20D6B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56B-B6AB-443C-AC5A-E047F86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C67-93D6-402E-838F-8F0722FB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FAA09-035F-4815-B414-81D803F960A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A0E75-3746-428F-8C45-3E1A10A1A27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21C74-D45E-4411-9286-9D7E6DF159C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ADBC9-1465-4BEC-A3B7-42DF1799BB8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 6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Spieren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A &amp; P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Afbeelding 1" descr="Sternocleidomastoid muscle - wikidoc"/>
          <p:cNvPicPr/>
          <p:nvPr/>
        </p:nvPicPr>
        <p:blipFill>
          <a:blip r:embed="rId1"/>
          <a:stretch/>
        </p:blipFill>
        <p:spPr>
          <a:xfrm>
            <a:off x="1154160" y="2997360"/>
            <a:ext cx="2552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ndbodem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horen tot de skelet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langrijkste naar beneden trekken van de O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spieren zijn gehecht aan het os hyoi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yl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geni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digatricus= buik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verzicht boek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2.3 zijn mondbodem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hthoek 1"/>
          <p:cNvSpPr/>
          <p:nvPr/>
        </p:nvSpPr>
        <p:spPr>
          <a:xfrm>
            <a:off x="2563920" y="324468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oek de functies op en noteer deze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lsnek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gezichtspieren;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1.m. buccinator  en  2.m. orbular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spanning 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geen insertie en origo, articulati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er de schema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77300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k de opdra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Schema’s bestuderen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2411280" y="324648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troduc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stelsel regelt de houding en beweging van het menselijk licha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4" descr="Muscles of the Body by arvalis on DeviantArt"/>
          <p:cNvPicPr/>
          <p:nvPr/>
        </p:nvPicPr>
        <p:blipFill>
          <a:blip r:embed="rId1"/>
          <a:stretch/>
        </p:blipFill>
        <p:spPr>
          <a:xfrm>
            <a:off x="3635280" y="2637000"/>
            <a:ext cx="5184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Doel: </a:t>
            </a:r>
            <a:br>
              <a:rPr sz="3200"/>
            </a:b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kennis van spieren in het hoofdhalsgebied t.b.v. de THK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14320" y="2492280"/>
            <a:ext cx="75042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ing 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luitend trek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sttoestand is de spier uitgere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stand door een andere spier of zwaarte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werkende spier is een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antagonist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628280"/>
            <a:ext cx="6348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uw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upra 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3 ervan vormen: mond bodem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ingua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mische spieren (aangezichtsspier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ra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lsnek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entraal zenuw stelsil</a:t>
            </a:r>
            <a:br>
              <a:rPr sz="4000"/>
            </a:b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Z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en : motorische prikk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oofdhalsgebied soor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Skelet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beide aan een botstuk be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uid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aan het bot/huid bevestig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030a0"/>
                </a:solidFill>
                <a:latin typeface="Trebuchet MS"/>
              </a:rPr>
              <a:t>Kring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 weefsels bevestigd bijvoorbeeld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Afbeelding 2" descr="Beeld van verloop van spiervezels van de musculus orbicularis oris"/>
          <p:cNvPicPr/>
          <p:nvPr/>
        </p:nvPicPr>
        <p:blipFill>
          <a:blip r:embed="rId1"/>
          <a:stretch/>
        </p:blipFill>
        <p:spPr>
          <a:xfrm>
            <a:off x="1812960" y="3573360"/>
            <a:ext cx="39416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pieren (musculus = m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7030a0"/>
                </a:solidFill>
                <a:latin typeface="Trebuchet MS"/>
              </a:rPr>
              <a:t>Origo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 = oorspro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rebuchet MS"/>
              </a:rPr>
              <a:t>Insertie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= aanhecht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lk is het meest bewegelij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auw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skeletspieren, zijn met beide uiteinden aan een botstuk bes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wegen OK zodat het voedsel gekauwd kan word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tempo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asse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late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30:31Z</dcterms:created>
  <dc:creator>E. Sprenger</dc:creator>
  <dc:description/>
  <dc:language>en-US</dc:language>
  <cp:lastModifiedBy>Jannet van den Berg</cp:lastModifiedBy>
  <dcterms:modified xsi:type="dcterms:W3CDTF">2017-01-09T16:11:57Z</dcterms:modified>
  <cp:revision>7</cp:revision>
  <dc:subject/>
  <dc:title>Hoofdstuk 6 Anatomie en Pathologie</dc:title>
</cp:coreProperties>
</file>