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DFF08-6161-49A3-A38F-B33971F9ED3E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157B1-65A2-4F17-A6FC-ED2804200DF1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5C7-1ED2-4BE5-8B03-78A54D19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142-E624-40F0-B2F4-D0790696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CFE-B84E-4851-B38F-19ADA7E8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BEE-1936-454B-939F-D7654CCB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D918-4D64-4BAA-A90A-628A6453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FF67-014B-4585-A96D-DE99B229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0314-9790-4EEE-A805-41BA3EB5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5BE9-99FF-45E3-8AAB-6D733DA6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05D4-228F-4269-9005-DDF023B2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EA71-30E5-41B1-958D-17D82BB1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902B-021A-4D2B-A9CC-D610165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612-008D-4C45-8896-AAE03B58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6E2A-B990-472C-B0A3-9F4A401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52B-71B6-48CA-BD54-6BE462B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8B2C-87CC-4BBC-AD8E-DEFA4484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CA20-9DBC-4F4B-901F-92472D68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F805-E42F-4749-A4D2-424310FF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3976-DEC8-4718-B47B-0D771210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60ED7-D279-4DC4-A714-1038D7ED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29AE-3696-4191-BECC-0CBB2E68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503B-3882-4EC4-B957-9B163C1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1E45-DFEA-44E6-BA0B-DA2B1D63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6B6-1F32-41B0-9A6F-655B7A57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F490-222A-4E3E-A24D-C3A36C95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19C1-31AD-425D-9E9A-448C3808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F905-CA38-4D31-88DB-DAD3E30C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349A-1F3A-4227-9FEF-39C49B2B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FF45D-4C04-4E50-BEDE-CA2EA72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ECA1-9519-4D54-9988-A0D654E1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75FB-BF50-419F-853A-7986D45D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2461-F495-4A47-A891-FF5A4FFD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C542-2231-49C4-86DB-574C128E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E5F4-EF60-4EC1-9552-F848ACD7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76A-FBE2-442D-BF4D-633A3E4B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F446-66E3-4559-9374-9C5A0968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F9A12-BA3E-4A5D-917A-E22ACB82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94EAC-4B4A-429F-8798-B2B9E4C6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CBC9-265E-4C4E-A58F-6F126A37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396A-C436-4065-95D4-0752984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4A75-EDB5-4765-A522-327D968C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D477E-42A1-4AAF-AA6F-5C48772C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1195-E7B4-4974-A128-F8CDC02F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F373-3A42-416F-B701-908317E5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708-8D67-4DE8-BD20-F8702F3B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9E3-24AC-4C43-8A17-6314C7E6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D49-165A-4C1C-BA10-301459A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080-A9F2-436E-ADEA-55B47036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825-8E0A-4FEF-80F3-E46D5AA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68A6D-904C-4589-9F2E-810673B0524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3D5BD-F363-4A1E-8BB3-F5F91AF2E7C6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BE850-FEB5-4716-8298-0CF08F4F2A2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8C197-C068-4436-95DD-34B9EE5B7CE3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atomie en pathologie</a:t>
            </a: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 7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de onderka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ing van de O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sluiten = </a:t>
            </a:r>
            <a:r>
              <a:rPr b="0" lang="nl-NL" sz="1800" spc="-1" strike="noStrike">
                <a:solidFill>
                  <a:srgbClr val="00b0f0"/>
                </a:solidFill>
                <a:latin typeface="Trebuchet MS"/>
              </a:rPr>
              <a:t>d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openen =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ele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waards; </a:t>
            </a:r>
            <a:r>
              <a:rPr b="0" lang="nl-NL" sz="1800" spc="-1" strike="noStrike">
                <a:solidFill>
                  <a:srgbClr val="eb7766"/>
                </a:solidFill>
                <a:latin typeface="Trebuchet MS"/>
              </a:rPr>
              <a:t>pro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chterwaards; </a:t>
            </a:r>
            <a:r>
              <a:rPr b="0" lang="nl-NL" sz="1800" spc="-1" strike="noStrike">
                <a:solidFill>
                  <a:srgbClr val="90c226"/>
                </a:solidFill>
                <a:latin typeface="Trebuchet MS"/>
              </a:rPr>
              <a:t>r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binaties van verschillen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=circum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Afbeelding 1" descr="Mandibula (gewervelden) - Wikipedia"/>
          <p:cNvPicPr/>
          <p:nvPr/>
        </p:nvPicPr>
        <p:blipFill>
          <a:blip r:embed="rId1"/>
          <a:stretch/>
        </p:blipFill>
        <p:spPr>
          <a:xfrm>
            <a:off x="4932360" y="1332000"/>
            <a:ext cx="3378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fbeelding 5" descr=""/>
          <p:cNvPicPr/>
          <p:nvPr/>
        </p:nvPicPr>
        <p:blipFill>
          <a:blip r:embed="rId1"/>
          <a:srcRect l="32613" t="38017" r="25878" b="11781"/>
          <a:stretch/>
        </p:blipFill>
        <p:spPr>
          <a:xfrm>
            <a:off x="539640" y="907920"/>
            <a:ext cx="7392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het kaakgewricht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welke anatomische structuur kan de onderkaak ten opzichte van de sched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pieren die de OK bewegen zijn d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temporal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masset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pt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m. pterygoïdeus lateral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trekt de onderkaak naar v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7 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t je nog wat een circumductie is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Gecombineer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opdrachten maken van het lesboek van de behandelde hoofdstukken van dez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studie tijdens de 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Afbeelding 3" descr="Leren in de 21ste eeuw | de volledige talkshow on Vimeo"/>
          <p:cNvPicPr/>
          <p:nvPr/>
        </p:nvPicPr>
        <p:blipFill>
          <a:blip r:embed="rId1"/>
          <a:stretch/>
        </p:blipFill>
        <p:spPr>
          <a:xfrm>
            <a:off x="2897280" y="3987720"/>
            <a:ext cx="4060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Extra: </a:t>
            </a: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richtlijn infectie preventie volgende week overhoring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755640" y="414972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53:22Z</dcterms:created>
  <dc:creator>E. Sprenger</dc:creator>
  <dc:description/>
  <dc:language>en-US</dc:language>
  <cp:lastModifiedBy>Jannet van den Berg</cp:lastModifiedBy>
  <dcterms:modified xsi:type="dcterms:W3CDTF">2017-02-02T09:41:40Z</dcterms:modified>
  <cp:revision>7</cp:revision>
  <dc:subject/>
  <dc:title>Anatomie en pathologie Hoofdstuk 7</dc:title>
</cp:coreProperties>
</file>