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180-88E7-4BE8-89D4-8BB9475A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E1D9-CCC8-4427-AB50-BF56E62E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87E-F00C-4905-9691-0E73C420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DBC1-4267-42F9-AB98-88CD112F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CA7C-B67A-4989-80FB-1B1416DA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F986-B8EA-44B2-BABE-C811D803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39F6-CED9-488C-A399-1EA2D4E6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A8D3-120D-4F8A-AEEB-9CEF0450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7F4D-797A-423B-B085-5368B148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74B8-6351-487F-A9E8-D46F4A05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E2EC-FE72-4F8A-9796-B734600E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BE7D-2BCD-4470-BFD5-63B7BA9A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A71A-F903-4E3E-8BE4-062693C4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D6F1-EA9C-439B-B4A9-A14D1A22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8FCF-8D0A-4347-BCB5-E78574BA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A6FE-BA84-4E7D-9294-6A4A60A0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0710-6984-40F9-9DF1-A4B98038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D968F-603B-4F6E-8CB5-99190E85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43E87-7A8C-4CE7-AA9C-D9EAD8E8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EA376-E6A1-49F7-AA84-8277BF5D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D96F6-D75E-474B-9247-5FF87865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E6E67-080D-4322-860E-133A4B8F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B429-6C02-405C-A657-F674F6CE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6812C-58B0-4D9F-957C-56EA940C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6ABE6-8D73-4CE9-AB19-A9BE59BD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21F9B-2BE6-45BA-AE25-FD80E1DD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94251-5AB9-481E-AE2B-1FDB944C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E300E-80E5-42B3-A20D-E2CE0742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87C2F-DA40-4846-A1BF-F2BC083F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0E8A3-DF29-4B8F-9425-95B544B3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CA93A-D5C7-43D8-B293-4B0F0510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4805A-938B-4153-AD97-ECFDEBCC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BD811-E54F-4A46-823E-9A3FF8D9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32A9-B535-4E47-90D8-6EE62C3F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1583C-A1D2-4579-A830-2B97B9CE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ECF08-B8C8-4883-8978-393EA4EA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E204C-ACDA-47A4-9FD9-B7AD2630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D730A-E3D7-44EC-80D4-18B086FC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840FF-2168-4AA2-96B4-398B22E5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06D03-EB3A-4693-B652-FDCBE1DC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FDDC1-9941-46BE-B952-AB9BAE92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7762A-2564-4A3B-850C-F9AEED9D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37824-B693-46BE-AA6B-9DE5975A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27C-09AC-42CA-B1C3-8A1FD5E9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9EA-9CB5-4A5E-97D0-9B9ECA5D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EA8-D528-4865-8AA4-5B7F55F6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EEBD-823B-4FAD-A5D2-79A90318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61D-751C-427E-9AB5-FC53F342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C1319-FA04-4D40-B6F0-55ED9579638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4F4E7-9A44-43EC-86D1-B705412FBEF0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9C54F-252C-4665-8550-2B496882DC5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F021B-1099-40E0-94E2-6FDA4ED8C383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H 6</a:t>
            </a:r>
            <a:br>
              <a:rPr sz="5400"/>
            </a:b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Spieren</a:t>
            </a:r>
            <a:br>
              <a:rPr sz="5400"/>
            </a:b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A &amp; P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Afbeelding 1" descr="Sternocleidomastoid muscle - wikidoc"/>
          <p:cNvPicPr/>
          <p:nvPr/>
        </p:nvPicPr>
        <p:blipFill>
          <a:blip r:embed="rId1"/>
          <a:stretch/>
        </p:blipFill>
        <p:spPr>
          <a:xfrm>
            <a:off x="1154160" y="2997360"/>
            <a:ext cx="25527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ondbodem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720"/>
            <a:ext cx="6348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horen tot de skelet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Functie: belangrijkste naar beneden trekken van de O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 spieren zijn gehecht aan het os hyoi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mylohyoide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geniohyoide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digatricus= buiki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verzicht boek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2.3 zijn mondbodem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Rechthoek 1"/>
          <p:cNvSpPr/>
          <p:nvPr/>
        </p:nvSpPr>
        <p:spPr>
          <a:xfrm>
            <a:off x="2563920" y="3244680"/>
            <a:ext cx="40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Zoek de functies op en noteer deze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alsnek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gezichtspieren;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1.m. buccinator  en  2.m. orbular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spanning e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. geen insertie en origo, articulatie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Leer de schema’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177300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ak de opdra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Huiswerk: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Schema’s bestuderen</a:t>
            </a: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begrippenlijst</a:t>
            </a: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puntsgewijze samenstelling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2" name="Tijdelijke aanduiding voor inhoud 3" descr="Sclera picto's"/>
          <p:cNvPicPr/>
          <p:nvPr/>
        </p:nvPicPr>
        <p:blipFill>
          <a:blip r:embed="rId1"/>
          <a:stretch/>
        </p:blipFill>
        <p:spPr>
          <a:xfrm>
            <a:off x="2411280" y="3246480"/>
            <a:ext cx="36115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troduc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ierstelsel regelt de houding en beweging van het menselijk licha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Afbeelding 4" descr="Muscles of the Body by arvalis on DeviantArt"/>
          <p:cNvPicPr/>
          <p:nvPr/>
        </p:nvPicPr>
        <p:blipFill>
          <a:blip r:embed="rId1"/>
          <a:stretch/>
        </p:blipFill>
        <p:spPr>
          <a:xfrm>
            <a:off x="3635280" y="2637000"/>
            <a:ext cx="518472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0c226"/>
                </a:solidFill>
                <a:latin typeface="Trebuchet MS"/>
              </a:rPr>
              <a:t>Doel: </a:t>
            </a:r>
            <a:br>
              <a:rPr sz="3200"/>
            </a:br>
            <a:r>
              <a:rPr b="1" lang="nl-NL" sz="3200" spc="-1" strike="noStrike">
                <a:solidFill>
                  <a:srgbClr val="90c226"/>
                </a:solidFill>
                <a:latin typeface="Trebuchet MS"/>
              </a:rPr>
              <a:t>kennis van spieren in het hoofdhalsgebied t.b.v. de THK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8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814320" y="2492280"/>
            <a:ext cx="75042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rking 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Uitsluitend trekk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usttoestand is de spier uitgerek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stand door een andere spier of zwaartek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egenwerkende spier is een 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antagonist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roep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1628280"/>
            <a:ext cx="63486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auw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upra hyoide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3 ervan vormen: mond bodem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ingua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mische spieren (aangezichtsspier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rahyoide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alsnek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Trebuchet MS"/>
              </a:rPr>
              <a:t>Centraal zenuw stelsil</a:t>
            </a:r>
            <a:br>
              <a:rPr sz="4000"/>
            </a:br>
            <a:r>
              <a:rPr b="0" lang="nl-NL" sz="4000" spc="-1" strike="noStrike">
                <a:solidFill>
                  <a:srgbClr val="90c226"/>
                </a:solidFill>
                <a:latin typeface="Trebuchet MS"/>
              </a:rPr>
              <a:t>CZ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ieren : motorische prikk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oofdhalsgebied soor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Skeletspier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; beide aan een botstuk bevestig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92d050"/>
                </a:solidFill>
                <a:latin typeface="Trebuchet MS"/>
              </a:rPr>
              <a:t>Huidspier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; aan het bot/huid bevestigd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7030a0"/>
                </a:solidFill>
                <a:latin typeface="Trebuchet MS"/>
              </a:rPr>
              <a:t>Kringspier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;  weefsels bevestigd bijvoorbeeld de mo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Afbeelding 2" descr="Beeld van verloop van spiervezels van de musculus orbicularis oris"/>
          <p:cNvPicPr/>
          <p:nvPr/>
        </p:nvPicPr>
        <p:blipFill>
          <a:blip r:embed="rId1"/>
          <a:stretch/>
        </p:blipFill>
        <p:spPr>
          <a:xfrm>
            <a:off x="1812960" y="3573360"/>
            <a:ext cx="394164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pieren (musculus = m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7030a0"/>
                </a:solidFill>
                <a:latin typeface="Trebuchet MS"/>
              </a:rPr>
              <a:t>Origo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 = oorspro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Trebuchet MS"/>
              </a:rPr>
              <a:t>Insertie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= aanhechtin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lk is het meest bewegelijk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Kauw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1413000"/>
            <a:ext cx="634860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 skeletspieren, zijn met beide uiteinden aan een botstuk besvestig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Functie: bewegen OK zodat het voedsel gekauwd kan word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tempor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masse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pterygoïdeus later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pterygoïdeus medi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30:31Z</dcterms:created>
  <dc:creator>E. Sprenger</dc:creator>
  <dc:description/>
  <dc:language>en-US</dc:language>
  <cp:lastModifiedBy>Jannet van den Berg</cp:lastModifiedBy>
  <dcterms:modified xsi:type="dcterms:W3CDTF">2017-01-09T16:11:57Z</dcterms:modified>
  <cp:revision>7</cp:revision>
  <dc:subject/>
  <dc:title>Hoofdstuk 6 Anatomie en Pathologie</dc:title>
</cp:coreProperties>
</file>