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1AF1A-D288-41B4-A13E-AE8552E1DE95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09D86-8BBB-4E88-9C68-DEE2C6BBF0D2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E8D-2505-4FE8-8F67-DE09200D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AE5-00D2-44CC-9372-D6E15C78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E45-3335-4158-8B7A-89B16466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01D-21BE-48E9-BCA5-C055CD6B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C8E8-8D95-432A-B663-E8C867BE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CDE3-BF80-4D0C-AB7C-C9E1AAB0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C903-D332-4215-9938-1EC955A4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0A7D-BBBE-4CB5-82DF-882F0269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0539-2FD9-4F1C-A80E-F64AA423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E832-7142-477C-B40C-BA6E2BB9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85A8-0DFF-4A37-B9BC-9D94CCEE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BCF-3BCA-4CC1-B2BE-15CF7219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4F7F-0032-41BF-9650-37B20A8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8B4F-4F2D-4789-8A13-5995186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C23B-9584-4594-BD33-038DADC6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53D9-7D17-478C-90FC-4FE476F9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9FD3-4DCD-429C-8CE1-55B29042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4D6C-CC86-43D9-BD0A-40A96AB3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A385-0A39-4E83-A3C4-F1E4147D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714F-00A3-4140-AD30-AF7E5849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9E6D-D573-41F4-BD8A-668A7CB3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8AD0-6876-49EB-80E8-D65A36B0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B67-3E03-4CAC-A02A-0DD7AEB8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2109-DE7F-4D77-A81F-66C0552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3D52-61B6-486D-A501-F43080C4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DD1B-DC0C-403E-92B8-365D628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EE60-001C-4CB1-B9EC-CF1730BD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D234-FDB2-43B4-B475-3DD10428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3CE93-72CA-483F-AA60-C6B8EA8D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DD1A-20BA-47C1-9D8A-028A7DB0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2492-C54B-4586-A657-565E653F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3F7BB-8B37-4946-A639-D53678C7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27AB-9026-404D-AC62-2BC765D8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829-CCA6-4FBC-9BC3-B8044413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0239-28FA-4B63-8CFF-A15CA60D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76B2-0A24-4F9E-83A8-0B1AED9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077E-060C-4C5D-A124-FB404697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BB3B-D0C8-40E4-93DC-7285880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6F7CD-C264-4254-B9A5-26F01008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1DD8-E8A0-4440-8E85-854F2DA4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1604-DE5D-44C5-B823-1ED999E2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E043-4A76-40EE-BE4F-DAAA4EB3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5C304-4B06-4BC4-847F-053B032B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025-1685-4265-A9E5-A779E43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501-A385-4FA5-A139-6090364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58C-EBAD-49E9-8A3E-AE1BB96D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B80-C1B8-4DD6-A3D7-99729E35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139-846D-4605-99B3-A11DD2C3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4514B-8AC0-4396-96BC-A5DAC470DCF9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6C5A5-D633-43F6-8FEB-4DB0EBB6A093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99E82-665C-4CDC-9905-B5104C4B9A42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EDC8E-E71A-4B80-9BC5-FA7E68DC1399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atomie en pathologie</a:t>
            </a: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 7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de onderka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ing van de O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sluiten = </a:t>
            </a:r>
            <a:r>
              <a:rPr b="0" lang="nl-NL" sz="1800" spc="-1" strike="noStrike">
                <a:solidFill>
                  <a:srgbClr val="00b0f0"/>
                </a:solidFill>
                <a:latin typeface="Trebuchet MS"/>
              </a:rPr>
              <a:t>d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openen =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ele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waards; </a:t>
            </a:r>
            <a:r>
              <a:rPr b="0" lang="nl-NL" sz="1800" spc="-1" strike="noStrike">
                <a:solidFill>
                  <a:srgbClr val="eb7766"/>
                </a:solidFill>
                <a:latin typeface="Trebuchet MS"/>
              </a:rPr>
              <a:t>pro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chterwaards; </a:t>
            </a:r>
            <a:r>
              <a:rPr b="0" lang="nl-NL" sz="1800" spc="-1" strike="noStrike">
                <a:solidFill>
                  <a:srgbClr val="90c226"/>
                </a:solidFill>
                <a:latin typeface="Trebuchet MS"/>
              </a:rPr>
              <a:t>r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binaties van verschillen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=circum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Afbeelding 1" descr="Mandibula (gewervelden) - Wikipedia"/>
          <p:cNvPicPr/>
          <p:nvPr/>
        </p:nvPicPr>
        <p:blipFill>
          <a:blip r:embed="rId1"/>
          <a:stretch/>
        </p:blipFill>
        <p:spPr>
          <a:xfrm>
            <a:off x="4932360" y="1332000"/>
            <a:ext cx="3378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Afbeelding 5" descr=""/>
          <p:cNvPicPr/>
          <p:nvPr/>
        </p:nvPicPr>
        <p:blipFill>
          <a:blip r:embed="rId1"/>
          <a:srcRect l="32613" t="38017" r="25878" b="11781"/>
          <a:stretch/>
        </p:blipFill>
        <p:spPr>
          <a:xfrm>
            <a:off x="539640" y="907920"/>
            <a:ext cx="7392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het kaakgewricht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welke anatomische structuur kan de onderkaak ten opzichte van de sched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pieren die de OK bewegen zijn d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temporal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masset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pt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m. pterygoïdeus lateral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trekt de onderkaak naar v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7 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t je nog wat een circumductie is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Gecombineer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opdrachten maken van het lesboek van de behandelde hoofdstukken van deze we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studie tijdens de 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Afbeelding 3" descr="Leren in de 21ste eeuw | de volledige talkshow on Vimeo"/>
          <p:cNvPicPr/>
          <p:nvPr/>
        </p:nvPicPr>
        <p:blipFill>
          <a:blip r:embed="rId1"/>
          <a:stretch/>
        </p:blipFill>
        <p:spPr>
          <a:xfrm>
            <a:off x="2897280" y="3987720"/>
            <a:ext cx="4060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Extra: </a:t>
            </a: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richtlijn infectie preventie volgende week overhoring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755640" y="414972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53:22Z</dcterms:created>
  <dc:creator>E. Sprenger</dc:creator>
  <dc:description/>
  <dc:language>en-US</dc:language>
  <cp:lastModifiedBy>Jannet van den Berg</cp:lastModifiedBy>
  <dcterms:modified xsi:type="dcterms:W3CDTF">2017-02-02T09:41:40Z</dcterms:modified>
  <cp:revision>7</cp:revision>
  <dc:subject/>
  <dc:title>Anatomie en pathologie Hoofdstuk 7</dc:title>
</cp:coreProperties>
</file>