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C00-F118-4FFB-B63B-B3B1E332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8ED-E48B-4AE9-83A9-05AE2C9F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1E2-2C0F-49E2-AF8E-91E86594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F29-ED34-4708-9D96-63AB9EC5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FB0C-1C41-4999-B834-2C65B240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CF7C-C815-4CA7-82DA-D717E678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EF05-CD0E-44CD-BC62-0D755C5A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F6FD-B3FE-4F47-AF8E-D5C6F083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F57E-20E3-456A-9DEF-77F14B0D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62A9-4EDA-4E7A-823A-C387A5B4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FEA2-FC6F-44F9-86A5-BF9C2D61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24C-8402-45DD-BC90-AEF48690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5CFF-7F33-4F03-8659-67640D58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B9A3-9FCC-4E0E-84A6-11DD5CA2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6F88-86DD-45DA-BDA5-F67443C4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F7C9-68C5-4B64-8AC1-A22BB309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BC34-E124-423E-9F83-D14C0DFD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368-38D9-4EBB-B92F-5B8C76DD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38A-A86F-4001-BF9B-F48F9E5B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8B3-E79E-47C5-9509-BDA68FB8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095-305B-402E-BEBB-7FF3C393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D87-A71C-4320-B6B1-F4B59262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8DA-D53B-40F9-A6F4-D6B92287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F76-1D69-4AF8-B7AC-F872E672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91E1-5AAE-40C4-846B-5FA6BDB6FF6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0D3F-C9AE-48F8-A686-898BCD832461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ankasteel.nl/eerstelijn/eerstelijnafb/kaak1/kaak1.gif&amp;imgrefurl=http://www.vankasteel.nl/eerstelijn/kaakklachten.htm&amp;h=540&amp;w=954&amp;sz=135&amp;hl=nl&amp;start=1&amp;usg=__aESijRSoe4NXZ-CvalxUKfSbxR4=&amp;tbnid=Z2OFmfXwXNxK1M:&amp;tbnh=84&amp;tbnw=148&amp;prev=/images%3Fq%3Dkaakkopje%26gbv%3D2%26hl%3Dnl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3d-illustration.de/anatomie/Hals_gesamt.jpg&amp;imgrefurl=http://www.3d-illustration.de/anatomie/hals.html&amp;h=526&amp;w=692&amp;sz=50&amp;hl=nl&amp;start=20&amp;usg=__VkNsTnx5mgDYXw010DlB_Y7i0_M=&amp;tbnid=aYLxeKQiiC-19M:&amp;tbnh=106&amp;tbnw=139&amp;prev=/images%3Fq%3DOs%2BHyo%25C3%25AFdeum%26start%3D18%26gbv%3D2%26ndsp%3D18%26hl%3Dnl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l.wikipedia.org/w/index.php?title=Os_frontale&amp;action=edit" TargetMode="External"/><Relationship Id="rId2" Type="http://schemas.openxmlformats.org/officeDocument/2006/relationships/hyperlink" Target="http://nl.wikipedia.org/w/index.php?title=Voorhoofdsbeen&amp;action=edit" TargetMode="External"/><Relationship Id="rId3" Type="http://schemas.openxmlformats.org/officeDocument/2006/relationships/hyperlink" Target="http://nl.wikipedia.org/w/index.php?title=Os_parietale&amp;action=edit" TargetMode="External"/><Relationship Id="rId4" Type="http://schemas.openxmlformats.org/officeDocument/2006/relationships/hyperlink" Target="http://nl.wikipedia.org/w/index.php?title=Os_parietale&amp;action=edit" TargetMode="External"/><Relationship Id="rId5" Type="http://schemas.openxmlformats.org/officeDocument/2006/relationships/hyperlink" Target="http://nl.wikipedia.org/w/index.php?title=Wandbeen&amp;action=edit" TargetMode="External"/><Relationship Id="rId6" Type="http://schemas.openxmlformats.org/officeDocument/2006/relationships/hyperlink" Target="http://nl.wikipedia.org/w/index.php?title=Os_temporale&amp;action=edit" TargetMode="External"/><Relationship Id="rId7" Type="http://schemas.openxmlformats.org/officeDocument/2006/relationships/hyperlink" Target="http://nl.wikipedia.org/w/index.php?title=Slaapbeen&amp;action=edit" TargetMode="External"/><Relationship Id="rId8" Type="http://schemas.openxmlformats.org/officeDocument/2006/relationships/hyperlink" Target="http://nl.wikipedia.org/w/index.php?title=Os_occipitale&amp;action=edit" TargetMode="External"/><Relationship Id="rId9" Type="http://schemas.openxmlformats.org/officeDocument/2006/relationships/hyperlink" Target="http://nl.wikipedia.org/w/index.php?title=Os_occipitale&amp;action=edit" TargetMode="External"/><Relationship Id="rId10" Type="http://schemas.openxmlformats.org/officeDocument/2006/relationships/hyperlink" Target="http://nl.wikipedia.org/w/index.php?title=Achterhoofdsbeen&amp;action=edit" TargetMode="External"/><Relationship Id="rId11" Type="http://schemas.openxmlformats.org/officeDocument/2006/relationships/hyperlink" Target="http://nl.wikipedia.org/wiki/Os_sphenoidale" TargetMode="External"/><Relationship Id="rId12" Type="http://schemas.openxmlformats.org/officeDocument/2006/relationships/hyperlink" Target="http://nl.wikipedia.org/wiki/Os_sphenoidale" TargetMode="External"/><Relationship Id="rId13" Type="http://schemas.openxmlformats.org/officeDocument/2006/relationships/hyperlink" Target="http://nl.wikipedia.org/wiki/Wiggebeen" TargetMode="External"/><Relationship Id="rId14" Type="http://schemas.openxmlformats.org/officeDocument/2006/relationships/hyperlink" Target="http://www.memorizer.net/nl/menselijk_lichaam/skelet/botten_overzicht/png/voorhoofdsbeen.png" TargetMode="External"/><Relationship Id="rId15" Type="http://schemas.openxmlformats.org/officeDocument/2006/relationships/image" Target="../media/image2.jpeg"/><Relationship Id="rId16" Type="http://schemas.openxmlformats.org/officeDocument/2006/relationships/hyperlink" Target="http://www.memorizer.net/nl/menselijk_lichaam/skelet/botten_overzicht/png2/wandbeen.png" TargetMode="External"/><Relationship Id="rId17" Type="http://schemas.openxmlformats.org/officeDocument/2006/relationships/image" Target="../media/image3.jpeg"/><Relationship Id="rId18" Type="http://schemas.openxmlformats.org/officeDocument/2006/relationships/hyperlink" Target="http://www.memorizer.net/nl/menselijk_lichaam/skelet/botten_overzicht/png2/slaapbeen.png" TargetMode="External"/><Relationship Id="rId19" Type="http://schemas.openxmlformats.org/officeDocument/2006/relationships/image" Target="../media/image4.jpeg"/><Relationship Id="rId20" Type="http://schemas.openxmlformats.org/officeDocument/2006/relationships/hyperlink" Target="http://www.memorizer.net/nl/menselijk_lichaam/skelet/botten_overzicht/png2/achterhoofdsbeen.png" TargetMode="External"/><Relationship Id="rId21" Type="http://schemas.openxmlformats.org/officeDocument/2006/relationships/image" Target="../media/image5.jpeg"/><Relationship Id="rId22" Type="http://schemas.openxmlformats.org/officeDocument/2006/relationships/hyperlink" Target="http://images.google.nl/imgres?imgurl=http://www.memorizer.net/nl/menselijk_lichaam/skelet/botten_overzicht/png/wiggebeen.png&amp;imgrefurl=http://www.memorizer.net/nl/menselijk_lichaam/skelet/botten_overzicht/&amp;h=400&amp;w=252&amp;sz=201&amp;hl=nl&amp;start=1&amp;usg=__eNG9NlMtYgqHd9IZRoOzJg5hDUw=&amp;tbnid=UWnT-5Zcv5yqUM:&amp;tbnh=124&amp;tbnw=78&amp;prev=/images%3Fq%3Dwiggebeen%26gbv%3D2%26hl%3Dnl%26sa%3DG" TargetMode="External"/><Relationship Id="rId23" Type="http://schemas.openxmlformats.org/officeDocument/2006/relationships/image" Target="../media/image6.jpeg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Os_zygomaticum" TargetMode="External"/><Relationship Id="rId2" Type="http://schemas.openxmlformats.org/officeDocument/2006/relationships/hyperlink" Target="http://nl.wikipedia.org/wiki/Os_zygomaticum" TargetMode="External"/><Relationship Id="rId3" Type="http://schemas.openxmlformats.org/officeDocument/2006/relationships/hyperlink" Target="http://nl.wikipedia.org/wiki/Jukbeen" TargetMode="External"/><Relationship Id="rId4" Type="http://schemas.openxmlformats.org/officeDocument/2006/relationships/hyperlink" Target="http://nl.wikipedia.org/wiki/Maxilla_%28anatomie%29" TargetMode="External"/><Relationship Id="rId5" Type="http://schemas.openxmlformats.org/officeDocument/2006/relationships/hyperlink" Target="http://nl.wikipedia.org/wiki/Os_nasale" TargetMode="External"/><Relationship Id="rId6" Type="http://schemas.openxmlformats.org/officeDocument/2006/relationships/hyperlink" Target="http://nl.wikipedia.org/wiki/Neusbeen" TargetMode="External"/><Relationship Id="rId7" Type="http://schemas.openxmlformats.org/officeDocument/2006/relationships/hyperlink" Target="http://nl.wikipedia.org/wiki/Onderkaak" TargetMode="External"/><Relationship Id="rId8" Type="http://schemas.openxmlformats.org/officeDocument/2006/relationships/hyperlink" Target="http://nl.wikipedia.org/wiki/Os_palatinum" TargetMode="External"/><Relationship Id="rId9" Type="http://schemas.openxmlformats.org/officeDocument/2006/relationships/hyperlink" Target="http://nl.wikipedia.org/wiki/Os_palatinum" TargetMode="External"/><Relationship Id="rId10" Type="http://schemas.openxmlformats.org/officeDocument/2006/relationships/hyperlink" Target="http://nl.wikipedia.org/w/index.php?title=Os_lacrimale&amp;action=edit" TargetMode="External"/><Relationship Id="rId11" Type="http://schemas.openxmlformats.org/officeDocument/2006/relationships/hyperlink" Target="http://nl.wikipedia.org/w/index.php?title=Os_lacrimale&amp;action=edit" TargetMode="External"/><Relationship Id="rId12" Type="http://schemas.openxmlformats.org/officeDocument/2006/relationships/hyperlink" Target="http://nl.wikipedia.org/w/index.php?title=Traanbeen&amp;action=edit" TargetMode="External"/><Relationship Id="rId13" Type="http://schemas.openxmlformats.org/officeDocument/2006/relationships/hyperlink" Target="http://nl.wikipedia.org/w/index.php?title=Vomer&amp;action=edit" TargetMode="External"/><Relationship Id="rId14" Type="http://schemas.openxmlformats.org/officeDocument/2006/relationships/hyperlink" Target="http://nl.wikipedia.org/w/index.php?title=Conchae_nasale_inferior&amp;action=edit" TargetMode="External"/><Relationship Id="rId15" Type="http://schemas.openxmlformats.org/officeDocument/2006/relationships/hyperlink" Target="http://nl.wikipedia.org/w/index.php?title=Conchae_nasale_inferior&amp;action=edit" TargetMode="External"/><Relationship Id="rId16" Type="http://schemas.openxmlformats.org/officeDocument/2006/relationships/hyperlink" Target="http://nl.wikipedia.org/w/index.php?title=Conchae_nasale_inferior&amp;action=edit" TargetMode="External"/><Relationship Id="rId17" Type="http://schemas.openxmlformats.org/officeDocument/2006/relationships/hyperlink" Target="http://www.bartleby.com/107/Images/small/image173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images.google.nl/imgres?imgurl=http://www.theodora.com/anatomy/images/image170.gif&amp;imgrefurl=http://www.theodora.com/anatomy/the_inferior_nasal_concha.html&amp;h=411&amp;w=510&amp;sz=90&amp;hl=nl&amp;start=14&amp;usg=__Vnp8cSbPLf_0pnyi6ooZKLo3n6c=&amp;tbnid=aWCT-yY0OlPn_M:&amp;tbnh=106&amp;tbnw=131&amp;prev=/images%3Fq%3Dconchae%2Bnasale%2Binferior%26gbv%3D2%26hl%3Dnl%26sa%3DG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no-forum.com/images/000000998b0f1a10c.jpg&amp;imgrefurl=http://hno-forum.com/onlineaufklaerung/nnhop/index.html&amp;h=450&amp;w=459&amp;sz=86&amp;hl=nl&amp;start=14&amp;usg=__4GTIJF1N_6aG5iiBLIN7WuiWBDA=&amp;tbnid=3UsW9ijcvflfmM:&amp;tbnh=125&amp;tbnw=128&amp;prev=/images%3Fq%3DSinus%2Bmaxillaris%26gbv%3D2%26hl%3Dnl%26sa%3D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memorizer.net/nl/menselijk_lichaam/skelet/botten_overzicht/png/jukbeen.png&amp;imgrefurl=http://www.memorizer.net/nl/menselijk_lichaam/skelet/botten_overzicht/%3Fname%3Djukbeen&amp;h=400&amp;w=252&amp;sz=198&amp;hl=nl&amp;start=6&amp;usg=__Y65argEME3fxoRWp2FdugsadnaY=&amp;tbnid=b40ymHhYexJfXM:&amp;tbnh=124&amp;tbnw=78&amp;prev=/images%3Fq%3Dos%2Bzygomaticum%26gbv%3D2%26hl%3Dnl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nl/imgres?imgurl=http://www.theodora.com/anatomy/images/image167.gif&amp;imgrefurl=http://www.theodora.com/anatomy/the_zygomatic_bone.html&amp;h=384&amp;w=444&amp;sz=80&amp;hl=nl&amp;start=14&amp;usg=__DXv09u8Xgdc9RPPaq1lU9s00N5s=&amp;tbnid=ARaSM51Z92f4GM:&amp;tbnh=110&amp;tbnw=127&amp;prev=/images%3Fq%3DOs%2Bzygomaticus%26gbv%3D2%26hl%3Dnl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uni-mainz.de/FB/Medizin/Anatomie/makro1/ma012.gif&amp;imgrefurl=http://www.uni-mainz.de/FB/Medizin/Anatomie/makro1/ma012.htm&amp;h=297&amp;w=284&amp;sz=19&amp;hl=nl&amp;start=1&amp;usg=__HiRvKGqZtef8UM4Yr2q36k2TPPA=&amp;tbnid=HI_1ehltPFPNyM:&amp;tbnh=116&amp;tbnw=111&amp;prev=/images%3Fq%3DCorpus%2Bmandibulae%26gbv%3D2%26hl%3Dnl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natomie en pathologie hoofdstuk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76560" y="2662200"/>
            <a:ext cx="30402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824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Processus condylari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=kaakkopj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Processus coronoïdeu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=opstijgende tak, aanhechting kauwspier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292929"/>
                </a:solidFill>
                <a:uFillTx/>
                <a:latin typeface="Arial"/>
              </a:rPr>
              <a:t>Botafzetting kaakkopje maakt groei OK mogelijk!!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Tussen deze 2 in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Angulus mandibulae=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kaakho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Binnenkant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foramen mandibula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zenuwtak OK naar binn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557360"/>
            <a:ext cx="14094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nasale(neusbee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Steun harde deel neusru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Scheiding tussenschot: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Vom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sbijhol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Verbindingen door smale buisjes, vochtafvloeiing door zwartekracht, pus ophoping kan door ontstek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wichts verlaging vel kleine bijhol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rootste in bijholte in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O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Frontalis</a:t>
            </a:r>
            <a:r>
              <a:rPr b="0" lang="nl-NL" sz="2000" spc="-1" strike="noStrike">
                <a:solidFill>
                  <a:srgbClr val="292929"/>
                </a:solidFill>
                <a:latin typeface="Arial"/>
              </a:rPr>
              <a:t>(voorhoofdsbijholt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s Hyoïdeu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botstuk niet aan schedel vast, door spieren en vezels, ter hoogte strottenhoof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ctie spreken en slik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260280"/>
            <a:ext cx="132372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824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Meeste beenderen uit </a:t>
            </a:r>
            <a:r>
              <a:rPr b="0" lang="nl-NL" sz="2800" spc="-1" strike="noStrike" u="sng">
                <a:solidFill>
                  <a:srgbClr val="292929"/>
                </a:solidFill>
                <a:uFillTx/>
                <a:latin typeface="Arial"/>
              </a:rPr>
              <a:t>compact bo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2 lagen met  lagen rode beenmerg(vorming rode bloedcellen) er tusse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292929"/>
                </a:solidFill>
                <a:uFillTx/>
                <a:latin typeface="Arial"/>
              </a:rPr>
              <a:t>Perios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(botvlies) aan buitenzijde geeft ruimte tot gro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innenzijde afbraak door speciale cellen, ruimte voor schedelinhoud gro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00360" y="404640"/>
            <a:ext cx="2305080" cy="1562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t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Leeftijd os, minder elastisch en kans op fractu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Resorpti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processus alveolaris ook na extract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1971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e sche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cties skelet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tevigheid aan lichaa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scherming organen et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anhechtingsplaats spi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weg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(bo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Embryonale period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Fontanellen: waar bevinden die zich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luiten: kleine 4 maand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2 jaar gro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Fontanellen veranderen na groei in </a:t>
            </a:r>
            <a:r>
              <a:rPr b="1" lang="nl-NL" sz="2800" spc="-1" strike="noStrike">
                <a:solidFill>
                  <a:srgbClr val="292929"/>
                </a:solidFill>
                <a:latin typeface="Arial"/>
              </a:rPr>
              <a:t>sutur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*</a:t>
            </a:r>
            <a:r>
              <a:rPr b="1" i="1" lang="nl-NL" sz="2800" spc="-1" strike="noStrike">
                <a:solidFill>
                  <a:srgbClr val="292929"/>
                </a:solidFill>
                <a:latin typeface="Arial"/>
              </a:rPr>
              <a:t>Aangezichtsschedel &amp; Hersensche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Hersenschedel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anchnocranium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De menselijke schedel bestaat uit 22 botten en is daarmee het meest uitgebreide deel van het skele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chedeldak=bovenzijde van hersensche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chedelbasis: openingen bloedvaten en zenuwen(kwetsbaar, schedebasisfractuur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erschillende botten van een mensenschede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otten in de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hersensched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(splanchnocranium) (8)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s frontale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voorhoofdsbeen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pariët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wand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os tempor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slaap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occipit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achterhoofds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sphenoid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wigge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04000" y="2708280"/>
            <a:ext cx="514440" cy="819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80360" y="3284640"/>
            <a:ext cx="857160" cy="81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012000" y="3716280"/>
            <a:ext cx="857160" cy="81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7236000" y="4365720"/>
            <a:ext cx="857160" cy="81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940360" y="4941720"/>
            <a:ext cx="7430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tten in d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gezichtssched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14)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neurocran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os ethmoidal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ygomaticum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juk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maxilla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bovenkaak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os nas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neus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mandibula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onderkaak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palatinum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verhemeltebeen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lacrim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traan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vomer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onchae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 nasale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inferior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08000" y="4581360"/>
            <a:ext cx="1392120" cy="1235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24360" y="5589720"/>
            <a:ext cx="12481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x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Aangezichtsschedel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(splanchnocranium): groeit minder sn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en is kleiner bij kinderen dan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hersensched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Bodem oogk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Processus alveolari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: verhoging! alveolen(tandkasse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Processus palatinu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= gehemel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Sinus maxillari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= kaakholte ook wel </a:t>
            </a: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Antrum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292929"/>
                </a:solidFill>
                <a:latin typeface="Arial"/>
              </a:rPr>
              <a:t>(volwassenen 3 cm groo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999933"/>
                </a:solidFill>
                <a:latin typeface="Arial"/>
              </a:rPr>
              <a:t>*Wat was ook alweer een antrumperforatie?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4869000"/>
            <a:ext cx="12193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s zygomati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Groot deel oogk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Arcus zygomaticu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ontspringt in O 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2 stukken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os zygomaticu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                     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os tempora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Jukboog geeft steun wangspieren:dun(trauma gevaar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924280"/>
            <a:ext cx="743040" cy="1181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260280"/>
            <a:ext cx="1209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ndib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Hoefijzervormi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Corpus mandibula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= horizontale de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Foramen mental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= opening ter hoogte van premolaren, zenuw! Binnen      bui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Processes alveaolari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Processes= uitsteeks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4437000"/>
            <a:ext cx="1443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4437000"/>
            <a:ext cx="5032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484280"/>
            <a:ext cx="10573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9:44:35Z</dcterms:created>
  <dc:creator>E. Sprenger</dc:creator>
  <dc:description/>
  <dc:language>en-US</dc:language>
  <cp:lastModifiedBy>E. Sprenger</cp:lastModifiedBy>
  <dcterms:modified xsi:type="dcterms:W3CDTF">2008-10-15T08:46:38Z</dcterms:modified>
  <cp:revision>7</cp:revision>
  <dc:subject/>
  <dc:title>Anatomie en pathologie hoofdstuk 1,2,3</dc:title>
</cp:coreProperties>
</file>