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DAF6-8446-4503-B6D3-5A1EC09A0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BB42-C958-451B-89FF-A677AC670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A235-BBC8-41BC-A26C-51A04F6A4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49FF-86CB-4698-A1B8-0BBAF407A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9B88E-9E4A-413D-A5DB-D4C48078C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1C460-35CC-4257-844A-3AC9A7E56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60C78-A668-4119-A528-3851F2766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E1F99-D746-4903-9F8D-3FAA5D872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BBD96-33BC-463C-AD2E-C1CB00591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49DB8-5796-4E05-A91B-FEFCF64F0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D5401-371F-4E68-9018-6157A433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93DB-59BE-43D5-8095-EF8111A77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05D81-DCD8-4141-9475-9AB65EC5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5E433-3752-497E-A107-8FDEEF88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E3DC9-3E2F-4735-877E-A4864A4CD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331C8-E4AA-4F67-A614-AFAB61B88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CA0F7-7D2A-4A51-8749-E013D6508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596A3-2FB1-47D1-930D-F60888B6D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4B66A-E795-4230-9045-BA545F8C6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B6FB4-59AD-4E60-A468-B1BFFC491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01968-F171-4646-A33D-D08901D56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76BE0-23BF-47E9-85BC-A7D0E7CA1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65C9-AC85-4300-8B64-070BA1D3B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7B5D4-8D95-4A52-9A2F-6B953470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2A943-CEE8-45BF-AE17-C8F5CD78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39CE3-B3F4-44EA-A095-9E7D2E6F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8CAA3-DF46-4F21-AD84-FE867441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6D38C-5610-4BAA-A216-72DDBB32F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F117F-F836-4AC0-B162-5F77768B0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73CED-C4F6-429F-8B2B-8A7A687E1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B4999-0371-4AC5-948A-AD7D2A305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CCEEF-768F-4819-A449-63E23A66B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53015-7236-4255-866F-962CCD30E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25B1-2432-4E60-81D4-BE8876BD4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EC06E-D729-4A3B-B88B-DC7B0D036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64915-B90B-4E7E-AA65-445FDB9C1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EEF07-DADA-4742-8C21-37D28DA2A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C2022-842C-424D-80AD-6C0F567B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2CDC1-8FA3-4B93-87D1-7E3C585B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04DEA-48D2-479C-8CFE-F9CFFE17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4630E-33F6-40BB-94AA-CBE397B56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1041B-CBDB-4F71-BB00-80971BA8C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C71AA-7438-4C26-9257-BFE8290C3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6CD9-BDED-4B5C-A77B-9FBFA79FC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A291-CDDC-4229-B9CE-9D2B13ABF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4400-209A-46B8-8021-508C9830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7EA7-A6CE-41A6-9CE3-F5203F29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19CC-FEF9-4252-AB96-6EAC1750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B07AA5-B234-4E59-9F4D-9CFB924B3BB6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88FE31-EAD5-4B23-A6DE-906A9DF387C7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1D4D36-5E1B-427B-89DF-88D3A957F4CF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5963C3-9003-441C-B8B0-9E8E47523A81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30400" y="2404800"/>
            <a:ext cx="582768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90c226"/>
                </a:solidFill>
                <a:latin typeface="Trebuchet MS"/>
              </a:rPr>
              <a:t>H 6</a:t>
            </a:r>
            <a:br>
              <a:rPr sz="5400"/>
            </a:br>
            <a:r>
              <a:rPr b="0" lang="nl-NL" sz="5400" spc="-1" strike="noStrike">
                <a:solidFill>
                  <a:srgbClr val="90c226"/>
                </a:solidFill>
                <a:latin typeface="Trebuchet MS"/>
              </a:rPr>
              <a:t>Spieren</a:t>
            </a:r>
            <a:br>
              <a:rPr sz="5400"/>
            </a:br>
            <a:r>
              <a:rPr b="0" lang="nl-NL" sz="5400" spc="-1" strike="noStrike">
                <a:solidFill>
                  <a:srgbClr val="90c226"/>
                </a:solidFill>
                <a:latin typeface="Trebuchet MS"/>
              </a:rPr>
              <a:t>A &amp; P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3" name="Afbeelding 1" descr="Sternocleidomastoid muscle - wikidoc"/>
          <p:cNvPicPr/>
          <p:nvPr/>
        </p:nvPicPr>
        <p:blipFill>
          <a:blip r:embed="rId1"/>
          <a:stretch/>
        </p:blipFill>
        <p:spPr>
          <a:xfrm>
            <a:off x="1154160" y="2997360"/>
            <a:ext cx="255276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Mondbodemspier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120" y="2160720"/>
            <a:ext cx="634860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horen tot de skeletspi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Functie: belangrijkste naar beneden trekken van de O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lle spieren zijn gehecht aan het os hyoidiu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Trebuchet MS"/>
              </a:rPr>
              <a:t>Musculus mylohyoideu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Trebuchet MS"/>
              </a:rPr>
              <a:t>Musculus geniohyoideu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Trebuchet MS"/>
              </a:rPr>
              <a:t>Musculus digatricus= buiki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Overzicht boek!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.2.3 zijn mondbodemspi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" name="Rechthoek 1"/>
          <p:cNvSpPr/>
          <p:nvPr/>
        </p:nvSpPr>
        <p:spPr>
          <a:xfrm>
            <a:off x="2563920" y="3244680"/>
            <a:ext cx="401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Zoek de functies op en noteer deze!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Halsnekspier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angezichtspieren; </a:t>
            </a:r>
            <a:r>
              <a:rPr b="1" lang="nl-NL" sz="1800" spc="-1" strike="noStrike">
                <a:solidFill>
                  <a:srgbClr val="404040"/>
                </a:solidFill>
                <a:latin typeface="Trebuchet MS"/>
              </a:rPr>
              <a:t>1.m. buccinator  en  2.m. orbulari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. spanning e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2. geen insertie en origo, articulatie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Leer de schema’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120" y="177300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aak de opdrach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90c226"/>
                </a:solidFill>
                <a:latin typeface="Trebuchet MS"/>
              </a:rPr>
              <a:t>Huiswerk:</a:t>
            </a:r>
            <a:br>
              <a:rPr sz="3200"/>
            </a:br>
            <a:br>
              <a:rPr sz="3200"/>
            </a:br>
            <a:r>
              <a:rPr b="0" lang="nl-NL" sz="3200" spc="-1" strike="noStrike">
                <a:solidFill>
                  <a:srgbClr val="90c226"/>
                </a:solidFill>
                <a:latin typeface="Trebuchet MS"/>
              </a:rPr>
              <a:t>Schema’s bestuderen</a:t>
            </a:r>
            <a:br>
              <a:rPr sz="3200"/>
            </a:br>
            <a:r>
              <a:rPr b="0" lang="nl-NL" sz="3200" spc="-1" strike="noStrike">
                <a:solidFill>
                  <a:srgbClr val="90c226"/>
                </a:solidFill>
                <a:latin typeface="Trebuchet MS"/>
              </a:rPr>
              <a:t>begrippenlijst</a:t>
            </a:r>
            <a:br>
              <a:rPr sz="3200"/>
            </a:br>
            <a:r>
              <a:rPr b="0" lang="nl-NL" sz="3200" spc="-1" strike="noStrike">
                <a:solidFill>
                  <a:srgbClr val="90c226"/>
                </a:solidFill>
                <a:latin typeface="Trebuchet MS"/>
              </a:rPr>
              <a:t>puntsgewijze samenstelling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2" name="Tijdelijke aanduiding voor inhoud 3" descr="Sclera picto's"/>
          <p:cNvPicPr/>
          <p:nvPr/>
        </p:nvPicPr>
        <p:blipFill>
          <a:blip r:embed="rId1"/>
          <a:stretch/>
        </p:blipFill>
        <p:spPr>
          <a:xfrm>
            <a:off x="2411280" y="3246480"/>
            <a:ext cx="361152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Introducti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pierstelsel regelt de houding en beweging van het menselijk lichaam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6" name="Afbeelding 4" descr="Muscles of the Body by arvalis on DeviantArt"/>
          <p:cNvPicPr/>
          <p:nvPr/>
        </p:nvPicPr>
        <p:blipFill>
          <a:blip r:embed="rId1"/>
          <a:stretch/>
        </p:blipFill>
        <p:spPr>
          <a:xfrm>
            <a:off x="3635280" y="2637000"/>
            <a:ext cx="5184720" cy="40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90c226"/>
                </a:solidFill>
                <a:latin typeface="Trebuchet MS"/>
              </a:rPr>
              <a:t>Doel: </a:t>
            </a:r>
            <a:br>
              <a:rPr sz="3200"/>
            </a:br>
            <a:r>
              <a:rPr b="1" lang="nl-NL" sz="3200" spc="-1" strike="noStrike">
                <a:solidFill>
                  <a:srgbClr val="90c226"/>
                </a:solidFill>
                <a:latin typeface="Trebuchet MS"/>
              </a:rPr>
              <a:t>kennis van spieren in het hoofdhalsgebied t.b.v. de THK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8" name="Tijdelijke aanduiding voor inhoud 5" descr=""/>
          <p:cNvPicPr/>
          <p:nvPr/>
        </p:nvPicPr>
        <p:blipFill>
          <a:blip r:embed="rId1"/>
          <a:stretch/>
        </p:blipFill>
        <p:spPr>
          <a:xfrm>
            <a:off x="814320" y="2492280"/>
            <a:ext cx="750420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Werking spier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Uitsluitend trekkra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Rusttoestand is de spier uitgerek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oor stand door een andere spier of zwaartekra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Tegenwerkende spier is een </a:t>
            </a:r>
            <a:r>
              <a:rPr b="0" lang="nl-NL" sz="1800" spc="-1" strike="noStrike">
                <a:solidFill>
                  <a:srgbClr val="ff0000"/>
                </a:solidFill>
                <a:latin typeface="Trebuchet MS"/>
              </a:rPr>
              <a:t>antagonist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0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Groep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09120" y="1628280"/>
            <a:ext cx="634860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Kauwspi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upra hyoide spi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3 ervan vormen: mond bodem spi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Lingua spi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imische spieren (aangezichtsspieren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Infrahyoide spi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Halsnekspi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90c226"/>
                </a:solidFill>
                <a:latin typeface="Trebuchet MS"/>
              </a:rPr>
              <a:t>Centraal zenuw stelsil</a:t>
            </a:r>
            <a:br>
              <a:rPr sz="4000"/>
            </a:br>
            <a:r>
              <a:rPr b="0" lang="nl-NL" sz="4000" spc="-1" strike="noStrike">
                <a:solidFill>
                  <a:srgbClr val="90c226"/>
                </a:solidFill>
                <a:latin typeface="Trebuchet MS"/>
              </a:rPr>
              <a:t>CZS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pieren : motorische prikkel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Hoofdhalsgebied soort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Trebuchet MS"/>
              </a:rPr>
              <a:t>Skeletspieren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; beide aan een botstuk bevestig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92d050"/>
                </a:solidFill>
                <a:latin typeface="Trebuchet MS"/>
              </a:rPr>
              <a:t>Huidspieren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; aan het bot/huid bevestigd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7030a0"/>
                </a:solidFill>
                <a:latin typeface="Trebuchet MS"/>
              </a:rPr>
              <a:t>Kringspieren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;  weefsels bevestigd bijvoorbeeld de mon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7" name="Afbeelding 2" descr="Beeld van verloop van spiervezels van de musculus orbicularis oris"/>
          <p:cNvPicPr/>
          <p:nvPr/>
        </p:nvPicPr>
        <p:blipFill>
          <a:blip r:embed="rId1"/>
          <a:stretch/>
        </p:blipFill>
        <p:spPr>
          <a:xfrm>
            <a:off x="1812960" y="3573360"/>
            <a:ext cx="3941640" cy="28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Spieren (musculus = m)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7030a0"/>
                </a:solidFill>
                <a:latin typeface="Trebuchet MS"/>
              </a:rPr>
              <a:t>Origo</a:t>
            </a:r>
            <a:r>
              <a:rPr b="1" lang="nl-NL" sz="1800" spc="-1" strike="noStrike">
                <a:solidFill>
                  <a:srgbClr val="404040"/>
                </a:solidFill>
                <a:latin typeface="Trebuchet MS"/>
              </a:rPr>
              <a:t> = oorspro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Trebuchet MS"/>
              </a:rPr>
              <a:t>Insertie</a:t>
            </a:r>
            <a:r>
              <a:rPr b="1" lang="nl-NL" sz="1800" spc="-1" strike="noStrike">
                <a:solidFill>
                  <a:srgbClr val="404040"/>
                </a:solidFill>
                <a:latin typeface="Trebuchet MS"/>
              </a:rPr>
              <a:t>= aanhechting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elk is het meest bewegelijk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Kauwspier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120" y="1413000"/>
            <a:ext cx="6348600" cy="46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e skeletspieren, zijn met beide uiteinden aan een botstuk besvestig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Functie: bewegen OK zodat het voedsel gekauwd kan worde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Trebuchet MS"/>
              </a:rPr>
              <a:t>Musculus temporali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Trebuchet MS"/>
              </a:rPr>
              <a:t>Musculus masset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Trebuchet MS"/>
              </a:rPr>
              <a:t>Musculus pterygoïdeus laterali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Trebuchet MS"/>
              </a:rPr>
              <a:t>Musculus pterygoïdeus mediali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08:30:31Z</dcterms:created>
  <dc:creator>E. Sprenger</dc:creator>
  <dc:description/>
  <dc:language>en-US</dc:language>
  <cp:lastModifiedBy>Jannet van den Berg</cp:lastModifiedBy>
  <dcterms:modified xsi:type="dcterms:W3CDTF">2017-01-09T16:11:57Z</dcterms:modified>
  <cp:revision>7</cp:revision>
  <dc:subject/>
  <dc:title>Hoofdstuk 6 Anatomie en Pathologie</dc:title>
</cp:coreProperties>
</file>