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6A2-D1BB-4681-AA0F-BE69C916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E9A-57A0-47BA-9ABC-8B5823D8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6DF-5417-49A3-86DB-0027EC75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E3E-79C2-402D-BBD0-CF289E0D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606-5994-4CF6-84B7-56D22E98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053-9DF9-45E0-98A9-42FAC0D0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2DCA-5416-4ACA-9F99-42F6080F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7FAC-189A-428B-A9F9-E12769AD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EF8C-583B-460B-A4B3-F13347F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0892-C341-4293-BEDF-5A140DE1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BF79-B4F5-4EF6-BED2-A5DCB704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0DC-3518-4220-BB53-4F36872C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5AE-428E-4F41-B2AB-F12EC6B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B7B2-9197-4E46-A2AE-0BCBED56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B867-D725-4971-91F6-1D8E9A73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934F-63A1-4AE2-8CFD-E443DB64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B7BF-2D94-4627-9D57-8D896721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4A59-732B-4C1A-B85E-5E28FA2F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71C3D-0E5B-44A9-B2B3-45E71491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9DC2-50C3-4A7F-A7B1-E8C57F25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1EFE-6764-40FC-8BF8-D750F781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F8261-D7E8-4D6F-B81F-DDC3A44C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A45-DAE7-4A0F-9840-9717B27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843D8-7051-4029-B1CA-534B716B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FF04C-4F0E-43FF-AF58-93344C7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2173-4E3E-47E1-9EB4-424FFD5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8B7B-5AED-4C9C-AEA9-722B0683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745B3-6FE1-4215-A915-E08B4A2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93EA2-0628-408D-A808-69515E3E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280B7-FE9B-4925-8868-BED2475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A95A-60C1-46B2-8E5B-B725C3EA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3921-B3F0-4213-8B09-9CEF233D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232CC-348B-417C-BBFA-C7357ADF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8FF-4578-4418-AE14-25A13A42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69F8-F146-46F8-A475-E9A4F812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4FB7-450F-4EF9-96B8-6CA759BE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8954E-A204-4DE7-8AEC-4CC6EF9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CD53-EFB1-4224-8613-490F62A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9E0E-285B-49D3-973A-E8A868D8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C8AD2-75A3-4A79-90F7-0E57282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DCAF-D12C-4797-B968-7DA6CE1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F03B-181F-4934-8486-5A9468AA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29A0-A00C-425B-9D08-99D5972E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2B6E-182A-408E-9D5B-99006129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EF3-BF5F-482D-88CC-C167B0C1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EAF-9685-4DDC-9367-0EEE1A2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D7B-0DC9-47F0-BB4F-7CF2B15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506-2D51-4CCA-9204-28601CA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7D28A-7D8C-4BA7-A51E-488BAC283F1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1FD92-3068-475A-AD63-E24789F8D2A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1F2AA7-EA88-477F-9B58-7F032651CBC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0B09F-61C9-4DCF-B2ED-F5A96CCA4BB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H 6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Spieren</a:t>
            </a:r>
            <a:br>
              <a:rPr sz="5400"/>
            </a:b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A &amp; P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Afbeelding 1" descr="Sternocleidomastoid muscle - wikidoc"/>
          <p:cNvPicPr/>
          <p:nvPr/>
        </p:nvPicPr>
        <p:blipFill>
          <a:blip r:embed="rId1"/>
          <a:stretch/>
        </p:blipFill>
        <p:spPr>
          <a:xfrm>
            <a:off x="1154160" y="2997360"/>
            <a:ext cx="2552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ndbodem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720"/>
            <a:ext cx="6348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horen tot de skelet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langrijkste naar beneden trekken van de O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le spieren zijn gehecht aan het os hyoi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yl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geniohyoide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digatricus= buiki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Overzicht boek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2.3 zijn mondbodem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Rechthoek 1"/>
          <p:cNvSpPr/>
          <p:nvPr/>
        </p:nvSpPr>
        <p:spPr>
          <a:xfrm>
            <a:off x="2563920" y="324468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Zoek de functies op en noteer deze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alsnek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gezichtspieren;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1.m. buccinator  en  2.m. orbular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. spanning 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. geen insertie en origo, articulati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Leer de schema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77300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k de opdra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Huiswerk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Schema’s bestuderen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begrippenlijst</a:t>
            </a:r>
            <a:br>
              <a:rPr sz="3200"/>
            </a:br>
            <a:r>
              <a:rPr b="0" lang="nl-NL" sz="3200" spc="-1" strike="noStrike">
                <a:solidFill>
                  <a:srgbClr val="90c226"/>
                </a:solidFill>
                <a:latin typeface="Trebuchet MS"/>
              </a:rPr>
              <a:t>puntsgewijze samenstelling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2" name="Tijdelijke aanduiding voor inhoud 3" descr="Sclera picto's"/>
          <p:cNvPicPr/>
          <p:nvPr/>
        </p:nvPicPr>
        <p:blipFill>
          <a:blip r:embed="rId1"/>
          <a:stretch/>
        </p:blipFill>
        <p:spPr>
          <a:xfrm>
            <a:off x="2411280" y="3246480"/>
            <a:ext cx="3611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Introduc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stelsel regelt de houding en beweging van het menselijk lichaa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4" descr="Muscles of the Body by arvalis on DeviantArt"/>
          <p:cNvPicPr/>
          <p:nvPr/>
        </p:nvPicPr>
        <p:blipFill>
          <a:blip r:embed="rId1"/>
          <a:stretch/>
        </p:blipFill>
        <p:spPr>
          <a:xfrm>
            <a:off x="3635280" y="2637000"/>
            <a:ext cx="518472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Doel: </a:t>
            </a:r>
            <a:br>
              <a:rPr sz="3200"/>
            </a:br>
            <a:r>
              <a:rPr b="1" lang="nl-NL" sz="3200" spc="-1" strike="noStrike">
                <a:solidFill>
                  <a:srgbClr val="90c226"/>
                </a:solidFill>
                <a:latin typeface="Trebuchet MS"/>
              </a:rPr>
              <a:t>kennis van spieren in het hoofdhalsgebied t.b.v. de THK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8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814320" y="2492280"/>
            <a:ext cx="75042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Werking 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Uitsluitend trek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usttoestand is de spier uitgerek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stand door een andere spier of zwaartek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egenwerkende spier is een </a:t>
            </a: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antagonist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Groep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1628280"/>
            <a:ext cx="63486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Kauw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upra 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3 ervan vormen: mond bodem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ingua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mische spieren (aangezichtsspier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frahyoide 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alsneksp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entraal zenuw stelsil</a:t>
            </a:r>
            <a:br>
              <a:rPr sz="4000"/>
            </a:br>
            <a:r>
              <a:rPr b="0" lang="nl-NL" sz="4000" spc="-1" strike="noStrike">
                <a:solidFill>
                  <a:srgbClr val="90c226"/>
                </a:solidFill>
                <a:latin typeface="Trebuchet MS"/>
              </a:rPr>
              <a:t>CZ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eren : motorische prikk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Hoofdhalsgebied soor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Skelet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beide aan een botstuk be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92d050"/>
                </a:solidFill>
                <a:latin typeface="Trebuchet MS"/>
              </a:rPr>
              <a:t>Huid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aan het bot/huid bevestigd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030a0"/>
                </a:solidFill>
                <a:latin typeface="Trebuchet MS"/>
              </a:rPr>
              <a:t>Kringspier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;  weefsels bevestigd bijvoorbeeld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Afbeelding 2" descr="Beeld van verloop van spiervezels van de musculus orbicularis oris"/>
          <p:cNvPicPr/>
          <p:nvPr/>
        </p:nvPicPr>
        <p:blipFill>
          <a:blip r:embed="rId1"/>
          <a:stretch/>
        </p:blipFill>
        <p:spPr>
          <a:xfrm>
            <a:off x="1812960" y="3573360"/>
            <a:ext cx="39416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Spieren (musculus = m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7030a0"/>
                </a:solidFill>
                <a:latin typeface="Trebuchet MS"/>
              </a:rPr>
              <a:t>Origo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 = oorspro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Trebuchet MS"/>
              </a:rPr>
              <a:t>Insertie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= aanhechtin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lk is het meest bewegelijk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Kauwspi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1413000"/>
            <a:ext cx="6348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skeletspieren, zijn met beide uiteinden aan een botstuk besvestig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Functie: bewegen OK zodat het voedsel gekauwd kan word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tempo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masse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later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Trebuchet MS"/>
              </a:rPr>
              <a:t>Musculus pterygoïdeus mediali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8:30:31Z</dcterms:created>
  <dc:creator>E. Sprenger</dc:creator>
  <dc:description/>
  <dc:language>en-US</dc:language>
  <cp:lastModifiedBy>Jannet van den Berg</cp:lastModifiedBy>
  <dcterms:modified xsi:type="dcterms:W3CDTF">2017-01-09T16:11:57Z</dcterms:modified>
  <cp:revision>7</cp:revision>
  <dc:subject/>
  <dc:title>Hoofdstuk 6 Anatomie en Pathologie</dc:title>
</cp:coreProperties>
</file>