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0BD-9FAB-40F7-AAFF-882BB9EF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038-0722-4944-BB1C-BACBD4D7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5DD-D611-48F9-A4BA-672FB55E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F1B-5A24-4BA7-AC9D-3EF971E9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1B93-7E0A-40E3-8B5C-A124C8D2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6B12-BFCD-4635-B1D5-D204C592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DE60-00C1-4743-9986-BAC137A3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9F65-5D07-49FF-910B-CD6FCF2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77E7-C991-47B0-9601-0FCF15A9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214E-040A-4091-BA03-E96C22E3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5FDC-3903-4793-9DA1-46BC8BE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979-8F22-4D19-B139-B0158E04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05C9-B013-48C2-999A-76DD0D7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D8B3-A9DE-479D-9E31-00F781C6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81D-9C6F-4C25-B1CF-D659E78F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CD44-DD61-485A-9F89-BA3F2E1E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4453-2DC8-4D08-95D5-295F0A1E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5E78-70BB-44AA-AA07-FCC08003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C8E1-1676-424C-901D-109D3876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C396-1D38-4990-8F36-22A944F7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ED28-F531-4542-9FBA-8A65633C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EE8D-F9EA-452D-9B08-DCAB8C8B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3C0-57DA-47EC-A8D9-D041135D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AF45-9D54-413E-AFE3-290C7FAB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9594-9EAF-4C70-BD70-D48DD67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33EC-EB3F-4D05-ABC6-651D270F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27A2-ACE0-4416-B3D5-9F4A4F2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6B0A-9CAB-4864-B2B3-90DA3A10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7A1B-706F-4EB3-908D-BA5E1BE3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CBBD-DB7C-438D-A256-721DEFA4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B0E9-0A69-4B89-88F5-D44E9E9E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E860-42A6-4847-B42A-9F2A8005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8B081-B2D2-49E4-9D68-60047414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E3C-75DA-4A9C-BBD9-620F0B10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8F81-33A0-42F2-9D84-8022D220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D915-9088-4DF3-B98A-008CAC25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D2FF8-D5D1-49FC-AC37-D075F34C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D82D-6FE9-4C67-AEB3-6E98A9A1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BB9D3-1DA7-41F5-BE19-2118B6F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7D84-BD1F-438D-B57E-E22E1545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4B3C-C10E-4F29-9776-26A399AA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9E3D-3CF8-4E66-886D-ED686D44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00F72-C5F2-4252-9EAD-234A27D0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B0E-B438-474E-AB47-CFF77BAB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586-E824-4387-B3D0-386FB1C9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E03-F1F1-4BE3-A74E-73EB68F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D10-3EC2-4540-BA76-38DE579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52D-8D11-4043-9A0A-74520FED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78045-A20A-4E4B-9702-A49D8D647A7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56A9B-2DF1-421A-BF7D-D8067F44AC5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EBF30-3FB6-47E8-ADD2-1701830E6B6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AE02B-C437-424E-8639-3CD8853BEC5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 6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Spieren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A &amp; P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Afbeelding 1" descr="Sternocleidomastoid muscle - wikidoc"/>
          <p:cNvPicPr/>
          <p:nvPr/>
        </p:nvPicPr>
        <p:blipFill>
          <a:blip r:embed="rId1"/>
          <a:stretch/>
        </p:blipFill>
        <p:spPr>
          <a:xfrm>
            <a:off x="1154160" y="2997360"/>
            <a:ext cx="2552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ndbodem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horen tot de skelet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langrijkste naar beneden trekken van de O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spieren zijn gehecht aan het os hyoi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yl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geni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digatricus= buik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verzicht boek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2.3 zijn mondbodem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hthoek 1"/>
          <p:cNvSpPr/>
          <p:nvPr/>
        </p:nvSpPr>
        <p:spPr>
          <a:xfrm>
            <a:off x="2563920" y="324468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oek de functies op en noteer deze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lsnek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gezichtspieren;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1.m. buccinator  en  2.m. orbular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spanning 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geen insertie en origo, articulati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er de schema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77300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k de opdra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Schema’s bestuderen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2411280" y="324648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troduc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stelsel regelt de houding en beweging van het menselijk licha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4" descr="Muscles of the Body by arvalis on DeviantArt"/>
          <p:cNvPicPr/>
          <p:nvPr/>
        </p:nvPicPr>
        <p:blipFill>
          <a:blip r:embed="rId1"/>
          <a:stretch/>
        </p:blipFill>
        <p:spPr>
          <a:xfrm>
            <a:off x="3635280" y="2637000"/>
            <a:ext cx="5184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Doel: </a:t>
            </a:r>
            <a:br>
              <a:rPr sz="3200"/>
            </a:b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kennis van spieren in het hoofdhalsgebied t.b.v. de THK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14320" y="2492280"/>
            <a:ext cx="75042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ing 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luitend trek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sttoestand is de spier uitgere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stand door een andere spier of zwaarte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werkende spier is een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antagonist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628280"/>
            <a:ext cx="6348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uw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upra 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3 ervan vormen: mond bodem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ingua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mische spieren (aangezichtsspier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ra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lsnek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entraal zenuw stelsil</a:t>
            </a:r>
            <a:br>
              <a:rPr sz="4000"/>
            </a:b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Z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en : motorische prikk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oofdhalsgebied soor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Skelet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beide aan een botstuk be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uid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aan het bot/huid bevestig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030a0"/>
                </a:solidFill>
                <a:latin typeface="Trebuchet MS"/>
              </a:rPr>
              <a:t>Kring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 weefsels bevestigd bijvoorbeeld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Afbeelding 2" descr="Beeld van verloop van spiervezels van de musculus orbicularis oris"/>
          <p:cNvPicPr/>
          <p:nvPr/>
        </p:nvPicPr>
        <p:blipFill>
          <a:blip r:embed="rId1"/>
          <a:stretch/>
        </p:blipFill>
        <p:spPr>
          <a:xfrm>
            <a:off x="1812960" y="3573360"/>
            <a:ext cx="39416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pieren (musculus = m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7030a0"/>
                </a:solidFill>
                <a:latin typeface="Trebuchet MS"/>
              </a:rPr>
              <a:t>Origo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 = oorspro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rebuchet MS"/>
              </a:rPr>
              <a:t>Insertie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= aanhecht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lk is het meest bewegelij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auw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skeletspieren, zijn met beide uiteinden aan een botstuk bes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wegen OK zodat het voedsel gekauwd kan word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tempo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asse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late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30:31Z</dcterms:created>
  <dc:creator>E. Sprenger</dc:creator>
  <dc:description/>
  <dc:language>en-US</dc:language>
  <cp:lastModifiedBy>Jannet van den Berg</cp:lastModifiedBy>
  <dcterms:modified xsi:type="dcterms:W3CDTF">2017-01-09T16:11:57Z</dcterms:modified>
  <cp:revision>7</cp:revision>
  <dc:subject/>
  <dc:title>Hoofdstuk 6 Anatomie en Pathologie</dc:title>
</cp:coreProperties>
</file>