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6F1-B047-48DE-9295-0B735689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167-ECD5-4158-970D-9600F75D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978-8B7B-4558-B27A-CFA16D73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622-4C61-4225-9B26-DFFB470E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0ED-A59E-47CC-8717-7950A393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9AF-E62D-4DE7-984D-BBEBA3C7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B13-EF89-448A-8510-688F2851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4FD-69C7-4AA3-BDCC-67A8377C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5515-1768-4A67-95B6-66915633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55D-FB39-44C1-9B4A-BD3AFABC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214-B164-47F3-8043-1B5F4465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F96-62AD-4FC9-AE4B-6E51F02C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1FB3-FFEB-4854-B705-16DDBDD71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natomie en pathologi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Hoofdstuk 2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Het kaakgewric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3573360"/>
            <a:ext cx="17654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= beweegbare verbinding tussen 2 of meer botstu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sk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ssmeer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 k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378936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cessus condy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t in os temp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t i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uberculum articulare (opho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scu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rticu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kraakbeenschij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ussen schedel en kaakkopje(pr 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verdeling Onder en Boven kant gewrichts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uitenzijde gewrichtskapsels stabiliseren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indweefsel banden OK versteviging(k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 op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lev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en mond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c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vo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achte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links of rechts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ateral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binatie van beweging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ircum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egi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Rotatie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draaiend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Translatie       verschuiv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kaakkopje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naar voren richting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9999"/>
                </a:solidFill>
                <a:latin typeface="Arial"/>
              </a:rPr>
              <a:t>tuberculum articul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robeer dat een bij jezelf te te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Voel bij je processus condylar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opening is dan ee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re mondopening is 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nk de mond open wat gebeurd er d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gebeurd er bij naar sinister en dexter te schuiv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ne kaakkopje maakt een  kleine ro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ndere kaakkopje maak een trans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met je buurvrouw wanneer wat gebeu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34:14Z</dcterms:created>
  <dc:creator>E. Sprenger</dc:creator>
  <dc:description/>
  <dc:language>en-US</dc:language>
  <cp:lastModifiedBy>E. Sprenger</cp:lastModifiedBy>
  <dcterms:modified xsi:type="dcterms:W3CDTF">2009-12-08T13:18:52Z</dcterms:modified>
  <cp:revision>6</cp:revision>
  <dc:subject/>
  <dc:title>Dia 1</dc:title>
</cp:coreProperties>
</file>