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E6F6C-9AA2-4564-B45F-7D40F57B9BF7}" type="slidenum"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D9E85-9C3E-458C-852A-50415715B818}" type="slidenum">
              <a:rPr b="0" lang="nl-NL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131A-70B8-488B-880A-42E51FA8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A16-791E-4043-B6FD-E58FEF36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8F3-78D0-4245-9267-30B9D426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D64-3B14-405D-BE59-466FB07A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D228-0884-4EE3-BBFA-0E5A31C5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ECDD-7FE2-4BED-B9F0-0A30D80B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67C9-681A-4D9D-B9EB-6529EA63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7EDA-537B-41D0-A97C-8C9513DC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D1C9-5A4F-44D5-8757-67561F97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7BB0-49E8-4F82-99EB-ADD56F23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F379-C697-4A3B-AC1E-9E823270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54B-F741-42C9-BF42-26CCAC27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5807-5E27-4849-89A0-A832E96A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A1F0-45FB-4DF7-93E1-3CF268D9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27B1-5EB6-427B-9F01-0F3F98E4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6D9C-4EBA-43AA-A608-80CA8DD9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BF0F-CBA2-4319-86C1-98C0ABD9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17718-2202-4BB3-9003-37814B34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9117E-8D5F-447F-B3EC-6E434F67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2A541-0DB3-4A50-A3B9-C40FA911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EAA2D-C89D-4030-AD2E-C9B18396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B6E55-16DA-4540-825C-0D5BAFE1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787-0C87-4128-AABC-4AC64AB8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18E95-EBE7-4A15-9656-7265FCA6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5E831-2626-442B-AFF7-0109EF78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7CDA4-0CE2-4998-9BD0-DC4CFE17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9E688-869B-45EB-BB5A-B63FA737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EDF5D-8123-4945-B680-48AFE70F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1E4D4-8CFE-4AFE-ABBF-1AB5F83C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2782A-B026-44A3-9A2E-68F109B3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F719F-1D39-4C88-BFC8-65509838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9FB3C-3656-47D7-A4B9-746A8087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186B4-52E2-4DAF-BDFC-CEB43F7D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A10-8F28-4DE3-85D0-3ABC0DFC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14520-7DBD-42EF-8B14-82391E58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15E5F-C635-45A8-91B3-F2660BEB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23423-2967-45BC-A631-102C1D9F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6F71C-5BCA-4C60-ADB8-3F23E1D8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502AE-552B-4FF3-9E0D-AB2CC5FB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6C4C3-61D6-4EFD-8009-32F227A9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396E3-76EE-4617-8041-0AFA93B1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4C6CB-979B-4A37-8A1A-88E450B5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D1BE0-DA52-4382-98DC-C35E9883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5631-3310-464E-8BF0-39A23975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EE99-E486-4B49-8FDB-F597F769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97FA-D5DB-4EDF-AAED-7BD5275B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729-CD81-404D-8B69-EDD19644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F7C5-3BF4-4794-BCBE-A07D11B7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2B67C-7EE5-403E-A728-57A55DE177AD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64B72-E55C-4499-A02C-5D8B32F8D7FF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372C3-699B-4CD8-8187-724A8FE441DB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67424-8C52-4D0E-BD7E-C1EE2019D696}" type="slidenum">
              <a:rPr b="0" lang="nl-NL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Anatomie en pathologie</a:t>
            </a: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 7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en van de onderkaa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ing van de O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 sluiten = </a:t>
            </a:r>
            <a:r>
              <a:rPr b="0" lang="nl-NL" sz="1800" spc="-1" strike="noStrike">
                <a:solidFill>
                  <a:srgbClr val="00b0f0"/>
                </a:solidFill>
                <a:latin typeface="Trebuchet MS"/>
              </a:rPr>
              <a:t>de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 openen =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ele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waards; </a:t>
            </a:r>
            <a:r>
              <a:rPr b="0" lang="nl-NL" sz="1800" spc="-1" strike="noStrike">
                <a:solidFill>
                  <a:srgbClr val="eb7766"/>
                </a:solidFill>
                <a:latin typeface="Trebuchet MS"/>
              </a:rPr>
              <a:t>pro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chterwaards; </a:t>
            </a:r>
            <a:r>
              <a:rPr b="0" lang="nl-NL" sz="1800" spc="-1" strike="noStrike">
                <a:solidFill>
                  <a:srgbClr val="90c226"/>
                </a:solidFill>
                <a:latin typeface="Trebuchet MS"/>
              </a:rPr>
              <a:t>ret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binaties van verschillende beweg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                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=circumdu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Afbeelding 1" descr="Mandibula (gewervelden) - Wikipedia"/>
          <p:cNvPicPr/>
          <p:nvPr/>
        </p:nvPicPr>
        <p:blipFill>
          <a:blip r:embed="rId1"/>
          <a:stretch/>
        </p:blipFill>
        <p:spPr>
          <a:xfrm>
            <a:off x="4932360" y="1332000"/>
            <a:ext cx="337824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Afbeelding 5" descr=""/>
          <p:cNvPicPr/>
          <p:nvPr/>
        </p:nvPicPr>
        <p:blipFill>
          <a:blip r:embed="rId1"/>
          <a:srcRect l="32613" t="38017" r="25878" b="11781"/>
          <a:stretch/>
        </p:blipFill>
        <p:spPr>
          <a:xfrm>
            <a:off x="539640" y="907920"/>
            <a:ext cx="73929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Bewegen van het kaakgewricht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welke anatomische structuur kan de onderkaak ten opzichte van de sched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spieren die de OK bewegen zijn de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temporali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masseter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m. pt medi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m. pterygoïdeus laterali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trekt de onderkaak naar v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7 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et je nog wat een circumductie is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Gecombineerde beweg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pdra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 opdrachten maken van het lesboek van de behandelde hoofdstukken van deze we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lfstudie tijdens de l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4" name="Afbeelding 3" descr="Leren in de 21ste eeuw | de volledige talkshow on Vimeo"/>
          <p:cNvPicPr/>
          <p:nvPr/>
        </p:nvPicPr>
        <p:blipFill>
          <a:blip r:embed="rId1"/>
          <a:stretch/>
        </p:blipFill>
        <p:spPr>
          <a:xfrm>
            <a:off x="2897280" y="3987720"/>
            <a:ext cx="40608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Huiswerk: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begrippenlijst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puntsgewijze samenstelling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Trebuchet MS"/>
              </a:rPr>
              <a:t>Extra: </a:t>
            </a: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richtlijn infectie preventie volgende week overhoring 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6" name="Tijdelijke aanduiding voor inhoud 3" descr="Sclera picto's"/>
          <p:cNvPicPr/>
          <p:nvPr/>
        </p:nvPicPr>
        <p:blipFill>
          <a:blip r:embed="rId1"/>
          <a:stretch/>
        </p:blipFill>
        <p:spPr>
          <a:xfrm>
            <a:off x="755640" y="4149720"/>
            <a:ext cx="22464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53:22Z</dcterms:created>
  <dc:creator>E. Sprenger</dc:creator>
  <dc:description/>
  <dc:language>en-US</dc:language>
  <cp:lastModifiedBy>Jannet van den Berg</cp:lastModifiedBy>
  <dcterms:modified xsi:type="dcterms:W3CDTF">2017-02-02T09:41:40Z</dcterms:modified>
  <cp:revision>7</cp:revision>
  <dc:subject/>
  <dc:title>Anatomie en pathologie Hoofdstuk 7</dc:title>
</cp:coreProperties>
</file>