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61EEC-7A7C-4243-8D37-57D964339312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399EF-9E62-4698-8AF2-5BFCAA8B4D5C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022-84AB-4375-A385-DEDB4EBD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680-3081-4E67-B20C-9D93E0A3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710-7285-480E-B633-7C5B5864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432-6C0E-46CE-BA27-0215EF7A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2CCF-232D-4205-93B3-5864F1B8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6907-D90E-4B20-A883-1A1B0DBD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E171-3CC6-46F7-852E-DCBE26B5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D885-7F3C-48BE-B0F2-2D50A0B9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DF1A-ADE0-4A86-9DCF-BCB97150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0F6D-FBF0-4003-8F95-415D2F69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06F3-B110-4113-91F9-676BF2F8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A3B-B532-43AA-88E1-ED6974FE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D92C-27E4-4865-BE9A-9EFA32D6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D14D-F588-4087-A45C-E920C46B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2608-D6C9-4136-B3B9-3091E555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0A77-239E-460E-8A38-18D9CD35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7CAC-176D-4A41-9398-70A8764C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972AA-EFE1-4C7B-BB98-F97F3107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6AE44-D2A2-4737-AAE6-138C066F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3F74-CC06-4A0D-8748-65C28C90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4A880-57FB-45B2-82E1-7A47957C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BE7EE-14EA-4A84-9206-4A69E618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24B-719F-4ED6-BC63-C7373795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4210-AF64-41AB-86F2-6F0C6393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35F7-3962-4052-A1EC-9B0080BF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BDDD-801E-48CC-A3B0-2C32A8FB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E2DC-4BF6-47BB-91CE-B366CA0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D422-61BB-43B3-96BC-0C44CA5C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322A-2736-42C5-983A-1953BF49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EBBAE-4957-4168-B0E3-B3611F3C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E986F-02F2-4378-ABF8-BE5DFAD2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BD69-E491-4249-9D7E-6D4D4408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D894-09A7-4828-844F-791AFFB1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6D1-CB7E-4397-BB8F-5771D4CB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DFED-01C9-42E8-BC8B-25DC88AB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0FB53-A74B-4ECF-BC7A-BCB1B2CC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A161-1196-4F5C-93EC-5D71FABE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02FE-228E-483D-9A80-1EC0428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14763-D57D-4CC4-A442-0BBF164F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4AEBD-A598-46D1-93A3-422138A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94BD-0E60-4E1C-94E7-56082AB2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1161-31C5-4FA8-B8E0-28D2E74F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2F72-BE43-49F4-9B7F-04E72555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6EE-562A-429A-A48D-1DDC1D6A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484-0E8D-41D7-807D-EF713056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8B7-3B46-45FC-938F-F17B5F33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AC4-F723-4543-A2B5-7FCE5116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01B-0FF4-450D-BAD4-7EE3629F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43B79-759B-4601-A6C5-9EAA276D5FD9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A89F9-68D6-4F4A-957E-63A3C2A748FC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7C61A-18A0-492D-B0EE-EFE0950AC5F1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64299-19FE-4DA6-BFD6-193BA0980F19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atomie en pathologie</a:t>
            </a: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 7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de onderkaa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ing van de O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sluiten = </a:t>
            </a:r>
            <a:r>
              <a:rPr b="0" lang="nl-NL" sz="1800" spc="-1" strike="noStrike">
                <a:solidFill>
                  <a:srgbClr val="00b0f0"/>
                </a:solidFill>
                <a:latin typeface="Trebuchet MS"/>
              </a:rPr>
              <a:t>d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openen =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ele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waards; </a:t>
            </a:r>
            <a:r>
              <a:rPr b="0" lang="nl-NL" sz="1800" spc="-1" strike="noStrike">
                <a:solidFill>
                  <a:srgbClr val="eb7766"/>
                </a:solidFill>
                <a:latin typeface="Trebuchet MS"/>
              </a:rPr>
              <a:t>pro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chterwaards; </a:t>
            </a:r>
            <a:r>
              <a:rPr b="0" lang="nl-NL" sz="1800" spc="-1" strike="noStrike">
                <a:solidFill>
                  <a:srgbClr val="90c226"/>
                </a:solidFill>
                <a:latin typeface="Trebuchet MS"/>
              </a:rPr>
              <a:t>r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binaties van verschillen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                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=circumdu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Afbeelding 1" descr="Mandibula (gewervelden) - Wikipedia"/>
          <p:cNvPicPr/>
          <p:nvPr/>
        </p:nvPicPr>
        <p:blipFill>
          <a:blip r:embed="rId1"/>
          <a:stretch/>
        </p:blipFill>
        <p:spPr>
          <a:xfrm>
            <a:off x="4932360" y="1332000"/>
            <a:ext cx="3378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Afbeelding 5" descr=""/>
          <p:cNvPicPr/>
          <p:nvPr/>
        </p:nvPicPr>
        <p:blipFill>
          <a:blip r:embed="rId1"/>
          <a:srcRect l="32613" t="38017" r="25878" b="11781"/>
          <a:stretch/>
        </p:blipFill>
        <p:spPr>
          <a:xfrm>
            <a:off x="539640" y="907920"/>
            <a:ext cx="7392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het kaakgewricht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welke anatomische structuur kan de onderkaak ten opzichte van de sched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pieren die de OK bewegen zijn de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temporal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masset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pt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m. pterygoïdeus lateral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trekt de onderkaak naar v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7 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t je nog wat een circumductie is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Gecombineer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opdrachten maken van het lesboek van de behandelde hoofdstukken van deze we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lfstudie tijdens de 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Afbeelding 3" descr="Leren in de 21ste eeuw | de volledige talkshow on Vimeo"/>
          <p:cNvPicPr/>
          <p:nvPr/>
        </p:nvPicPr>
        <p:blipFill>
          <a:blip r:embed="rId1"/>
          <a:stretch/>
        </p:blipFill>
        <p:spPr>
          <a:xfrm>
            <a:off x="2897280" y="3987720"/>
            <a:ext cx="4060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Extra: </a:t>
            </a: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richtlijn infectie preventie volgende week overhoring 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755640" y="414972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53:22Z</dcterms:created>
  <dc:creator>E. Sprenger</dc:creator>
  <dc:description/>
  <dc:language>en-US</dc:language>
  <cp:lastModifiedBy>Jannet van den Berg</cp:lastModifiedBy>
  <dcterms:modified xsi:type="dcterms:W3CDTF">2017-02-02T09:41:40Z</dcterms:modified>
  <cp:revision>7</cp:revision>
  <dc:subject/>
  <dc:title>Anatomie en pathologie Hoofdstuk 7</dc:title>
</cp:coreProperties>
</file>