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F22-B98E-400E-9790-718C6827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6CD-0BD1-45C7-803A-CBA5D4FF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2C4-4141-48D9-94E9-EA135F54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FE7-B4E9-4B00-AFD7-766E0E88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361-3C8A-4A37-AC36-15A1A76F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FA84-48DD-4D01-80D8-D82805F0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E0AD-33AD-4AC2-99D9-DB4373FF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4FB2-65B8-4E2A-A3BF-0BF6C60E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2BF1-14CF-4ED9-9F47-EA684DEC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8697-61F5-4CCB-A433-7AA9EE34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0531-685D-4D05-B863-4E745096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D88-24BC-4F9F-9118-01760054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88D2-9432-4905-9AC9-6F0E961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121C-B32F-47D6-AFCE-6DD34D3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43F8-EA16-45C5-AB9D-49A66F90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BF50-7E89-45EC-89D1-7E8FD5B2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3F3A-7BA3-4BD5-AAC0-B387C979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18A-B166-4588-893B-002D5C69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299-AE73-4B63-8DB3-CC78F71E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565-2D9F-47ED-A608-8643FF9C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84F-339D-4B73-9650-FE468D40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DED-0DFD-404F-8875-0875FD4E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79D-4AF4-4EB7-8399-0ED3DE5D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604-7769-4603-813C-B17B69CB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AE22-DE5C-4EB1-A40E-0FB5C023E28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2246-570A-4B0F-BD81-A390EC7EB1A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ankasteel.nl/eerstelijn/eerstelijnafb/kaak1/kaak1.gif&amp;imgrefurl=http://www.vankasteel.nl/eerstelijn/kaakklachten.htm&amp;h=540&amp;w=954&amp;sz=135&amp;hl=nl&amp;start=1&amp;usg=__aESijRSoe4NXZ-CvalxUKfSbxR4=&amp;tbnid=Z2OFmfXwXNxK1M:&amp;tbnh=84&amp;tbnw=148&amp;prev=/images%3Fq%3Dkaakkopje%26gbv%3D2%26hl%3Dnl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3d-illustration.de/anatomie/Hals_gesamt.jpg&amp;imgrefurl=http://www.3d-illustration.de/anatomie/hals.html&amp;h=526&amp;w=692&amp;sz=50&amp;hl=nl&amp;start=20&amp;usg=__VkNsTnx5mgDYXw010DlB_Y7i0_M=&amp;tbnid=aYLxeKQiiC-19M:&amp;tbnh=106&amp;tbnw=139&amp;prev=/images%3Fq%3DOs%2BHyo%25C3%25AFdeum%26start%3D18%26gbv%3D2%26ndsp%3D18%26hl%3Dnl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l.wikipedia.org/w/index.php?title=Os_frontale&amp;action=edit" TargetMode="External"/><Relationship Id="rId2" Type="http://schemas.openxmlformats.org/officeDocument/2006/relationships/hyperlink" Target="http://nl.wikipedia.org/w/index.php?title=Voorhoofdsbeen&amp;action=edit" TargetMode="External"/><Relationship Id="rId3" Type="http://schemas.openxmlformats.org/officeDocument/2006/relationships/hyperlink" Target="http://nl.wikipedia.org/w/index.php?title=Os_parietale&amp;action=edit" TargetMode="External"/><Relationship Id="rId4" Type="http://schemas.openxmlformats.org/officeDocument/2006/relationships/hyperlink" Target="http://nl.wikipedia.org/w/index.php?title=Os_parietale&amp;action=edit" TargetMode="External"/><Relationship Id="rId5" Type="http://schemas.openxmlformats.org/officeDocument/2006/relationships/hyperlink" Target="http://nl.wikipedia.org/w/index.php?title=Wandbeen&amp;action=edit" TargetMode="External"/><Relationship Id="rId6" Type="http://schemas.openxmlformats.org/officeDocument/2006/relationships/hyperlink" Target="http://nl.wikipedia.org/w/index.php?title=Os_temporale&amp;action=edit" TargetMode="External"/><Relationship Id="rId7" Type="http://schemas.openxmlformats.org/officeDocument/2006/relationships/hyperlink" Target="http://nl.wikipedia.org/w/index.php?title=Slaapbeen&amp;action=edit" TargetMode="External"/><Relationship Id="rId8" Type="http://schemas.openxmlformats.org/officeDocument/2006/relationships/hyperlink" Target="http://nl.wikipedia.org/w/index.php?title=Os_occipitale&amp;action=edit" TargetMode="External"/><Relationship Id="rId9" Type="http://schemas.openxmlformats.org/officeDocument/2006/relationships/hyperlink" Target="http://nl.wikipedia.org/w/index.php?title=Os_occipitale&amp;action=edit" TargetMode="External"/><Relationship Id="rId10" Type="http://schemas.openxmlformats.org/officeDocument/2006/relationships/hyperlink" Target="http://nl.wikipedia.org/w/index.php?title=Achterhoofdsbeen&amp;action=edit" TargetMode="External"/><Relationship Id="rId11" Type="http://schemas.openxmlformats.org/officeDocument/2006/relationships/hyperlink" Target="http://nl.wikipedia.org/wiki/Os_sphenoidale" TargetMode="External"/><Relationship Id="rId12" Type="http://schemas.openxmlformats.org/officeDocument/2006/relationships/hyperlink" Target="http://nl.wikipedia.org/wiki/Os_sphenoidale" TargetMode="External"/><Relationship Id="rId13" Type="http://schemas.openxmlformats.org/officeDocument/2006/relationships/hyperlink" Target="http://nl.wikipedia.org/wiki/Wiggebeen" TargetMode="External"/><Relationship Id="rId14" Type="http://schemas.openxmlformats.org/officeDocument/2006/relationships/hyperlink" Target="http://www.memorizer.net/nl/menselijk_lichaam/skelet/botten_overzicht/png/voorhoofdsbeen.png" TargetMode="External"/><Relationship Id="rId15" Type="http://schemas.openxmlformats.org/officeDocument/2006/relationships/image" Target="../media/image2.jpeg"/><Relationship Id="rId16" Type="http://schemas.openxmlformats.org/officeDocument/2006/relationships/hyperlink" Target="http://www.memorizer.net/nl/menselijk_lichaam/skelet/botten_overzicht/png2/wandbeen.png" TargetMode="External"/><Relationship Id="rId17" Type="http://schemas.openxmlformats.org/officeDocument/2006/relationships/image" Target="../media/image3.jpeg"/><Relationship Id="rId18" Type="http://schemas.openxmlformats.org/officeDocument/2006/relationships/hyperlink" Target="http://www.memorizer.net/nl/menselijk_lichaam/skelet/botten_overzicht/png2/slaapbeen.png" TargetMode="External"/><Relationship Id="rId19" Type="http://schemas.openxmlformats.org/officeDocument/2006/relationships/image" Target="../media/image4.jpeg"/><Relationship Id="rId20" Type="http://schemas.openxmlformats.org/officeDocument/2006/relationships/hyperlink" Target="http://www.memorizer.net/nl/menselijk_lichaam/skelet/botten_overzicht/png2/achterhoofdsbeen.png" TargetMode="External"/><Relationship Id="rId21" Type="http://schemas.openxmlformats.org/officeDocument/2006/relationships/image" Target="../media/image5.jpeg"/><Relationship Id="rId22" Type="http://schemas.openxmlformats.org/officeDocument/2006/relationships/hyperlink" Target="http://images.google.nl/imgres?imgurl=http://www.memorizer.net/nl/menselijk_lichaam/skelet/botten_overzicht/png/wiggebeen.png&amp;imgrefurl=http://www.memorizer.net/nl/menselijk_lichaam/skelet/botten_overzicht/&amp;h=400&amp;w=252&amp;sz=201&amp;hl=nl&amp;start=1&amp;usg=__eNG9NlMtYgqHd9IZRoOzJg5hDUw=&amp;tbnid=UWnT-5Zcv5yqUM:&amp;tbnh=124&amp;tbnw=78&amp;prev=/images%3Fq%3Dwiggebeen%26gbv%3D2%26hl%3Dnl%26sa%3DG" TargetMode="External"/><Relationship Id="rId23" Type="http://schemas.openxmlformats.org/officeDocument/2006/relationships/image" Target="../media/image6.jpeg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Os_zygomaticum" TargetMode="External"/><Relationship Id="rId2" Type="http://schemas.openxmlformats.org/officeDocument/2006/relationships/hyperlink" Target="http://nl.wikipedia.org/wiki/Os_zygomaticum" TargetMode="External"/><Relationship Id="rId3" Type="http://schemas.openxmlformats.org/officeDocument/2006/relationships/hyperlink" Target="http://nl.wikipedia.org/wiki/Jukbeen" TargetMode="External"/><Relationship Id="rId4" Type="http://schemas.openxmlformats.org/officeDocument/2006/relationships/hyperlink" Target="http://nl.wikipedia.org/wiki/Maxilla_%28anatomie%29" TargetMode="External"/><Relationship Id="rId5" Type="http://schemas.openxmlformats.org/officeDocument/2006/relationships/hyperlink" Target="http://nl.wikipedia.org/wiki/Os_nasale" TargetMode="External"/><Relationship Id="rId6" Type="http://schemas.openxmlformats.org/officeDocument/2006/relationships/hyperlink" Target="http://nl.wikipedia.org/wiki/Neusbeen" TargetMode="External"/><Relationship Id="rId7" Type="http://schemas.openxmlformats.org/officeDocument/2006/relationships/hyperlink" Target="http://nl.wikipedia.org/wiki/Onderkaak" TargetMode="External"/><Relationship Id="rId8" Type="http://schemas.openxmlformats.org/officeDocument/2006/relationships/hyperlink" Target="http://nl.wikipedia.org/wiki/Os_palatinum" TargetMode="External"/><Relationship Id="rId9" Type="http://schemas.openxmlformats.org/officeDocument/2006/relationships/hyperlink" Target="http://nl.wikipedia.org/wiki/Os_palatinum" TargetMode="External"/><Relationship Id="rId10" Type="http://schemas.openxmlformats.org/officeDocument/2006/relationships/hyperlink" Target="http://nl.wikipedia.org/w/index.php?title=Os_lacrimale&amp;action=edit" TargetMode="External"/><Relationship Id="rId11" Type="http://schemas.openxmlformats.org/officeDocument/2006/relationships/hyperlink" Target="http://nl.wikipedia.org/w/index.php?title=Os_lacrimale&amp;action=edit" TargetMode="External"/><Relationship Id="rId12" Type="http://schemas.openxmlformats.org/officeDocument/2006/relationships/hyperlink" Target="http://nl.wikipedia.org/w/index.php?title=Traanbeen&amp;action=edit" TargetMode="External"/><Relationship Id="rId13" Type="http://schemas.openxmlformats.org/officeDocument/2006/relationships/hyperlink" Target="http://nl.wikipedia.org/w/index.php?title=Vomer&amp;action=edit" TargetMode="External"/><Relationship Id="rId14" Type="http://schemas.openxmlformats.org/officeDocument/2006/relationships/hyperlink" Target="http://nl.wikipedia.org/w/index.php?title=Conchae_nasale_inferior&amp;action=edit" TargetMode="External"/><Relationship Id="rId15" Type="http://schemas.openxmlformats.org/officeDocument/2006/relationships/hyperlink" Target="http://nl.wikipedia.org/w/index.php?title=Conchae_nasale_inferior&amp;action=edit" TargetMode="External"/><Relationship Id="rId16" Type="http://schemas.openxmlformats.org/officeDocument/2006/relationships/hyperlink" Target="http://nl.wikipedia.org/w/index.php?title=Conchae_nasale_inferior&amp;action=edit" TargetMode="External"/><Relationship Id="rId17" Type="http://schemas.openxmlformats.org/officeDocument/2006/relationships/hyperlink" Target="http://www.bartleby.com/107/Images/small/image173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nl/imgres?imgurl=http://www.theodora.com/anatomy/images/image170.gif&amp;imgrefurl=http://www.theodora.com/anatomy/the_inferior_nasal_concha.html&amp;h=411&amp;w=510&amp;sz=90&amp;hl=nl&amp;start=14&amp;usg=__Vnp8cSbPLf_0pnyi6ooZKLo3n6c=&amp;tbnid=aWCT-yY0OlPn_M:&amp;tbnh=106&amp;tbnw=131&amp;prev=/images%3Fq%3Dconchae%2Bnasale%2Binferior%26gbv%3D2%26hl%3Dnl%26sa%3DG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no-forum.com/images/000000998b0f1a10c.jpg&amp;imgrefurl=http://hno-forum.com/onlineaufklaerung/nnhop/index.html&amp;h=450&amp;w=459&amp;sz=86&amp;hl=nl&amp;start=14&amp;usg=__4GTIJF1N_6aG5iiBLIN7WuiWBDA=&amp;tbnid=3UsW9ijcvflfmM:&amp;tbnh=125&amp;tbnw=128&amp;prev=/images%3Fq%3DSinus%2Bmaxillaris%26gbv%3D2%26hl%3Dnl%26sa%3D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memorizer.net/nl/menselijk_lichaam/skelet/botten_overzicht/png/jukbeen.png&amp;imgrefurl=http://www.memorizer.net/nl/menselijk_lichaam/skelet/botten_overzicht/%3Fname%3Djukbeen&amp;h=400&amp;w=252&amp;sz=198&amp;hl=nl&amp;start=6&amp;usg=__Y65argEME3fxoRWp2FdugsadnaY=&amp;tbnid=b40ymHhYexJfXM:&amp;tbnh=124&amp;tbnw=78&amp;prev=/images%3Fq%3Dos%2Bzygomaticum%26gbv%3D2%26hl%3Dnl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nl/imgres?imgurl=http://www.theodora.com/anatomy/images/image167.gif&amp;imgrefurl=http://www.theodora.com/anatomy/the_zygomatic_bone.html&amp;h=384&amp;w=444&amp;sz=80&amp;hl=nl&amp;start=14&amp;usg=__DXv09u8Xgdc9RPPaq1lU9s00N5s=&amp;tbnid=ARaSM51Z92f4GM:&amp;tbnh=110&amp;tbnw=127&amp;prev=/images%3Fq%3DOs%2Bzygomaticus%26gbv%3D2%26hl%3Dnl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uni-mainz.de/FB/Medizin/Anatomie/makro1/ma012.gif&amp;imgrefurl=http://www.uni-mainz.de/FB/Medizin/Anatomie/makro1/ma012.htm&amp;h=297&amp;w=284&amp;sz=19&amp;hl=nl&amp;start=1&amp;usg=__HiRvKGqZtef8UM4Yr2q36k2TPPA=&amp;tbnid=HI_1ehltPFPNyM:&amp;tbnh=116&amp;tbnw=111&amp;prev=/images%3Fq%3DCorpus%2Bmandibulae%26gbv%3D2%26hl%3Dnl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atomie en pathologie hoofdstu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76560" y="2662200"/>
            <a:ext cx="3040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ndylari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kaakkopj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ronoïde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opstijgende tak, aanhechting kauwspier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292929"/>
                </a:solidFill>
                <a:uFillTx/>
                <a:latin typeface="Arial"/>
              </a:rPr>
              <a:t>Botafzetting kaakkopje maakt groei OK mogelijk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Tussen deze 2 i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ngulus mandibulae=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kaakho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Binnenkant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foramen mandibula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enuwtak OK naar binn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557360"/>
            <a:ext cx="1409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nasale(neusbe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teun harde deel neusru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cheiding tussenschot: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Vom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sbijhol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rbindingen door smale buisjes, vochtafvloeiing door zwartekracht, pus ophoping kan door ontst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wichts verlaging vel kleine bijhol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rootste in bijholte i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O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rontalis</a:t>
            </a:r>
            <a:r>
              <a:rPr b="0" lang="nl-NL" sz="2000" spc="-1" strike="noStrike">
                <a:solidFill>
                  <a:srgbClr val="292929"/>
                </a:solidFill>
                <a:latin typeface="Arial"/>
              </a:rPr>
              <a:t>(voorhoofdsbijhol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Hyoïdeu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botstuk niet aan schedel vast, door spieren en vezels, ter hoogte strottenhoof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 spreken en slik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60280"/>
            <a:ext cx="13237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Meeste beenderen uit </a:t>
            </a: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compact bo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lagen met  lagen rode beenmerg(vorming rode bloedcellen) er tusse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Perio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(botvlies) aan buitenzijde geeft ruimte tot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innenzijde afbraak door speciale cellen, ruimte voor schedelinhoud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2305080" cy="1562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t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ftijd os, minder elastisch en kans op fractu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Resorpti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processus alveolaris ook na extra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1971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e sche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s skele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evigheid aan licha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cherming organen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anhechtingsplaats spi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weg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(bo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Embryonale perio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: waar bevinden die zich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luiten: kleine 4 maand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jaar gr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 veranderen na groei in </a:t>
            </a:r>
            <a:r>
              <a:rPr b="1" lang="nl-NL" sz="2800" spc="-1" strike="noStrike">
                <a:solidFill>
                  <a:srgbClr val="292929"/>
                </a:solidFill>
                <a:latin typeface="Arial"/>
              </a:rPr>
              <a:t>sutur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*</a:t>
            </a:r>
            <a:r>
              <a:rPr b="1" i="1" lang="nl-NL" sz="2800" spc="-1" strike="noStrike">
                <a:solidFill>
                  <a:srgbClr val="292929"/>
                </a:solidFill>
                <a:latin typeface="Arial"/>
              </a:rPr>
              <a:t>Aangezichtsschedel &amp;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rsenschedel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anchnocranium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De menselijke schedel bestaat uit 22 botten en is daarmee het meest uitgebreide deel van het skele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dak=bovenzijde van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basis: openingen bloedvaten en zenuwen(kwetsbaar, schedebasisfractuu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erschillende botten van een mensenschede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otten in de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(splanchnocranium) (8)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frontale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voorhoofdsbeen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arië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wand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os tempor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laap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occipi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achterhoofd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sphenoid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wigge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04000" y="2708280"/>
            <a:ext cx="514440" cy="81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80360" y="328464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012000" y="3716280"/>
            <a:ext cx="857160" cy="81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36000" y="436572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40360" y="4941720"/>
            <a:ext cx="7430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tten in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gezichtssche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14)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neurocran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os ethmoidal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ygomatic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juk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maxil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boven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os nas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neu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mandibu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onder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palatin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verhemeltebeen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lacrim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traan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vome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onchae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 nasale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inferio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08000" y="4581360"/>
            <a:ext cx="1392120" cy="1235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589720"/>
            <a:ext cx="12481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angezichtsschedel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(splanchnocranium): groeit minder sn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en is kleiner bij kinderen dan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Bodem oogk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alveo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: verhoging! alveolen(tandkass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palatinu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gehemel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Sinus maxil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kaakholte ook wel </a:t>
            </a: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ntrum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292929"/>
                </a:solidFill>
                <a:latin typeface="Arial"/>
              </a:rPr>
              <a:t>(volwassenen 3 cm groo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999933"/>
                </a:solidFill>
                <a:latin typeface="Arial"/>
              </a:rPr>
              <a:t>*Wat was ook alweer een antrumperforatie?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486900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zygomat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Groot deel oogk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rcus zygomatic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ontspringt in O 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2 stukke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zygomaticu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tempora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Jukboog geeft steun wangspieren:dun(trauma gevaar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24280"/>
            <a:ext cx="74304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260280"/>
            <a:ext cx="1209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ndib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Hoefijzervormi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Corpus mandibula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horizontale de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oramen mental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opening ter hoogte van premolaren, zenuw! Binnen      bui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Processes alveaolari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rocesses= uitsteeks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437000"/>
            <a:ext cx="1443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4437000"/>
            <a:ext cx="5032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484280"/>
            <a:ext cx="1057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9:44:35Z</dcterms:created>
  <dc:creator>E. Sprenger</dc:creator>
  <dc:description/>
  <dc:language>en-US</dc:language>
  <cp:lastModifiedBy>E. Sprenger</cp:lastModifiedBy>
  <dcterms:modified xsi:type="dcterms:W3CDTF">2008-10-15T08:46:38Z</dcterms:modified>
  <cp:revision>7</cp:revision>
  <dc:subject/>
  <dc:title>Anatomie en pathologie hoofdstuk 1,2,3</dc:title>
</cp:coreProperties>
</file>