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A02-E767-4D60-95E9-646AF74B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C9CF-E82E-41FF-B7A9-1216D145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1158-5DF6-465B-827A-AD37A78C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640-15A4-49BD-8EC3-68481C60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500-5B6D-4A4D-AF6C-2C878153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11E-7544-4D19-91DE-44C933E0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1D6D-98C7-428D-B025-78139C2F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768E-0E4E-4CE4-95B7-4243914E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EC6-1D3D-453B-BF26-44A00205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093-D5CD-45BA-ADB6-2DBDC07C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F39-F5D7-463B-87C7-3582D5B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F52-5332-4C93-9E28-DBDFCFB4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53F0-C565-4ACB-BAA9-EEF3A05C0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Anatomie en pathologi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Hoofdstuk 2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Het kaakgewric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17654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= beweegbare verbinding tussen 2 of meer botstu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sk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wrichtssmeer produ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ewricht k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3789360"/>
            <a:ext cx="1584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cessus condy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t in os tempo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lt i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uberculum articulare (opho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scu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rticulari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kraakbeenschij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ussen schedel en kaakkopje(pr 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= verdeling Onder en Boven kant gewrichts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uitenzijde gewrichtskapsels stabiliseren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bindweefsel banden OK versteviging(k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ond op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lev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luiten mond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c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vo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achter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tra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 naar links of rechts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ateral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mbinatie van bewegingen: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ircumd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egi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Rotatie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draaiende 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Translatie       verschuiv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kaakkopje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naar voren richting 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9999"/>
                </a:solidFill>
                <a:latin typeface="Arial"/>
              </a:rPr>
              <a:t>tuberculum articul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Probeer dat een bij jezelf te tes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</a:rPr>
              <a:t>Voel bij je processus condylar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eine opening is dan een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re mondopening is 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nk de mond open wat gebeurd er d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gebeurd er bij naar sinister en dexter te schui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ene kaakkopje maakt een  kleine ro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ndere kaakkopje maak een trans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eg met je buurvrouw wanneer wat gebeur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2:34:14Z</dcterms:created>
  <dc:creator>E. Sprenger</dc:creator>
  <dc:description/>
  <dc:language>en-US</dc:language>
  <cp:lastModifiedBy>E. Sprenger</cp:lastModifiedBy>
  <dcterms:modified xsi:type="dcterms:W3CDTF">2009-12-08T13:18:52Z</dcterms:modified>
  <cp:revision>6</cp:revision>
  <dc:subject/>
  <dc:title>Dia 1</dc:title>
</cp:coreProperties>
</file>