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C22-DA33-45BA-84D5-124E0F08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FCD-09B8-419D-B21C-4563D9B2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2FF-3C73-4339-A1DA-A2022E7D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0BB-441E-4106-A69D-44107E8E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909-C474-46ED-A8A4-817DFE9C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C76-A844-44EE-97D5-DCD5CD1F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492-E975-47BA-9B4D-72A3CE77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681-1682-4EE8-9FF4-172A3215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B4E-13C7-433E-B047-D61997FA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2D4-DF30-4845-A667-132D3C5E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677-1542-4029-9009-4135F677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311-1EDD-4E85-B110-BC90C60A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18AE-18EB-45EA-8CF5-3AFFBA16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natomie en pathologi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Hoofdstuk 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Het kaakgewric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17654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= beweegbare verbinding tussen 2 of meer botstu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s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ssmeer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 k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378936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cessus condy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t in os temp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t i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uberculum articulare (opho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scu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rticu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kraakbeenschij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ussen schedel en kaakkopje(pr 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verdeling Onder en Boven kant gewrichts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uitenzijde gewrichtskapsels stabiliser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indweefsel banden OK versteviging(k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 op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lev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en mond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c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vo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achte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links of rechts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ateral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binatie van beweging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ircum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egi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Rotatie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draaiend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Translatie       verschuiv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kaakkopje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naar voren richting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9999"/>
                </a:solidFill>
                <a:latin typeface="Arial"/>
              </a:rPr>
              <a:t>tuberculum articul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robeer dat een bij jezelf te te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Voel bij je processus condylar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opening is dan ee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re mondopening is 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nk de mond open wat gebeurd er d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gebeurd er bij naar sinister en dexter te schuiv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ne kaakkopje maakt een  kleine ro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ndere kaakkopje maak een trans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met je buurvrouw wanneer wat gebeu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34:14Z</dcterms:created>
  <dc:creator>E. Sprenger</dc:creator>
  <dc:description/>
  <dc:language>en-US</dc:language>
  <cp:lastModifiedBy>E. Sprenger</cp:lastModifiedBy>
  <dcterms:modified xsi:type="dcterms:W3CDTF">2009-12-08T13:18:52Z</dcterms:modified>
  <cp:revision>6</cp:revision>
  <dc:subject/>
  <dc:title>Dia 1</dc:title>
</cp:coreProperties>
</file>