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940-B087-4B24-AB1B-868D86EB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052-3DA8-4697-9328-F7066DE8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7D6-1626-4AB1-A163-0A985FC2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0AC-7FC9-4A96-A573-E15FB97E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758C-5AA0-4C52-84CF-02236EBC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2BE2-60B6-4079-B404-37D7817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DA6B-D723-47DF-905D-2A92E3DE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970E-3985-4D0A-85AC-91E89107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6867-C66A-4CD9-B7E1-C91CD0A0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6F77-C384-4C17-AA7E-E039E08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C5BE-23A3-4397-9F9F-61ABC76C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6FD-81F8-4582-BDE1-DB107D14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A89B-C51D-4FDC-BFF0-E41CBA80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2843-51D9-4E96-A02E-CD96CDF9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2951-736C-44B1-A64A-EB73D534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636-2814-4685-8C09-4F764B14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0081-CDE3-4888-9A1B-F496B82D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ADD7-2FA6-42AA-BAA7-F3138B8C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4029-AEA9-40FA-BA36-FA016234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D794-8D2A-4D63-85C4-267BCC90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D771-D25E-4914-93E0-0FFB86CB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9E2D-598A-45FE-8808-2D488176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A8A-D2EE-4F7D-871B-CB5C8FEA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0619-7E63-4EB0-ACBD-BFAEC7F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EB51-9521-47E4-BC3C-556ACB0A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C94B-4D38-4359-BD49-73037F9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C747-5D73-45D9-B731-8D3DDA90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C53F-0D7E-482C-A027-C6BA73D3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D64B-C3F0-4EF0-8170-DC4B6213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9270-FC6D-4857-B96A-9FA499F1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D3A5B-6AC3-4B92-8F1F-F709C434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F890-E283-4CD0-980E-ABFE75AB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B835-11CC-400D-9867-B646B424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A05-B980-4F71-B693-D7E1BEAF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F3B3-5E26-4AD9-8B5A-9A86ED05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664D5-41B7-421C-9EEB-86EFF498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C8EAC-FC05-4F1A-8978-D48C5DB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E1AA5-E744-457D-B3BE-5C13232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E147-1467-4EAB-A67B-5CBD4C9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A048-6796-44D6-918B-F6A99EAE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1C9D-FF9C-4897-BFBC-2C9A73A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F28F-D5CE-45AD-89E9-6147F4AF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369F-3ADF-45AA-8BA9-3DB9B0C3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B8E-38B5-4F30-BBB4-7497A686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FC8-B3BD-479F-BFAB-CD4E1566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27B-08FB-4313-84AD-4A1A4348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246-A49A-4B8F-81E2-C97749D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E69-AD6B-4357-88F3-6C35E3F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595EB-FA2B-48B0-BFD7-BFEDAFCA4D6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C9D13-9E12-417A-9109-DAA034BAD83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5AA71-6D8A-40D3-BA37-F4FF54EBA1D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83727-5AEC-42D7-B37D-AAD04E11454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 6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Spieren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A &amp; P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Afbeelding 1" descr="Sternocleidomastoid muscle - wikidoc"/>
          <p:cNvPicPr/>
          <p:nvPr/>
        </p:nvPicPr>
        <p:blipFill>
          <a:blip r:embed="rId1"/>
          <a:stretch/>
        </p:blipFill>
        <p:spPr>
          <a:xfrm>
            <a:off x="1154160" y="2997360"/>
            <a:ext cx="2552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ndbodem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horen tot de skelet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langrijkste naar beneden trekken van de O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spieren zijn gehecht aan het os hyoi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yl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geni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digatricus= buik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verzicht boek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2.3 zijn mondbodem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hthoek 1"/>
          <p:cNvSpPr/>
          <p:nvPr/>
        </p:nvSpPr>
        <p:spPr>
          <a:xfrm>
            <a:off x="2563920" y="324468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oek de functies op en noteer deze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lsnek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gezichtspieren;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1.m. buccinator  en  2.m. orbular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spanning 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geen insertie en origo, articulati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er de schema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77300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k de opdra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Schema’s bestuderen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2411280" y="324648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troduc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stelsel regelt de houding en beweging van het menselijk licha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4" descr="Muscles of the Body by arvalis on DeviantArt"/>
          <p:cNvPicPr/>
          <p:nvPr/>
        </p:nvPicPr>
        <p:blipFill>
          <a:blip r:embed="rId1"/>
          <a:stretch/>
        </p:blipFill>
        <p:spPr>
          <a:xfrm>
            <a:off x="3635280" y="2637000"/>
            <a:ext cx="5184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Doel: </a:t>
            </a:r>
            <a:br>
              <a:rPr sz="3200"/>
            </a:b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kennis van spieren in het hoofdhalsgebied t.b.v. de THK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14320" y="2492280"/>
            <a:ext cx="75042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ing 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luitend trek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sttoestand is de spier uitgere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stand door een andere spier of zwaarte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werkende spier is een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antagonist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628280"/>
            <a:ext cx="6348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uw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upra 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3 ervan vormen: mond bodem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ingua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mische spieren (aangezichtsspier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ra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lsnek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entraal zenuw stelsil</a:t>
            </a:r>
            <a:br>
              <a:rPr sz="4000"/>
            </a:b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Z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en : motorische prikk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oofdhalsgebied soor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Skelet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beide aan een botstuk be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uid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aan het bot/huid bevestig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030a0"/>
                </a:solidFill>
                <a:latin typeface="Trebuchet MS"/>
              </a:rPr>
              <a:t>Kring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 weefsels bevestigd bijvoorbeeld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Afbeelding 2" descr="Beeld van verloop van spiervezels van de musculus orbicularis oris"/>
          <p:cNvPicPr/>
          <p:nvPr/>
        </p:nvPicPr>
        <p:blipFill>
          <a:blip r:embed="rId1"/>
          <a:stretch/>
        </p:blipFill>
        <p:spPr>
          <a:xfrm>
            <a:off x="1812960" y="3573360"/>
            <a:ext cx="39416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pieren (musculus = m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7030a0"/>
                </a:solidFill>
                <a:latin typeface="Trebuchet MS"/>
              </a:rPr>
              <a:t>Origo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 = oorspro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rebuchet MS"/>
              </a:rPr>
              <a:t>Insertie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= aanhecht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lk is het meest bewegelij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auw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skeletspieren, zijn met beide uiteinden aan een botstuk bes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wegen OK zodat het voedsel gekauwd kan word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tempo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asse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late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30:31Z</dcterms:created>
  <dc:creator>E. Sprenger</dc:creator>
  <dc:description/>
  <dc:language>en-US</dc:language>
  <cp:lastModifiedBy>Jannet van den Berg</cp:lastModifiedBy>
  <dcterms:modified xsi:type="dcterms:W3CDTF">2017-01-09T16:11:57Z</dcterms:modified>
  <cp:revision>7</cp:revision>
  <dc:subject/>
  <dc:title>Hoofdstuk 6 Anatomie en Pathologie</dc:title>
</cp:coreProperties>
</file>