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D4834-04E6-4030-904D-4A898E9B7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85E2F-0DE6-4E9B-A612-F093178A9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A7F8F-3FE2-4183-84C2-73C7D09DC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7A38B-E12A-4828-9AAB-8AD830C76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251B5-E16F-489D-A565-0D6FB34A8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B7423-B9C5-4437-96DA-B55784C2D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F661F-F17E-4053-9197-1FE620DE1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04F11-DB3B-4064-899A-B74434880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5BA5F-909C-4EC0-96C0-CF0C7E088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BD7F3-E7BE-470F-8ACA-F065E6824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F655D-1047-4C9E-BFF1-67695B146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60F19-95C8-485E-982A-76409B4D5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38600F-F11F-4A54-A64D-5967C97AF79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Slikprobleme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Wat zijn d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ysfagie</a:t>
            </a:r>
            <a:endParaRPr b="0" lang="en-US" sz="3600" spc="-1" strike="noStrike">
              <a:solidFill>
                <a:srgbClr val="000000"/>
              </a:solidFill>
              <a:latin typeface="Calibri"/>
            </a:endParaRPr>
          </a:p>
        </p:txBody>
      </p:sp>
      <p:sp>
        <p:nvSpPr>
          <p:cNvPr id="44"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Mensen met slikproblemen hebben vaak dysfag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at betekent dat slikken heel moeizaam ga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it kan leiden tot afagi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Dan kan iemand helemaal niet meer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Een slikprobleem betekent in het algemeen dat iemand problemen heeft met slikken en voedsel hierdoor moeilijk naar de maag vervoerd kan wo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4400" spc="-1" strike="noStrike">
                <a:solidFill>
                  <a:srgbClr val="000000"/>
                </a:solidFill>
                <a:latin typeface="Calibri"/>
              </a:rPr>
              <a:t>Oorzaken van slikproblemen kunnen zijn:</a:t>
            </a:r>
            <a:endParaRPr b="0" lang="en-US" sz="4400" spc="-1" strike="noStrike">
              <a:solidFill>
                <a:srgbClr val="000000"/>
              </a:solidFill>
              <a:latin typeface="Calibri"/>
            </a:endParaRPr>
          </a:p>
        </p:txBody>
      </p:sp>
      <p:sp>
        <p:nvSpPr>
          <p:cNvPr id="4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iekte van Parkins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andoeningen aan de slokdar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Ziekte van Huntingt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Bij AL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Aandoeningen aan de stemband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Keelproblem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pierzwak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4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Na een ongeval of CV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zijn de symptomen van slikproblemen?</a:t>
            </a:r>
            <a:endParaRPr b="0" lang="en-US" sz="3600" spc="-1" strike="noStrike">
              <a:solidFill>
                <a:srgbClr val="000000"/>
              </a:solidFill>
              <a:latin typeface="Calibri"/>
            </a:endParaRPr>
          </a:p>
        </p:txBody>
      </p:sp>
      <p:sp>
        <p:nvSpPr>
          <p:cNvPr id="49"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ijn bij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Heel langzaam e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Hees en schor zij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aak de keel schrap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ijn op de bors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ermoeidhe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Gewichtsverli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kun jij doen om de cliënt te ondersteunen?</a:t>
            </a:r>
            <a:endParaRPr b="0" lang="en-US" sz="3600" spc="-1" strike="noStrike">
              <a:solidFill>
                <a:srgbClr val="000000"/>
              </a:solidFill>
              <a:latin typeface="Calibri"/>
            </a:endParaRPr>
          </a:p>
        </p:txBody>
      </p:sp>
      <p:sp>
        <p:nvSpPr>
          <p:cNvPr id="51"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in een goede houding zitten, rechto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rustig adem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Zorg voor een rustige omgev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Snijd het voedsel in zo klein mogelijke stukj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Geef de cliënt alle tij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Zorg dat de cliënt voldoende drinkt bij het eten, dit maakt het eten minder droog en makkelijker door te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Presenteer het eten op een smakelijke manier. Dit stimuleert tot aanmaak van speeksel en vergemakkelijkt het sl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Laat de cliënt niet eten kort voordat hij gaat slap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Wat te doen bij verslikken?</a:t>
            </a:r>
            <a:endParaRPr b="0" lang="en-US" sz="3600" spc="-1" strike="noStrike">
              <a:solidFill>
                <a:srgbClr val="000000"/>
              </a:solidFill>
              <a:latin typeface="Calibri"/>
            </a:endParaRPr>
          </a:p>
        </p:txBody>
      </p:sp>
      <p:sp>
        <p:nvSpPr>
          <p:cNvPr id="53"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Verslikken is nog niet stikk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Kan iemand zelf het eten of drinken waar hij zich in verslikte op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Moedig dan aan om te hoest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ea typeface="Arial"/>
              </a:rPr>
              <a:t>Kan iemand geen antwoord meer geven, heeft hij een piepende ademhaling: haal hul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Officieel bij ernstige verslikking:</a:t>
            </a:r>
            <a:endParaRPr b="0" lang="en-US" sz="3600" spc="-1" strike="noStrike">
              <a:solidFill>
                <a:srgbClr val="000000"/>
              </a:solidFill>
              <a:latin typeface="Calibri"/>
            </a:endParaRPr>
          </a:p>
        </p:txBody>
      </p:sp>
      <p:sp>
        <p:nvSpPr>
          <p:cNvPr id="55" name=""/>
          <p:cNvSpPr txBox="1"/>
          <p:nvPr/>
        </p:nvSpPr>
        <p:spPr>
          <a:xfrm>
            <a:off x="457200" y="136368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la maximaal vijf keer tussen de schouderbladen. Kijk na elke klap of het probleem opgelost 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Helpt slaan op de rug niet, voer dan maximaal vijf buikstoten ui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Is het probleem hiermee nog niet opgelost, geef dan afwisselend vijf slagen tussen de schouderbladen en vijf buikstoten (Handgreep van Heimlic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Direct 112 (laten) bellen als het slachtoffer het bewustzijn verlies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Start met reanimeren als het slachtoffer bewusteloos is en niet meer normaal adem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e Heimlich methode…</a:t>
            </a:r>
            <a:endParaRPr b="0" lang="en-US" sz="3600" spc="-1" strike="noStrike">
              <a:solidFill>
                <a:srgbClr val="000000"/>
              </a:solidFill>
              <a:latin typeface="Calibri"/>
            </a:endParaRPr>
          </a:p>
        </p:txBody>
      </p:sp>
      <p:sp>
        <p:nvSpPr>
          <p:cNvPr id="57"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Laat het slachtoffer staan of op een stoel zitten</a:t>
            </a:r>
            <a:br>
              <a:rPr sz="2400"/>
            </a:br>
            <a:r>
              <a:rPr b="0" lang="nl-NL" sz="2400" spc="-1" strike="noStrike">
                <a:solidFill>
                  <a:srgbClr val="000000"/>
                </a:solidFill>
                <a:latin typeface="Calibri"/>
              </a:rPr>
              <a:t>• Ga achter het slachtoffer staan, sla beide armen om de buik van het slachtoffer en bal één hand tot een vuist. Buig het slachtoffer naar voren.</a:t>
            </a:r>
            <a:br>
              <a:rPr sz="2400"/>
            </a:br>
            <a:r>
              <a:rPr b="0" lang="nl-NL" sz="2400" spc="-1" strike="noStrike">
                <a:solidFill>
                  <a:srgbClr val="000000"/>
                </a:solidFill>
                <a:latin typeface="Calibri"/>
              </a:rPr>
              <a:t>• Plaats de vuist halverwege tussen de navel en het begin van het borstbeen. Pak de eigen vuist met de andere hand beet en druk krachtig en snel de vuist in de buik en licht omhoog. De plotselinge samendrukking van de buik zal de lucht uit de longen van het slachtoffer drukken en zo de blokkade mogelijk uit de luchtpijp verwijderen. Herhaal deze handeling maximaal 5 keer tot het obstakel loslaat.</a:t>
            </a:r>
            <a:br>
              <a:rPr sz="2400"/>
            </a:br>
            <a:r>
              <a:rPr b="0" lang="nl-NL"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49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600" spc="-1" strike="noStrike">
                <a:solidFill>
                  <a:srgbClr val="000000"/>
                </a:solidFill>
                <a:latin typeface="Arial"/>
                <a:ea typeface="Arial"/>
              </a:rPr>
              <a:t>De Heimlich methode…</a:t>
            </a:r>
            <a:endParaRPr b="0" lang="en-US" sz="3600" spc="-1" strike="noStrike">
              <a:solidFill>
                <a:srgbClr val="000000"/>
              </a:solidFill>
              <a:latin typeface="Calibri"/>
            </a:endParaRPr>
          </a:p>
        </p:txBody>
      </p:sp>
      <p:sp>
        <p:nvSpPr>
          <p:cNvPr id="59" name=""/>
          <p:cNvSpPr txBox="1"/>
          <p:nvPr/>
        </p:nvSpPr>
        <p:spPr>
          <a:xfrm>
            <a:off x="457200" y="13636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400" spc="-1" strike="noStrike">
                <a:solidFill>
                  <a:srgbClr val="000000"/>
                </a:solidFill>
                <a:latin typeface="Calibri"/>
              </a:rPr>
              <a:t>Indien het slachtoffer buiten bewustzijn is, wordt het slachtoffer op de rug neergelegd, het hoofd zijdelings gedraaid en de muis van één hand op hetzelfde punt als hierboven genoemd is, geplaatst. De hulpverlener drukt vervolgens krachtig en snel de hand in de buik en omhoog in de richting van het borstbeen. Verwijder eventuele objecten en slijm uit de mond van het slachtoffer.</a:t>
            </a:r>
            <a:br>
              <a:rPr sz="2400"/>
            </a:br>
            <a:r>
              <a:rPr b="0" lang="nl-NL"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8T09:34:35Z</dcterms:created>
  <dc:creator>pi Hoogland</dc:creator>
  <dc:description/>
  <dc:language>en-US</dc:language>
  <cp:lastModifiedBy>Esther</cp:lastModifiedBy>
  <dcterms:modified xsi:type="dcterms:W3CDTF">2012-11-01T12:36:18Z</dcterms:modified>
  <cp:revision>14</cp:revision>
  <dc:subject/>
  <dc:title>PowerPoint Presentation</dc:title>
</cp:coreProperties>
</file>