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0389-9774-4785-8268-EDA88248F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0182-C5EC-4827-91CF-23A896131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B148-3329-490E-A00D-128579F9D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1FA9-91BE-4265-8B39-6FB1A3BA8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5F41-91E8-4EED-BA5A-67C6D7E45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6FEF-5E50-43EF-9E16-4701AF2BA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DACF-465B-457A-BD5D-B8D4443CE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9085-7B03-4BF3-B514-96BEA9ED5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90BE-3EB9-4969-8497-E055422BA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C89A-D07F-41B0-9F2A-A88985899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1AC9-5F67-4E33-B974-3EAFB2A70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3143-AE91-4A05-9498-BDA576A23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119F3A-FF19-4F28-BE43-22BFAD371C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Dië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Niet alleen om af te vallen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Veel mensen volgen een dieet uit medische noodzaa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atriumbeperk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nergiebeperk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tar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ntiallergisch die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aagdie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Natriumbeperk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it betekent zo weinig mogelijk of geen zou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jvoorbeeld voor mensen die dialys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f mensen die een hoge bloeddruk hebb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Zout trekt vocht aan uit de weefs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ierdoor komt het in de bloedbaan terecht en wordt de druk in de vaten te hoo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ieren hebben als functie om teveel zout en vocht uit te scheiden. Dat lukt niet als ze niet of nauwelijks functioner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Energiebeperk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We schijnen met zijn allen te veel vet, zout en suiker te et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aardoor zijn veel mensen te di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oor de calorieën in je dagelijks dieet te beperken kun je afvallen en op gewicht blijv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Vetar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en vetarm dieet gebruiken mensen met maag- en darmklachten, maar ook mensen die af willen vallen of een hoog cholesterol hebb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t hebben we wel nodig, met name de onverzadigde vet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en vetarm dieet moet dus gemonitord worden door een diëtist of een arts. Je hebt er niets aan als je voedingsstoffen te kort kom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Maagdie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ensen die snel geprikkelde darmen hebben of een overgevoelige maag, mijden bepaalde (gekruide of pittige) voedingsstoff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ok koffie en thee kunnen maag en darmen zeer prikke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Diëten die iets toevoeg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r zijn ook mensen die extra voedingsstoffen nodig hebb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mdat zij een wond hebben, herstellende zijn van ziekte of aan moeten kom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Zij volgen dan juist een eiwit- of energierijk die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Anti allergie die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ls je weet voor welke stoffen in voeding je allergisch bent, kun je ze mij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oor sommige mensen, die voor heel veel stoffen allergisch zijn, een helse kl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poren van noten zitten bijvoorbeeld in heel veel producten waar je ze niet zou verwach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en allergische reactie kan variëren van niezen en een rode huid tot een anafylactische shoc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Voedselintoleranti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en voedselintolerantie betekent dat je lichaam bepaald voedsel of een bepaalde stof in voedsel niet kan verwer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at is anders dan een allerg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j een allergie verwerkt je lichaam de stof wel, maar reageert erop alsof het een vijandige indringer 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j zowel een allergie als een intolerantie wordt je lichaam ziek, maar de reactie komt uit verschillende systemen in je licha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8T09:34:35Z</dcterms:created>
  <dc:creator>pi Hoogland</dc:creator>
  <dc:description/>
  <dc:language>en-US</dc:language>
  <cp:lastModifiedBy>esther</cp:lastModifiedBy>
  <dcterms:modified xsi:type="dcterms:W3CDTF">2016-05-03T11:33:16Z</dcterms:modified>
  <cp:revision>16</cp:revision>
  <dc:subject/>
  <dc:title>PowerPoint Presentation</dc:title>
</cp:coreProperties>
</file>