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26EA9-6DA8-4A6F-8BA9-8FC0C3660B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C02AD-8221-4E6C-BC68-DC245526D592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2865-6A04-480B-87F0-480B377E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E63B-77DA-48A0-BF9D-FD650F8D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7541-DC09-4961-ADF1-F95093AA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E526-C98C-4F12-8A2C-FA8244DAD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7B6-BD13-4AB6-B5D2-31276B6E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9CC1-0007-4531-9B5B-3113AC98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28C-1B7D-47FF-8B95-0CD9D969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F32-3F3D-4C3B-8C5A-6531746A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A8F-6619-4552-9367-CA82318F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795-704B-4DB0-A265-6D5DD63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F3E7-5162-47A5-AB63-BA490EE3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9E0-3F66-460B-BA4C-98C43660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9D260B-DE47-43E8-9348-AC9D746A1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voedingscentrum.nl/encyclopedie/bestrijdingsmiddelen.aspx" TargetMode="External"/><Relationship Id="rId3" Type="http://schemas.openxmlformats.org/officeDocument/2006/relationships/hyperlink" Target="http://www.voedingscentrum.nl/encyclopedie/vlees.asp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88920" y="2130120"/>
            <a:ext cx="6568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Gewoonten rondom voeds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6160" y="3886200"/>
            <a:ext cx="6095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Wat kom je teg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  <a:ea typeface="Arial"/>
              </a:rPr>
              <a:t>Pak ‘m bee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100 jaar geleden at je in Nederland aardappelen, groenten en als je ‘t rijk had soms een stukje vl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Er is veel veranderd in 100 jaar tij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aanbod qua eten is en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Alleen al wat betreft multiculturele vo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In de jaren ‘50 kwam de Chinees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Maar nu eten we Italiaans, Surinaams, Japans, Turks, Marokkaans.. Noem het maar 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oedingspatro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ok ons voedingspatroon is verande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Je merkt misschien aan je bewoners dat ze gewend zijn ‘s middags warm te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u is de gewoonte dat we ‘s avonds warm eten, al doen veel boeren het nog steeds anders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in onze samenleving een snackcultuur ontstaan; we eten tegenwoordig veel, zoet en z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sommige culturen wordt 2x per dag warm gegeten, of een glaasje wijn bij de middaglunch gedron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 Nederland hebben wij een broodcul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Wat weet je van alternatief voedsel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1" descr=""/>
          <p:cNvPicPr/>
          <p:nvPr/>
        </p:nvPicPr>
        <p:blipFill>
          <a:blip r:embed="rId2"/>
          <a:stretch/>
        </p:blipFill>
        <p:spPr>
          <a:xfrm>
            <a:off x="2873520" y="1363680"/>
            <a:ext cx="370044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Daar wordt ook wel onder verstaa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p een andere manier, of ander voedsel eten, dan globaal de gewoonte 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vegetariërs, veganisten, mensen die alleen biologisch willen eten, of eten volgens bepaalde voorschriften (bijvoorbeeld de Voedselzandloper, de laatste r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etar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etariërs eten geen vis of vlees. Soms uit idealistische overwegingen, omdat zij het niet eens zijn met de manier waarop vlees en vis geproduceerd wor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aar soms ook omdat zij geen dieren willen eten, of het niet lekker vin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Veganist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ganisten gebruiken geen enkel dierlijk product, dus ook geen eieren en melk, of leren schoe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doen zij uit idealistische over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ommige veganisten eten alleen rauw ongekookt voed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it dieet ontstaat er vaak een tekort aan voedingsstoff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Biologis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0764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ologisch voedsel wordt op een manier geproduceerd die zo min mogelijk belastend is voor het mili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Om het Europees biologisch keurmerk te krijgen zijn er eis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ducten moeten voor minimaal 95% uit echte biologische ingrediënten bestaa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moet duidelijk zijn waar de ingrediënten precies vandaan kom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zijn geen chemische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estrijd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 is geen kunstmest gebruik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 de productie van </a:t>
            </a:r>
            <a:r>
              <a:rPr b="0" lang="nl-NL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le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is rekening gehouden met dierenwelzij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63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peciale diëten; om af te vallen, of om gezonder te eten, of om een ziekte te bestrij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51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nk aan Sonja Bakker (energiebeperkt), Montignac (geen koolhydraten), Voedselzandloper (minder koolhydraten, veel eiwitten en havermout), Moerman (dieet om kanker te bestrijden, erg omstred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8T09:34:35Z</dcterms:created>
  <dc:creator>pi Hoogland</dc:creator>
  <dc:description/>
  <dc:language>en-US</dc:language>
  <cp:lastModifiedBy>esther</cp:lastModifiedBy>
  <dcterms:modified xsi:type="dcterms:W3CDTF">2016-05-03T16:41:22Z</dcterms:modified>
  <cp:revision>18</cp:revision>
  <dc:subject/>
  <dc:title>PowerPoint Presentation</dc:title>
</cp:coreProperties>
</file>