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E63-6D41-4C16-9D21-92715436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5D9-DFE6-4CA9-A4E1-38BA61ED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2F8-457F-42DE-A02E-43D57A7A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71B-CE2D-4CF2-B510-CDD2D499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EAD-E8D6-46BB-BD15-2A96689C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199-C628-4C25-B5A7-5AEF3562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FEC1-D20B-417D-B7CE-26CBD2AD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87E6-FDE7-4E31-800B-7FBE5BAF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5EF-DA12-46D7-A084-BD20A232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2E2A-FC10-4CE1-9AAE-89EBAF01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BC9-BC0F-4DD7-A02F-539FE4A3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166B-482C-4FC8-8194-9AB0F3A1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221EEE-4D3E-46C3-A0EC-C3445CCE0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ië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iet alleen om af te vall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el mensen volgen een dieet uit medische noodzaa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ntiallergisch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Natrium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betekent zo weinig mogelijk of geen zou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voorbeeld voor mensen die dialy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f mensen die een hoge bloeddruk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out trekt vocht aan uit de weef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ierdoor komt het in de bloedbaan terecht en wordt de druk in de vaten te ho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 hebben als functie om teveel zout en vocht uit te scheiden. Dat lukt niet als ze niet of nauwelijks function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Energiebeperk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We schijnen met zijn allen te veel vet, zout en suiker te e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ardoor zijn veel mensen te di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oor de calorieën in je dagelijks dieet te beperken kun je afvallen en op gewicht blij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ta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gebruiken mensen met maag- en darmklachten, maar ook mensen die af willen vallen of een hoog cholesterol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t hebben we wel nodig, met name de onverzadigde vet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etarm dieet moet dus gemonitord worden door een diëtist of een arts. Je hebt er niets aan als je voedingsstoffen te kort ko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Maag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ensen die snel geprikkelde darmen hebben of een overgevoelige maag, mijden bepaalde (gekruide of pittige)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koffie en thee kunnen maag en darmen zeer prikke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iëten die iets toevoeg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ook mensen die extra voedingsstoffen nodig hebb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dat zij een wond hebben, herstellende zijn van ziekte of aan moeten kom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 volgen dan juist een eiwit- of energierijk di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Anti allergie di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Als je weet voor welke stoffen in voeding je allergisch bent, kun je ze m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oor sommige mensen, die voor heel veel stoffen allergisch zijn, een helse k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oren van noten zitten bijvoorbeeld in heel veel producten waar je ze niet zou verwach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allergische reactie kan variëren van niezen en een rode huid tot een anafylactische sh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selintoleranti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n voedselintolerantie betekent dat je lichaam bepaald voedsel of een bepaalde stof in voedsel niet kan verwer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at is anders dan een allerg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een allergie verwerkt je lichaam de stof wel, maar reageert erop alsof het een vijandige indringer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zowel een allergie als een intolerantie wordt je lichaam ziek, maar de reactie komt uit verschillende systemen in je licha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1:33:16Z</dcterms:modified>
  <cp:revision>16</cp:revision>
  <dc:subject/>
  <dc:title>PowerPoint Presentation</dc:title>
</cp:coreProperties>
</file>