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EFCAB-79B2-4B62-B089-87B7A7766B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F5F7A-54A9-4369-AE38-EBDADB356E2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70B-EA59-4FDD-93A6-17F605B8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150-C6D9-4221-9C00-CEE3CC51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CE2-E4CE-454C-90B5-5C273712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5CA-EA05-4C83-8846-A5CF15C4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A73-29C3-48D2-ADC3-14BBC591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6F06-70DF-4926-80F7-C6D2A222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09B-4242-47FF-B19C-A529BD0E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31BD-E875-4D18-9E66-5B7529AA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9F8-123B-4A58-A972-9F2724CC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05DB-E894-475E-B0AC-6903D620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989-5F11-4B9F-B317-C5BCA36D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0DC0-B59A-4097-B8DC-4FD53C9A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B4D22-2668-49BA-BD0E-54F6DF238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voedingscentrum.nl/encyclopedie/bestrijdingsmiddelen.aspx" TargetMode="External"/><Relationship Id="rId3" Type="http://schemas.openxmlformats.org/officeDocument/2006/relationships/hyperlink" Target="http://www.voedingscentrum.nl/encyclopedie/vlees.aspx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88920" y="2130120"/>
            <a:ext cx="656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Gewoonten rondom voeds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3886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Wat kom je te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Pak ‘m bee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00 jaar geleden at je in Nederland aardappelen, groenten en als je ‘t rijk had soms een stukje vl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r is veel veranderd in 100 jaar tij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aanbod qua eten is en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lleen al wat betreft multiculturele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de jaren ‘50 kwam de Chinees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 nu eten we Italiaans, Surinaams, Japans, Turks, Marokkaans.. Noem het maar 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ingspatro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ons voedingspatroon is verande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merkt misschien aan je bewoners dat ze gewend zijn ‘s middags warm te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u is de gewoonte dat we ‘s avonds warm eten, al doen veel boeren het nog steeds anders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in onze samenleving een snackcultuur ontstaan; we eten tegenwoordig veel, zoet en z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sommige culturen wordt 2x per dag warm gegeten, of een glaasje wijn bij de middaglunch gedro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Nederland hebben wij een broodcul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t weet je van alternatief voedse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2873520" y="1363680"/>
            <a:ext cx="37004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aar wordt ook wel onder verstaa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p een andere manier, of ander voedsel eten, dan globaal de gewoonte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vegetariërs, veganisten, mensen die alleen biologisch willen eten, of eten volgens bepaalde voorschriften (bijvoorbeeld de Voedselzandloper, de laatste r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etar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etariërs eten geen vis of vlees. Soms uit idealistische overwegingen, omdat zij het niet eens zijn met de manier waarop vlees en vis geproduceerd wor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soms ook omdat zij geen dieren willen eten, of het niet lekker vin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anist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anisten gebruiken geen enkel dierlijk product, dus ook geen eieren en melk, of leren schoe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doen zij uit idealistische overweg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ommige veganisten eten alleen rauw ongekookt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it dieet ontstaat er vaak een tekort aan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Biolog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764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ologisch voedsel wordt op een manier geproduceerd die zo min mogelijk belastend is voor het mili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 het Europees biologisch keurmerk te krijgen zijn er eis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ducten moeten voor minimaal 95% uit echte biologische ingrediënten besta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moet duidelijk zijn waar de ingrediënten precies vandaan k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geen chemische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estrijd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geen kunstmest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e productie van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le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is rekening gehouden met dierenwelzij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; om af te vallen, of om gezonder te eten, of om een ziekte te bestr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Sonja Bakker (energiebeperkt), Montignac (geen koolhydraten), Voedselzandloper (minder koolhydraten, veel eiwitten en havermout), Moerman (dieet om kanker te bestrijden, erg omstre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6:41:22Z</dcterms:modified>
  <cp:revision>18</cp:revision>
  <dc:subject/>
  <dc:title>PowerPoint Presentation</dc:title>
</cp:coreProperties>
</file>