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390-3349-4160-90B9-6A60AB2B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7DF-64D6-4538-A7FB-ED654F54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AF8F-DB29-497C-A05E-94727CF0D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AAD8-5F77-4C3B-BCE0-656CACD0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B21-9860-43FE-9AD1-58B025D5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3FC-B31E-45CE-B894-50146729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17CC-122A-4196-873B-FD2B1C87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162-6B99-49EC-B75C-961A0EFE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DF73-C622-4FB4-8619-DEBEBCE5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889-7D86-46C4-A611-9F7536C7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754-9346-4B86-8660-AF13F6A6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07BF-412E-42AA-8309-387895D0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1726D-6306-4164-A44F-C70FAF06C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fwijkend gedrag tijdens e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oe ga je ermee 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at vind jij afwijkend gedrag tijdens het ete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Tijdelijke aanduiding voor afbeelding 6" descr=""/>
          <p:cNvPicPr/>
          <p:nvPr/>
        </p:nvPicPr>
        <p:blipFill>
          <a:blip r:embed="rId2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En wat kom je tegen in de praktijk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fwijkend gedrag ka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eten uitspu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gooi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de vingers in het eten zi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t eten sm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oeren, slurpen, hard sma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ten oprispen en weer kauw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ulzig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t stoppen met eten of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khalzen tijdens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gress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un je aanspreken op afwijkend eetgedrag, zeker als het storend is voor de omg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e persoon aangeeft er niets aan te kunnen doen, moet je dit bespreken met zorgcollega’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gedrag kan een lichamelijke oorzaak hebben: als iemand aldoor dorst heeft en veel moet plassen, kan dit bijvoorbeeld wijzen op diab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en wilsonbekwaam iemand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an vaak niets doen aan zijn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kunt wel proberen hem of haar aan te spreken op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at niet werkt, zul je andere maatregelen moeten bede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llicht kan een arts eerst uitzoeken of er een lichamelijke oorzaak is voor het gedr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dit niet het geval is, moet je samen met je team uitproberen wat werkt om het gedrag te vermi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Oplossingen kunnen zijn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rustige, prikkelarme omgeving bi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amen met iemand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uziek opz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m of haar helpen met eten en dri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dierbare mee laten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edselaanbod veranderen (wensdie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Rustgevende medicatie voor laten schrijven door de 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Hoe doen jullie dat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549360" y="136368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3-08-20T11:13:24Z</dcterms:modified>
  <cp:revision>14</cp:revision>
  <dc:subject/>
  <dc:title>PowerPoint Presentation</dc:title>
</cp:coreProperties>
</file>