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2214E-BB57-4515-90D2-555AD4069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9D82C-E58C-4270-9B9D-C63439853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B2AC8-E81B-4AA8-BC47-1C0E22EDC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39B9-A5E3-41B4-B08E-E3C13107F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2D2C-F922-4202-B3EA-209AB46FA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4B47-9512-44EC-9D12-51DED6693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EF52-657F-404B-9C52-24A8654AF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E9E1-C58B-4039-8CC6-2DA1203F7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AF9A-4B44-432A-AA34-31844819F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534D-D4FF-4BD3-88DE-9AACA643C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9BEF-EC8F-4625-991E-69BE97694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868B-32B0-444F-BA3D-242022075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0B31-CDEB-4ABC-B981-07DC80E4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E921-8D1B-4EB8-9E13-13981BD4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952C-D68C-4A61-9D2D-7AE80E57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55B4F-AE34-4E28-940E-AACAE78B4F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785960"/>
            <a:ext cx="86868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NERGIE VOOR DUMMI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ENHEDEN van energ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2057400"/>
            <a:ext cx="858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el eenvoudig: de basiseenheid is 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Joule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ijmt op sto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bool: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nergieke Vuistregels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kg olie, benzine, vet,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n+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ca. 40 M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n de WAT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304920" y="2057400"/>
            <a:ext cx="858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 is de eenheid van ‘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ermog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ow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veelheid energi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er tijdseen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1 Watt = 1Joule</a:t>
            </a: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/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VOORBEELD: een lucif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brandigswarmte droog hout: 20 kJ/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en lucifer: 0,1 gra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 2 k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VOORBEELD: een lucif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brandigswarmte droog hout: 20 kJ/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en lucifer: 0,1 gra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 2 k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el: opbranden in 20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an is vermogen 2 kJ / 20 s = 100 J/s = 100 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Conclusie: vlammetje van lucifer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kachel van 100 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rekening Energiegebrui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itel 1"/>
          <p:cNvSpPr/>
          <p:nvPr/>
        </p:nvSpPr>
        <p:spPr>
          <a:xfrm>
            <a:off x="468360" y="2349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(kWh)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4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(vermogen in kW) x </a:t>
            </a:r>
            <a:r>
              <a:rPr b="0" lang="nl-NL" sz="44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(in uu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Van de ene energievorm naar de and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orbeelden van rendemente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arm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aar mechanische ener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 een: stoommachine/-turbine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-50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selmotor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30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otor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 van de energie? Afvalwarmt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7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2. Een mens als energiegebrui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4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en mens als energiegebrui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edsel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chanische energie en warmt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U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igenlijk net een auto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en mens als energiegebrui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eveel voedse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 waarde van 10 000 kilojoule per d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NERGIE VOOR DUMMI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920" y="2057400"/>
            <a:ext cx="858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in 5 scèn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at is energi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Een mens als energiegebrui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Efficiënt voortbewe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Zonne-ener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Broeikas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en mens als energiegebrui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eveel voedse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 waarde van 10 000 kilojoule per d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wel ¼ liter olie per d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en mens als energiegebrui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ar blijft die energi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jna allemaal warm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000 kJ per dag is ongeveer 100 J per seco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Ik ben een kachel van 100 wa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nergieke Vuistregels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kg olie, benzine, vet,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n+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ca. 40 M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00 W ≈ mens ≈ 10 MJ per d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≈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¼ liter olie per d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en mens als energiegebrui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als ik ga werken?? (= arbeid verricht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 is makkelijk na te ga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 een beetje natuurkunde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Wat ben ik waard als moto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plopen, 1 tree /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mgh per seco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70 × 9,8 × 0,15 wa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100 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Ik ben een motor van 100 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4"/>
          <p:cNvGrpSpPr/>
          <p:nvPr/>
        </p:nvGrpSpPr>
        <p:grpSpPr>
          <a:xfrm>
            <a:off x="5580000" y="1557360"/>
            <a:ext cx="2352600" cy="2743200"/>
            <a:chOff x="5580000" y="1557360"/>
            <a:chExt cx="2352600" cy="2743200"/>
          </a:xfrm>
        </p:grpSpPr>
        <p:sp>
          <p:nvSpPr>
            <p:cNvPr id="101" name="AutoShape 5"/>
            <p:cNvSpPr/>
            <p:nvPr/>
          </p:nvSpPr>
          <p:spPr>
            <a:xfrm>
              <a:off x="5580000" y="1557360"/>
              <a:ext cx="2352600" cy="2743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6"/>
            <p:cNvSpPr/>
            <p:nvPr/>
          </p:nvSpPr>
          <p:spPr>
            <a:xfrm>
              <a:off x="6069960" y="4104360"/>
              <a:ext cx="392040" cy="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 flipV="1">
              <a:off x="6462000" y="3810960"/>
              <a:ext cx="0" cy="29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6462000" y="3810960"/>
              <a:ext cx="294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 flipV="1">
              <a:off x="6756480" y="3516840"/>
              <a:ext cx="0" cy="29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>
              <a:off x="6756480" y="3516840"/>
              <a:ext cx="293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 flipV="1">
              <a:off x="7050240" y="3223080"/>
              <a:ext cx="0" cy="29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12"/>
            <p:cNvSpPr/>
            <p:nvPr/>
          </p:nvSpPr>
          <p:spPr>
            <a:xfrm>
              <a:off x="7050240" y="3223080"/>
              <a:ext cx="293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 flipV="1">
              <a:off x="7344360" y="2928960"/>
              <a:ext cx="0" cy="29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>
              <a:off x="7344360" y="2928960"/>
              <a:ext cx="294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15"/>
            <p:cNvSpPr/>
            <p:nvPr/>
          </p:nvSpPr>
          <p:spPr>
            <a:xfrm rot="2363400">
              <a:off x="6363720" y="2046960"/>
              <a:ext cx="561240" cy="10782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6"/>
            <p:cNvSpPr/>
            <p:nvPr/>
          </p:nvSpPr>
          <p:spPr>
            <a:xfrm>
              <a:off x="6462000" y="29289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7"/>
            <p:cNvSpPr/>
            <p:nvPr/>
          </p:nvSpPr>
          <p:spPr>
            <a:xfrm>
              <a:off x="6560280" y="2928960"/>
              <a:ext cx="489960" cy="9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8"/>
            <p:cNvSpPr/>
            <p:nvPr/>
          </p:nvSpPr>
          <p:spPr>
            <a:xfrm flipH="1">
              <a:off x="6952320" y="3026520"/>
              <a:ext cx="97920" cy="489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19"/>
            <p:cNvSpPr/>
            <p:nvPr/>
          </p:nvSpPr>
          <p:spPr>
            <a:xfrm>
              <a:off x="6364080" y="3026520"/>
              <a:ext cx="97920" cy="489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20"/>
            <p:cNvSpPr/>
            <p:nvPr/>
          </p:nvSpPr>
          <p:spPr>
            <a:xfrm flipH="1">
              <a:off x="6168240" y="3516840"/>
              <a:ext cx="293760" cy="39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21"/>
            <p:cNvSpPr/>
            <p:nvPr/>
          </p:nvSpPr>
          <p:spPr>
            <a:xfrm>
              <a:off x="7050240" y="1949040"/>
              <a:ext cx="293760" cy="2937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22"/>
            <p:cNvSpPr/>
            <p:nvPr/>
          </p:nvSpPr>
          <p:spPr>
            <a:xfrm>
              <a:off x="6168240" y="3908880"/>
              <a:ext cx="97920" cy="9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23"/>
            <p:cNvSpPr/>
            <p:nvPr/>
          </p:nvSpPr>
          <p:spPr>
            <a:xfrm flipH="1">
              <a:off x="6265800" y="2242800"/>
              <a:ext cx="489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24"/>
            <p:cNvSpPr/>
            <p:nvPr/>
          </p:nvSpPr>
          <p:spPr>
            <a:xfrm flipH="1">
              <a:off x="6069960" y="2242800"/>
              <a:ext cx="195840" cy="39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n hoeveel watt gebruiken we thui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en Nederlands huishouden heef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emidd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00 wat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an st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 kan dus met 4 hometrainers continu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n hoeveel watt gebruiken we thui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en Nederlands huishouden heef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emidd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00 wat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an st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 kan dus met 4 hometrainers continu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wel 12 slaven in ploegendien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lleen om de elektriciteit bij elkaar te trapp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fficiënt voortbewe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BFig-Specifiek Energiegebruikfiguur 14"/>
          <p:cNvPicPr/>
          <p:nvPr/>
        </p:nvPicPr>
        <p:blipFill>
          <a:blip r:embed="rId1"/>
          <a:stretch/>
        </p:blipFill>
        <p:spPr>
          <a:xfrm>
            <a:off x="1914480" y="1125360"/>
            <a:ext cx="54133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ietsen is razend efficient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oewel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‘lopen’ niet op oli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edsel maken kost energ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v.  1 liter mel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lve liter o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ard fietsen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uchtweerstand vermindere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-838080" algn="ctr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Wat is ENERGIE?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lectrische aut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ktriciteitsopwekking: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et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≈ 35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ergelijk automotor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en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≈ 20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us gunstiger in princi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lectrische aut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ktriciteitsopwekking: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et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≈ 35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ergelijk automotor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en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≈ 20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us gunstiger in princi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Maar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ewicht accu’s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plaadtijd!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jd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15 kW;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ad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…..k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4. Zonne-energ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Zonne-energie-stro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1760" y="5105520"/>
            <a:ext cx="74674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orme energiestro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aarde: P/A =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/d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1350 W/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EBoekFigP092"/>
          <p:cNvPicPr/>
          <p:nvPr/>
        </p:nvPicPr>
        <p:blipFill>
          <a:blip r:embed="rId1"/>
          <a:stretch/>
        </p:blipFill>
        <p:spPr>
          <a:xfrm>
            <a:off x="539640" y="1392120"/>
            <a:ext cx="8209080" cy="35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Zon in Neder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argemiddelde 100 W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EBoekFigP094"/>
          <p:cNvPicPr/>
          <p:nvPr/>
        </p:nvPicPr>
        <p:blipFill>
          <a:blip r:embed="rId1"/>
          <a:stretch/>
        </p:blipFill>
        <p:spPr>
          <a:xfrm>
            <a:off x="971640" y="1996920"/>
            <a:ext cx="689292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nergieke Vuistregels (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kg olie, benzine, vet,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n+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ca. 40 M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 W ≈ mens ≈ 10 MJ per d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≈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¼ liter olie per d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Zon in Ned: per m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gemiddeld 100 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≈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¼ liter olie/dag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≈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00 liter olie/jaar (enke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Gebruik zonne-energie vo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randsto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fotosynthe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lektricitei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zonnecell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Warmte (passief en zonnepanel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Jatropha (op onvruchtbare gron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ropische stre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den tot 45 % ol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brengst ca. 0,1 liter per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r ja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gere opbrengst met bijmesten enz. (dus dan weer concurrent van voeds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essant voor kleinschalig gebruik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r plaat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weede-generatie biobrandst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verteerbare resten gebrui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en concurrentie met voed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werkingsproces drukt netto rend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n ook nuttig verbra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Zonnece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htstreeks electricit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eten worde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emaak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i.t.t. plant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g d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rciële Si-cellen: rendemen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5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1. Wat is ENERGIE?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9999"/>
                </a:solidFill>
                <a:latin typeface="Arial"/>
              </a:rPr>
              <a:t>Energie komt voor in verschillende vermommingen: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lternatieve energiebron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makkelijk is het om over te schak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ar zon, wind, spierkracht………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Vergelijking: 1000 MW</a:t>
            </a:r>
            <a:r>
              <a:rPr b="0" lang="en-US" sz="3600" spc="-1" strike="noStrike" baseline="-25000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continu</a:t>
            </a:r>
            <a:br>
              <a:rPr sz="5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a. 10 % v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lektriciteit Ne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i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×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iter/j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centrale (LW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×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g nat. U/j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w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×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g U-235/j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Zonnecellen (R = 15 %)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0 km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indturbines (zee)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300 stuks, D=90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p ca.   1000 km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oppervl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lanten, bomen (R=1%)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000 km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oppervl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pierkracht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 miljoen trap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Hoe komen we ECHT aan onze energi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or 90 % uit olie, aardgas, steenk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waar komen die vanda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is ingeblikte zonne-energ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joenen jaren te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nergie heeft veel gezichte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04560" y="205740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Energie  va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ewe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… (‘Kinetische energie’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voetbal"/>
          <p:cNvPicPr/>
          <p:nvPr/>
        </p:nvPicPr>
        <p:blipFill>
          <a:blip r:embed="rId1"/>
          <a:stretch/>
        </p:blipFill>
        <p:spPr>
          <a:xfrm>
            <a:off x="2916360" y="3213000"/>
            <a:ext cx="2466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nergie heeft veel gezichte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304920" y="2057400"/>
            <a:ext cx="858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Energie die nog wat kan…… (‘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otentië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ergie’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v. ingedeukte b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kan terugspring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ingedrukte v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kan terugver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96596_806_1159253546715-DSC_0052"/>
          <p:cNvPicPr/>
          <p:nvPr/>
        </p:nvPicPr>
        <p:blipFill>
          <a:blip r:embed="rId1"/>
          <a:stretch/>
        </p:blipFill>
        <p:spPr>
          <a:xfrm>
            <a:off x="3962520" y="2746440"/>
            <a:ext cx="4930560" cy="33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nergie heeft veel gezichte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304920" y="2057400"/>
            <a:ext cx="858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rb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v. een ve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verlagen27_"/>
          <p:cNvPicPr/>
          <p:nvPr/>
        </p:nvPicPr>
        <p:blipFill>
          <a:blip r:embed="rId1"/>
          <a:stretch/>
        </p:blipFill>
        <p:spPr>
          <a:xfrm>
            <a:off x="3132000" y="2276640"/>
            <a:ext cx="520236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nergie heeft veel gezichte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304920" y="2057400"/>
            <a:ext cx="858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arm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vuur1"/>
          <p:cNvPicPr/>
          <p:nvPr/>
        </p:nvPicPr>
        <p:blipFill>
          <a:blip r:embed="rId1"/>
          <a:stretch/>
        </p:blipFill>
        <p:spPr>
          <a:xfrm>
            <a:off x="3059280" y="1628640"/>
            <a:ext cx="4790880" cy="47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n nu het gekk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2057400"/>
            <a:ext cx="858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chillende vormen van energie gaan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kaar o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e totale hoeveelheid energie blijft daarbi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NS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3T11:26:38Z</dcterms:created>
  <dc:creator>Hermans</dc:creator>
  <dc:description/>
  <dc:language>en-US</dc:language>
  <cp:lastModifiedBy>Lutz Lohse</cp:lastModifiedBy>
  <dcterms:modified xsi:type="dcterms:W3CDTF">2010-11-12T06:29:50Z</dcterms:modified>
  <cp:revision>37</cp:revision>
  <dc:subject/>
  <dc:title>Slide 1</dc:title>
</cp:coreProperties>
</file>