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3A8E-A037-40CD-88DC-C2D13C14B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7F86-C3B7-401E-9CE9-02C39785E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3A47-09CD-4909-A2FE-78FF4B433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66B-C89F-4F09-AB55-6FAEE2DA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E6C-13D4-4EA0-8476-3A1D0B89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152-E9A2-414B-9317-174A62BD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B11-5F22-40AA-BAF5-B4B6A0A8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7B2-03E0-4254-BDA0-C1D05AAA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424-4EBF-4395-810E-92A42378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FCA-DEDB-4CC3-B470-7FFBA8E3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DC27-D930-4B3F-9DCF-329844AA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894-C30D-4498-877D-472177C9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F3A-2A64-4077-8A3B-2A2C39F8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730-DD20-4FE1-A5F0-05D2088C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3D5-4415-44A1-A484-4BBD1434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C316-C14A-425E-91B2-BA2F312F7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8596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VOOR DUMM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HEDEN van ener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el eenvoudig: de basiseenheid is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oul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ijmt op sto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ol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 de WA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 is de eenheid van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m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veelheid energi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er tijdseen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 Watt = 1Joule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/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OORBEELD: een luc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ndigswarmte droog hout: 20 kJ/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lucifer: 0,1 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OORBEELD: een luc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ndigswarmte droog hout: 20 kJ/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lucifer: 0,1 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2 k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el: opbranden in 20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n is vermogen 2 kJ / 20 s = 100 J/s =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nclusie: vlammetje van lucifer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kachel van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rekening Energiegebrui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468360" y="23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(kWh)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ermogen in kW) x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(in uu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an de ene energievorm naar de and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orbeelden van rendemen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m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ar mechanische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een: stoommachine/-turbine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-5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selmo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o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 van de energie? Afvalwarm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. 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edsel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che energie en warm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igenlijk net een aut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voeds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waarde van 10 000 kilojoul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VOOR DUMM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in 5 scèn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at is energ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en mens als energiegebrui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fficiënt voort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onne-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Broeikas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voeds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 waarde van 10 000 kilojoul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 ¼ liter olie per d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blijft die energ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 allemaal warm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000 kJ per dag is ongeveer 100 J per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Ik ben een kachel van 100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W ≈ mens ≈ 10 MJ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 liter olie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en mens als energiegebrui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ls ik ga werken?? (= arbeid verrich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is makkelijk na te ga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een beetje natuurkunde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at ben ik waard als mot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lopen, 1 tree /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mgh per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70 × 9,8 × 0,15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Ik ben een motor van 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5580000" y="1557360"/>
            <a:ext cx="2352600" cy="2743200"/>
            <a:chOff x="5580000" y="1557360"/>
            <a:chExt cx="2352600" cy="2743200"/>
          </a:xfrm>
        </p:grpSpPr>
        <p:sp>
          <p:nvSpPr>
            <p:cNvPr id="101" name="AutoShape 5"/>
            <p:cNvSpPr/>
            <p:nvPr/>
          </p:nvSpPr>
          <p:spPr>
            <a:xfrm>
              <a:off x="5580000" y="1557360"/>
              <a:ext cx="2352600" cy="27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6069960" y="4104360"/>
              <a:ext cx="39204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V="1">
              <a:off x="6462000" y="3810960"/>
              <a:ext cx="0" cy="29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6462000" y="3810960"/>
              <a:ext cx="294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V="1">
              <a:off x="6756480" y="351684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6756480" y="3516840"/>
              <a:ext cx="2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7050240" y="322308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7050240" y="3223080"/>
              <a:ext cx="29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V="1">
              <a:off x="7344360" y="292896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344360" y="2928960"/>
              <a:ext cx="294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5"/>
            <p:cNvSpPr/>
            <p:nvPr/>
          </p:nvSpPr>
          <p:spPr>
            <a:xfrm rot="2363400">
              <a:off x="6363720" y="2046960"/>
              <a:ext cx="561240" cy="1078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6462000" y="2928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6560280" y="2928960"/>
              <a:ext cx="489960" cy="9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6952320" y="3026520"/>
              <a:ext cx="9792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6364080" y="3026520"/>
              <a:ext cx="97920" cy="48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6168240" y="3516840"/>
              <a:ext cx="293760" cy="39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1"/>
            <p:cNvSpPr/>
            <p:nvPr/>
          </p:nvSpPr>
          <p:spPr>
            <a:xfrm>
              <a:off x="7050240" y="1949040"/>
              <a:ext cx="293760" cy="2937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6168240" y="3908880"/>
              <a:ext cx="97920" cy="9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6265800" y="2242800"/>
              <a:ext cx="48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6069960" y="2242800"/>
              <a:ext cx="195840" cy="39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 hoeveel watt gebruiken we thu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Nederlands huishouden heef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mid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 w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n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kan dus met 4 hometrainers cont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 hoeveel watt gebruiken we thu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Nederlands huishouden heef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midd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0 wat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an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 kan dus met 4 hometrainers contin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 12 slaven in ploegendi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leen om de elektriciteit bij elkaar te trap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fficiënt voortbewe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BFig-Specifiek Energiegebruikfiguur 14"/>
          <p:cNvPicPr/>
          <p:nvPr/>
        </p:nvPicPr>
        <p:blipFill>
          <a:blip r:embed="rId1"/>
          <a:stretch/>
        </p:blipFill>
        <p:spPr>
          <a:xfrm>
            <a:off x="1914480" y="1125360"/>
            <a:ext cx="54133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etsen is razend efficien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ewel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‘lopen’ niet op o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edsel maken kost energ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v.  1 liter mel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lve liter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ard fietse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uchtweerstand verminder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Wat is ENERGIE?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ische au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citeitsopwekking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gelijk automot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≈ 2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s gunstiger in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lectrische au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iciteitsopwekking: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et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 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gelijk automoto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≈ 2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s gunstiger in 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Maa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wicht accu’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laadtijd!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j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15 kW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…..k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. Zonne-ener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onne-energie-st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51055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rme energiestro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rde: P/A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d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350 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EBoekFigP092"/>
          <p:cNvPicPr/>
          <p:nvPr/>
        </p:nvPicPr>
        <p:blipFill>
          <a:blip r:embed="rId1"/>
          <a:stretch/>
        </p:blipFill>
        <p:spPr>
          <a:xfrm>
            <a:off x="539640" y="1392120"/>
            <a:ext cx="82090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on in Ne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argemiddelde 1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EBoekFigP094"/>
          <p:cNvPicPr/>
          <p:nvPr/>
        </p:nvPicPr>
        <p:blipFill>
          <a:blip r:embed="rId1"/>
          <a:stretch/>
        </p:blipFill>
        <p:spPr>
          <a:xfrm>
            <a:off x="971640" y="1996920"/>
            <a:ext cx="68929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nergieke Vuistregels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g olie, benzine, vet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a. 40 M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W ≈ mens ≈ 10 MJ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¼ liter olie per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Zon in Ned: per 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gemiddeld 100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¼ liter olie/da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≈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0 liter olie/jaar (enk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ebruik zonne-energie v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andst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fotosynthe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ektricite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onnecel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Warmte (passief en zonnepane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atropha (op onvruchtbare gro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opische st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den tot 45 % o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brengst ca. 0,1 liter per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ja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gere opbrengst met bijmesten enz. (dus dan weer concurrent van voed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sant voor kleinschalig gebruik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r plaat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ede-generatie biobrandst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verteerbare resten gebru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concurrentie met voed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werkingsproces drukt netto ren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 ook nuttig verbr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Zonnec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htstreeks electri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en word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aak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.t.t. plan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g d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ële Si-cellen: rend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. Wat is ENERGIE?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Energie komt voor in verschillende vermommingen: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lternatieve energie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makkelijk is het om over te 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r zon, wind, spierkracht………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ergelijking: 1000 MW</a:t>
            </a:r>
            <a:r>
              <a:rPr b="0" lang="en-US" sz="3600" spc="-1" strike="noStrike" baseline="-25000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continu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. 10 % v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ktriciteit N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i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ter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centrale (LW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g nat. U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w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g U-235/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onnecellen (R = 15 %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ndturbines (zee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00 stuks, D=9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 ca.   100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perv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nten, bomen (R=1%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00 km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pperv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ierkrach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 miljoen tra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e komen we ECHT aan onze energ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 90 % uit olie, aardgas, steenk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waar komen die vand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is ingeblikte zonne-energ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joenen jaren te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nergie  v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we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 (‘Kinetische energi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voetbal"/>
          <p:cNvPicPr/>
          <p:nvPr/>
        </p:nvPicPr>
        <p:blipFill>
          <a:blip r:embed="rId1"/>
          <a:stretch/>
        </p:blipFill>
        <p:spPr>
          <a:xfrm>
            <a:off x="2916360" y="3213000"/>
            <a:ext cx="246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ergie die nog wat kan…… (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tentië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ergie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v. ingedeukte b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an terugsprin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ingedrukte v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an terugve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96596_806_1159253546715-DSC_0052"/>
          <p:cNvPicPr/>
          <p:nvPr/>
        </p:nvPicPr>
        <p:blipFill>
          <a:blip r:embed="rId1"/>
          <a:stretch/>
        </p:blipFill>
        <p:spPr>
          <a:xfrm>
            <a:off x="3962520" y="2746440"/>
            <a:ext cx="49305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b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v. een v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verlagen27_"/>
          <p:cNvPicPr/>
          <p:nvPr/>
        </p:nvPicPr>
        <p:blipFill>
          <a:blip r:embed="rId1"/>
          <a:stretch/>
        </p:blipFill>
        <p:spPr>
          <a:xfrm>
            <a:off x="3132000" y="2276640"/>
            <a:ext cx="52023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ergie heeft veel gezicht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arm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vuur1"/>
          <p:cNvPicPr/>
          <p:nvPr/>
        </p:nvPicPr>
        <p:blipFill>
          <a:blip r:embed="rId1"/>
          <a:stretch/>
        </p:blipFill>
        <p:spPr>
          <a:xfrm>
            <a:off x="3059280" y="1628640"/>
            <a:ext cx="47908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n nu het gek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8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vormen van energie gaan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kaar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 totale hoeveelheid energie blijft daarb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1:26:38Z</dcterms:created>
  <dc:creator>Hermans</dc:creator>
  <dc:description/>
  <dc:language>en-US</dc:language>
  <cp:lastModifiedBy>Lutz Lohse</cp:lastModifiedBy>
  <dcterms:modified xsi:type="dcterms:W3CDTF">2010-11-12T06:29:50Z</dcterms:modified>
  <cp:revision>37</cp:revision>
  <dc:subject/>
  <dc:title>Slide 1</dc:title>
</cp:coreProperties>
</file>