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E8A1-7A04-415D-AF59-5685ECD05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5345-05A5-46FD-B74A-53BADCD5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2EE0-0AF5-4CC5-A736-E41DACCB0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721-ACF7-4044-BC79-59D3D78C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59A-6F1D-481A-BDF9-6D718E9F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3BD-C7B4-47A9-AE0D-3E8B2708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782-BB1D-446D-96BB-B44E7601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CD6-60B1-4AEB-A2C3-78D5B0EA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D3C-FBF3-4582-A42D-F17241A2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CF5-8894-4FF2-9A22-B796CD6E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8EC-29E9-403F-B05D-0C3BE6AD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E2A-44D6-41AD-9232-454CE473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4B9-18AC-4D93-8FA8-86C62C20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908-E6AB-4D65-AAAB-21636690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75D-9CC6-413C-BC79-25D765C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D905-B067-4110-9AC6-989FD278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HEDEN van 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el eenvoudig: de basiseenheid i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oul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ijmt op sto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ol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de WA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 is de eenheid van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m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veelheid energi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 tijdse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 Watt = 1Joule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/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: opbranden in 2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is vermogen 2 kJ / 20 s = 100 J/s 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clusie: vlammetje van lucifer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kachel van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 Energiegebru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kWh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ermogen in kW) x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in uu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an de ene energievorm naar de and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orbeelden van rendemen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ar mechan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: stoommachine/-turbine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-5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l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van de energie? Afvalwarm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 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edse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che energie en warm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igenlijk net een aut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n 5 scè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at is energ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en mens als energiegebru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fficiënt voort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onne-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oeikas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¼ liter oli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blijft die energ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 allemaal warm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 kJ per dag is ongeveer 100 J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k ben een kachel van 100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ls ik ga werken?? (= arbeid verrich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is makkelijk na te g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 beetje natuurkunde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t ben ik waard als mo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lopen, 1 tree /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mgh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0 × 9,8 × 0,15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Ik ben een motor van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5580000" y="1557360"/>
            <a:ext cx="2352600" cy="2743200"/>
            <a:chOff x="5580000" y="1557360"/>
            <a:chExt cx="2352600" cy="2743200"/>
          </a:xfrm>
        </p:grpSpPr>
        <p:sp>
          <p:nvSpPr>
            <p:cNvPr id="101" name="AutoShape 5"/>
            <p:cNvSpPr/>
            <p:nvPr/>
          </p:nvSpPr>
          <p:spPr>
            <a:xfrm>
              <a:off x="5580000" y="1557360"/>
              <a:ext cx="235260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069960" y="4104360"/>
              <a:ext cx="39204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V="1">
              <a:off x="6462000" y="3810960"/>
              <a:ext cx="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462000" y="3810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V="1">
              <a:off x="6756480" y="351684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756480" y="351684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7050240" y="322308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7050240" y="322308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7344360" y="292896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344360" y="2928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 rot="2363400">
              <a:off x="6363720" y="2046960"/>
              <a:ext cx="561240" cy="1078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6462000" y="2928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560280" y="2928960"/>
              <a:ext cx="48996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695232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36408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6168240" y="3516840"/>
              <a:ext cx="29376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1"/>
            <p:cNvSpPr/>
            <p:nvPr/>
          </p:nvSpPr>
          <p:spPr>
            <a:xfrm>
              <a:off x="7050240" y="1949040"/>
              <a:ext cx="293760" cy="293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6168240" y="3908880"/>
              <a:ext cx="9792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6265800" y="2242800"/>
              <a:ext cx="48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6069960" y="2242800"/>
              <a:ext cx="19584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12 slaven in ploegen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een om de elektriciteit bij elkaar te tra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ënt voortbewe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Fig-Specifiek Energiegebruikfiguur 14"/>
          <p:cNvPicPr/>
          <p:nvPr/>
        </p:nvPicPr>
        <p:blipFill>
          <a:blip r:embed="rId1"/>
          <a:stretch/>
        </p:blipFill>
        <p:spPr>
          <a:xfrm>
            <a:off x="1914480" y="1125360"/>
            <a:ext cx="5413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tsen is razend efficien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ewel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‘lopen’ niet op 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dsel maken kost energ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v.  1 liter me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ve liter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rd fietse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uchtweerstand verminder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a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wicht accu’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laadtijd!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j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15 kW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…..k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Zonne-ener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ne-energie-st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51055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rme energiest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rde: P/A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350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EBoekFigP092"/>
          <p:cNvPicPr/>
          <p:nvPr/>
        </p:nvPicPr>
        <p:blipFill>
          <a:blip r:embed="rId1"/>
          <a:stretch/>
        </p:blipFill>
        <p:spPr>
          <a:xfrm>
            <a:off x="539640" y="1392120"/>
            <a:ext cx="8209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 in Ne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argemiddelde 1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EBoekFigP094"/>
          <p:cNvPicPr/>
          <p:nvPr/>
        </p:nvPicPr>
        <p:blipFill>
          <a:blip r:embed="rId1"/>
          <a:stretch/>
        </p:blipFill>
        <p:spPr>
          <a:xfrm>
            <a:off x="971640" y="1996920"/>
            <a:ext cx="68929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on in Ned: per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gemiddeld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/d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liter olie/jaar (enk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ebruik zonne-energie v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ndst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otosyn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ektricite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onnecel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armte (passief en zonnepan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atropha (op onvruchtbare gro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opische st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en tot 45 % o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brengst ca. 0,1 liter p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j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ere opbrengst met bijmesten enz. (dus dan weer concurrent van voed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sant voor kleinschalig gebruik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r plaat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ede-generatie biobrandst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verteerbare resten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concurrentie met voed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rkingsproces drukt netto ren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ook nuttig verbr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onnec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streeks electri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en word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aak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t.t. plan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g d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ële Si-cellen: rend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. 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Energie komt voor in verschillende vermommingen: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ternatieve energie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makkelijk is het om over te 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r zon, wind, spierkracht………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ergelijking: 1000 MW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ontinu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. 10 % v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ktriciteit N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i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er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centrale (LW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nat. U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U-235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onnecellen (R = 15 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turbines (zee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0 stuks, D=9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 ca.   1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ten, bomen (R=1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ierkrach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 miljoen t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e komen we ECHT aan onze energ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90 % uit olie, aardgas, steenk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waar komen die vand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is ingeblikte zonne-energ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joenen jaren te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ergie  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we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 (‘Kinetische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oetbal"/>
          <p:cNvPicPr/>
          <p:nvPr/>
        </p:nvPicPr>
        <p:blipFill>
          <a:blip r:embed="rId1"/>
          <a:stretch/>
        </p:blipFill>
        <p:spPr>
          <a:xfrm>
            <a:off x="2916360" y="3213000"/>
            <a:ext cx="246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ergie die nog wat kan…… (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tentië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ingedeukte b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sp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ngedrukte v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v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96596_806_1159253546715-DSC_0052"/>
          <p:cNvPicPr/>
          <p:nvPr/>
        </p:nvPicPr>
        <p:blipFill>
          <a:blip r:embed="rId1"/>
          <a:stretch/>
        </p:blipFill>
        <p:spPr>
          <a:xfrm>
            <a:off x="3962520" y="2746440"/>
            <a:ext cx="49305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b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een v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verlagen27_"/>
          <p:cNvPicPr/>
          <p:nvPr/>
        </p:nvPicPr>
        <p:blipFill>
          <a:blip r:embed="rId1"/>
          <a:stretch/>
        </p:blipFill>
        <p:spPr>
          <a:xfrm>
            <a:off x="3132000" y="22766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uur1"/>
          <p:cNvPicPr/>
          <p:nvPr/>
        </p:nvPicPr>
        <p:blipFill>
          <a:blip r:embed="rId1"/>
          <a:stretch/>
        </p:blipFill>
        <p:spPr>
          <a:xfrm>
            <a:off x="3059280" y="1628640"/>
            <a:ext cx="4790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nu het gek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vormen van energie gaa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kaar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 totale hoeveelheid energie blijft daarb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1:26:38Z</dcterms:created>
  <dc:creator>Hermans</dc:creator>
  <dc:description/>
  <dc:language>en-US</dc:language>
  <cp:lastModifiedBy>Lutz Lohse</cp:lastModifiedBy>
  <dcterms:modified xsi:type="dcterms:W3CDTF">2010-11-12T06:29:50Z</dcterms:modified>
  <cp:revision>37</cp:revision>
  <dc:subject/>
  <dc:title>Slide 1</dc:title>
</cp:coreProperties>
</file>