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1232-7B74-4A15-9CF2-F4B0A68C6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EA30-AEBD-4C9F-B779-8C808346C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C73D-1C17-4FC1-A711-709F6C062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D41A-4200-46A0-9B1D-29DBED01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326-BC7A-4F7A-9A99-E72EEBA0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DA3-088D-496D-ABD2-75CF75DB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1B04-0AA1-4FDD-86F4-27A8AB1F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2DC-800B-4F58-A948-A2308AAF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C5EE-B1D4-4D15-8AF8-05EC9E64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8465-2C0D-46EE-8DB5-22AE0C91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F598-1C36-4E16-8666-C6F3A843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66E7-89A0-4636-BDA4-94827735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2625-EEFA-4061-A6CE-F3D53DB6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F996-D721-4FD6-AD7E-A1A9703F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6F6F-280B-431B-935D-269983FB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5EFA-EA34-482F-9259-C74252E3F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78596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VOOR DUMM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HEDEN van ener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el eenvoudig: de basiseenheid is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Joul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ijmt op sto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ol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ergieke Vuistregels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g olie, benzine, vet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. 40 M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 de WA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 is de eenheid van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mo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veelheid energi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 tijdseen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 Watt = 1Joule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/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OORBEELD: een luci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randigswarmte droog hout: 20 kJ/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lucifer: 0,1 gr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2 k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OORBEELD: een luci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randigswarmte droog hout: 20 kJ/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lucifer: 0,1 gr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2 k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l: opbranden in 20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n is vermogen 2 kJ / 20 s = 100 J/s = 10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onclusie: vlammetje van lucifer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kachel van 10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rekening Energiegebrui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el 1"/>
          <p:cNvSpPr/>
          <p:nvPr/>
        </p:nvSpPr>
        <p:spPr>
          <a:xfrm>
            <a:off x="468360" y="23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(kWh)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(vermogen in kW) x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(in uu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an de ene energievorm naar de and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orbeelden van rendemen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rm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ar mechanische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een: stoommachine/-turbine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-5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selmo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o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 van de energie? Afvalwarm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. 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edse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che energie en warmt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igenlijk net een auto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voeds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 waarde van 10 000 kilojoule per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VOOR DUMM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in 5 scèn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at is energ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en mens als energiegebrui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fficiënt voort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Zonne-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Broeikas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voeds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 waarde van 10 000 kilojoule per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wel ¼ liter olie per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blijft die energ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na allemaal warm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000 kJ per dag is ongeveer 100 J per sec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k ben een kachel van 100 w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ergieke Vuistregel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g olie, benzine, vet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. 40 M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0 W ≈ mens ≈ 10 MJ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¼ liter olie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als ik ga werken?? (= arbeid verrich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 is makkelijk na te ga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een beetje natuurkunde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at ben ik waard als mot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plopen, 1 tree /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mgh per sec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70 × 9,8 × 0,15 w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0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Ik ben een motor van 1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5580000" y="1557360"/>
            <a:ext cx="2352600" cy="2743200"/>
            <a:chOff x="5580000" y="1557360"/>
            <a:chExt cx="2352600" cy="2743200"/>
          </a:xfrm>
        </p:grpSpPr>
        <p:sp>
          <p:nvSpPr>
            <p:cNvPr id="101" name="AutoShape 5"/>
            <p:cNvSpPr/>
            <p:nvPr/>
          </p:nvSpPr>
          <p:spPr>
            <a:xfrm>
              <a:off x="5580000" y="1557360"/>
              <a:ext cx="2352600" cy="274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6069960" y="4104360"/>
              <a:ext cx="392040" cy="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V="1">
              <a:off x="6462000" y="3810960"/>
              <a:ext cx="0" cy="29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6462000" y="3810960"/>
              <a:ext cx="294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V="1">
              <a:off x="6756480" y="351684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6756480" y="3516840"/>
              <a:ext cx="293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V="1">
              <a:off x="7050240" y="322308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7050240" y="3223080"/>
              <a:ext cx="293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V="1">
              <a:off x="7344360" y="292896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344360" y="2928960"/>
              <a:ext cx="294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5"/>
            <p:cNvSpPr/>
            <p:nvPr/>
          </p:nvSpPr>
          <p:spPr>
            <a:xfrm rot="2363400">
              <a:off x="6363720" y="2046960"/>
              <a:ext cx="561240" cy="1078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6462000" y="2928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6560280" y="2928960"/>
              <a:ext cx="489960" cy="9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6952320" y="3026520"/>
              <a:ext cx="97920" cy="48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6364080" y="3026520"/>
              <a:ext cx="97920" cy="48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>
              <a:off x="6168240" y="3516840"/>
              <a:ext cx="293760" cy="39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1"/>
            <p:cNvSpPr/>
            <p:nvPr/>
          </p:nvSpPr>
          <p:spPr>
            <a:xfrm>
              <a:off x="7050240" y="1949040"/>
              <a:ext cx="293760" cy="293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6168240" y="3908880"/>
              <a:ext cx="97920" cy="9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6265800" y="2242800"/>
              <a:ext cx="48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 flipH="1">
              <a:off x="6069960" y="2242800"/>
              <a:ext cx="195840" cy="39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 hoeveel watt gebruiken we thu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Nederlands huishouden heef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midd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00 wa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an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 kan dus met 4 hometrainers contin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 hoeveel watt gebruiken we thu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Nederlands huishouden heef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midd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00 wa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an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 kan dus met 4 hometrainers contin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wel 12 slaven in ploegendie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lleen om de elektriciteit bij elkaar te trapp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fficiënt voortbewe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BFig-Specifiek Energiegebruikfiguur 14"/>
          <p:cNvPicPr/>
          <p:nvPr/>
        </p:nvPicPr>
        <p:blipFill>
          <a:blip r:embed="rId1"/>
          <a:stretch/>
        </p:blipFill>
        <p:spPr>
          <a:xfrm>
            <a:off x="1914480" y="1125360"/>
            <a:ext cx="54133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etsen is razend efficient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ewel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‘lopen’ niet op ol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edsel maken kost energ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v.  1 liter mel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lve liter 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ard fietse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uchtweerstand verminder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Wat is ENERGIE?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ectrische au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iciteitsopwekking: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et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 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gelijk automotor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en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≈ 2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s gunstiger in 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ectrische au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iciteitsopwekking: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et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 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gelijk automotor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en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≈ 2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s gunstiger in 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Maa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wicht accu’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laadtijd!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j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15 kW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…..k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. Zonne-ener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onne-energie-st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510552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orme energiestro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rde: P/A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d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350 W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EBoekFigP092"/>
          <p:cNvPicPr/>
          <p:nvPr/>
        </p:nvPicPr>
        <p:blipFill>
          <a:blip r:embed="rId1"/>
          <a:stretch/>
        </p:blipFill>
        <p:spPr>
          <a:xfrm>
            <a:off x="539640" y="1392120"/>
            <a:ext cx="820908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on in Ned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argemiddelde 100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EBoekFigP094"/>
          <p:cNvPicPr/>
          <p:nvPr/>
        </p:nvPicPr>
        <p:blipFill>
          <a:blip r:embed="rId1"/>
          <a:stretch/>
        </p:blipFill>
        <p:spPr>
          <a:xfrm>
            <a:off x="971640" y="1996920"/>
            <a:ext cx="68929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ergieke Vuistregels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g olie, benzine, vet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. 40 M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W ≈ mens ≈ 10 MJ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¼ liter olie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on in Ned: per 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gemiddeld 1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¼ liter olie/da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0 liter olie/jaar (enk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ebruik zonne-energie vo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andst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fotosynthe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lektricite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onnecel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armte (passief en zonnepane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atropha (op onvruchtbare gron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ropische str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den tot 45 % o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brengst ca. 0,1 liter per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ja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gere opbrengst met bijmesten enz. (dus dan weer concurrent van voeds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sant voor kleinschalig gebruik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r plaat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weede-generatie biobrandst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verteerbare resten gebru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concurrentie met voed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werkingsproces drukt netto ren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 ook nuttig verbr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Zonnec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htstreeks electri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en word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maak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.t.t. plan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g d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ële Si-cellen: rende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. Wat is ENERGIE?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Energie komt voor in verschillende vermommingen: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ternatieve energiebron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makkelijk is het om over te 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r zon, wind, spierkracht………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ergelijking: 1000 MW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continu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. 10 % v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ktriciteit N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i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ter/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centrale (LW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g nat. U/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w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g U-235/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Zonnecellen (R = 15 %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0 k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ndturbines (zee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300 stuks, D=9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p ca.   1000 k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opperv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lanten, bomen (R=1%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000 k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opperv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pierkrach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 miljoen tra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e komen we ECHT aan onze energ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 90 % uit olie, aardgas, steenk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waar komen die vanda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is ingeblikte zonne-energ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joenen jaren te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456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nergie  v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we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 (‘Kinetische energie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voetbal"/>
          <p:cNvPicPr/>
          <p:nvPr/>
        </p:nvPicPr>
        <p:blipFill>
          <a:blip r:embed="rId1"/>
          <a:stretch/>
        </p:blipFill>
        <p:spPr>
          <a:xfrm>
            <a:off x="2916360" y="3213000"/>
            <a:ext cx="246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nergie die nog wat kan…… (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tentië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ergie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v. ingedeukte b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an terugsprin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ingedrukte v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an terugve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96596_806_1159253546715-DSC_0052"/>
          <p:cNvPicPr/>
          <p:nvPr/>
        </p:nvPicPr>
        <p:blipFill>
          <a:blip r:embed="rId1"/>
          <a:stretch/>
        </p:blipFill>
        <p:spPr>
          <a:xfrm>
            <a:off x="3962520" y="2746440"/>
            <a:ext cx="493056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b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v. een v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verlagen27_"/>
          <p:cNvPicPr/>
          <p:nvPr/>
        </p:nvPicPr>
        <p:blipFill>
          <a:blip r:embed="rId1"/>
          <a:stretch/>
        </p:blipFill>
        <p:spPr>
          <a:xfrm>
            <a:off x="3132000" y="2276640"/>
            <a:ext cx="5202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rm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vuur1"/>
          <p:cNvPicPr/>
          <p:nvPr/>
        </p:nvPicPr>
        <p:blipFill>
          <a:blip r:embed="rId1"/>
          <a:stretch/>
        </p:blipFill>
        <p:spPr>
          <a:xfrm>
            <a:off x="3059280" y="1628640"/>
            <a:ext cx="47908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 nu het gek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vormen van energie gaan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kaar o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 totale hoeveelheid energie blijft daarb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1:26:38Z</dcterms:created>
  <dc:creator>Hermans</dc:creator>
  <dc:description/>
  <dc:language>en-US</dc:language>
  <cp:lastModifiedBy>Lutz Lohse</cp:lastModifiedBy>
  <dcterms:modified xsi:type="dcterms:W3CDTF">2010-11-12T06:29:50Z</dcterms:modified>
  <cp:revision>37</cp:revision>
  <dc:subject/>
  <dc:title>Slide 1</dc:title>
</cp:coreProperties>
</file>