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0B0E-3E9B-4C70-8D39-345F3E1DA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F647-8C2B-407E-87EB-AFBD78BBC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94C3-7557-40D3-8CFC-8751413B8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E61-B71B-46FD-8829-F0DB2775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692-46C0-4A56-97EE-554CA9C7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474-40A3-43CE-BEFF-2E1D803C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51F-0A6A-4972-90B1-699CD88B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552-4905-40F3-AB50-1DC0A25A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61D-6C30-41CD-AC88-658D304A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2C5-A446-4D53-803A-2B472762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AC0-C3F3-4607-8557-43BE6647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E0A-BD03-401E-A098-7973562A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7C2-C75F-4076-BA75-BBAB0E5D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E5E-5285-4D63-A7AA-6F8877F2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D70-5CFC-42C6-B23B-6443BCA0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626E-D671-4B17-B12C-6563A5241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HEDEN van 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el eenvoudig: de basiseenheid i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ou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ijmt op sto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ol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de WA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 is de eenheid van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m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heid energi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 tijdse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 Watt = 1Joul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/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: opbranden in 2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is vermogen 2 kJ / 20 s = 100 J/s 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clusie: vlammetje van lucife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kachel van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 Energiegebru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kWh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ermogen in kW) x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in u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an de ene energievorm naar de and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en van rendemen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ar mechan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: stoommachine/-turbin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5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l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van de energie? Afvalwarm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 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se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che energie en warm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igenlijk net een aut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n 5 scè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t is energ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en mens als energie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ënt voort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onne-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eikas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¼ liter oli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blijft die energ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 allemaal warm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 kJ per dag is ongeveer 100 J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k ben een kachel van 100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ls ik ga werken?? (= arbeid verrich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is makkelijk na te g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 beetje natuurkunde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t ben ik waard als mo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lopen, 1 tree /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mgh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 × 9,8 × 0,15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Ik ben een motor van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580000" y="1557360"/>
            <a:ext cx="2352600" cy="2743200"/>
            <a:chOff x="5580000" y="1557360"/>
            <a:chExt cx="2352600" cy="2743200"/>
          </a:xfrm>
        </p:grpSpPr>
        <p:sp>
          <p:nvSpPr>
            <p:cNvPr id="101" name="AutoShape 5"/>
            <p:cNvSpPr/>
            <p:nvPr/>
          </p:nvSpPr>
          <p:spPr>
            <a:xfrm>
              <a:off x="5580000" y="1557360"/>
              <a:ext cx="235260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069960" y="4104360"/>
              <a:ext cx="39204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V="1">
              <a:off x="6462000" y="381096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462000" y="3810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V="1">
              <a:off x="6756480" y="351684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756480" y="351684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7050240" y="322308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7050240" y="322308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7344360" y="29289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344360" y="2928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 rot="2363400">
              <a:off x="6363720" y="2046960"/>
              <a:ext cx="561240" cy="107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6462000" y="2928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560280" y="2928960"/>
              <a:ext cx="48996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695232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36408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6168240" y="3516840"/>
              <a:ext cx="29376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1"/>
            <p:cNvSpPr/>
            <p:nvPr/>
          </p:nvSpPr>
          <p:spPr>
            <a:xfrm>
              <a:off x="7050240" y="1949040"/>
              <a:ext cx="293760" cy="29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6168240" y="3908880"/>
              <a:ext cx="9792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6265800" y="2242800"/>
              <a:ext cx="48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6069960" y="2242800"/>
              <a:ext cx="19584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12 slaven in ploegen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een om de elektriciteit bij elkaar te tra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ënt voortbew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Fig-Specifiek Energiegebruikfiguur 14"/>
          <p:cNvPicPr/>
          <p:nvPr/>
        </p:nvPicPr>
        <p:blipFill>
          <a:blip r:embed="rId1"/>
          <a:stretch/>
        </p:blipFill>
        <p:spPr>
          <a:xfrm>
            <a:off x="1914480" y="1125360"/>
            <a:ext cx="5413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tsen is razend efficie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ewel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‘lopen’ niet op 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dsel maken kost 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v.  1 liter me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ve liter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rd fietse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uchtweerstand verminder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a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wicht accu’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laadtijd!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j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15 kW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…..k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Zonne-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ne-energie-st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rme energiest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rde: P/A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5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EBoekFigP092"/>
          <p:cNvPicPr/>
          <p:nvPr/>
        </p:nvPicPr>
        <p:blipFill>
          <a:blip r:embed="rId1"/>
          <a:stretch/>
        </p:blipFill>
        <p:spPr>
          <a:xfrm>
            <a:off x="539640" y="1392120"/>
            <a:ext cx="8209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 in Ne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argemiddelde 1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EBoekFigP094"/>
          <p:cNvPicPr/>
          <p:nvPr/>
        </p:nvPicPr>
        <p:blipFill>
          <a:blip r:embed="rId1"/>
          <a:stretch/>
        </p:blipFill>
        <p:spPr>
          <a:xfrm>
            <a:off x="971640" y="1996920"/>
            <a:ext cx="68929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on in Ned: per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gemiddeld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/d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liter olie/jaar (enk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bruik zonne-energi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st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tosyn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ektricit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onnecel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armte (passief en zonnepan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atropha (op onvruchtbare gro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opische st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en tot 45 % 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brengst ca. 0,1 liter p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j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ere opbrengst met bijmesten enz. (dus dan weer concurrent van voed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sant voor kleinschalig gebruik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r plaa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ede-generatie biobrandst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verteerbare resten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concurrentie met voed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rkingsproces drukt netto ren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ook nuttig verbr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onnec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treeks electri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en word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aak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t.t. pl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 d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ële Si-cellen: rend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Energie komt voor in verschillende vermommingen: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ieve energie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akkelijk is het om over te 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r zon, wind, spierkracht………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ergelijking: 1000 MW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ontinu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. 10 % v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ktriciteit N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er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centrale (LW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nat. U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U-235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onnecellen (R = 15 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turbines (zee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0 stuks, D=9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 ca.   1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ten, bomen (R=1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ierkrach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miljoen t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e komen we ECHT aan onze ener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90 % uit olie, aardgas, steenk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waar komen die vand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is ingeblikte zonne-ener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joenen jar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ergie  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we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 (‘Kinetische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oetbal"/>
          <p:cNvPicPr/>
          <p:nvPr/>
        </p:nvPicPr>
        <p:blipFill>
          <a:blip r:embed="rId1"/>
          <a:stretch/>
        </p:blipFill>
        <p:spPr>
          <a:xfrm>
            <a:off x="2916360" y="3213000"/>
            <a:ext cx="246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ergie die nog wat kan…… (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tentië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ingedeukte 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sp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ngedrukte v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v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96596_806_1159253546715-DSC_0052"/>
          <p:cNvPicPr/>
          <p:nvPr/>
        </p:nvPicPr>
        <p:blipFill>
          <a:blip r:embed="rId1"/>
          <a:stretch/>
        </p:blipFill>
        <p:spPr>
          <a:xfrm>
            <a:off x="3962520" y="2746440"/>
            <a:ext cx="49305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b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een v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verlagen27_"/>
          <p:cNvPicPr/>
          <p:nvPr/>
        </p:nvPicPr>
        <p:blipFill>
          <a:blip r:embed="rId1"/>
          <a:stretch/>
        </p:blipFill>
        <p:spPr>
          <a:xfrm>
            <a:off x="3132000" y="22766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uur1"/>
          <p:cNvPicPr/>
          <p:nvPr/>
        </p:nvPicPr>
        <p:blipFill>
          <a:blip r:embed="rId1"/>
          <a:stretch/>
        </p:blipFill>
        <p:spPr>
          <a:xfrm>
            <a:off x="3059280" y="1628640"/>
            <a:ext cx="4790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nu het gek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vormen van energie gaa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aar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 totale hoeveelheid energie blijft daa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1:26:38Z</dcterms:created>
  <dc:creator>Hermans</dc:creator>
  <dc:description/>
  <dc:language>en-US</dc:language>
  <cp:lastModifiedBy>Lutz Lohse</cp:lastModifiedBy>
  <dcterms:modified xsi:type="dcterms:W3CDTF">2010-11-12T06:29:50Z</dcterms:modified>
  <cp:revision>37</cp:revision>
  <dc:subject/>
  <dc:title>Slide 1</dc:title>
</cp:coreProperties>
</file>