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512E-E6C2-47E5-80A6-1718471EB3A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0D8D-2D03-44FE-9F5F-F09706F21D3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9EEC-C27D-44A3-BB4A-931DCC209D4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5DF7-4019-4D7E-90CA-10A6AD60474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C63D-1A09-416C-9E78-FD1CF6A3740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260A-882A-43F0-A07B-05EB725758D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09D7-3CBB-465C-A90C-50C30682422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C16-C898-4FA8-8A6E-9FE84ABD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687-8966-4CF6-9BA8-CE59FB96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B02-8C60-4A7A-93DC-6CBE82A5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386-384F-4A28-9643-28290AE0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6F7C-E968-4830-8010-2D945EFE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5A46-0076-4060-A3D0-F586B014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CCF5-8D18-43FA-94CA-06B8F345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AE73-AEE2-41F4-8747-7394589D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7B6D-387C-4463-A3B8-86F1913E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12F0-A71E-4150-8E68-0668BDF5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CB7F-9CC0-4194-9235-3B0BD0DE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1B0-D981-4893-AEC9-A52A923F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3F51-B551-4F19-BEA7-31D4A55A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77C9-01A3-4358-A319-AAA1C33C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13FA-D092-452B-9A23-4EBBAA7F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B95E-74C2-41D5-A6F0-60A4AD13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1449-5540-42C2-8259-62CFAA49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C28-B1CC-4648-85DD-3479A37D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83F-CEFC-49E3-AA80-85261671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CA0-B977-4D30-AE06-FFFBE4E7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310-D9B6-4B9D-B544-ACEA9647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2F4-374F-4AB2-8B7B-23B2FE0F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99D-970E-4F13-8706-0112A4B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E2C-1B36-4A18-BB3B-152D9CF3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2399-136A-479C-8E35-6184ECDBD17F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4AC5-569E-4ADE-AB45-756CFB3E3E1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69B6-FEEB-44CA-8023-3C27D1A4786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C888-BCDE-4FA7-AAED-CF09580D5E4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7154-1738-4055-AD3F-71A695A89C0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FF7C-3CC5-4AA6-9E3E-E3423A94CA7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0191-ECF6-40DC-808F-552E528627B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AAE4-0CED-4486-A0F3-34D1810B6B2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B7F4-F78D-4637-A69C-D90E89534AD4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40C5-87C2-40A2-9710-3095831D64A7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89DF-E96B-4CB4-B93C-5B5F9A3840E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BE8C-4CF6-4674-9A48-8BB9AFABEFB8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1A9E-E561-48EE-84E0-EF7C668B68A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07A5-82A9-42E8-A906-A86B3CAC12D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AC0C-EE64-4C04-A139-6E4969122406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44F9-7620-4047-9583-B014CE8FB014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F3D5-6324-4777-A44C-A9F1E4684AA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AED9-C85C-4E51-955D-7DF2B395E51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DB09-495D-4C25-835B-F6A196CA7AA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1A88-A970-4535-9077-58FA8452E3A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8210-8708-49DD-94F4-B1D1F462047F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3E08-EB11-41EF-BC45-21D2E5B0FBA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FE28-959C-4572-828E-D71EBEFCBFF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B575-71C8-470C-B8AD-DBAEABA08F8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6-12-13T15:22:50Z</dcterms:modified>
  <cp:revision>13</cp:revision>
  <dc:subject/>
  <dc:title>Gedrag</dc:title>
</cp:coreProperties>
</file>