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67C7-8ED3-4E7B-AC5B-6F78C103A0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C259-2B76-4F86-AB2F-30DC8B30311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30C5-5A7D-4799-AC85-E0FE2D16A8B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07B0-3044-423E-A56F-1390C885333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729C-D4AD-45CD-AF9C-456971B09A9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414F-2AF2-4C32-9FF1-4E72106D49E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48675-5B8E-477D-BC55-6D29A0A8D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2B8FF-206B-47BA-AAD4-16E13BA4A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8597D-6B8F-4133-88A2-77A9A097C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6E8BD-B9E0-414B-95D5-3B0639B87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F900659-DB43-4802-BF9E-FE24D931A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72757D-D325-4245-8AAC-C1B42B6E5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159A0A-AA9C-4D89-9E7B-9E44EA896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DB4B62-DE36-43D1-A926-1E1F0B0BA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6CD1B9-B068-4211-8677-13D554776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E11844-4EF7-48D4-9C54-18C52582C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216E05-BB34-4C98-BFD7-1FD80ADDC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0B8FD-012B-4865-9E72-560324869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BB7901-2DC6-4BAE-915D-FCEEDC2D6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D4023C-62E8-449C-82FC-CCDDA05E1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E97866-9F16-4CDB-A125-E8D5A0F1B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3521004-DF95-424C-B13F-61BB52462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2676E07-0A7D-4953-BFA3-7E1EC3641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C936B-5D53-498A-ABF5-BCB17B3DF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15E99-9C8D-4960-BA0D-3301B26A4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1ADA0-9774-4426-8846-88BFD1A68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B79C8-9633-4182-9745-278BEFB1E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21AF-C3DA-44DF-8818-4221C6A6C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83BC0-7996-4D34-BCFD-824487E60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8D6C-1A81-48CF-B3C8-3062DF551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0257-13CF-40F5-A9CC-5657198DAA26}"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5 2016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9075-9010-4129-B446-7CA2421FD3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61B5-2C4D-41A0-B21F-70C3DC598C6C}" type="datetime">
              <a:rPr b="0" lang="nl-NL" sz="1200" spc="-1" strike="noStrike">
                <a:solidFill>
                  <a:srgbClr val="ffffff"/>
                </a:solidFill>
                <a:latin typeface="Arial"/>
              </a:rPr>
              <a:t>30-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F1AD-DFF1-452A-BEB5-0068F593C7AD}"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0BFD-314C-43C7-B8E9-EBED55D3C29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AC4C-4501-4AD6-86F3-B487CFCED73B}"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2D51-DA7D-4FE1-8DB3-CCBBEB02BE8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EC82-871B-4F4A-96F6-A38A71A01ADB}"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C056-C3F5-41B5-A19C-003F1F4FCB7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72A9-FF66-44EA-9472-1257CC55787B}"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8260-1C73-4257-96D0-8A19E989FA5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E3E5-9FCE-46DE-85F8-3946A2892CF4}"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07BB-E200-4D22-8CE9-E4EB49DF36F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A1DE-7074-423E-9A82-50B030AE6157}"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83D2-B4C6-4283-AC85-E212AA0628D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4049-7D6D-4F05-9A53-16EF95062F9E}"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6-12-13T15:16:12Z</dcterms:modified>
  <cp:revision>7</cp:revision>
  <dc:subject/>
  <dc:title>Beroepshouding</dc:title>
</cp:coreProperties>
</file>