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DDE-B95D-4E28-8B59-02C37CCA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82B-84F7-43F2-9A81-67A0ADD1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D1E-30D1-421B-BAFF-8A5F2CA7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605-0C78-4E31-BD91-1F9CE2CE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A7F5-6D95-4DE3-820B-7B2F3E2A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0ECB-69C0-46BD-8653-7A0BDF86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DA06-9587-437F-93A7-B4A9C3ED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222D-9321-42D6-81E7-9DBC8638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94EB-60D8-4793-AB9B-E89F4394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26BE-D6B8-433E-B4AC-85D0533B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A58E-EE87-4719-8124-54E97C14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0D9-77A1-403B-958F-CE7F0464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C2E4-22D0-4B48-9B52-44FDD593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E8E0-2DFD-4905-933C-D8BD316C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41DC-68EA-4C73-A7D6-FC401A18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1A71-CACE-494B-8A21-F8C568B4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B109-2BB5-41DF-9451-32D2397E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6E9-B345-419C-9C87-C6592261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C07-ED02-4CD9-AC21-FB72ECF0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00F-27F4-4AB9-85CF-7A54CFD3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027-3CDF-4436-96A2-4A17CF84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DB1-EC55-44F6-8568-7A459481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B35-3E60-47CE-BF9F-16BC729C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E78-1CBB-4DB7-9B14-8813FA8C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0CDA-1603-4B02-B4CD-6EB578D573CD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3E53-D55A-4F52-B1E2-188BD822D1C4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6DD6-C1C9-43B6-A5BB-BA1F7CD754A1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D6FF-CFFB-4862-81A4-0DE480CD7CAD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9D7A-FA7B-4BA4-A0A6-ABA124D4B5DB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51B5-ABD6-453C-A4FE-69B465E8CD8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257B-E1B6-4796-83F9-82DBFCCEC939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8951-4F0D-4ADD-9D93-7964C315ECA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9B99-B019-4B49-8D8E-8D09CC9592DD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96AC-87FC-4391-81F9-0AACC77758C9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6174-0E28-47E4-9F5C-5943E2090780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2C5C-9044-4290-BC8D-4C6A8931FE79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97DB-D072-454F-9ADE-7E9946F9ACF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DCFC-ACE1-4BBB-BD92-1DAF0CB92BC8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CF12-B205-4199-B19A-51439183C497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84EB-F835-4D31-9EF9-2706CA94D10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EDD8-E112-42C6-BCA7-757C833B9280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59B0-622A-48B7-8A56-AB47CC0FA36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E597-4AB7-4C38-BCC0-758A7D8C6E9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23B5-7C7A-4141-8E05-1445FE3C8ACC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8769-2920-4D70-AAE8-9E9193CAE4B3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4B85-6A64-423C-AFE4-66A17985B66A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6-12-13T20:40:44Z</dcterms:modified>
  <cp:revision>8</cp:revision>
  <dc:subject/>
  <dc:title>ASSERTIVITEIT</dc:title>
</cp:coreProperties>
</file>