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3865-AB01-45DD-B2C9-6B26A2185FC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5CF94-24B1-4A5C-B8CE-616060FAB508}"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C1A85-D415-4AE0-8486-112E025F4A3B}"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4BF44-10E3-45C1-A536-664594803AED}"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3D740-56E2-4D6C-8F03-DC5B9A42E4B8}"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stantie bewaren: leed en de problemen van je cliënten te veel aantrekt, wordt het werk erg zwaar. Je neemt de dingen die je meemaakt mee naar huis, waardoor je je niet goed meer kunt ontspannen. De kunst is empathie op te brengen, maar daarin je grenzen te bewaken en een zekere afstand te bewar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0EA29-08C0-463B-A89D-643ACA5E8A4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4151A-8134-4025-8104-07EE701C9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D399A-430F-46FE-9A6E-6AD9FEA5A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9410C-DBC3-493E-B3CD-0AF5649FF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9C2E8-1D54-49A1-9E4E-BE3EAD3DA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1D046FE-AED1-4CDE-B9FC-24B64B3E8F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F0A10D6-2762-45FA-BE29-2BA1A8DCF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A845C45-1503-4F3F-8082-15437FF56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A1E5C8D-6644-4C07-9192-F1DF9A52F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889F047-8D4B-4BF0-9C5E-23D222B48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56C7466-3035-410A-9A3E-4069CC8F0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1FBD3C0-428E-476D-8AD5-3067816D0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97741-7AA4-4FD1-906B-521CF2307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237D9A-D142-4469-B6E9-E72324BA9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1482158-26E4-445C-858A-F38CF5869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43E3DD8-D695-4834-B3CA-6AE882FC7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19CEB1F-E92E-4955-8B29-D95E1E84D3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DC6F62F-DBA7-4F1C-B467-C1A60E1C71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E478D-3758-4E07-B0D8-D15D968EB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436E8-EBD1-49F3-9807-79FCA4AD3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0DF23-E3FA-4094-8107-A5CA7B573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3E1A7-1A72-4959-AF42-A25B6B960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22EE7-940D-4E29-BBC0-ED285959A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3A700-0AFB-4FB6-A04F-54AEBA048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9F94F-63A8-4D2E-AB5C-D6BAE9FDA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07F20-B3CD-459F-B929-3B0773F441B3}"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A 2015 2016 NH</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4438B-216D-4AB6-B4E0-5CA129EB7AE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5363-E65A-4C05-A372-616629BA4172}" type="datetime">
              <a:rPr b="0" lang="nl-NL" sz="1200" spc="-1" strike="noStrike">
                <a:solidFill>
                  <a:srgbClr val="ffffff"/>
                </a:solidFill>
                <a:latin typeface="Arial"/>
              </a:rPr>
              <a:t>30-07-26</a:t>
            </a:fld>
            <a:endParaRPr b="0" lang="en-US" sz="1200" spc="-1" strike="noStrike">
              <a:solidFill>
                <a:srgbClr val="000000"/>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3720-4219-49DE-8C9A-4B93CC8D3EAC}"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D5AB-D256-48E8-B706-E92734648957}"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Beroepshouding</a:t>
            </a:r>
            <a:br>
              <a:rPr sz="1800"/>
            </a:br>
            <a:br>
              <a:rPr sz="1800"/>
            </a:br>
            <a:r>
              <a:rPr b="0" lang="en-US" sz="1800" spc="-1" strike="noStrike">
                <a:solidFill>
                  <a:srgbClr val="ff0000"/>
                </a:solidFill>
                <a:latin typeface="Arial"/>
              </a:rPr>
              <a:t>.</a:t>
            </a:r>
            <a:br>
              <a:rPr sz="1800"/>
            </a:br>
            <a:endParaRPr b="0" lang="en-US" sz="1800" spc="-1" strike="noStrike">
              <a:solidFill>
                <a:srgbClr val="e3e3ff"/>
              </a:solidFill>
              <a:latin typeface="Arial"/>
            </a:endParaRPr>
          </a:p>
        </p:txBody>
      </p:sp>
      <p:sp>
        <p:nvSpPr>
          <p:cNvPr id="131" name="PlaceHolder 2"/>
          <p:cNvSpPr>
            <a:spLocks noGrp="1"/>
          </p:cNvSpPr>
          <p:nvPr>
            <p:ph/>
          </p:nvPr>
        </p:nvSpPr>
        <p:spPr>
          <a:xfrm>
            <a:off x="456840" y="1599840"/>
            <a:ext cx="8077320" cy="5257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rondhouding</a:t>
            </a:r>
            <a:r>
              <a:rPr b="0" lang="en-US" sz="3200" spc="-1" strike="noStrike">
                <a:solidFill>
                  <a:srgbClr val="ffffff"/>
                </a:solidFill>
                <a:latin typeface="Arial"/>
              </a:rPr>
              <a:t> </a:t>
            </a:r>
            <a:r>
              <a:rPr b="0" lang="en-US" sz="3200" spc="-1" strike="noStrike">
                <a:solidFill>
                  <a:srgbClr val="ff0000"/>
                </a:solidFill>
                <a:latin typeface="Arial"/>
              </a:rPr>
              <a:t>Attitud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1" lang="nl-NL" sz="2400" spc="-1" strike="noStrike">
                <a:solidFill>
                  <a:srgbClr val="ffffff"/>
                </a:solidFill>
                <a:latin typeface="Arial"/>
              </a:rPr>
              <a:t>hoe je over iets of iemand denk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wat ook je gedrag bepaalt)</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eroepshoud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ffffff"/>
              </a:solidFill>
              <a:latin typeface="Arial"/>
            </a:endParaRPr>
          </a:p>
        </p:txBody>
      </p:sp>
      <p:sp>
        <p:nvSpPr>
          <p:cNvPr id="13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52C1C-86F6-4ED5-9885-CC53EF6D2D3C}"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3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9768-1CFA-4B62-9B46-59552EA8C3CC}"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houding</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ier waarop je je gedraagt in situa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v. andere mensen of gebeurteniss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t is je attitud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 bestaat ui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weet (kenn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voelt (emoti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zult doen (handel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C9E56-5CCD-42C2-96E3-E30EC6373421}"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3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E36B3-C90D-40A2-BD26-4F6731B08FA9}"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beroepshouding</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uit de grondhoud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EN BEROEPSHOUD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wikkelen</a:t>
            </a:r>
            <a:r>
              <a:rPr b="0" lang="en-US" sz="2800" spc="-1" strike="noStrike">
                <a:solidFill>
                  <a:srgbClr val="ff0000"/>
                </a:solidFill>
                <a:latin typeface="Arial"/>
              </a:rPr>
              <a:t>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0D513-F66F-4925-A36D-E49FD0E81E3D}"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4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1433-ED37-4A2E-8CCC-1DEF6AEED56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specten van grondhouding</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iste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angstelling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ath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tie bewa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t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theid</a:t>
            </a:r>
            <a:endParaRPr b="0" lang="en-US" sz="3200" spc="-1" strike="noStrike">
              <a:solidFill>
                <a:srgbClr val="ffffff"/>
              </a:solidFill>
              <a:latin typeface="Arial"/>
            </a:endParaRPr>
          </a:p>
        </p:txBody>
      </p:sp>
      <p:sp>
        <p:nvSpPr>
          <p:cNvPr id="14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36D76-2916-46D1-A012-240B6607D3D6}"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4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iswerk;</a:t>
            </a:r>
            <a:br>
              <a:rPr sz="4400"/>
            </a:br>
            <a:endParaRPr b="0" lang="en-US" sz="4400" spc="-1" strike="noStrike">
              <a:solidFill>
                <a:srgbClr val="e3e3ff"/>
              </a:solidFill>
              <a:latin typeface="Arial"/>
            </a:endParaRPr>
          </a:p>
        </p:txBody>
      </p:sp>
      <p:sp>
        <p:nvSpPr>
          <p:cNvPr id="150" name=""/>
          <p:cNvSpPr txBox="1"/>
          <p:nvPr/>
        </p:nvSpPr>
        <p:spPr>
          <a:xfrm>
            <a:off x="457200" y="1600200"/>
            <a:ext cx="8229600" cy="44956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ek op internet kwalificatie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dossier tandartsassistent</a:t>
            </a: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Tijdelijke aanduiding voor dianumm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2C0B-D77B-4203-962C-1271EE34021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Tijdelijke aanduiding voor datum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1490-249F-4960-B722-7FD426274AEC}"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53"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9C90-1F8F-47C9-A6D6-C4390F1FA505}"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t heeft de assistent nodig??</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s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tief</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wge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lijkwaardig behandele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p:txBody>
      </p:sp>
      <p:sp>
        <p:nvSpPr>
          <p:cNvPr id="157"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antwoordelijkheid</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ei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ti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rouwbaar zij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ktisch</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7C07C-1A1D-472C-8908-A27046994AB5}"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59"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9:50:18Z</dcterms:created>
  <dc:creator>Nienke</dc:creator>
  <dc:description/>
  <dc:language>en-US</dc:language>
  <cp:lastModifiedBy>Nienke Hoogeveen</cp:lastModifiedBy>
  <dcterms:modified xsi:type="dcterms:W3CDTF">2016-12-13T15:16:12Z</dcterms:modified>
  <cp:revision>7</cp:revision>
  <dc:subject/>
  <dc:title>Beroepshouding</dc:title>
</cp:coreProperties>
</file>