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6FB4-3EE4-424C-AF2C-8F389614E5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0596-EECA-443B-83D8-6C91DB80B739}"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8884-E86D-419E-B2EE-78C3C60D60E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7B74-FEEF-4046-BA24-B00BEED1A07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FEE3-DAA4-4FA0-B189-B548F6BDF58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4D6D1-E66F-4236-8F78-F77194ECC7A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99880-AD00-48FC-870F-BE844E78D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EC2D3-D0DF-4D89-9A2A-31E3C5CB8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56988-4E66-4984-B085-B9FEDDB62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127FD-F855-4CE3-94B2-28A8FF3AD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D29F4D4-2D86-4B0E-9717-BB9F111BB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358191-40CF-4B85-8BFF-D1A6F1C8D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91BFB5-0F1B-4916-A03F-FFF75D6CB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44A3BC-DD06-46EB-8FAC-11BD726CD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B84E4A0-DF99-4745-83F7-6E5E8C907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13260F6-92ED-4932-ABD4-61C9F6DDC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6959C2-34F1-4A39-B2B9-B6FA52487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BB6EA-5FE4-4B94-8F1E-20137F889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6FECFE-FD39-499E-AAED-018A6E94E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C290F0-723E-44F6-BA80-3C9A55B70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6C2CB9-54FB-4494-8BA3-E55261AA7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D288118-257F-4439-8E77-540BEEA18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BD7CDE0-12A5-4873-BA1A-DDC79C5EE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91A15-EDF2-47C5-8CC0-0420C9CE3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EC03E-44FA-42C0-98A6-D7BAC693A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07E21-59BE-4BF6-A9FC-5002CB45E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B3DA7-A29E-45FF-8DDC-CC9009204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04D20-AEF7-46CC-ABA7-834450D2A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C33FA-B251-4B8D-AC7E-07C4FFFC1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EDD91-1028-4A09-BE75-6F03F82D1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AC15-445F-4AF0-912A-8C269494AA32}"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5 2016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E42A-EDE4-4D41-BB50-022B439F00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6FD6-CE12-45CB-90DC-98025DE176C6}" type="datetime">
              <a:rPr b="0" lang="nl-NL" sz="1200" spc="-1" strike="noStrike">
                <a:solidFill>
                  <a:srgbClr val="ffffff"/>
                </a:solidFill>
                <a:latin typeface="Arial"/>
              </a:rPr>
              <a:t>30-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ACD4-5B76-4EE0-8623-4644F1C24652}"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8AFC-9115-492C-A06A-564F2DF7032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5D57-AF1B-46E8-A156-932250F1A686}"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E452-F90B-47BC-9BD3-2E7BEBA27BEF}"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48F1-B6D3-40B7-B7BD-826A13E6F202}"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50AA-786F-406B-AE8B-8C2A553F6540}"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9533-522D-4F46-8333-E3568419AE46}"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42B8-4483-4DDE-8433-981FCB1EBFFF}"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9BAD-A573-42A8-B919-8936C99838EC}"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BD48-2AC4-495A-9B50-978C0CCB6D33}"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A7B7-77DC-41C8-A2DA-AC0E77E07A01}"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B81F-70E6-4B50-A8FE-47344CFFA7F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360F-F2C4-446B-9D60-7883FFE898B5}"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6-12-13T15:16:12Z</dcterms:modified>
  <cp:revision>7</cp:revision>
  <dc:subject/>
  <dc:title>Beroepshouding</dc:title>
</cp:coreProperties>
</file>