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E0DF7-FAE1-40CA-89DF-AEAF681F961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5B023-AE7C-438B-94E6-F7416F156583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9591A-1ACC-449E-86CA-EE31297C577A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6B7DF-ABA8-47EB-B625-D3E8DC3BA99B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86A50-E46F-4B4B-8EFB-2D33BD053F8D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FAD07-E5D6-4506-A03A-03A66C744B7F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E8232-2084-49EE-847A-0B27C233F263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0BE9-8C80-4BCE-A920-44443FEAD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5675-437F-4316-B386-2667D38BC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68F2-2E87-4807-B80C-525534656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5EE4-F59E-4085-B295-57ECB2FAD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EB307-59B5-409B-A5A4-F2ED0726B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8F101-74D0-4411-AFEB-3B8855719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44393-A432-458F-B98D-FBDF673EB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AD619-B359-414C-AECF-F1F3EFBA9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D9C3F-DDF7-4F79-A66D-7519F9D80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F938E-6B81-4539-9D15-8676FB188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6E2F1-CDAC-4AFF-A31D-E6D37812C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ADB6-63BE-44AB-B6A7-83081A591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5775D-3DEA-4BE4-A2FA-3F7991544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5C597-E357-4301-B17C-BEEF83A5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17CE5-D849-470E-B360-14641F625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2995F-DA42-40EE-B8DD-20F2CEB54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038D7-CBD8-4D92-A71A-73822A267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83F3-9231-40FB-8C7B-4177BDCD5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5689-7E9E-4E8C-B13D-73C431D14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B224-0E62-41C3-87B2-927F74D0B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7F31-683D-418A-B655-05DC69A4C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7112-E126-4260-8C1E-226D7CA6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F4D0-55AE-4FB8-8984-9B86AF824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F28A-BC33-489D-A1EE-7E95B3E8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7e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00ac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5E9E0-572C-46E5-9012-02AF9E954286}" type="datetime">
              <a:rPr b="0" lang="nl-NL" sz="1200" spc="-1" strike="noStrike">
                <a:solidFill>
                  <a:srgbClr val="000000"/>
                </a:solidFill>
                <a:latin typeface="Tahoma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gedrag NH 2016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5C726-575B-44E6-AF92-832BBC9EFABB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000072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00ac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7D85A-7D4E-4AB9-AD1A-1C19A9C647BE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6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8F253-18FB-4DD5-B342-AB8E2B34C630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Tahoma"/>
              </a:rPr>
              <a:t>Waarom gedraag ik mij zoals ik doe?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oe gedraag jij je thuis, op school, bij vriende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aaro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aarom doe je dat zo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eef 2 redenen voor je gedra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ijdelijke aanduiding voor datum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9036B-64B0-40A1-AFEE-66D9F0F2FC36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FA6ED-01B8-469A-8678-E57F43A5D1B8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Tahoma"/>
              </a:rPr>
              <a:t>Vervol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Zoek op </a:t>
            </a:r>
            <a:r>
              <a:rPr b="0" lang="nl-NL" sz="3200" spc="-1" strike="noStrike">
                <a:solidFill>
                  <a:srgbClr val="3434ff"/>
                </a:solidFill>
                <a:latin typeface="Tahoma"/>
              </a:rPr>
              <a:t>you tube 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materiaal over gedrag, normen, waarde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Zie de opdracht over “ zelfbeeld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Tijdelijke aanduiding voor datum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2691E-065B-43F2-98B6-C949388D9F73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41C65-602B-4C8C-B19D-36B21C5FBAD6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6343560" y="3657600"/>
            <a:ext cx="1886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ffff"/>
                </a:solidFill>
                <a:latin typeface="Tahoma"/>
              </a:rPr>
              <a:t>Gedrag H 1.1. t/m 1.3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aarneembare activiteit van men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Aangeleerd (nurtur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Aangeboren gedrag (natur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Tijdelijke aanduiding voor datum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8168D-65C1-4382-A18B-2E60A7771B0D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C5A0B-D1BE-449F-B3A8-639C4580880B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7389E-2C4D-4F18-B91A-8DC397A13315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anpassing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socialiseerd doo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ciale omgev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pvoe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igen keuz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7" descr="winkelwagen01"/>
          <p:cNvPicPr/>
          <p:nvPr/>
        </p:nvPicPr>
        <p:blipFill>
          <a:blip r:embed="rId1"/>
          <a:stretch/>
        </p:blipFill>
        <p:spPr>
          <a:xfrm>
            <a:off x="5029200" y="2347920"/>
            <a:ext cx="3124080" cy="2827440"/>
          </a:xfrm>
          <a:prstGeom prst="rect">
            <a:avLst/>
          </a:prstGeom>
          <a:ln w="0">
            <a:noFill/>
          </a:ln>
        </p:spPr>
      </p:pic>
      <p:sp>
        <p:nvSpPr>
          <p:cNvPr id="110" name="Tijdelijke aanduiding voor datum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3741C-2714-4230-A313-F8BA140D92E7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964CB-44F1-4916-84E1-1A22FA5793F4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oci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or allerlei processen lid worden van de maatschappij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rmen en waarden eigen mak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Tijdelijke aanduiding voor datum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DE819-9A9C-43B9-8154-B0E2912DD376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C1286-861A-41A9-8B15-F1C5D3445605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Gedrag bepaald door;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cial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ysisch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ermoge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gnitief, emotioneel, fysie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Tijdelijke aanduiding voor datum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502F9-CECD-495F-B14B-DC64AC6D3F8B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EF550-BFB9-4652-8196-6ABFE189C5D4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e persoon die ik  nu b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5" descr="CAUMIFN0CAV8LK34CA1GQ892CA0K5GJPCAL6EPQCCAO3GVXUCAV9H8ZZCA0RE7KZCA1EMKIXCA2SKIR2CADJN3RVCA0JK1O2CAWWYM1JCA8QWR4DCAPGNGPOCAUS9EGFCAXG4BB5CAOYFTPGCAOHYKAJ"/>
          <p:cNvPicPr/>
          <p:nvPr/>
        </p:nvPicPr>
        <p:blipFill>
          <a:blip r:embed="rId1"/>
          <a:stretch/>
        </p:blipFill>
        <p:spPr>
          <a:xfrm>
            <a:off x="2255760" y="1716120"/>
            <a:ext cx="3318120" cy="3160800"/>
          </a:xfrm>
          <a:prstGeom prst="rect">
            <a:avLst/>
          </a:prstGeom>
          <a:ln w="0">
            <a:noFill/>
          </a:ln>
        </p:spPr>
      </p:pic>
      <p:sp>
        <p:nvSpPr>
          <p:cNvPr id="126" name="Tijdelijke aanduiding voor datum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C37EB-F5BB-4562-83E2-043D78D13168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53E7B-D550-44BD-80FC-F78485EC43D5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Factoren die mij be</a:t>
            </a:r>
            <a:r>
              <a:rPr b="0" lang="nl-NL" sz="4400" spc="-1" strike="noStrike">
                <a:solidFill>
                  <a:srgbClr val="ccffff"/>
                </a:solidFill>
                <a:latin typeface="Tahoma"/>
              </a:rPr>
              <a:t>i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nvloedden: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uders/opvoe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rienden/buren/buurt/scho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ysisch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anle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igen keuz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ijdelijke aanduiding voor datum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5CD34-1335-4C4A-907F-373499E19132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Tahoma"/>
              </a:rPr>
              <a:t>Maslov’s menselijke behoeftenschema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Tijdelijke aanduiding voor datum 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2464E-D74F-4865-92B0-1D5D74A82F6B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Tijdelijke aanduiding voor dianumm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DE780-0088-4D82-8C3B-C9A8720FEDD0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1981080" y="2286000"/>
            <a:ext cx="51181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Tahoma"/>
              </a:rPr>
              <a:t>Opdracht bij gedrag: 15 minu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Jouw gedrag wordt gekenmerkt doo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Maak een lijstje Va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elke </a:t>
            </a:r>
            <a:r>
              <a:rPr b="0" lang="nl-NL" sz="3200" spc="-1" strike="noStrike">
                <a:solidFill>
                  <a:srgbClr val="3434ff"/>
                </a:solidFill>
                <a:latin typeface="Tahoma"/>
              </a:rPr>
              <a:t>achterliggende normen 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( regels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elke </a:t>
            </a:r>
            <a:r>
              <a:rPr b="0" lang="nl-NL" sz="3200" spc="-1" strike="noStrike">
                <a:solidFill>
                  <a:srgbClr val="3434ff"/>
                </a:solidFill>
                <a:latin typeface="Tahoma"/>
              </a:rPr>
              <a:t>achterliggende waarden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 zijn 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ebruik het </a:t>
            </a:r>
            <a:r>
              <a:rPr b="0" lang="nl-NL" sz="3200" spc="-1" strike="noStrike">
                <a:solidFill>
                  <a:srgbClr val="3434ff"/>
                </a:solidFill>
                <a:latin typeface="Tahoma"/>
              </a:rPr>
              <a:t>normen en waarden spel 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ierbij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Tijdelijke aanduiding voor datum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440E1-1727-43AA-BE40-522666D25CE6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1AD66-4B1F-4E81-B58E-09F1EC049141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9:41:31Z</dcterms:created>
  <dc:creator>Nienke</dc:creator>
  <dc:description/>
  <dc:language>en-US</dc:language>
  <cp:lastModifiedBy>Nienke Hoogeveen</cp:lastModifiedBy>
  <dcterms:modified xsi:type="dcterms:W3CDTF">2016-12-13T15:22:50Z</dcterms:modified>
  <cp:revision>13</cp:revision>
  <dc:subject/>
  <dc:title>Gedrag</dc:title>
</cp:coreProperties>
</file>