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6342D-69F7-46C8-B136-E72D3D2BDA0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47EE5-F52A-4A5A-ABED-847ADC78A903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CE527-0F91-44F8-9A8E-4FF5D8941245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99BE6-4922-4837-A3E4-CB57FE19A625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1004F-2C36-46EA-88B4-A4D0148A6F88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89583-AE1C-46C4-B431-88EBE07D6B48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D9FBD-1C21-4CF8-8927-3D695638AA61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4D56-D420-4EE6-AAA0-B3CCECD10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5E3F-4264-4BB6-9933-4E63167C5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77FD-DD2A-4BB2-A424-A9CC02874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99AE-BEDD-458F-8808-CB5A65638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BA693-1A36-451A-BBEF-AD4F7DA08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E0D74-85E3-4E5B-A620-97A8C02D4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D802A-0985-488A-9550-41F42DF27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75833-40B7-4C1F-955A-9ED10D3DB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1C35C-5853-41CA-A80D-88C56C89B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937A1-B4FC-411C-9937-9C52EA3EF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00718-F382-4F4A-8CAC-8887C4FC5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9696-E465-4879-B246-C1520A49B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238BE-2715-47ED-B300-5260B517A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47CD7-305F-4EE4-ACB2-75B42279C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DB5D8-18E1-4A32-A789-5F8DF37F9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5628A-FE30-448E-95D8-3C856F8BD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67E7D-E083-40D5-A46E-87E2A9420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C42A-78D9-47B1-8D5C-436C10CBB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396E-3C1C-42D3-9771-DA6C5B264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1F50-3E9F-45FD-A61E-F6A2D219D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229F-6FAB-486D-A721-BF2AE5318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18BA-EE74-49BE-86F1-E6C0CBB6E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5534-FBB4-45B0-97B7-B71A78E85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38BB-3426-4441-98FB-F4619DD0C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7e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0000ac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9C041-935E-4326-97CD-D26F99999B40}" type="datetime">
              <a:rPr b="0" lang="nl-NL" sz="1200" spc="-1" strike="noStrike">
                <a:solidFill>
                  <a:srgbClr val="000000"/>
                </a:solidFill>
                <a:latin typeface="Tahoma"/>
              </a:rPr>
              <a:t>30-07-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gedrag NH 2016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9DD83-C766-4A44-956D-89BE877DC8E2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000072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0000ac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CF99F-1224-4044-97FB-048CE17068BD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30-07-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6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D5D5B-1511-4B21-BBB2-1E95BBE0CD65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Tahoma"/>
              </a:rPr>
              <a:t>Waarom gedraag ik mij zoals ik doe?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Hoe gedraag jij je thuis, op school, bij vriende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Waaro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Waarom doe je dat zo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eef 2 redenen voor je gedra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ijdelijke aanduiding voor datum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DD30A-08D8-4878-9F0A-F88E2EC08B18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7B5C7-1976-4EF8-B75F-22718E925402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Tahoma"/>
              </a:rPr>
              <a:t>Vervol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Zoek op </a:t>
            </a:r>
            <a:r>
              <a:rPr b="0" lang="nl-NL" sz="3200" spc="-1" strike="noStrike">
                <a:solidFill>
                  <a:srgbClr val="3434ff"/>
                </a:solidFill>
                <a:latin typeface="Tahoma"/>
              </a:rPr>
              <a:t>you tube 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materiaal over gedrag, normen, waarde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Zie de opdracht over “ zelfbeeld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Tijdelijke aanduiding voor datum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1BCE8-55EC-44FD-A7CD-FABCCE111E46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4A0BA-EE0B-41F3-A224-83D4B9742103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6343560" y="3657600"/>
            <a:ext cx="1886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ccffff"/>
                </a:solidFill>
                <a:latin typeface="Tahoma"/>
              </a:rPr>
              <a:t>Gedrag H 1.1. t/m 1.3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Waarneembare activiteit van mens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Aangeleerd (nurtur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Aangeboren gedrag (natur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Tijdelijke aanduiding voor datum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B5668-7FF2-48E5-9394-230957275ABD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7FA17-A3D3-4BD8-A203-8F54E78CF0FD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B838E-A478-4CAD-97F1-CB0E5AA6496E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anpassing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socialiseerd doo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ciale omgev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pvoe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igen keuz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7" descr="winkelwagen01"/>
          <p:cNvPicPr/>
          <p:nvPr/>
        </p:nvPicPr>
        <p:blipFill>
          <a:blip r:embed="rId1"/>
          <a:stretch/>
        </p:blipFill>
        <p:spPr>
          <a:xfrm>
            <a:off x="5029200" y="2347920"/>
            <a:ext cx="3124080" cy="2827440"/>
          </a:xfrm>
          <a:prstGeom prst="rect">
            <a:avLst/>
          </a:prstGeom>
          <a:ln w="0">
            <a:noFill/>
          </a:ln>
        </p:spPr>
      </p:pic>
      <p:sp>
        <p:nvSpPr>
          <p:cNvPr id="110" name="Tijdelijke aanduiding voor datum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A87CC-F19F-4F9D-B8E1-8294A6B831E8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8BA89-7679-4CC9-AC4F-2AA1C2386C9A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oci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or allerlei processen lid worden van de maatschappij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rmen en waarden eigen mak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Tijdelijke aanduiding voor datum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2D48F-86BA-408D-900D-1DD61F50D453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51445-B0F5-42BD-8926-94633F0C1E93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Gedrag bepaald door;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cial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ysisch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ermogen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gnitief, emotioneel, fysie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Tijdelijke aanduiding voor datum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3AD13-96C7-45A2-A2CB-8DA2F5AC368D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CC911-D20F-43C6-9036-A9EA04714346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e persoon die ik  nu b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5" descr="CAUMIFN0CAV8LK34CA1GQ892CA0K5GJPCAL6EPQCCAO3GVXUCAV9H8ZZCA0RE7KZCA1EMKIXCA2SKIR2CADJN3RVCA0JK1O2CAWWYM1JCA8QWR4DCAPGNGPOCAUS9EGFCAXG4BB5CAOYFTPGCAOHYKAJ"/>
          <p:cNvPicPr/>
          <p:nvPr/>
        </p:nvPicPr>
        <p:blipFill>
          <a:blip r:embed="rId1"/>
          <a:stretch/>
        </p:blipFill>
        <p:spPr>
          <a:xfrm>
            <a:off x="2255760" y="1716120"/>
            <a:ext cx="3318120" cy="3160800"/>
          </a:xfrm>
          <a:prstGeom prst="rect">
            <a:avLst/>
          </a:prstGeom>
          <a:ln w="0">
            <a:noFill/>
          </a:ln>
        </p:spPr>
      </p:pic>
      <p:sp>
        <p:nvSpPr>
          <p:cNvPr id="126" name="Tijdelijke aanduiding voor datum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80F30-A4FD-4833-B1DD-6FFEA3630A85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693C4-9244-49A0-B945-9DC293B571D3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Factoren die mij be</a:t>
            </a:r>
            <a:r>
              <a:rPr b="0" lang="nl-NL" sz="4400" spc="-1" strike="noStrike">
                <a:solidFill>
                  <a:srgbClr val="ccffff"/>
                </a:solidFill>
                <a:latin typeface="Tahoma"/>
              </a:rPr>
              <a:t>i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nvloedden: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uders/opvoe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rienden/buren/buurt/scho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ysisch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anle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igen keuz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ijdelijke aanduiding voor datum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5A715-52C7-4838-8F1B-F105C13F9245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Tahoma"/>
              </a:rPr>
              <a:t>Maslov’s menselijke behoeftenschema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Tijdelijke aanduiding voor datum 2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C2D18-C80B-41EA-BA01-9E74E8EDA7B1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Tijdelijke aanduiding voor dianumm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DA043-AB7B-480F-AEEE-9EBACE27E0E9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1981080" y="2286000"/>
            <a:ext cx="51181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Tahoma"/>
              </a:rPr>
              <a:t>Opdracht bij gedrag: 15 minu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Jouw gedrag wordt gekenmerkt doo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Maak een lijstje Va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Welke </a:t>
            </a:r>
            <a:r>
              <a:rPr b="0" lang="nl-NL" sz="3200" spc="-1" strike="noStrike">
                <a:solidFill>
                  <a:srgbClr val="3434ff"/>
                </a:solidFill>
                <a:latin typeface="Tahoma"/>
              </a:rPr>
              <a:t>achterliggende normen 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( regels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Welke </a:t>
            </a:r>
            <a:r>
              <a:rPr b="0" lang="nl-NL" sz="3200" spc="-1" strike="noStrike">
                <a:solidFill>
                  <a:srgbClr val="3434ff"/>
                </a:solidFill>
                <a:latin typeface="Tahoma"/>
              </a:rPr>
              <a:t>achterliggende waarden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 zijn 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ebruik het </a:t>
            </a:r>
            <a:r>
              <a:rPr b="0" lang="nl-NL" sz="3200" spc="-1" strike="noStrike">
                <a:solidFill>
                  <a:srgbClr val="3434ff"/>
                </a:solidFill>
                <a:latin typeface="Tahoma"/>
              </a:rPr>
              <a:t>normen en waarden spel 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hierbij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Tijdelijke aanduiding voor datum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0D125-BD7A-4688-B634-10E29ED2B7E8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8A1F2-DA87-48B1-9B63-23777DBC8D20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19:41:31Z</dcterms:created>
  <dc:creator>Nienke</dc:creator>
  <dc:description/>
  <dc:language>en-US</dc:language>
  <cp:lastModifiedBy>Nienke Hoogeveen</cp:lastModifiedBy>
  <dcterms:modified xsi:type="dcterms:W3CDTF">2016-12-13T15:22:50Z</dcterms:modified>
  <cp:revision>13</cp:revision>
  <dc:subject/>
  <dc:title>Gedrag</dc:title>
</cp:coreProperties>
</file>