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84DD-26F0-498B-8000-CD9AC899E4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6B97-0F55-4027-9D3C-6D862B7EDC3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CC5D-30FD-47F7-B91E-7E2B895E71C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BBAF-7761-46C7-9DC9-01325BEBE71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E1AE-3A4B-4906-AF3C-B66FB0F8C2B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00C6-1DF8-4F25-A424-84BFFD8609C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B540F-4687-45F8-A515-F795ACE77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AC66-26FF-480D-B884-46FD7342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485B9-03E6-4CB0-89E6-904AF6EB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4E27E-AD5A-4E9D-AB8D-49C684561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0A53E45-9716-40E9-BFF7-5A08A43C0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468A36-96FE-4FDE-8EC5-3EE6D80D7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AEFCED-64DE-4EF4-8843-97A6B68CD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E7324E-B468-47F4-B71B-F1DECD8FC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C267D8-8DD8-4605-8ED4-90EF157BC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727866-115C-4928-893A-1F93A35E7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C3B500-9E5E-48CD-9E64-9325DECB3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D0153-2B93-41B9-94BC-763AF404E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BAC50F-ED6A-40CA-A215-CCA20CF72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0BB63D-8A4A-459F-A768-AAD61F29E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BFF56A-CD59-4547-A01B-BD1B185B4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5A34FD-8AC1-4E55-B622-86348DBAD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BF1BC1-D8DE-4CF9-B95D-3419CBD75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60266-491D-43C0-91B4-3A7CF65A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1B6A3-1D6B-4092-842B-9F2097E7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30FD-79D0-484E-A3C8-08EEC2E1E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C6B3-0DFB-42EA-8014-0CFAD8B1B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18DAC-B194-41D9-B012-70D05FCB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AEBEC-A2B0-4F0C-9A92-71E27EAE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3107-6130-412C-A8EF-E647B427D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97E4-FB53-4F2D-A4DC-566DB52895C2}" type="datetime">
              <a:rPr b="0" lang="nl-NL" sz="1200" spc="-1" strike="noStrike">
                <a:solidFill>
                  <a:srgbClr val="000000"/>
                </a:solidFill>
                <a:latin typeface="Arial"/>
              </a:rPr>
              <a:t>29-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5 2016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05F9-E226-437F-A086-61064F6B45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8C33-6133-481F-B505-49B07AC5A972}" type="datetime">
              <a:rPr b="0" lang="nl-NL" sz="1200" spc="-1" strike="noStrike">
                <a:solidFill>
                  <a:srgbClr val="ffffff"/>
                </a:solidFill>
                <a:latin typeface="Arial"/>
              </a:rPr>
              <a:t>29-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BA57-4F5F-41A6-8FDC-B99EC01878C5}"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0CBA-E5FE-4C9A-BD8A-6D1A05F68A4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9FEE-BDD7-47D9-9540-6ECD151032C2}"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4E6C-B600-41C8-90EC-22AFDCFADAD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E5FC-2F99-4653-AB27-13DA6B8D4BA5}"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8F9D-DAA0-42EF-AE70-F914EDCC04B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E364-7F59-47C8-9732-6A8FD873E668}"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BD0A-D7E8-4397-B8F6-4528E0A4E7C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6FA8-BDA5-4DE3-A360-C8A72FDFA36D}"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C5A-88E2-45E7-889E-D02F44CF821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60A8-D401-4173-84E9-83220D679BA9}"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6263-4073-4BE5-A1AD-49E4F62BD617}"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ACD4-FC05-4D63-869E-4A5D53E98505}"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5 2016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6-12-13T15:16:12Z</dcterms:modified>
  <cp:revision>7</cp:revision>
  <dc:subject/>
  <dc:title>Beroepshouding</dc:title>
</cp:coreProperties>
</file>