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DF4C-93B9-4B3C-BB67-79F41FBFD64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5E6A-E9DE-478E-9AE9-CFEFDEBB8C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343-279E-4C45-8186-8CF3883413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E546-715F-4530-9189-E2EF4DBB7C9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181-C47F-42DD-9FF1-FB2EA41E75F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FA1-D7A5-4475-80D9-3D63FFE8A6B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D39D-8359-43CD-BC15-52DD893FEA7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7E2-DBF1-4A98-99CF-C101A38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A0D-EEF4-4DB5-A5FC-A233C94A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A01-F203-4B1E-99A7-1423AD66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968-4895-43F9-BA94-50D349DB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15E5-C18F-4D83-952B-43A0D17F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6F8-069C-45EC-AB99-33D8CDE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230-3DF5-4A07-A7C2-60682941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7507-CA7A-4E76-94CE-5B23C1E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8B09-D5E3-487D-9AB0-D16EDBBF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4D3-2F96-44BA-BCE9-650B140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9E6-8417-4D9A-8BFA-E873F028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692-1EE6-4F65-B80A-0BE4AF4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225A-B044-47B6-AC70-8D9D48D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4FC6-9283-4F19-8AB3-FDA13CB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4B8E-8772-4A05-8AFD-BE86F3CE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A41C-EBAD-4386-9CE8-257A4B5E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C79F-07C4-4664-B23A-FC5CA763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6C1-50A4-418C-A99B-ACE36B4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EC4-07B6-4AF1-8A32-7EFC03D0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4B4-EBBE-40E7-AD50-06CC3AF9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E63-B1BC-4B8C-8230-FA6D735D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507-0EB4-48AD-9956-83B39D10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879-A863-4A98-B3C9-8D5B9D3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0AD-0177-4BF7-9401-D6AE8CD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E8A-0772-49D6-8442-EEBBE7B9EB23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5D8-388E-40FC-9A0D-940B968F5BD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C68-D325-4717-A5A3-2A294698D30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988-6FA1-44BB-BD14-D376A8F2FFF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9DC-FE9E-4B63-9DD1-66DE6E5B0EA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99CE-86E1-4F2B-A7F8-60FA030D00C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4D57-1BB6-4C68-9009-F41D717EAEA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725E-4FBC-45B7-A758-6BAFA590815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923-FCD8-4C78-B8C2-4910184BA08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56F5-207C-4B94-8B93-C08059F4236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4091-0178-4D38-8F50-4403F576242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A3C8-6412-4A7F-9E24-9D9B25E3DEF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7A1-F709-450E-A0AE-987DEAFC414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65B1-2AE6-4AEF-9FF9-4145DCF636C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5A5D-5945-49C6-AB53-C09D2B8F837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25F4-DB90-4951-A722-9111D58FF36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223-C0F2-4B94-8D77-F0FCCD40C11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46B-AA9B-4A21-98CB-ED6B3C0833E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ADCA-2E9F-4714-9F88-FE4E42356A8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5168-DCBB-4877-A601-D7207327251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CAB-5055-4719-9406-42F49702159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9B84-E07C-46C6-A5ED-F3603579350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830-B8B8-4A50-B9B7-009250B2BB6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E2C-B5FA-451C-B39C-1ECA90427C6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6-12-13T15:22:50Z</dcterms:modified>
  <cp:revision>13</cp:revision>
  <dc:subject/>
  <dc:title>Gedrag</dc:title>
</cp:coreProperties>
</file>