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4BE-62BB-47B1-9BBE-741ECD92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E60-D8AC-4120-A0B1-DF5F3033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5E3-D88A-4D4C-B23F-FADCFC0D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22C-1A68-457D-8721-04F8A8C7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0B73-9BB2-4141-9944-139FCC6F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0C1D-47CE-4D39-8424-2FDBE905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C1E-185C-4F0C-9CC2-C6A1B9B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28E0-0FF1-4BF9-9B17-F60B2A5D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8CCC-1768-4353-8479-BF73FAE9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B9D3-16F1-4DEE-B8FD-D55A47C9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CD3B-4610-46BD-8AFB-B8E6839B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44E-2FBA-41B5-97D6-1500D287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F662-92A2-4061-A4C0-466D2FD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D312-3E12-4AF0-9C0A-D914B9C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56F2-B499-4140-BB7C-D1635267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8270-0A6B-4EA8-A684-5B8807A7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6BF3-0113-418F-8407-6B0CD021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587-6E82-4E4B-86AC-EE4ED06C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2B8-FC25-4B2A-AC74-BC3906EC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817-378B-4FE8-A002-703282F8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9D7-0427-4B7B-9952-2796A709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E31-F4E6-464B-93A4-9028BD2A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857-FAAF-4B09-8AB4-552CC924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AC7-1D4B-408B-B3AB-CF0FF1B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6F5C-F8B4-4FFC-A123-00F419EE1C36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E86D-D7AC-4350-893C-7D251EDE9EAC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8E89-1CE9-41E1-896B-005760EE03B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B485-2409-4EA9-88D7-B04EDF6BE9A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13E6-4190-49E4-A459-D859F64237B4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82B9-0137-4D5C-85FB-C41B7496D1E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704E-8C65-4360-9958-D43B76F0DB4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30BC-BF92-4FB8-94E5-DCB24C6E480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670A-2028-4397-A87F-DB4251AF59D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F983-D9DD-4AB4-8304-35C7B2A17E61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52C0-24B7-4799-9896-179FC26093A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2F2A-CE26-4687-AB27-F43AFFFB193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75F2-C116-4D20-B253-D66FA3A89C0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4301-5470-4E02-A81B-B958FAA2FE4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75F8-EB66-4EC9-B2DA-C0F3299BEBC4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7C69-E30B-4123-BADE-9CBBEBFBF66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7B97-8804-4152-A63F-4B149FCAC97E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B298-1C78-44A4-AD84-7069FBD8AD5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FB3C-372F-4FAA-BB97-F200739E17F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FF80-B915-49A8-8F42-D82A82B126F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4FA-CB25-4EB1-9350-67559ACC7CE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FD74-9827-4296-95AD-CDB14A35B5A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6-12-13T20:40:44Z</dcterms:modified>
  <cp:revision>8</cp:revision>
  <dc:subject/>
  <dc:title>ASSERTIVITEIT</dc:title>
</cp:coreProperties>
</file>