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BD8-D543-4317-A5C2-042F0DF7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E73-9B21-42BA-AF02-4C36B8C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B4E-8166-445B-A885-5DEFB919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992-8F1E-412A-9D1C-24A9EED6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313-EA25-4575-BC63-DE48E013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482-809B-4EB3-9C2D-1B77AE8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F045-D38A-4EB4-AB2E-462F413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AEA5-EA70-4EE3-AF29-A800E71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B4D-05B2-4E3A-8B3C-EEF44F4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BF0-9A29-4ED4-A79A-5049943F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B392-7C02-4869-82D5-09B004F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CBB-88ED-48BB-92A0-3DB53F4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8C11-7925-44EF-85E5-CB445818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7CE8-9652-4CAE-B418-2D68A08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737D-09A4-4BBA-BE86-33FD962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B73-79D3-4D05-AE81-55AA4F9F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0BCA-4025-461F-806D-9BC2EA52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F57-23A8-49B6-80FD-32C9DBA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373-6206-455B-9875-2442DE10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D62-5A29-4D10-81E3-58FD524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63A-AFBA-4C50-A0DD-FCE4D0A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6C1-44FE-4FF5-8B43-D17F9DC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CB4-629B-47B9-8AA6-4E91DF4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BA3-EB84-4384-AC17-94FD07A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F4CD-E5F8-41C8-A837-1B10C2853AE7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EF5-5FBC-4EF3-A55B-9861275E2AD5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345-15D4-4D19-9331-9A37FAD313D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D5B6-061B-4650-A9A3-F8C4AF82F27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209-1026-44CE-B768-FE53A4E0D8B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0E81-FEEA-4831-A2D4-6CB17D41EA9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887-69D7-44C2-BC08-215B07436F7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68ED-0D60-4BDD-B75A-C32CA1BB8E3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4B3-BF4E-421D-96B0-C1C550429D8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0979-8070-45C2-B268-6E9EC4B6420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0470-D0C0-4B67-A3AE-EDA7D32D984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270-8CB7-4C15-B51F-0320D2A654E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B2E0-FB7C-443B-A619-59EFCBF3531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F745-CF7E-4533-A257-4C4DFA63C0F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17E-3A97-4B1D-8B53-E7DAAD7AC9A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E60-E202-4900-8BF6-EED1AC16B6F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EB1A-E42E-44DE-905E-6AF16B79D09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6975-0AA3-4361-8A57-7E629739C25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689-93DD-432D-B44D-4D3033C9C5C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30E-CB29-4EE9-920B-600AF85DA2B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3AFD-E9E2-4F91-8631-F62BD47F55D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E6E8-0F4A-4A10-A6D9-0778125B511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6-12-13T20:40:44Z</dcterms:modified>
  <cp:revision>8</cp:revision>
  <dc:subject/>
  <dc:title>ASSERTIVITEIT</dc:title>
</cp:coreProperties>
</file>