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9DF-9FB2-46F5-B753-F5B21208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19F-15E7-4574-BC96-7C54B98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25A-DFAD-4E56-A46E-80A6CF0A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6FA-D6F8-4F72-AD8A-44A338CD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8F1A-CABA-4582-9EA3-43199F59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9990-1AA3-4D29-BA17-B5437839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F8E1-C5D2-4077-9603-2AC2DC5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CEF3-42AF-40E1-84BB-5954A5A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741-9A51-4230-819D-8314956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EEB-8704-479F-ACC8-8FA9BFAE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ACD-D2FB-4D37-8E82-133813B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117-B2D1-4289-B210-23958DE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7E83-0FD4-45C9-A3B8-51F22DA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DAB-C25A-4C00-B32B-23C4E16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01E2-FE3E-45F9-A1E1-2A281456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9AE-7D22-4D07-9BE3-160C24F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25E6-1C0D-428F-A9AE-8A04CCD9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76B-6D51-4190-B67F-597F238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9EE-044F-4C1F-8C3C-6E97AC6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BCA-2D35-4B4D-9D34-7CF4898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F97-6189-426D-9ABA-8341F8F7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862-7C30-4CD0-84D8-9D32F41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454-BB3B-48AE-87AC-3AF68FF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44A-517F-4BAF-9D4E-8FFB1D5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A9A0-F986-4DB6-A0A2-24047A93A1BB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1C1-D99E-47C4-8C24-4B13A68CB11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2A7-C369-4B62-8334-AE543B22AC7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4B1-4AC7-4D19-8AF6-8C02E39BA5F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95D-BFD7-4240-BE0B-7F4A843CFF7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AE52-93FA-4115-94AE-37D8FDE8F74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65F-C9B7-456C-BAE3-EED2115EE3B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49B3-654F-4616-86A2-F4805F0ECC3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6B4-6C74-414C-8F76-145B26E3F70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822-0368-40D3-988C-195B9E15E83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8EB-FB3D-4BAD-924A-86E87E46B84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233A-DAE0-4FD4-BB92-CF840DE7934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A0A-A6B1-480D-8290-FA933EA6BA5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5C1-5B2B-4C4B-909E-AFE1B834176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86B1-86BD-4217-AC64-7AEB01B6341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964-8FF3-44B7-9377-C5D6FB0E685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8C0D-DB6D-40CE-A6E9-E394B1B4703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4A64-D0C0-4548-89C9-79CC3453180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D45-D736-4D88-813D-EE2CB537793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FFE4-EAFC-4561-83E5-49F1F2AB501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1F9-3B48-44D4-8268-BFDF0A86C78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163-0122-4155-9FF3-5402596B551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6-12-13T20:40:44Z</dcterms:modified>
  <cp:revision>8</cp:revision>
  <dc:subject/>
  <dc:title>ASSERTIVITEIT</dc:title>
</cp:coreProperties>
</file>