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F4DC-7B02-4231-AA85-AF55624556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D083-A5FC-48C3-8319-809C28C5CB5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0CFF-4D79-4046-BB01-8113D76827C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6B62-ACA8-40F5-ABD1-A5929BFA418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308E-3BE8-4A06-9446-6204BE607C4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419A-2615-450F-BA48-876F567AEE98}"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8D183-3198-49F4-9EA8-2745C6F73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8FDC6-BCF5-455D-93B8-58E2BFD5D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95BCE-6A51-43F3-99BD-EFDB48A34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5A4C6-33C1-49F4-861A-A2E594FC0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F397DC3-4372-477C-B0B0-49EE4DB49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152D87D-2809-4179-9CA6-0E2DB48BC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03A156-DD66-40E8-88B2-56476B05A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E007267-EB5A-4DC9-ABAD-503A97D3A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FF20BF-D41E-4F43-B4A3-DE5C122B6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E56321-A887-4294-B844-702D9E996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DCF6981-C0C9-4629-BB8C-EBA6B8EED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EA7D8-3068-4146-8986-0805A9774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A6B15D-D480-4822-A11D-C8CD07BE2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7342D1-D32A-43C4-9C3C-BDD0CDEFE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655D2E-B53C-48ED-88C1-CCACF9F23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8D7A7EC-0402-4ABC-B96A-391FF0224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8E6CFAE-BA7A-4306-B5AB-BD9A9904E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8CC29-B766-4C31-A7D7-416CF4857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93BEB-9D4F-4AB4-A577-53B85E4E0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7EE27-7F8C-4A67-AC3F-8427A44FA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50E40-04DE-4F5D-BFA3-F01EBAF7B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99C54-276A-4282-B2A5-51CF5A7EC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543B5-253B-40AF-9633-A65ACB79C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11688-0F34-400E-8D1D-680D41EE2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9C50-A1E8-4D06-B6E1-C536A1BDF715}"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5 2016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A03B-41AE-4FC3-9965-2722E6E16C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2A32-281E-485D-83F0-2C9A3C155DC2}" type="datetime">
              <a:rPr b="0" lang="nl-NL" sz="1200" spc="-1" strike="noStrike">
                <a:solidFill>
                  <a:srgbClr val="ffffff"/>
                </a:solidFill>
                <a:latin typeface="Arial"/>
              </a:rPr>
              <a:t>30-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D52B-0418-4CAF-94A6-567B3AF5863C}"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8701-FC68-4FBE-9137-EF52032B1F62}"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D677-6937-439B-A21B-19A6F3E3DD9E}"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CA98-C0CF-4420-BADC-13186D5A902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7BF1-8E49-46B8-BD32-E251ABC37AA3}"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C6DA-97D8-4C2D-993A-CE1A7D57FDB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5FA1-69E6-4026-9E70-3C32CE3EBEE0}"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73DE-902F-4A6C-97DC-484B20D98F24}"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C8EA-EEAE-40D2-8587-432A31093327}"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AFBE-9277-4DA7-9BA2-4AF6E5C3726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DB1C-0CEA-4B6F-B263-86ECCD3D1B33}"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3BE2-19D3-49A5-B55D-D988750BE058}"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791B-E39D-4392-AA76-C7C04128F2FA}"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6-12-13T15:16:12Z</dcterms:modified>
  <cp:revision>7</cp:revision>
  <dc:subject/>
  <dc:title>Beroepshouding</dc:title>
</cp:coreProperties>
</file>