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AD7F-050F-473D-A2C4-977B03B40E1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A555-AB93-45ED-A556-73B18DA50B0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57C-D88B-4871-A04B-96048A22D80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32FA-6153-4B3B-A06A-5CC9CB4FD33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49DB-F856-4D9E-81C4-11E79953D0E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5F6-4720-4213-B253-5EB72BECAC3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B2D7-D3BC-41C7-8B2E-E0F3AE131AD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2E4-7272-4ADF-8E4B-99B07BCC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154-2B94-4EEF-BB82-9160AF86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1B2-ED4D-47B6-A2C9-AF676C30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475-699B-47CB-9167-B38804DF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14DA-C4A4-4153-978E-D0B0CD34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1864-60C8-4B80-A3D1-95DA10B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FBF0-D709-4E81-A2FF-3567EDAA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2582-847D-4221-8AEC-591109A3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E95E-11A9-452D-836B-BFFE5C4D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FA74-593A-4627-8CFA-9902C4BF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EB91-4B56-4837-BA6E-FA2D2C0F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5E2-5ADB-4773-94C1-6E08474C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49CE-F5B0-4876-B9D4-3A12FC7F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4370-CE99-4177-9F14-9B632DBC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D224-D543-4CE4-B7D7-7F13506C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55E5-A364-472A-83F6-7234CC70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C3F8-752C-4788-B629-36EA1FBF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426-E921-48F1-ABA4-3BA2D4DD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11C-6066-455B-8A4E-0510086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AC4-34A1-4778-9924-46678550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61C-C737-4D2E-A9C8-44668080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9EC-8FAB-4243-84D8-1E09531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F33-A5E8-4781-ACE0-E62C6B81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8C6-CAD9-48AF-93EC-A48F34C9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B5D9-9967-46F3-BCEB-6F6A716CA78F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EEE-4613-4733-BC6A-042B905813A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F461-6284-4EA1-8E7B-F5B0A5A0101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DB6E-5A53-413E-AB9A-F8A99427943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9888-9FFA-4A82-A407-665103A9945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D027-6FAB-4091-AF85-2D2D4F5BF20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BF84-2A31-4EE6-A53E-6BD2EE672A09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E959-6782-4611-B8E6-16BBECC316A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8540-9223-4E8D-98B4-6287CF3FBF59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BFC8-2091-44B4-8329-7D170540BB0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6C02-891A-40C1-953D-7EFF3BD4F41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680-A0BE-49FB-A058-DC8C77052CB0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0346-6007-4B14-B39C-28D160E33EE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F4C8-A713-4199-9327-05EFF015B71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B59B-1702-4E6D-BCF1-027303268F4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0BE8-9FA4-408E-A5A6-29D83FDB616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D3A0-F052-4C92-A998-066389E53FB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A132-E570-4BE9-8090-490E4874941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730-1591-45E6-A9F1-C8E0C7249FD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BBFB-0C25-45C9-B71C-882B3E19F34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0DE5-2980-49AE-88E7-F533148D31E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0661-0A68-4934-9D9B-A026C6D8633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9B32-6E3F-4E65-B8E9-766DA19CBBE1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4157-E4A5-4B5C-8F58-814994620CF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6-12-13T15:22:50Z</dcterms:modified>
  <cp:revision>13</cp:revision>
  <dc:subject/>
  <dc:title>Gedrag</dc:title>
</cp:coreProperties>
</file>