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500-FAFD-4092-9903-52AD9C23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D06-DE23-48BD-B866-8583FCD3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50D-B5B2-497A-B4B0-F14A819B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E0B-279D-4AB6-BF33-AEC5C71C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E3D9-70EF-4E29-A66C-152B419C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8EC1-B85A-418C-9FE7-B1E80523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43BB-3652-47C8-B732-E25DE839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9F72-FC2C-401A-9212-EAB92E93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FD4B-8CDB-4BB1-9F66-247E21FE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3D5F-C18E-4903-BEAB-A887BCF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2992-FAEB-4530-B7E1-219587F7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251-4C67-48A3-B10B-F1845F26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F768-7B68-4849-9180-5975F7F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BA1A-DB91-4CB7-A099-F9D675E7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1E9D-A3B7-460A-A858-EBC876C4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AD12-20E1-4149-A6E5-6519E3A5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A6BF-4262-48C4-9582-A73D598F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687-8309-4399-9A66-34CE4E05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A7C-2410-4476-9B48-2020337C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FF4-5F64-4CF5-8403-3509B9A0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DFE-DE51-4B71-8B85-C0E659B3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D32-9EAD-4AB5-AED7-90DA15F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E3A-1630-4C9A-98F3-DE3E5A9F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BA1-E251-4189-A583-A739B174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D04A-296E-46C1-8D53-A80B5200F0C5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859-A024-4F92-BFAD-791604AF0888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9F31-9810-4186-ADA6-ED3C837F0E8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31FE-DCA3-4566-AC1E-28D3BE4C1507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1D3A-9002-449E-9B86-06421878C09D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4856-0B16-45E9-A68F-3A85C4FC7A5D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3D9D-467F-44BA-9EA1-0FFDAC1024C9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01A9-FC3B-4E82-955F-8B86B63F4E0E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DB9F-54FE-4BB3-8B4A-9A7CD515534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54DF-B208-49B2-A39B-9A24CF2DF83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C37F-19DE-4D14-905F-37612152250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ACF6-E5C8-4501-8F0C-A90FE10852BD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4AF0-0896-48A2-AB05-F0FC586785F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0471-B3EC-4364-80D5-5BAF55D38C5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B4B2-F598-4176-A980-A9EA6F033697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7590-A886-4C10-BECD-2EEAAE2AC25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8D9F-E6D5-43C0-AF0B-7DD4FE3FA10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59BF-3F27-4E9D-A42F-CA675DA6C728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377A-2453-4CF8-AD38-9A8D44B86BB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2B57-9505-4011-A75B-29D6E605E64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1DDA-6F03-4F95-8B0B-13D5FAD73BEE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07E-21C8-4739-964F-2D613166EB6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6-12-13T20:40:44Z</dcterms:modified>
  <cp:revision>8</cp:revision>
  <dc:subject/>
  <dc:title>ASSERTIVITEIT</dc:title>
</cp:coreProperties>
</file>