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DB93-8546-4088-8E5B-E673DCF73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5C4F-8188-40D6-B199-D2ACD455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7165-09A3-4D76-A09C-D36352165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1FFA-2CC5-43BF-B254-3750DFB76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6AB6-08B9-43AF-B924-C954CADE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B520-2B22-4091-BA8A-DEEC401E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59D0-75AD-4079-B32B-1ECD937F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E67E-CCB0-4097-9BB9-C840B6B4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578E-6ED5-4D4A-8AC1-A3C4585C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7B52-D4EC-404A-92B2-D3429B8E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623D-6DA1-4E95-8235-DA457ABC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4E86-D8CA-4A9F-80E4-14238DEE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79C7-DD7D-4C47-A278-1EB8B8D1A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upload.wikimedia.org/wikipedia/commons/c/ca/Baak.svg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me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dli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16000" y="1235160"/>
            <a:ext cx="741672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gte me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schot bepa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meth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1: Ri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213000"/>
            <a:ext cx="91440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2: ba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219640" y="1197000"/>
            <a:ext cx="3778200" cy="5661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Image:Baak.sv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465280"/>
            <a:ext cx="43862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3: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564000" y="1989000"/>
            <a:ext cx="453708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meten/uitzet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dere metho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olmaat met evt pi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l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lonrich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233960" y="1341360"/>
            <a:ext cx="4910040" cy="5516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71640" y="4149720"/>
            <a:ext cx="15634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i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488960"/>
            <a:ext cx="914400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18:07:56Z</dcterms:created>
  <dc:creator>johan</dc:creator>
  <dc:description/>
  <dc:language>en-US</dc:language>
  <cp:lastModifiedBy>johan</cp:lastModifiedBy>
  <dcterms:modified xsi:type="dcterms:W3CDTF">2009-07-11T11:43:27Z</dcterms:modified>
  <cp:revision>4</cp:revision>
  <dc:subject/>
  <dc:title>inmeten/uitzetten</dc:title>
</cp:coreProperties>
</file>