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80E7-F856-43D3-94C1-DCE3758CE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08CC-E609-4BF0-8E23-C5CC18DA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1166-54CA-4D82-B450-8B5E37A46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9DC0-2D05-4792-8BA4-B7AEAFFE7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8137-CA7E-4F78-BAC0-BE5E5FC8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84AE-ECA6-412B-BF8E-09F33DF3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1324-65EB-4583-8C6B-297350A9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E3B5-D146-4FBC-9237-92EE23D0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BAA3-A6BD-4C69-8C76-EFD8D000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3B2E-0475-4FB5-83B3-7D5C0E8A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F875-8285-48ED-8D92-A3455DFD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52DB-BFBD-47A2-83B4-10B665A9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22A5-F503-4CF2-9074-AF5E486B4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ie 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u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is d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dik is de laag geel z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arom geel z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sluitband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arom opsluitban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proll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kroll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211640" y="765000"/>
            <a:ext cx="4614840" cy="2314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32000" y="3141720"/>
            <a:ext cx="32608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akse h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4,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akse 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wevende hoek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tr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lijen, ti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ri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akken, beton, natuurs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ban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lok        halfsteen        elleboog         keper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4724280"/>
            <a:ext cx="1778040" cy="1270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484360" y="4724280"/>
            <a:ext cx="1778040" cy="1270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427640" y="4724280"/>
            <a:ext cx="1778040" cy="1270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516720" y="4724280"/>
            <a:ext cx="177804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volgor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e kantopslui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e strate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3591000"/>
            <a:ext cx="4356000" cy="3267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780000" y="2205000"/>
            <a:ext cx="536400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t in aan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trammelant in onderh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orvo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itrij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u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18:03:59Z</dcterms:created>
  <dc:creator>johan</dc:creator>
  <dc:description/>
  <dc:language>en-US</dc:language>
  <cp:lastModifiedBy>johan</cp:lastModifiedBy>
  <dcterms:modified xsi:type="dcterms:W3CDTF">2009-07-11T11:53:06Z</dcterms:modified>
  <cp:revision>4</cp:revision>
  <dc:subject/>
  <dc:title>straten</dc:title>
</cp:coreProperties>
</file>