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8CD4-9B51-493C-9FDA-1192672B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7E4-2F5C-48A1-ADC1-FF147FDF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3189-AFFB-47BF-B7EF-7460E763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674-3A69-4F55-9114-483C7F23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16DD-5010-4198-9515-B19CD756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388C-5EED-49AB-A603-9A568A8F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AE3-3FF4-45FE-820D-5BF6C36D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F951-E065-433E-9BA7-E18929B5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E38-139C-452B-9A84-4A8A128E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B3F-F0BF-4419-A663-DE9F8C05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7ED-52DE-4CFE-8A77-22523B36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3039-3140-4568-ABD3-BA2CAF06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21E0-A87F-4337-B581-9085AF2BC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commons/c/ca/Baak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d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235160"/>
            <a:ext cx="7416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te 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chot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1: 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2: ba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778200" cy="566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Image:Baak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465280"/>
            <a:ext cx="4386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3: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7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meten/uitze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metho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lmaat met evt p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lonri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33960" y="1341360"/>
            <a:ext cx="491004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1563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07:56Z</dcterms:created>
  <dc:creator>johan</dc:creator>
  <dc:description/>
  <dc:language>en-US</dc:language>
  <cp:lastModifiedBy>johan</cp:lastModifiedBy>
  <dcterms:modified xsi:type="dcterms:W3CDTF">2009-07-11T11:43:27Z</dcterms:modified>
  <cp:revision>4</cp:revision>
  <dc:subject/>
  <dc:title>inmeten/uitzetten</dc:title>
</cp:coreProperties>
</file>