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574C-0FD3-4E90-A017-0CC0E5FE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F96F-7A47-45CC-ABCF-F1152FDE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C9E0-38B4-43A1-B674-5332687B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CF3A-8E29-4CE0-99D3-7CC564B2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34A3-A9C7-4109-A6D1-B1D9B241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7B38-1219-4A8E-81D0-78A9755A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F2EB-97DD-4B8F-BD60-688AF094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DB3C-1A31-48BF-AD73-17EFDA72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62B7-DDE7-4B4A-9061-82A245D8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FA88-3057-4422-AC86-F9477EE6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7185-2DC0-40B1-8D46-92291CE0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6EBB-D88C-4D39-904C-B9975A1C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C64D-F93F-4EDC-86C3-8EB403932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pload.wikimedia.org/wikipedia/commons/c/ca/Baak.sv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dl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1235160"/>
            <a:ext cx="741672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te 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chot bepa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1: R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2: ba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19640" y="1197000"/>
            <a:ext cx="3778200" cy="566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Image:Baak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465280"/>
            <a:ext cx="4386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3: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5370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meten/uitzet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e metho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lmaat met evt p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lonric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33960" y="1341360"/>
            <a:ext cx="4910040" cy="551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71640" y="4149720"/>
            <a:ext cx="1563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8:07:56Z</dcterms:created>
  <dc:creator>johan</dc:creator>
  <dc:description/>
  <dc:language>en-US</dc:language>
  <cp:lastModifiedBy>johan</cp:lastModifiedBy>
  <dcterms:modified xsi:type="dcterms:W3CDTF">2009-07-11T11:43:27Z</dcterms:modified>
  <cp:revision>4</cp:revision>
  <dc:subject/>
  <dc:title>inmeten/uitzetten</dc:title>
</cp:coreProperties>
</file>