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4FB-E7B3-45AC-929F-43C8A91C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C02-2179-4142-9C85-D869EBCF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D12-2B7F-4C9C-8030-B2CD61E3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D52-0234-4347-B5DB-8FF400BA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E2EF-C2B3-4573-95FA-0F5DB2E0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DC3-DF9A-476E-A5FA-CA70A73E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B285-8BEB-4C5B-805F-4CCFA442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474-9EFC-4C84-889A-70C9EEA6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C6B-6552-44F3-826F-9407407B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813-DF70-4DA3-AF07-0328A16F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B8C-8360-4F0E-9D7A-266F49E4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156-4695-4E16-801E-492EC9B6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52C0-66B6-4142-A154-07ED0B662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u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dik is de laag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om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sluitband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om opsluitban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k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765000"/>
            <a:ext cx="4614840" cy="23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3260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vende hoek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ijen, t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akken, beton, natuur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k        halfsteen        elleboog         kepe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84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2764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516720" y="4724280"/>
            <a:ext cx="17780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lg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kantopslu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strat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59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rammelant in 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r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r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8:03:59Z</dcterms:created>
  <dc:creator>johan</dc:creator>
  <dc:description/>
  <dc:language>en-US</dc:language>
  <cp:lastModifiedBy>johan</cp:lastModifiedBy>
  <dcterms:modified xsi:type="dcterms:W3CDTF">2009-07-11T11:53:06Z</dcterms:modified>
  <cp:revision>4</cp:revision>
  <dc:subject/>
  <dc:title>straten</dc:title>
</cp:coreProperties>
</file>