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4A2-2CF7-4E6C-A80D-40105B96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BF7A-FAA6-44D1-8509-F5BBFC98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D94-15DA-4F27-A497-6C08F7C9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11C-DCE7-4432-B4F1-C127F9CA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E22-FD84-4839-9A4A-A7C730BC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3BE-250E-471A-8366-A2F28AED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714-76B6-4884-AF6A-629F48D5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9FA-B739-4608-97A1-5297B55B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BAB-5346-4A5C-8355-A8903780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B1A7-B33E-4DE5-8A0A-70BD2E96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5109-26DA-495E-A89C-18058727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3A1C-BE55-4D65-AD33-6BF8F15A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75A8-E845-40D1-AF87-DB08174A45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rkbeschrijvingen en bestek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be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misverstanden met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ekenen van de kosten (offer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delijkheid voor het person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komen van misverst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juridisch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communicatiemid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gangspunt voor  calculatie en r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idraad voor de uitvo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tatiebeschrij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mid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uridisch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delijk over rechten en pl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2232000"/>
            <a:ext cx="5185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mmunicatiemid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ssen opdrachtgever en uitvo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48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Uitgangspunt voor calcul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wel opdrachgever als uitvoerder kunnen de kosten berek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554364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idraad voor de uitvo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tatiebeschrijving. Het resultaat t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03280" y="2297160"/>
            <a:ext cx="6554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jn de afspraken nageko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465280"/>
            <a:ext cx="4859280" cy="4392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araan moet een goed bestek voldo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actuele gelijkwaard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verdeling van verantwoordelijkhe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duidige besteks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geen verschil van me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icht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uidelijkheid over te gebruiken materialen en toelaatbare afwijk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stenhomogen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meer- of minderwerk voor afgesproken prijz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AW- bestek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W bestekken van de C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worpen voor de grond- water- en wegenbo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 ook voor de groen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automatis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werkomschrij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werkzaamheden voor het aanleggen of onderhouden van groen of een t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volgorde waarin ze worden uitgevo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lgens een vast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de hand van de inventar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zicht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ndaardbepa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 gebruikte bepa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gelegd in een standaard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n toepassing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wijkingen apart ben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ofdstuk 51 voor de groenvoorzi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 standa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1280" y="888840"/>
            <a:ext cx="8208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schrijvingssta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 van hetbestek voor calcu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overz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aan te leggen of te beheren oppervla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wijze van uitvo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 verwerken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ereikbaa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grondso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Beschrijving van de werkzaamhe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elen van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mschrijven van de te verrichten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veelheden van oppervlakten en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s en werk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 van een i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mschrijving per onderd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ven van de werkzaamheden die nodig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ven van de materialen die gebruikt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s noemen die nodig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methoden besch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 voorbeel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 bewerken oppervlak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veelheden dode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veelheden levende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keuzes (afhankelijk van de omstan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methoden of -volgo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0:18:07Z</dcterms:created>
  <dc:creator>Peter</dc:creator>
  <dc:description/>
  <dc:language>en-US</dc:language>
  <cp:lastModifiedBy>Peter</cp:lastModifiedBy>
  <dcterms:modified xsi:type="dcterms:W3CDTF">2008-12-15T13:32:27Z</dcterms:modified>
  <cp:revision>4</cp:revision>
  <dc:subject/>
  <dc:title>Werkbeschrijvingen en bestekken</dc:title>
</cp:coreProperties>
</file>