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83800" y="747360"/>
            <a:ext cx="489276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8F8DDC-84FF-43E5-853D-9517F493DD3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6AD0E67-7854-42D1-A47B-571190DC9BB3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kom en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ksten aangepast aan veralgeminisering aanbestedingsreg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ksten aangepast aan veralgeminisering aanbestedingsreg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ksten aangepast aan veralgeminisering bepaling in kader van aanbestedingsreg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betervoorstel doorgevoerd: 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 vervangen door ‘niet zijnd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880920" y="74448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heet ongewijzigd doorgevoerd: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j bundelingen moet zowel ‘I’ als ‘L’ worden ingev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0CCEC42-8E5E-4CA4-BDED-B41778FDAD95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273D55-7E99-4B6D-9BA2-B1C01AC7A39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336E62-EFF0-4AB9-A7C9-7629B263F064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standaardiseerd: niveau A moet in gemeente X hetzelfde zijn als in gemeent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 elkaar afgestemd: niveau A van het ene onderwerp (bv grof zwerfvuil) is qua beeld vergelijkbaar met niveau A van een ander onderwerp (bv veegvu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CA8909-F4F2-4F13-9E56-5028401C9B0A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C9E70-12F7-4B3F-950B-27C947B1C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550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62EA1-F88E-41EA-9169-26AC37310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022ED-2133-4AFC-B9FB-60C109954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E45A9-5ED1-410B-AE75-4009126267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4A623-00F2-4645-9DB8-0DEBB62827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507C4-22BD-4089-80A4-33142FAEC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27806-905E-4B0B-812C-AF253E738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36652-EB3B-493A-996E-CAFE0941C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38982-98CF-4EEF-828A-AE7534F07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D18C2-9487-436F-BDA0-17975019A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15B1C-0BDA-48A1-991B-2D7715303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1245C-9BD6-4B04-B34E-3B722B91E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956200"/>
            <a:ext cx="9144000" cy="9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95280" y="6513120"/>
            <a:ext cx="510552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222960" y="6000840"/>
            <a:ext cx="2363760" cy="834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584840" y="6513120"/>
            <a:ext cx="1523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7B3F-5A4F-4672-BAC2-F0DC306BC59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317520" cy="1714680"/>
          </a:xfrm>
          <a:prstGeom prst="rect">
            <a:avLst/>
          </a:prstGeom>
          <a:solidFill>
            <a:srgbClr val="ce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527880"/>
            <a:ext cx="317520" cy="330120"/>
          </a:xfrm>
          <a:prstGeom prst="rect">
            <a:avLst/>
          </a:prstGeom>
          <a:solidFill>
            <a:srgbClr val="ce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file:///../../110-120%20RAW/plaatjes%20nieuw.pp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file:///../../110-120%20RAW/plaatjes%20nieuw.pps" TargetMode="External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../../110-120%20RAW/plaatjes%20nieuw.pps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1650960"/>
            <a:ext cx="7705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Onderwijsmodule</a:t>
            </a:r>
            <a:br>
              <a:rPr sz="4400"/>
            </a:b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op basis van Standaard 2005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ersie mei 200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2773440"/>
            <a:ext cx="2432160" cy="223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78146-7265-4894-8524-9AF3308AE9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GOR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9680" y="129528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197"/>
              </a:lnSpc>
              <a:buNone/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UAV 1989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 § 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Van toepassing zijnde voorschriften,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tegenstrijdige bepa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ldig tenzij afgeweken in 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oepassing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enoemde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 N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nor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derlands re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tegenstrijdig: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uw vóór ou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 vóór teken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zonder vóór algeme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uitkomst: uitleg ten nadele van opsteller 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schuwingsplicht aannemer bij tegenstrijdig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5F7D-C5AE-45D4-AC54-0F548A140E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61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GOR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0040" y="125712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STANDAARD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N-normen volgens ‘Normenoverzicht GWW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jziging wordt ‘automatisch’ van kra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 boven Standa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latie technische bepalingen en proe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tus gedrukt versus automatisch lees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uitzondering andere docume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FDED7-9903-4D90-AC07-152470FBFD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24040" y="1646280"/>
            <a:ext cx="5627520" cy="30369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1800" y="731880"/>
            <a:ext cx="7315200" cy="7621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ARD BES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89120" y="744480"/>
            <a:ext cx="7567200" cy="596880"/>
            <a:chOff x="789120" y="744480"/>
            <a:chExt cx="7567200" cy="596880"/>
          </a:xfrm>
        </p:grpSpPr>
        <p:sp>
          <p:nvSpPr>
            <p:cNvPr id="87" name=""/>
            <p:cNvSpPr/>
            <p:nvPr/>
          </p:nvSpPr>
          <p:spPr>
            <a:xfrm>
              <a:off x="798840" y="744480"/>
              <a:ext cx="7557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9120" y="874800"/>
              <a:ext cx="7480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tandaardteksten (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BB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)   Resultaatsbeschrijvi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656160" y="1579680"/>
            <a:ext cx="162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S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38240" y="2027160"/>
            <a:ext cx="5205600" cy="1847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0  Totstandk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1  ALGEM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2  BESCHRIJVING (pos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3  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16160" y="5300640"/>
            <a:ext cx="6497640" cy="5335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STANDAARD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4280" y="3821040"/>
            <a:ext cx="25214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206960" y="4734000"/>
            <a:ext cx="795240" cy="488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20560" y="1189080"/>
            <a:ext cx="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09760" y="1189080"/>
            <a:ext cx="3981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9760" y="1951200"/>
            <a:ext cx="12175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899640" y="5618160"/>
            <a:ext cx="42228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898560" y="3170160"/>
            <a:ext cx="0" cy="2448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17016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60216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56440" y="3284640"/>
            <a:ext cx="9842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28080" y="3284640"/>
            <a:ext cx="0" cy="118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580000" y="4465800"/>
            <a:ext cx="25480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38240" y="2541600"/>
            <a:ext cx="52056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38240" y="2989440"/>
            <a:ext cx="52056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898560" y="230616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230652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70480" y="731880"/>
            <a:ext cx="0" cy="762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28160" y="1112760"/>
            <a:ext cx="280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08960" y="1112760"/>
            <a:ext cx="0" cy="2028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35920" y="3141720"/>
            <a:ext cx="136044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46160" y="3433680"/>
            <a:ext cx="52056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95320" y="272556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44C1E-DF3A-4B7F-88BB-A3DE45B925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ARD BESTEKSINDE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6560" y="1233360"/>
            <a:ext cx="4498920" cy="1295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0  Totstandko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overeenkom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gevens van belang vóór g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800" y="4052880"/>
            <a:ext cx="4498920" cy="1752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2  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EMENE GEGEV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gevens m.b.t. het 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2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DERE BESCHRIJ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at van bestekspo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02160" y="1233360"/>
            <a:ext cx="3490920" cy="1295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3  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emeen en administrat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i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00720" y="2833560"/>
            <a:ext cx="3490920" cy="2971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Vaste bij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&amp;G-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rondba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9800" y="2833560"/>
            <a:ext cx="449892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1  Algem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gevens m.b.t. de overeenkom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4ECFD-AC96-43C5-A3AD-9EB27B7061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72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0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Totstandkoming</a:t>
            </a:r>
            <a:br>
              <a:rPr sz="4400"/>
            </a:b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overeenkoms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839960"/>
            <a:ext cx="81309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aragra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ende die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16EC9-9156-4B44-909C-F58F7F8F9B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577800"/>
            <a:ext cx="813096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ENDE DIENST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 en wa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uropees / nation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s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 aanbestedingsreg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LICHTINGEN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, wanne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 van in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3FDE4-E8D9-427F-859F-7A3FC96B98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409400"/>
            <a:ext cx="830556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 op inschrijvingsbilj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tleding aannemingssom op inschrijvingsst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ternatieve aanbied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anneme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bied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lternatief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an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geve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vraag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arian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staat in afzonderlijke envelop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: artikel 01.01.02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7057C-4A21-4D13-87A8-8528E2CE19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1409400"/>
            <a:ext cx="824688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indtotaal moet kloppen met bedrag op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leen productiekosten in prijs per eenhei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.q. bedrag in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 niet in prijs per eenhei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.q. bedrag in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mag eenmalige kosten specific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5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: artikel 01.01.03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55CCD-437E-42D3-A5CD-7AB1A8C28D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2120" y="1371240"/>
            <a:ext cx="82468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ag – datum – tij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ocatie en pla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6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E3497-9A76-4403-B661-F87AAD721A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1760" y="1380600"/>
            <a:ext cx="8094600" cy="28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verrekenprijzen gunningscriterium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verrekenprijzen kennelijk onredelijk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7 dagen gelegenhei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m ontleding aan te p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malige correctiepos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762120" y="488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7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: artikel 01.01.04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86C08-0C2F-48E5-B621-BC590BA6B1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434360" y="2577960"/>
            <a:ext cx="145404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ONDERDELEN</a:t>
            </a: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RAW-SYSTEMATI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atalogus met resultaatsbeschrijv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andleiding RAW-systematiek (spelreg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 RAW Bepa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and met keuze- en invulbepalingen: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Besteksbestand RAW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8584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INLE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347CC-0889-47D3-8768-0F02D71009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7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7960" y="1565280"/>
            <a:ext cx="68389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1138320" indent="-376200">
              <a:lnSpc>
                <a:spcPts val="3600"/>
              </a:lnSpc>
              <a:tabLst>
                <a:tab algn="l" pos="0"/>
                <a:tab algn="l" pos="113832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UNNINGS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8320" indent="-37620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113832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832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113832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uit de inschrijvingsstaat te herleiden verrekenprij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8F859-E390-456D-85DC-0DDB4A5CF3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37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1  ALGEME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413000"/>
            <a:ext cx="81309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aragra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Opdracht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Dir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Algemene 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ijdsbep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Onderhoudsterm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Kwaliteitsbor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51259-023E-43B5-A3DD-169E620BB2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57780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1  OPDRACHTG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 en wa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2  DIR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3  LOCATIE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laats van 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9CCF2-414A-4A86-87E4-032C64D07A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62120" y="577440"/>
            <a:ext cx="8229600" cy="53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NE BESCHRIJVING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z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ha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hoeveel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23F5B-3735-43A1-98B5-E5E6D316F4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62120" y="577440"/>
            <a:ext cx="8229600" cy="53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IJDSBEPALING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sduur, tijdstip oplev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076480" indent="-228600">
              <a:lnSpc>
                <a:spcPts val="3600"/>
              </a:lnSpc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lexibele uitvoeringstermijn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art. 01.13.07 Standaard 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076480" indent="-228600">
              <a:lnSpc>
                <a:spcPts val="3600"/>
              </a:lnSpc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ste termijn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§ 8 UAV 198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rting bij tijdsoverschrijding anders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an in § 42 lid 2 UAV 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onodig relaties tijdstippen vastleggen</a:t>
            </a:r>
            <a:br>
              <a:rPr sz="2400"/>
            </a:b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§ 42 lid 4 UAV 198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ts val="3600"/>
              </a:lnSpc>
              <a:buNone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9C50B-E197-43D4-A2B9-07155A5038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2120" y="577440"/>
            <a:ext cx="8229600" cy="53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DERHOUDSTERMIJN 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doeld in § 11 lid 1 UAV 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EITSBORGING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langen kwaliteitsplan indien gewerkt wordt onder kwaliteitsborging overeenkomstig par. 01.13 en 01.20 van de Standaard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dat geval in Deel 0 bij par. 0.04 van de inschrijver een kopie kwaliteitssysteemcertificaat verl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946A1-DC2B-4C10-9A56-7267F51E5D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285480"/>
            <a:ext cx="82645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2.1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lgemene gegeve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557360"/>
            <a:ext cx="84582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eningen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ilen en hoofdafmetingen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eitsborging (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indien I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oppunten ver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lagen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horend tot bestek bijv. V&amp;G-plan, grondbalans,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gevens t.b.v. bemal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rt. 21.03.01 Standaard 2000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r informatie bijv. rapport bodem- en wateronderzoek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rt. 17.04.01 Standaard 2000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5AEA8-4751-4BC4-8309-DC41742F96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101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ts val="998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vullende rubrieken zoa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mechanische gegev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erstan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re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3200" y="1622520"/>
            <a:ext cx="761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65080" y="1171440"/>
            <a:ext cx="673200" cy="2287800"/>
          </a:xfrm>
          <a:custGeom>
            <a:avLst/>
            <a:gdLst/>
            <a:ahLst/>
            <a:rect l="l" t="t" r="r" b="b"/>
            <a:pathLst>
              <a:path w="433" h="1441">
                <a:moveTo>
                  <a:pt x="0" y="0"/>
                </a:moveTo>
                <a:lnTo>
                  <a:pt x="432" y="0"/>
                </a:lnTo>
                <a:lnTo>
                  <a:pt x="432" y="1440"/>
                </a:lnTo>
                <a:lnTo>
                  <a:pt x="0" y="14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3A305-94E9-4AAC-9C94-DBD89CA6D0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0720" y="285480"/>
            <a:ext cx="79660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2.2  Vaste pagin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1240" y="1195560"/>
            <a:ext cx="802188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JURIDISCHE VERANTWO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klaring van de hierna volgende 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enmerk resultaatsverp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enzen van de situ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8916D-1323-4FDE-8A50-DED9CB21384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73200" y="457200"/>
            <a:ext cx="717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rekenbare hoeveelheden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5720" y="1523880"/>
            <a:ext cx="81536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mschrijv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wijzing naar § 38 lid 1 UAV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oel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le afwijkingen worden ver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bij voorkeur te gebruiken; in ieder geval indien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de uitvoering afwijkingen worden verwa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0ED1D-99AA-4B24-BFFD-3E81CA979B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75920"/>
            <a:ext cx="8105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ITGANGSPUNTEN RAW-SYSTEMATI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0040" y="137160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lijkwaardigheid van partij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 (ARW 2005 / UAR-EG 1991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 UAV 1989 resp. UAV-TI 1992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.a. afbakening verantwoordelijkheden (§ 5 en § 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genoeg kostenhom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duidige en relevante inform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rijheid in wijze van uitvoering en keuze van materi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05A15-6D44-4717-BA2C-03F5BD7E19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73200" y="457200"/>
            <a:ext cx="816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iet verrekenbare hoeveelheden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5720" y="1523880"/>
            <a:ext cx="8153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mschrijv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wijzing naar § 38 lid 2 UAV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oel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wijkingen tot en met 10% worden niet ver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oede 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wijkingen worden niet verwacht tijdens 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mstandigheden hebben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irectie heeft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A5570-D7C4-4AF7-BAA0-4E81C5ABD0D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73200" y="457200"/>
            <a:ext cx="717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 accorderen hoeveelheden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5720" y="1523880"/>
            <a:ext cx="7948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mschrijv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wijzing naar art. 01.01.05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óór aanvang uitvoe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rden hoeveelheden vastgesteld; daarbij worden…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wijking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 controlefase worden verrek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eenkomstig art. 01.01.06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wijking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 uitvoeringsfase niet ver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8A02D-4587-4C16-950B-C78AF316C68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73200" y="457200"/>
            <a:ext cx="816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 accorderen hoeveelhed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5720" y="1523880"/>
            <a:ext cx="85582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oede 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wijkingen worden niet verwacht tijdens 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mstandigheden hebben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irectie heeft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den vooraf controleerbaar op basis va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, tekeningen en gegevens opdracht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geva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30BDE-9B11-4355-BABD-6429CF208BC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73200" y="457200"/>
            <a:ext cx="816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nneer welke hoeveelhei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5720" y="1562040"/>
            <a:ext cx="855828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errekenbaa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den waarop afwijkingen te verwachten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et verrekenbaa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uwkeurige hoeveelheden waarop geen afwijkingen worden ver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Te accorder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uwkeurige hoeveelheden waarop geen afwijkingen worden verwacht en welke controleerbaar zijn aan de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and van bestek, documenten en aanvullende gegev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711A4-016A-4A1D-9548-F1A56EF509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628200"/>
            <a:ext cx="7772400" cy="4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EVEELHEID TER INLICH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504440"/>
            <a:ext cx="8229600" cy="43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’ uitsluitend ter inlichting,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nzij af te leiden uit resultaatsverplic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levert bouwstof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gever stelt bouwstof ter beschikk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 het werk komende bouwstoff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ts val="3600"/>
              </a:lnSpc>
              <a:buNone/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herkomst in kolom ‘omschrijving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 (calculatiegegeven)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verplichting is inclusief verwerk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den ter inlic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75280" y="2743200"/>
            <a:ext cx="3019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67480" y="4559400"/>
            <a:ext cx="627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08800" y="322596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7F91A-3072-4930-AE9C-DA36A5ACFBB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46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EL 2.2  BESTEKSPOSTNUMM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0344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352520"/>
            <a:ext cx="8312040" cy="41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dere 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chrijving van alle benodigde ‘klussen’ in besteksp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gevolg van betaling naar productie en kostenhomogeniteit kan het aantal posten groot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arom indeling belang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eling besteksposten door bestekschrij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CB33D-62EC-4ACD-A51B-C9BBA584387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GELIJKE INDELING BESTEKSPOST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4572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76920" indent="-37692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werkcatego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ndwe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har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envoorzien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-37692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situ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ering i.v.m. verkeer e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27640" y="1676520"/>
            <a:ext cx="313056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constru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hoo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j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k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p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498C9-A78A-4B3B-841E-EF987A9D2D1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49160" y="604800"/>
            <a:ext cx="504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STEKSPOSTNUMM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1040" y="1527120"/>
            <a:ext cx="9957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1400" y="4727520"/>
            <a:ext cx="140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81240" y="1467000"/>
            <a:ext cx="282600" cy="2668320"/>
          </a:xfrm>
          <a:custGeom>
            <a:avLst/>
            <a:gdLst/>
            <a:ahLst/>
            <a:rect l="l" t="t" r="r" b="b"/>
            <a:pathLst>
              <a:path w="193" h="1681">
                <a:moveTo>
                  <a:pt x="0" y="0"/>
                </a:moveTo>
                <a:lnTo>
                  <a:pt x="192" y="0"/>
                </a:lnTo>
                <a:lnTo>
                  <a:pt x="192" y="1680"/>
                </a:lnTo>
                <a:lnTo>
                  <a:pt x="0" y="168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81240" y="4667400"/>
            <a:ext cx="282600" cy="458640"/>
          </a:xfrm>
          <a:custGeom>
            <a:avLst/>
            <a:gdLst/>
            <a:ahLst/>
            <a:rect l="l" t="t" r="r" b="b"/>
            <a:pathLst>
              <a:path w="193" h="289">
                <a:moveTo>
                  <a:pt x="0" y="0"/>
                </a:moveTo>
                <a:lnTo>
                  <a:pt x="192" y="0"/>
                </a:lnTo>
                <a:lnTo>
                  <a:pt x="192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7840" y="2517840"/>
            <a:ext cx="185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4 cijfers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02080" y="2146320"/>
            <a:ext cx="3031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rije tek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.b.v. onderver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eksp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57160" y="4651200"/>
            <a:ext cx="1669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cijfers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04240" y="4292640"/>
            <a:ext cx="3962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stell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verplichting m.b.v.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23680-72A4-499B-8AC1-790D6C1AEE8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552600"/>
            <a:ext cx="810576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7 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GROENVOORZIENIN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11574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7160" y="1488960"/>
            <a:ext cx="5522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WERKEN EN ZAA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 00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 plant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3 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ken plant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3 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tten plan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3 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zen plan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000"/>
                </a:solidFill>
                <a:latin typeface="Arial"/>
              </a:rPr>
              <a:t>73 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nten van b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000"/>
                </a:solidFill>
                <a:latin typeface="Arial"/>
              </a:rPr>
              <a:t>73 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ten van b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000"/>
                </a:solidFill>
                <a:latin typeface="Arial"/>
              </a:rPr>
              <a:t>73 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nbrengen boomp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D3EA7-96EE-451C-B258-6001EB05CBC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3080" y="475920"/>
            <a:ext cx="77547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2.2  HOOFDCO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0480" y="1295280"/>
            <a:ext cx="814860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OOP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NTREINIGDE GROND EN VERONTR.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M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EUF- EN SLEUFLOZE TECHN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ING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ABEL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ERPU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28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UNDERINGS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nzovoort t/m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C01F4-D5BA-4251-8663-359997B8561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RIJHEID IN WIJZE VAN UITVOERING EN</a:t>
            </a:r>
            <a:br>
              <a:rPr sz="2800"/>
            </a:b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KEUZE VAN MATERIE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9680" y="1790280"/>
            <a:ext cx="82566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zij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ns op onherstelbare fou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venredig groot r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cherming belangen van de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waliteitseisen alleen bij bepaalde uitvoering haal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7DA97-A204-4817-85F9-0ED9E28DC4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52560" y="13129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384120"/>
            <a:ext cx="72565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Werkcatego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ont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verv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ver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scheiden, verdichten en prof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ub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863640"/>
            <a:ext cx="907920" cy="37476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0" y="288"/>
                </a:moveTo>
                <a:lnTo>
                  <a:pt x="0" y="0"/>
                </a:lnTo>
                <a:lnTo>
                  <a:pt x="57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5181480"/>
            <a:ext cx="1162080" cy="530280"/>
          </a:xfrm>
          <a:custGeom>
            <a:avLst/>
            <a:gdLst/>
            <a:ahLst/>
            <a:rect l="l" t="t" r="r" b="b"/>
            <a:pathLst>
              <a:path w="673" h="241">
                <a:moveTo>
                  <a:pt x="0" y="0"/>
                </a:moveTo>
                <a:lnTo>
                  <a:pt x="0" y="240"/>
                </a:lnTo>
                <a:lnTo>
                  <a:pt x="672" y="2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0E05-D044-460E-9ADB-F53EADC62D6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70360" y="630360"/>
            <a:ext cx="228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45600" y="1209600"/>
            <a:ext cx="262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ub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8760" y="1743120"/>
            <a:ext cx="191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g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52640" y="3060720"/>
            <a:ext cx="690480" cy="273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36880" y="3594240"/>
            <a:ext cx="692280" cy="2197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66960" y="2527200"/>
            <a:ext cx="691920" cy="3264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5194440"/>
            <a:ext cx="800100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4356000"/>
            <a:ext cx="800100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89640" y="3648240"/>
            <a:ext cx="247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nd ont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84240" y="4410000"/>
            <a:ext cx="345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ond ontgraven uit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84600" y="5248440"/>
            <a:ext cx="458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rond ontgraven uit opho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8756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7180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5748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7180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5748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8756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87560" y="36482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71800" y="36482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87560" y="25812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82840" y="221616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91080" y="2581200"/>
            <a:ext cx="265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97160" y="1682640"/>
            <a:ext cx="0" cy="1295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2920" y="114948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ACD50-7E30-4A5B-9743-34B23C12339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95640" y="5565600"/>
            <a:ext cx="32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Besteksposten niet compl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94200" y="1566720"/>
            <a:ext cx="3235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 ontgraven uit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u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Veiligheidsklasse: basiskla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Situering: Ketelstra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soort: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klei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0,40 m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604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veen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0,50 m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756 m3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sbepaling:</a:t>
            </a: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aan de hand 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meting in het werk in profiel van ontgr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soorten gescheiden ontgrav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ntgravingshoogte gemiddeld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0,90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ntgravingsbreedte op bodem gemidd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5,40</a:t>
            </a: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luds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oegestane positieve en negatieve afwijking 0,03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212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29520" y="1566720"/>
            <a:ext cx="49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13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9240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2240" y="858960"/>
            <a:ext cx="106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13680" y="630360"/>
            <a:ext cx="507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02560" y="630360"/>
            <a:ext cx="1035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59520" y="630360"/>
            <a:ext cx="1035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160" y="641520"/>
            <a:ext cx="7794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224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9520" y="1566720"/>
            <a:ext cx="108108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697960" y="156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996320" y="1571760"/>
            <a:ext cx="70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06360" y="614520"/>
            <a:ext cx="194076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code       1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2897-CA7C-4749-BE99-FEE56839B20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094200" y="1566720"/>
            <a:ext cx="32353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Aanbrengen PVC-bu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Situering: Velperpl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chte buis, drukklasse PN 8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kleur grij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ominale middellijn 16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binding buizen vrijvervalriool d.m.v. mof met rubbermanch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31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2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29520" y="1566720"/>
            <a:ext cx="4921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9240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62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14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05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62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336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257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9880" y="1566720"/>
            <a:ext cx="12945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651880" y="1566720"/>
            <a:ext cx="2779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96320" y="1571760"/>
            <a:ext cx="70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07440" y="614520"/>
            <a:ext cx="192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55DCC-355B-408C-B86F-B701D912355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RESULTAATSBESCHRIJVING: 5 W’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2120" y="1409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t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ar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arva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lke voorwaard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lke hoeveelhed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ET: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m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o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93B08-0B9D-44CB-9394-9B93DBC971F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324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EL 2.2 BIJZONDERHEDE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79400" y="1238040"/>
            <a:ext cx="6764400" cy="485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GEEN CIJFER IN DEFI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tekst op positie in catalo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st door bestekschrijver niet gebrui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er mag geen informatie ontbre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CIJFER ‘9’ IN DEFICODE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(eigen tek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juiste keuze mogel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voegen twee defic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DDD13-E0F2-423F-A482-9620E762CB5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1896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112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97480" y="1566720"/>
            <a:ext cx="49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8960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6072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3092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8272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73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83072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168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8960" y="533520"/>
            <a:ext cx="8582040" cy="4724280"/>
            <a:chOff x="318960" y="533520"/>
            <a:chExt cx="8582040" cy="4724280"/>
          </a:xfrm>
        </p:grpSpPr>
        <p:sp>
          <p:nvSpPr>
            <p:cNvPr id="292" name=""/>
            <p:cNvSpPr/>
            <p:nvPr/>
          </p:nvSpPr>
          <p:spPr>
            <a:xfrm>
              <a:off x="31896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9712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896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444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6324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618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926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9568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896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06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1760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28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39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508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1804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7845480" y="1566720"/>
            <a:ext cx="7729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618400" y="1566720"/>
            <a:ext cx="2811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19240" y="1571760"/>
            <a:ext cx="842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73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4960" y="1571760"/>
            <a:ext cx="12945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87720" y="1571760"/>
            <a:ext cx="323532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pbreken betonstraatste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ituering: Stationsstra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Totale breedte van 1,5 tot 3,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tonstraatstenen standaard keiformaat;</a:t>
            </a:r>
            <a:br>
              <a:rPr sz="1200"/>
            </a:b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dikte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80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De volgende vrijgekomen materialen vervoeren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categorie 1; ongebroken stenen herbruikbaar ca. 245 m2 naar gemeentewe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verige vrijgekomen materialen worden geacht voor de opdrachtgever geen waarde te hebben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categorie 1; hak- en knipwerk en gebroken stenen ca. 5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798200" y="3941640"/>
            <a:ext cx="4524840" cy="1190880"/>
            <a:chOff x="1798200" y="3941640"/>
            <a:chExt cx="4524840" cy="1190880"/>
          </a:xfrm>
        </p:grpSpPr>
        <p:sp>
          <p:nvSpPr>
            <p:cNvPr id="313" name=""/>
            <p:cNvSpPr/>
            <p:nvPr/>
          </p:nvSpPr>
          <p:spPr>
            <a:xfrm>
              <a:off x="3087720" y="3944880"/>
              <a:ext cx="323532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Niet gebruikt: niet van toepa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Inclusief oppervlakbehandeling of voegvul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Niet gebruikt: niet aanwezig in catalog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Niet gebruikt: niet van toepa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Hele stenen palletteren / pakkett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98200" y="3941640"/>
              <a:ext cx="109800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f9f400"/>
                  </a:solidFill>
                  <a:latin typeface="Arial"/>
                </a:rPr>
                <a:t>         </a:t>
              </a: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              </a:t>
              </a: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                   </a:t>
              </a: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207440" y="614520"/>
            <a:ext cx="187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AAC24-B640-44E6-9D2C-9ED1CB0043A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762120" y="571680"/>
            <a:ext cx="7789680" cy="52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RESULTAATSBESCHRIJVING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5199"/>
              </a:lnSpc>
              <a:buNone/>
              <a:tabLst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CIJFERS ‘99’ IN HOOFD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.00.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.03.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.99.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spost samenstellen met eigen tek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08B25-C4DC-4A63-BED0-6B0D4133CF6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62120" y="571680"/>
            <a:ext cx="8229600" cy="57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GEEN STANDAARD HOOFDCODE?   GEEN DEFICOD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BOUW POST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e voorwaa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e hoeveel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jk naar soortgelijke resultaatsbeschrijv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nk aan bepaling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8D69B-FE0B-48E6-AD67-52699DC46CA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3200" y="64116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ndel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4520" y="1828800"/>
            <a:ext cx="7161840" cy="32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n bestekspostnummers van 6 cijfer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den kosten toege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ekspost eindigend op </a:t>
            </a:r>
            <a:r>
              <a:rPr b="1" lang="en-US" sz="2400" spc="-1" strike="noStrike">
                <a:solidFill>
                  <a:srgbClr val="f9f4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f9f400"/>
                </a:solidFill>
                <a:latin typeface="Arial"/>
              </a:rPr>
              <a:t>betalingsniv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ventueel sommatie onderliggende besteksposten;</a:t>
            </a:r>
            <a:br>
              <a:rPr sz="2400"/>
            </a:b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laatste cijfer </a:t>
            </a:r>
            <a:r>
              <a:rPr b="1" lang="en-US" sz="2400" spc="-1" strike="noStrike">
                <a:solidFill>
                  <a:srgbClr val="ffff01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4D3F6-858D-452F-BB5C-1D87F31C4B3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STEK ALGEME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33cc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508040"/>
            <a:ext cx="71197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6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BESTEK VOLGENS UAV 19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 v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behorende tek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ldende voorw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 van in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ces-verbaal van aanwij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7320D-71D0-4C77-9241-B743C05806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3614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NDELING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1760" y="1276200"/>
            <a:ext cx="838188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ofd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ost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 xx 99    Samenvatting hoeveelheid (V/N/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 .  . .  . .    1e beschrij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 .  . .  . .    2e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Symbol"/>
                <a:ea typeface="Symbol"/>
              </a:rPr>
              <a:t>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 .  . .  . .    3e         </a:t>
            </a:r>
            <a:r>
              <a:rPr b="0" lang="nl-NL" sz="2400" spc="-1" strike="noStrike">
                <a:solidFill>
                  <a:srgbClr val="ffffff"/>
                </a:solidFill>
                <a:latin typeface="Symbol"/>
                <a:ea typeface="Symbol"/>
              </a:rPr>
              <a:t>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n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1397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ij onderliggende posten geen hoeveelheid in kolom ‘Hoeveelheid resultaatsverplichting’ mogelijk: informatie in kolom ‘Hoeveelheid ter inlichting’ (I), en / of in kolom ‘Omschrijving’ vermel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8DC27-AED5-44EB-B6F0-98C718D4AF1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063960" y="1555920"/>
            <a:ext cx="3260520" cy="27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Aanbrengen PVC incl. grondwe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Situering: Kalverstra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Graven en aanvullen sle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In vaste grond met veel hinder van aanwezige kabels, leidingen en boomwort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leufdiepte 0,7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leufbreedte 0,4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Aanbrengen PVC-bu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chte buis, drukklasse PN 8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kleur grij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ominale middellijn 125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0760" y="1504800"/>
            <a:ext cx="77292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93680" y="1504800"/>
            <a:ext cx="84456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522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0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2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99280" y="1555920"/>
            <a:ext cx="49212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91400" y="1555920"/>
            <a:ext cx="77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60720" y="15559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18960" y="457200"/>
            <a:ext cx="8583840" cy="4800600"/>
            <a:chOff x="318960" y="457200"/>
            <a:chExt cx="8583840" cy="4800600"/>
          </a:xfrm>
        </p:grpSpPr>
        <p:sp>
          <p:nvSpPr>
            <p:cNvPr id="329" name=""/>
            <p:cNvSpPr/>
            <p:nvPr/>
          </p:nvSpPr>
          <p:spPr>
            <a:xfrm>
              <a:off x="318960" y="1524240"/>
              <a:ext cx="858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9820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9104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4620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64680" y="1524240"/>
              <a:ext cx="0" cy="37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6216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9296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96040" y="924120"/>
              <a:ext cx="0" cy="433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8960" y="457200"/>
              <a:ext cx="8583840" cy="480060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0700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1832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2928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4024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5120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619840" y="1524240"/>
              <a:ext cx="0" cy="37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845480" y="1555920"/>
            <a:ext cx="77472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620200" y="1555920"/>
            <a:ext cx="28080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98200" y="1633680"/>
            <a:ext cx="910440" cy="28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nl-NL" sz="1200" spc="-1" strike="noStrike">
                <a:solidFill>
                  <a:srgbClr val="be1128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00ff00"/>
                </a:solidFill>
                <a:latin typeface="Arial"/>
              </a:rPr>
              <a:t>              </a:t>
            </a:r>
            <a:r>
              <a:rPr b="1" lang="nl-NL" sz="1200" spc="-1" strike="noStrike">
                <a:solidFill>
                  <a:srgbClr val="be1128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63960" y="5565600"/>
            <a:ext cx="32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66ff66"/>
                </a:solidFill>
                <a:latin typeface="Arial"/>
              </a:rPr>
              <a:t>Besteksposten niet compl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3092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8272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73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83072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168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07440" y="533520"/>
            <a:ext cx="187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C98B1-7338-462C-858D-48FAEC612FA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761760" y="571680"/>
            <a:ext cx="775476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 VOOR </a:t>
            </a: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ELKE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 BESTEKSP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genoeg kostenhom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statie moet meetbaar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antwoorden van de 5 W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EXTRA VOORWAARDEN BUND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latie tussen de onder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betaling op onder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5173A-2801-4F69-BCCD-93AA4770EB4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3 BEPALING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79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nderschei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ministr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chnis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 be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geldend in Standaard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jectgebonden in 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57342-FA69-4024-828C-B7EB34FDEF9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73200" y="45684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lke bepalingen waar 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257480"/>
            <a:ext cx="792504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ff01"/>
              </a:buClr>
              <a:buFont typeface="Arial"/>
              <a:buChar char="•"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Keuzebepal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Indien ...; …tenzij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ff01"/>
              </a:buClr>
              <a:buFont typeface="Arial"/>
              <a:buChar char="•"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Invulbepal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Het bestek vermeldt 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ff01"/>
              </a:buClr>
              <a:buFont typeface="Arial"/>
              <a:buChar char="•"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Eigen bepal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tijd afstemmen op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bepa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aanvulling op ....... (art. / § ...  van  ...) 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afwijking van  ....... (art. / § ...  van  ...) 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49DF8-6E26-45D9-BC2E-A325194D3E6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73200" y="45684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ling algemene 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ministratieve bepaling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851200" y="1316160"/>
            <a:ext cx="1506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20880" y="1523880"/>
            <a:ext cx="1887480" cy="1144800"/>
          </a:xfrm>
          <a:custGeom>
            <a:avLst/>
            <a:gdLst/>
            <a:ahLst/>
            <a:rect l="l" t="t" r="r" b="b"/>
            <a:pathLst>
              <a:path w="1249" h="721">
                <a:moveTo>
                  <a:pt x="0" y="720"/>
                </a:moveTo>
                <a:lnTo>
                  <a:pt x="0" y="0"/>
                </a:lnTo>
                <a:lnTo>
                  <a:pt x="1248" y="0"/>
                </a:lnTo>
                <a:lnTo>
                  <a:pt x="1198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54040" y="1828800"/>
            <a:ext cx="1354320" cy="839880"/>
          </a:xfrm>
          <a:custGeom>
            <a:avLst/>
            <a:gdLst/>
            <a:ahLst/>
            <a:rect l="l" t="t" r="r" b="b"/>
            <a:pathLst>
              <a:path w="913" h="529">
                <a:moveTo>
                  <a:pt x="0" y="528"/>
                </a:moveTo>
                <a:lnTo>
                  <a:pt x="0" y="0"/>
                </a:lnTo>
                <a:lnTo>
                  <a:pt x="912" y="0"/>
                </a:lnTo>
                <a:lnTo>
                  <a:pt x="875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87560" y="2133720"/>
            <a:ext cx="820800" cy="5349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79760" y="2438280"/>
            <a:ext cx="228600" cy="2286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144"/>
                </a:moveTo>
                <a:lnTo>
                  <a:pt x="0" y="0"/>
                </a:lnTo>
                <a:lnTo>
                  <a:pt x="240" y="0"/>
                </a:lnTo>
                <a:lnTo>
                  <a:pt x="23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0120" y="2800440"/>
            <a:ext cx="733788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LG. EN ADM. 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8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8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ijdrage RAW-systemati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8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ijdrage Fonds Collectief Onderz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lgordelijk of eigen numm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overeenkomstig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59080" y="2819520"/>
            <a:ext cx="0" cy="19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12720" y="5219640"/>
            <a:ext cx="1295640" cy="544680"/>
          </a:xfrm>
          <a:custGeom>
            <a:avLst/>
            <a:gdLst/>
            <a:ahLst/>
            <a:rect l="l" t="t" r="r" b="b"/>
            <a:pathLst>
              <a:path w="913" h="289">
                <a:moveTo>
                  <a:pt x="0" y="0"/>
                </a:moveTo>
                <a:lnTo>
                  <a:pt x="0" y="288"/>
                </a:lnTo>
                <a:lnTo>
                  <a:pt x="912" y="288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19360" y="5219640"/>
            <a:ext cx="189000" cy="190440"/>
          </a:xfrm>
          <a:custGeom>
            <a:avLst/>
            <a:gdLst/>
            <a:ahLst/>
            <a:rect l="l" t="t" r="r" b="b"/>
            <a:pathLst>
              <a:path w="145" h="97">
                <a:moveTo>
                  <a:pt x="0" y="0"/>
                </a:moveTo>
                <a:lnTo>
                  <a:pt x="0" y="96"/>
                </a:lnTo>
                <a:lnTo>
                  <a:pt x="144" y="96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120" y="4991040"/>
            <a:ext cx="1530360" cy="230400"/>
          </a:xfrm>
          <a:custGeom>
            <a:avLst/>
            <a:gdLst/>
            <a:ahLst/>
            <a:rect l="l" t="t" r="r" b="b"/>
            <a:pathLst>
              <a:path w="961" h="145">
                <a:moveTo>
                  <a:pt x="0" y="0"/>
                </a:moveTo>
                <a:lnTo>
                  <a:pt x="0" y="144"/>
                </a:lnTo>
                <a:lnTo>
                  <a:pt x="960" y="144"/>
                </a:lnTo>
                <a:lnTo>
                  <a:pt x="960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60600" y="4991040"/>
            <a:ext cx="352440" cy="2304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0"/>
                </a:moveTo>
                <a:lnTo>
                  <a:pt x="0" y="144"/>
                </a:lnTo>
                <a:lnTo>
                  <a:pt x="240" y="144"/>
                </a:lnTo>
                <a:lnTo>
                  <a:pt x="24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B52B-2395-490E-A40C-7FE9457D621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3200" y="45684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ling technische bepaling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51200" y="1316160"/>
            <a:ext cx="1506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20880" y="1523880"/>
            <a:ext cx="1887480" cy="1144800"/>
          </a:xfrm>
          <a:custGeom>
            <a:avLst/>
            <a:gdLst/>
            <a:ahLst/>
            <a:rect l="l" t="t" r="r" b="b"/>
            <a:pathLst>
              <a:path w="1249" h="721">
                <a:moveTo>
                  <a:pt x="0" y="720"/>
                </a:moveTo>
                <a:lnTo>
                  <a:pt x="0" y="0"/>
                </a:lnTo>
                <a:lnTo>
                  <a:pt x="1248" y="0"/>
                </a:lnTo>
                <a:lnTo>
                  <a:pt x="1198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54040" y="1828800"/>
            <a:ext cx="1354320" cy="839880"/>
          </a:xfrm>
          <a:custGeom>
            <a:avLst/>
            <a:gdLst/>
            <a:ahLst/>
            <a:rect l="l" t="t" r="r" b="b"/>
            <a:pathLst>
              <a:path w="913" h="529">
                <a:moveTo>
                  <a:pt x="0" y="528"/>
                </a:moveTo>
                <a:lnTo>
                  <a:pt x="0" y="0"/>
                </a:lnTo>
                <a:lnTo>
                  <a:pt x="912" y="0"/>
                </a:lnTo>
                <a:lnTo>
                  <a:pt x="875" y="0"/>
                </a:lnTo>
              </a:path>
            </a:pathLst>
          </a:custGeom>
          <a:noFill/>
          <a:ln cap="rnd" w="28440">
            <a:solidFill>
              <a:srgbClr val="fff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7560" y="2133720"/>
            <a:ext cx="820800" cy="5349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21080" y="2438280"/>
            <a:ext cx="287280" cy="2286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144"/>
                </a:moveTo>
                <a:lnTo>
                  <a:pt x="0" y="0"/>
                </a:lnTo>
                <a:lnTo>
                  <a:pt x="240" y="0"/>
                </a:lnTo>
                <a:lnTo>
                  <a:pt x="23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2800440"/>
            <a:ext cx="8370720" cy="31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3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EGVERHARDINGE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3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4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ISEN EN UITVOERING STRAAT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3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4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Uitvoering nieuwe kantopsluitingen, goten,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kolken en putdek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n afwijking van art. 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31.42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.03 lid 02 Standaard 2005 mo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lengte van passtukken ten minste 0,40 m bed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lgordelijk of eigen numm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overeenkomstig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92440" y="2819520"/>
            <a:ext cx="0" cy="19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28680" y="5219640"/>
            <a:ext cx="1579680" cy="544680"/>
          </a:xfrm>
          <a:custGeom>
            <a:avLst/>
            <a:gdLst/>
            <a:ahLst/>
            <a:rect l="l" t="t" r="r" b="b"/>
            <a:pathLst>
              <a:path w="913" h="289">
                <a:moveTo>
                  <a:pt x="0" y="0"/>
                </a:moveTo>
                <a:lnTo>
                  <a:pt x="0" y="288"/>
                </a:lnTo>
                <a:lnTo>
                  <a:pt x="912" y="288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98680" y="5219640"/>
            <a:ext cx="409680" cy="190440"/>
          </a:xfrm>
          <a:custGeom>
            <a:avLst/>
            <a:gdLst/>
            <a:ahLst/>
            <a:rect l="l" t="t" r="r" b="b"/>
            <a:pathLst>
              <a:path w="145" h="97">
                <a:moveTo>
                  <a:pt x="0" y="0"/>
                </a:moveTo>
                <a:lnTo>
                  <a:pt x="0" y="96"/>
                </a:lnTo>
                <a:lnTo>
                  <a:pt x="144" y="96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4991040"/>
            <a:ext cx="1025640" cy="230400"/>
          </a:xfrm>
          <a:custGeom>
            <a:avLst/>
            <a:gdLst/>
            <a:ahLst/>
            <a:rect l="l" t="t" r="r" b="b"/>
            <a:pathLst>
              <a:path w="961" h="145">
                <a:moveTo>
                  <a:pt x="0" y="0"/>
                </a:moveTo>
                <a:lnTo>
                  <a:pt x="0" y="144"/>
                </a:lnTo>
                <a:lnTo>
                  <a:pt x="960" y="144"/>
                </a:lnTo>
                <a:lnTo>
                  <a:pt x="960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59040" y="4991040"/>
            <a:ext cx="949320" cy="2304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0"/>
                </a:moveTo>
                <a:lnTo>
                  <a:pt x="0" y="144"/>
                </a:lnTo>
                <a:lnTo>
                  <a:pt x="240" y="144"/>
                </a:lnTo>
                <a:lnTo>
                  <a:pt x="24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C98FF-BB3D-4E96-B93A-F80041D662A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766160" y="4876920"/>
            <a:ext cx="226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040" y="1442880"/>
            <a:ext cx="41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gverhardinge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57520" y="1860480"/>
            <a:ext cx="150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4520" y="2970360"/>
            <a:ext cx="80881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gverhardingen II, algem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faltverhar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onverhar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at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8080" y="2100240"/>
            <a:ext cx="914400" cy="73332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60520" y="2481120"/>
            <a:ext cx="291960" cy="35244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371600" y="4691160"/>
            <a:ext cx="380880" cy="42840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73200" y="495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eling technische bepaling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3EE7C-9D83-47BA-AB0B-624D802D407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766160" y="5423040"/>
            <a:ext cx="192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zeve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8400" y="1278000"/>
            <a:ext cx="423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ofdstuk 11 t/m 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57520" y="1695600"/>
            <a:ext cx="150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4520" y="2592360"/>
            <a:ext cx="808812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Begri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Eisen en 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Informatie-over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Risicoverdeling en garan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Bijbehorende verp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Bouw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Meet- en verrekenmetho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558800" y="5380200"/>
            <a:ext cx="193680" cy="3045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1935000"/>
            <a:ext cx="914400" cy="6573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60520" y="2316240"/>
            <a:ext cx="291960" cy="27612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3200" y="495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eling technische bepaling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5CE84-CB68-4273-AE03-AD322DAAD68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69960" y="419040"/>
            <a:ext cx="724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gemene 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ministratieve bepalin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ts val="2500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Paragraf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emene bepal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aannemings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afwijkingen van verrekenbare hoeveelh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risicoreg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declar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uitvoerings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ekerheidste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dr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bels en leid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gunn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5426F-47B3-405C-859E-AB5857860EE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L BES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29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Contract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aanbeste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eventuele geschi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606E0-7C48-4DB3-B150-29600AA941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09480" y="380880"/>
            <a:ext cx="8001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ts val="3197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ne en administratieve bepalingen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1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erband met andere werk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2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Maatregelen in het belang van het verke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3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waliteitsplan, algemeen tijdschema, werkpla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flexibele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uitvoeringstermij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4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ouwstoff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5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aran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6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erzeker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7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rijgekomen materia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8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scherming te handhaven vegeta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9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rbeidsomstandigh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20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waliteitsbor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21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vereenkomsten met open p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22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):  Te werk stellen van leerlingen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B8B4F-94E8-4DCC-B8A8-13DB0F8D88D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2120" y="3240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CHRIJVINGSDOCUMENTE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182680" y="324180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99880" y="4089240"/>
            <a:ext cx="600660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TLEDING VAN DE AANNEMINGSS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084400" y="300960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19320" y="3009960"/>
            <a:ext cx="230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4C4BE-0A4D-4997-B861-8AC0CBBF8C2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40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76240" y="981000"/>
            <a:ext cx="8115480" cy="793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Productiegebonden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Hoeveelheid met prijs per eenheid of bedrag in 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76240" y="2565360"/>
            <a:ext cx="8115480" cy="265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taartkosten in bedragen in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malige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s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ne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nst en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elp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1917720"/>
            <a:ext cx="243864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TO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6560" y="5373720"/>
            <a:ext cx="299412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NEMINGSS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9F0C5-1456-440E-8E37-C2740F37B5C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71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822960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Eenmalige 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 met eenmalig karak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afhankelijk van productievoortg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 verreken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dere specificaties door opdrachtgever en doo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mogel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of volgens te treffen regeling;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niet toerekenbaar dan % van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6E20A-E560-4F48-BE8D-70BE9E056A0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71480" y="418680"/>
            <a:ext cx="81057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257480"/>
            <a:ext cx="8107200" cy="33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Uitvoerings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, gedeeltelijk op het werk waarneem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van het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4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beginsel niet verreken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m.u.v. art. 01.06.01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903E-B0A9-41DD-8158-330306A9F60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761760" y="1380960"/>
            <a:ext cx="8018280" cy="35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Algemene 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van het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4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inst en r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van het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4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771480" y="418680"/>
            <a:ext cx="81057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361D7-D06C-4618-8DBF-5252F3DCD5B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762120" y="1380600"/>
            <a:ext cx="769608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6200" indent="0">
              <a:lnSpc>
                <a:spcPts val="3197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telp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pn 950010 e.v. resp. hoofdcode 6105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3 Standaard 2005) incl.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svergoeding 5 of 10% (§ 37 UAV 198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0">
              <a:lnSpc>
                <a:spcPts val="3197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0">
              <a:lnSpc>
                <a:spcPts val="3197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Bijd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pn 960010 resp. 960020 in inschrijvingsst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volgens par. 01.08 Standaard 2005: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rt. 01.08.01 resp. 01.08.02 in deel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771480" y="418680"/>
            <a:ext cx="81057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08601-99DF-4AFC-B487-4E450C3E830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81200" y="475920"/>
            <a:ext cx="5713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ERREKENPRIJ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761760" y="16765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FUNCTIE INSCHRIJVINGSSTA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chakel besteksadministr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1.04 lid 05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rekening betalingstermij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Vaststellen verrekenprij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54962-FE5E-4259-8375-F5A7BCD66EF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763560" y="5716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0">
              <a:lnSpc>
                <a:spcPts val="3600"/>
              </a:lnSpc>
              <a:buNone/>
              <a:tabLst>
                <a:tab algn="l" pos="0"/>
                <a:tab algn="l" pos="190512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AV 1989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verrekenprijs alle rechtstreeks voo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 benodigde kost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§ 39 lid 5 UAV 198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ts val="3600"/>
              </a:lnSpc>
              <a:buNone/>
              <a:tabLst>
                <a:tab algn="l" pos="0"/>
                <a:tab algn="l" pos="190512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ts val="3600"/>
              </a:lnSpc>
              <a:buNone/>
              <a:tabLst>
                <a:tab algn="l" pos="0"/>
                <a:tab algn="l" pos="190512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RAW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In verrekenprijs productiegebonden kosten,</a:t>
            </a:r>
            <a:br>
              <a:rPr sz="24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algemene kosten, winst en risico</a:t>
            </a:r>
            <a:br>
              <a:rPr sz="24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Eenmalige kosten en uitvoeringskosten</a:t>
            </a:r>
            <a:br>
              <a:rPr sz="24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blijven buiten beschouwing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2120" y="4648320"/>
            <a:ext cx="6848280" cy="82404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aarom in art. 01.03.03 lid 02 Standaard 200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§ 39 lid 5 UAV 1989 niet van toepa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34337-99D8-469E-8743-17098238E41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ERREKENPRIJS VOLGENS RAW</a:t>
            </a:r>
            <a:br>
              <a:rPr sz="28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3.03 lid 01 Standaard 200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2502000"/>
            <a:ext cx="6541920" cy="22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000" spc="-1" strike="noStrike" u="sng">
                <a:solidFill>
                  <a:srgbClr val="ffff00"/>
                </a:solidFill>
                <a:uFillTx/>
                <a:latin typeface="Arial"/>
              </a:rPr>
              <a:t>algemene kosten + winst en risico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subtota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rcentage afronden op tie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rekenprijs afronden op hele euro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571840"/>
            <a:ext cx="80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p.p.e.+ (          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x 100 %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) x p.p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7D62B-1162-4E69-88D7-86CF83F2BEB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2120" y="133344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Informatiedr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conomisch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aming van kost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alculatie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oetsing van aanbieding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uring en bewaking bouwpro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095560" indent="0">
              <a:lnSpc>
                <a:spcPts val="2798"/>
              </a:lnSpc>
              <a:buNone/>
              <a:tabLst>
                <a:tab algn="l" pos="7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chnisch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statiebeschrijv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raad bij uitvoer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ontrolemid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L BESTE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7A545-3F46-4A4B-8176-B305DCE4E8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ERREKENPRIJS VOLGENS RAW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br>
              <a:rPr sz="28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3.03 lid 01 Standaard 200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rekenbare hoeveelheid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rijs per eenhei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1000 eenhed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 16,50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16.5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ubtotaal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16.5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enmalige kos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1.0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voeringskos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9,1%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4.0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27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lgemene kos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1.000,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Winst en risico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500,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annemingssom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23.0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rekenprijs € 16,50 + 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9,1%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x € 16,50 = € 18,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6019920" y="2666880"/>
            <a:ext cx="569880" cy="1677600"/>
            <a:chOff x="6019920" y="2666880"/>
            <a:chExt cx="569880" cy="1677600"/>
          </a:xfrm>
        </p:grpSpPr>
        <p:sp>
          <p:nvSpPr>
            <p:cNvPr id="431" name=""/>
            <p:cNvSpPr/>
            <p:nvPr/>
          </p:nvSpPr>
          <p:spPr>
            <a:xfrm flipV="1">
              <a:off x="6589800" y="3835080"/>
              <a:ext cx="0" cy="509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19920" y="2666880"/>
              <a:ext cx="563400" cy="1386000"/>
            </a:xfrm>
            <a:custGeom>
              <a:avLst/>
              <a:gdLst/>
              <a:ahLst/>
              <a:rect l="l" t="t" r="r" b="b"/>
              <a:pathLst>
                <a:path w="241" h="913">
                  <a:moveTo>
                    <a:pt x="240" y="0"/>
                  </a:moveTo>
                  <a:lnTo>
                    <a:pt x="0" y="0"/>
                  </a:lnTo>
                  <a:lnTo>
                    <a:pt x="0" y="912"/>
                  </a:lnTo>
                  <a:lnTo>
                    <a:pt x="240" y="912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2743200" y="5477040"/>
            <a:ext cx="3505320" cy="39744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Denk aan afrondingsreg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62920" y="441972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62920" y="24382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812000" y="5373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387C-1DC6-4D3C-B402-99DC42086F7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EB546-2833-444B-8DE4-8E3712D4C7C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69960" y="419040"/>
            <a:ext cx="8093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ormen binnen RAW-best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173340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Aan de orde komen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264780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gerichte resultaatsverplichting (deel 2.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eld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eenkomst met open p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>
            <a:hlinkClick r:id="rId1"/>
          </p:cNvPr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98F01-763D-4028-AC10-7370B3F7EE5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571320" y="596880"/>
            <a:ext cx="838188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1"/>
                </a:solidFill>
                <a:latin typeface="Arial"/>
              </a:rPr>
              <a:t>Productgerich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1"/>
                </a:solidFill>
                <a:latin typeface="Arial"/>
              </a:rPr>
              <a:t>resultaatsverplich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19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 productgerichte resultaatsverplichting is 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undeling resulterend in een herkenbaar onderd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n het we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resultaatsverplichting kenmerkt zich do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heid : st / keer / v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geheel g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enmerk ‘A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>
            <a:hlinkClick r:id="rId1"/>
          </p:cNvPr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08711-8341-4221-9247-6F5D86C656D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987640" y="1523880"/>
            <a:ext cx="32353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Aanbrengen betonnen dui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ond ontgraven t.b.v. sle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ien betonnen pa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kes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oplegmateria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betonnen duik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rechthoekig profie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betonnen stootpl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vullen sle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best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4440" y="1523880"/>
            <a:ext cx="77328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 u="sng">
                <a:solidFill>
                  <a:srgbClr val="ffff01"/>
                </a:solidFill>
                <a:uFillTx/>
                <a:latin typeface="Arial"/>
              </a:rPr>
              <a:t>42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17720" y="1523880"/>
            <a:ext cx="84456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551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0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11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25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51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731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0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21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22960" y="1523880"/>
            <a:ext cx="4921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15080" y="1523880"/>
            <a:ext cx="773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481520" y="152388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43000" y="457200"/>
            <a:ext cx="8583480" cy="4876560"/>
            <a:chOff x="243000" y="457200"/>
            <a:chExt cx="8583480" cy="4876560"/>
          </a:xfrm>
        </p:grpSpPr>
        <p:sp>
          <p:nvSpPr>
            <p:cNvPr id="450" name=""/>
            <p:cNvSpPr/>
            <p:nvPr/>
          </p:nvSpPr>
          <p:spPr>
            <a:xfrm>
              <a:off x="243000" y="1541160"/>
              <a:ext cx="8582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2224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1472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6988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8360" y="1541160"/>
              <a:ext cx="0" cy="379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8620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1700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20080" y="931320"/>
              <a:ext cx="0" cy="440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000" y="457200"/>
              <a:ext cx="8583480" cy="487656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104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4200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5296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6428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7524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43520" y="1541160"/>
              <a:ext cx="0" cy="379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7769160" y="1523880"/>
            <a:ext cx="774720" cy="37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.52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6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14,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7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192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.03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543880" y="1523880"/>
            <a:ext cx="2113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556560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400" spc="-1" strike="noStrike">
                <a:solidFill>
                  <a:srgbClr val="f9f400"/>
                </a:solidFill>
                <a:latin typeface="Arial"/>
              </a:rPr>
              <a:t>Ter indicat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54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06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697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754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572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99800" y="614520"/>
            <a:ext cx="19648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rId1"/>
          </p:cNvPr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57FCC-770B-4D8C-BA94-6E79AA27401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669960" y="291960"/>
            <a:ext cx="724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RAW-beeldbestekk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685440" y="1549080"/>
            <a:ext cx="762012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n beeldbestek is een besteksvorm waarbij word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itgegaan van de beschrijving van kwaliteitsnivea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beeldbestek kenmerkt zich doo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chrijving in kwaliteitsnivea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voorkomende werkzaam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nheid in we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bare resulta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58954-B76D-498C-9E9D-0F5CAA63AF1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094200" y="1566720"/>
            <a:ext cx="3306600" cy="28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nkruidbeheersing in beplantingsv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Situering: Renkum Oost, zie tek. A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ppervlakte te onderhouden percelen: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ca 500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Aantal te onderhouden percelen: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19 stu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Horizontaal of met een talud flauwer dan 1: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treft: bodembedekkende he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Leeftijd beplanting: ca. 3 jaar of meer na aan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Kwaliteitsniveau B (onkruidbeheersing, standaa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eriode: in groeiseizo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rijgekomen materiaal verwerken volgens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bestekspostnummer 201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142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48520" y="1566720"/>
            <a:ext cx="685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59240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062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314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05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862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336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490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1566720"/>
            <a:ext cx="137160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697960" y="156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996320" y="1571760"/>
            <a:ext cx="70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07440" y="614520"/>
            <a:ext cx="192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AE9F2-34C3-45B9-9386-F0F1E0A18DB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84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Beschrijving in kwaliteitsniveau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84280" y="1257120"/>
            <a:ext cx="8076960" cy="46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ier kwaliteitsnivea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A: intensief beh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B: standaard beh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C: extensief beh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D: extensief, referentie niveau voor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waliteitsniveaus zijn gestandaardisee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n op elkaar afgeste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9DBF-B0A2-4676-893D-705965F6F74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1"/>
                </a:solidFill>
                <a:latin typeface="Arial"/>
              </a:rPr>
              <a:t>Overeenkomsten met open posten (OMOP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8400" y="1968480"/>
            <a:ext cx="80773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76200" indent="-37620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ctvorm voor het geval da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get bekend (en beschikbaar)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mzetverwachting (daarmee) in te schatte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rd van meest voorkomende werkzaamheden bekend is (de onderlinge verhouding ‘bij benadering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a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440" y="47239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eveelheden en/of de datum van uitvoering niet bekend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BDCB1-E98B-4EED-8224-5827065BF8F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84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eenkomst met open post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730160"/>
            <a:ext cx="7772400" cy="10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RAW Raambestek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het </a:t>
            </a:r>
            <a:r>
              <a:rPr b="0" lang="nl-NL" sz="2400" spc="-1" strike="noStrike" u="sng">
                <a:solidFill>
                  <a:srgbClr val="ffff00"/>
                </a:solidFill>
                <a:uFillTx/>
                <a:latin typeface="Arial"/>
              </a:rPr>
              <a:t>uitvoer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van </a:t>
            </a: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rkzaamhed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onderhoud riool, bestrating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84280" y="3162240"/>
            <a:ext cx="77724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W Servicebeste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or het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p afroep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uitvoer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a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erkzaamhed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egslepen voertuigen, gladheidsbestrijding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D5889-BE75-4CFC-AFE8-0865A6BE68E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762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SENTIËLE INFORMAT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27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v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voorwaar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hoeveelhe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3120" y="4556160"/>
            <a:ext cx="7718400" cy="824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Alle kostenbeïnvloedende factoren moeten vo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zover mogelijk in het bestek tot uitdrukking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7B3FF-8E55-48B9-A6E6-A07835CF74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84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Kenmerken OMO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84280" y="1257480"/>
            <a:ext cx="7772400" cy="209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nmerk resultaatsverplich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O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veelheid resultaatsverplich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*******,**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veelheid ter inlich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*******,**’ L / T /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at met fictieve hoeveelheden bij inschrij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46429-A3C0-44E4-9223-E0BFBE064B2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094200" y="1566720"/>
            <a:ext cx="33066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trottoirbanden van b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engte per deelopdracht: van 0 tot 25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ellen met schraal beton op zand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 voorzien van steunrug van</a:t>
            </a:r>
            <a:r>
              <a:rPr b="1" lang="en-US" sz="1200" spc="-1" strike="noStrike">
                <a:solidFill>
                  <a:srgbClr val="ee1128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schraal beton B25, milieuklasse 3. Te rekenen met 0,06 m3 per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ngs de trottoirbanden 1 rollaag van betonstraatstenen in cementspecie aanbrengen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, standaard dikformaat, dik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80 mm, kleur heidepaa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Te rekenen met 0,01 m3 cementspecie per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fiel 180/200 x 200 mm</a:t>
            </a:r>
            <a:r>
              <a:rPr b="1" lang="en-US" sz="1200" spc="-1" strike="noStrike">
                <a:solidFill>
                  <a:srgbClr val="ee1128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ang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3050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14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24480" y="1566720"/>
            <a:ext cx="60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584840" y="1566720"/>
            <a:ext cx="30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62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314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05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862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336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538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828800" y="1566720"/>
            <a:ext cx="1371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4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6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5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697960" y="156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996320" y="1571760"/>
            <a:ext cx="70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07440" y="614520"/>
            <a:ext cx="192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997760" y="274320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686800" y="27194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334200" y="194796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9520" y="338616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329520" y="375300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334200" y="265752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993080" y="200016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997760" y="345744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993080" y="385776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686800" y="197640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686800" y="34196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682120" y="38242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48D8C-D557-4485-A529-A458C17A565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8720" y="608040"/>
            <a:ext cx="171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76240" y="1606680"/>
            <a:ext cx="1979640" cy="1258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76240" y="4808520"/>
            <a:ext cx="1979640" cy="4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V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74880" y="2870280"/>
            <a:ext cx="0" cy="34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4880" y="4464000"/>
            <a:ext cx="0" cy="336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93920" y="1469880"/>
            <a:ext cx="583596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; tekeningen; voorwaarden;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 van inl.; proces verbaal van aanw.; inschrijvingsbiljet en inschrijvingsstaa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balans; bijbehorende staten;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95720" y="3679920"/>
            <a:ext cx="235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76240" y="3209760"/>
            <a:ext cx="1979640" cy="1258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5000" y="604800"/>
            <a:ext cx="225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GO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7E886-10A0-4C0F-A3A1-CF490E7646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8T14:17:12Z</dcterms:created>
  <dc:creator>Henk Deenik</dc:creator>
  <dc:description/>
  <dc:language>en-US</dc:language>
  <cp:lastModifiedBy>Deenik</cp:lastModifiedBy>
  <cp:lastPrinted>2001-01-05T12:37:35Z</cp:lastPrinted>
  <dcterms:modified xsi:type="dcterms:W3CDTF">2007-06-25T12:21:53Z</dcterms:modified>
  <cp:revision>88</cp:revision>
  <dc:subject/>
  <dc:title>Onderwijsmodule</dc:title>
</cp:coreProperties>
</file>