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83800" y="747360"/>
            <a:ext cx="489276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D5478D-8460-4C54-8390-62DCB06D608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FBE5E91-7B70-46A4-B415-08A85784259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kom en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bepaling in kader van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betervoorstel doorgevoerd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 vervangen door ‘niet zijnd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880920" y="74448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heet ongewijzigd doorgevoerd: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 bundelingen moet zowel ‘I’ als ‘L’ worden ingev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B3D23B-41B2-4156-9847-85C9107217B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6A6BB4-3B79-4997-A2F3-B4B5F7F758E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F8BC6F-59F2-414F-88D7-F6DB33A2B40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standaardiseerd: niveau A moet in gemeente X hetzelfde zijn als in gemeent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 elkaar afgestemd: niveau A van het ene onderwerp (bv grof zwerfvuil) is qua beeld vergelijkbaar met niveau A van een ander onderwerp (bv veegvu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C1428E-A3B2-44C2-8F7B-F531E38BA92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A550B-84F4-4853-BC5A-37A08144C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FD1D-AFB6-4D06-B049-EE895997F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12F38-71E5-497E-8A81-1DA7B18EC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74BD-7BD7-4E31-BB3E-63DA5F9428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CE1D3-F8F0-46EB-A317-227967D576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70CB-C4E2-49DC-B3DC-0A68CB7AA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9B11F-28C8-43AD-9890-8FCB9D29C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29042-01C6-4D4D-98E1-8F59F5A2A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5009A-D45C-4AD3-B54F-A64D04917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108D-EABF-4D26-BD88-9CFB7E7D4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977D-BF2A-4FB0-8106-3DB572C5D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61DD-C0E0-44D7-8684-CEE9DE609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956200"/>
            <a:ext cx="9144000" cy="9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95280" y="6513120"/>
            <a:ext cx="510552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222960" y="6000840"/>
            <a:ext cx="2363760" cy="834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84840" y="6513120"/>
            <a:ext cx="1523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4507-17DD-4367-A28D-DA0D0BFB9B0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317520" cy="1714680"/>
          </a:xfrm>
          <a:prstGeom prst="rect">
            <a:avLst/>
          </a:prstGeom>
          <a:solidFill>
            <a:srgbClr val="ce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527880"/>
            <a:ext cx="317520" cy="330120"/>
          </a:xfrm>
          <a:prstGeom prst="rect">
            <a:avLst/>
          </a:prstGeom>
          <a:solidFill>
            <a:srgbClr val="ce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1650960"/>
            <a:ext cx="7705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Onderwijsmodule</a:t>
            </a:r>
            <a:br>
              <a:rPr sz="44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op basis van Standaard 2005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sie mei 200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2773440"/>
            <a:ext cx="2432160" cy="223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70621-6E4A-4840-B570-898D42F29E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9680" y="129528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197"/>
              </a:lnSpc>
              <a:buNone/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UAV 1989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 § 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Van toepassing zijnde voorschriften,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tegenstrijdige 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dig tenzij afgeweken in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oepassing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noemde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 N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nor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derlands re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tegenstrijdig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uw vóór ou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óór teken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zonder vóór algeme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uitkomst: uitleg ten nadele van opsteller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schuwingsplicht aannemer bij tegenstrijdig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0C5D-FEF3-4328-8D08-41313AE06E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61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0040" y="125712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STANDAARD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N-normen volgens ‘Normenoverzicht GWW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jziging wordt ‘automatisch’ van kra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 boven Stand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latie technische bepalingen en pro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tus gedrukt versus automatisch lees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uitzondering andere docume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BD62E-BCFD-4F9E-ACB5-F641C780F7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24040" y="1646280"/>
            <a:ext cx="5627520" cy="30369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1800" y="731880"/>
            <a:ext cx="7315200" cy="7621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ARD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89120" y="744480"/>
            <a:ext cx="7567200" cy="596880"/>
            <a:chOff x="789120" y="744480"/>
            <a:chExt cx="7567200" cy="596880"/>
          </a:xfrm>
        </p:grpSpPr>
        <p:sp>
          <p:nvSpPr>
            <p:cNvPr id="87" name=""/>
            <p:cNvSpPr/>
            <p:nvPr/>
          </p:nvSpPr>
          <p:spPr>
            <a:xfrm>
              <a:off x="798840" y="744480"/>
              <a:ext cx="7557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9120" y="874800"/>
              <a:ext cx="748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tandaardteksten (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BB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   Resultaatsbeschrijvi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656160" y="1579680"/>
            <a:ext cx="16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38240" y="2027160"/>
            <a:ext cx="5205600" cy="1847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0  Totstandk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2  BESCHRIJVING (pos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3 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16160" y="5300640"/>
            <a:ext cx="6497640" cy="5335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STANDAARD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4280" y="3821040"/>
            <a:ext cx="25214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06960" y="4734000"/>
            <a:ext cx="79524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0560" y="1189080"/>
            <a:ext cx="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09760" y="1189080"/>
            <a:ext cx="3981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9760" y="1951200"/>
            <a:ext cx="12175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99640" y="5618160"/>
            <a:ext cx="42228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898560" y="3170160"/>
            <a:ext cx="0" cy="2448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1701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6021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6440" y="3284640"/>
            <a:ext cx="984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28080" y="3284640"/>
            <a:ext cx="0" cy="118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80000" y="4465800"/>
            <a:ext cx="25480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38240" y="254160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8240" y="298944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898560" y="230616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230652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70480" y="731880"/>
            <a:ext cx="0" cy="762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8160" y="1112760"/>
            <a:ext cx="280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08960" y="1112760"/>
            <a:ext cx="0" cy="2028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35920" y="3141720"/>
            <a:ext cx="136044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46160" y="343368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95320" y="27255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BD0D0-D460-4265-9278-2754176DDA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ARD BESTEKSINDE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6560" y="1233360"/>
            <a:ext cx="4498920" cy="1295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0  Totstandko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overeenkom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van belang vóór g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800" y="4052880"/>
            <a:ext cx="4498920" cy="1752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2 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m.b.t. het 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2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at van besteksp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02160" y="1233360"/>
            <a:ext cx="3490920" cy="1295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3 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emeen en administrat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00720" y="2833560"/>
            <a:ext cx="3490920" cy="2971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Vaste bij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&amp;G-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rondba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9800" y="2833560"/>
            <a:ext cx="449892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1 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m.b.t. de overeenkom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C150-74FA-4CCC-AAA0-D7926FD295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72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0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Totstandkoming</a:t>
            </a:r>
            <a:br>
              <a:rPr sz="4400"/>
            </a:b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overeenkom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839960"/>
            <a:ext cx="81309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aragra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ende die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76CF-C8F4-4D07-8505-7A5951F3BB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577800"/>
            <a:ext cx="813096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ENDE DIENST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uropees / nation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s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 aanbestedingsreg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LICHTINGEN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, wanne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331F-7FD0-4A62-8E26-AC5DB5D28F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409400"/>
            <a:ext cx="830556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 op 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tleding aannemingssom op 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ternatieve aanbied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neme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bied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lternatief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an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geve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vraag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arian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 in afzonderlijke envelop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: artikel 01.01.02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65A5-810B-4539-B0F2-E2FB97FA9E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1409400"/>
            <a:ext cx="824688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indtotaal moet kloppen met bedrag op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leen productiekosten in prijs per e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.q. bedrag in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 niet in prijs per e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.q. bedrag in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mag eenmalige kosten specific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5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: artikel 01.01.03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FF760-E989-4D8B-AE56-52EC94D015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1371240"/>
            <a:ext cx="82468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ag – datum – 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catie en pla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6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07DA-B205-4A32-8871-7045C77C93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1760" y="1380600"/>
            <a:ext cx="8094600" cy="28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verrekenprijzen gunningscriterium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verrekenprijzen kennelijk onredelijk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7 dagen geleg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 ontleding aan te p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malige correctiepos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762120" y="488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: artikel 01.01.04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6D253-3877-424B-9509-A5DD3D9258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34360" y="2577960"/>
            <a:ext cx="145404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ONDERDELEN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RAW-SYSTEMATI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atalogus met resultaatsbeschrijv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andleiding RAW-systematiek (spelreg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RAW 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nd met keuze- en invulbepalingen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Besteksbestand RAW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858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INLE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FE19-0B49-4D2B-8053-4521805220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960" y="1565280"/>
            <a:ext cx="68389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1138320" indent="-376200">
              <a:lnSpc>
                <a:spcPts val="3600"/>
              </a:lnSpc>
              <a:tabLst>
                <a:tab algn="l" pos="0"/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UNNINGS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8320" indent="-37620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832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uit de inschrijvingsstaat te herleiden verrekenprij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808E-5919-4DAD-9B6F-EAF079260F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3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413000"/>
            <a:ext cx="81309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aragra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Opdracht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Dir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Algemene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ijdsbep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Onderhoudsterm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Kwaliteitsbo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547CF-AC64-4396-B40D-1FFC154F19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577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1  OPDRACHTG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2  DIR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3  LOCATIE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van 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4D9A8-7BEC-4B4F-9EDB-5AAE09D6B2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BESCHRIJV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ha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hoeveel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A1AB2-3C02-4642-B26D-DF413997BE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IJDSBEPAL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sduur, tijdstip oplev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076480" indent="-228600">
              <a:lnSpc>
                <a:spcPts val="3600"/>
              </a:lnSpc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lexibele uitvoeringstermijn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art. 01.13.07 Standaard 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076480" indent="-228600">
              <a:lnSpc>
                <a:spcPts val="3600"/>
              </a:lnSpc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ste termijn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§ 8 UAV 19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rting bij tijdsoverschrijding anders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an in § 42 lid 2 UAV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onodig relaties tijdstippen vastleggen</a:t>
            </a:r>
            <a:br>
              <a:rPr sz="2400"/>
            </a:b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§ 42 lid 4 UAV 19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ts val="3600"/>
              </a:lnSpc>
              <a:buNone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1733-8189-4C49-93DB-C567967A82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DERHOUDSTERMIJN 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doeld in § 11 lid 1 UAV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EITSBORGING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langen kwaliteitsplan indien gewerkt wordt onder kwaliteitsborging overeenkomstig par. 01.13 en 01.20 van de Standaard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dat geval in Deel 0 bij par. 0.04 van de inschrijver een kopie kwaliteitssysteemcertificaat verl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3223-6C12-4B01-B776-DD4C28778A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285480"/>
            <a:ext cx="82645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1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557360"/>
            <a:ext cx="84582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enin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ilen en hoofdafmetin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eitsborging (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indien I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oppunten ver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la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horend tot bestek bijv. V&amp;G-plan, grondbalans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gevens t.b.v. bemal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. 21.03.01 Standaard 200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r informatie bijv. rapport bodem- en wateronderzoek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. 17.04.01 Standaard 200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5694-AC2B-4C2F-966C-2DA3695F96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101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ts val="998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vullende rubrieken zoa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mechanische gegev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erstan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re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3200" y="1622520"/>
            <a:ext cx="761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5080" y="1171440"/>
            <a:ext cx="673200" cy="2287800"/>
          </a:xfrm>
          <a:custGeom>
            <a:avLst/>
            <a:gdLst/>
            <a:ahLst/>
            <a:rect l="l" t="t" r="r" b="b"/>
            <a:pathLst>
              <a:path w="433" h="1441">
                <a:moveTo>
                  <a:pt x="0" y="0"/>
                </a:moveTo>
                <a:lnTo>
                  <a:pt x="432" y="0"/>
                </a:lnTo>
                <a:lnTo>
                  <a:pt x="432" y="1440"/>
                </a:lnTo>
                <a:lnTo>
                  <a:pt x="0" y="14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91BF-AEE1-4D80-AE27-1A693A543F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720" y="285480"/>
            <a:ext cx="7966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2  Vaste pagin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1240" y="1195560"/>
            <a:ext cx="802188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URIDISCHE VERANTWO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klaring van de hierna volgende 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enmerk resultaatsverp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enzen van de situ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A31CB-C0C9-43D0-95B2-9705DF44A2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73200" y="457200"/>
            <a:ext cx="717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rekenbare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5720" y="1523880"/>
            <a:ext cx="81536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wijzing naar § 38 lid 1 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el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le afwijkingen worden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bij voorkeur te gebruiken; in ieder geval indien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de uitvoering afwijkingen worden verwa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25FB9-9B2B-4ACA-86F5-88A947FFD6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8105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ITGANGSPUNTEN RAW-SYSTEMATI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0040" y="137160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ijkwaardigheid va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 (ARW 2005 / UAR-EG 1991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 UAV 1989 resp. UAV-TI 1992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.a. afbakening verantwoordelijkheden (§ 5 en § 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genoeg kostenhom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duidige en relevante inform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rijheid in wijze van uitvoering en keuze van materi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4927-05DD-40A2-BED1-30D5305D10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iet verrekenbare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5720" y="1523880"/>
            <a:ext cx="8153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wijzing naar § 38 lid 2 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el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tot en met 10% worden niet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oede 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worden niet verwacht tijdens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standigheden hebben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irectie heeft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4AA9D-26B2-4480-98C1-9070B9B999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73200" y="457200"/>
            <a:ext cx="717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 accorderen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5720" y="1523880"/>
            <a:ext cx="794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wijzing naar art. 01.01.05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óór aanvang uitvoe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rden hoeveelheden vastgesteld; daarbij worden…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wijking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controlefase worden verrek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eenkomstig art. 01.01.06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wijking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uitvoeringsfase niet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F8A02-2D9F-4815-A4D1-98CEB831C5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 accorderen hoeveelhed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5720" y="1523880"/>
            <a:ext cx="85582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oede 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worden niet verwacht tijdens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standigheden hebben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irectie heeft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vooraf controleerbaar op basis va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, tekeningen en gegevens opdracht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geva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B6770-E89D-4B1F-A2DC-811B59AE29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nneer welke hoeveelhei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720" y="1562040"/>
            <a:ext cx="855828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rekenbaa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waarop afwijkingen te verwacht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 verrekenbaa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uwkeurige hoeveelheden waarop geen afwijkingen worden ver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e accorder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uwkeurige hoeveelheden waarop geen afwijkingen worden verwacht en welke controleerbaar zijn aan d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and van bestek, documenten en aanvullende gegev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2940F-F585-4998-8223-CCFB4C5DA5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628200"/>
            <a:ext cx="7772400" cy="4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504440"/>
            <a:ext cx="8229600" cy="43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’ uitsluitend ter inlichting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nzij af te leiden uit resultaatsverp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levert bouwstof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gever stelt bouwstof ter beschikk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 het werk komende bouwstoff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rkomst in kolom ‘omschrijving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 (calculatiegegeven)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is inclusief verwerk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ter in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5280" y="2743200"/>
            <a:ext cx="3019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67480" y="4559400"/>
            <a:ext cx="627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08800" y="322596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02FD0-56F2-4017-8FF5-E2E2068367D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46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EL 2.2  BESTEKSPOSTNUM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0344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352520"/>
            <a:ext cx="831204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rijving van alle benodigde ‘klussen’ in besteks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gevolg van betaling naar productie en kostenhomogeniteit kan het aantal posten groo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arom indeling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eling besteksposten door bestekschrij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6E0C-8927-4382-BDBF-6B01E31C92C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GELIJKE INDELING BESTEKSPOS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572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-3769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werkcatego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we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ha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envoorzien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-3769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ering i.v.m. verkeer e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27640" y="1676520"/>
            <a:ext cx="31305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constru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hoo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j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k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p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88E8-97A7-4A76-A589-445096D8544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49160" y="604800"/>
            <a:ext cx="504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EKSPOSTNUMM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1040" y="1527120"/>
            <a:ext cx="995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1400" y="4727520"/>
            <a:ext cx="140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81240" y="1467000"/>
            <a:ext cx="282600" cy="2668320"/>
          </a:xfrm>
          <a:custGeom>
            <a:avLst/>
            <a:gdLst/>
            <a:ahLst/>
            <a:rect l="l" t="t" r="r" b="b"/>
            <a:pathLst>
              <a:path w="193" h="1681">
                <a:moveTo>
                  <a:pt x="0" y="0"/>
                </a:moveTo>
                <a:lnTo>
                  <a:pt x="192" y="0"/>
                </a:lnTo>
                <a:lnTo>
                  <a:pt x="192" y="1680"/>
                </a:lnTo>
                <a:lnTo>
                  <a:pt x="0" y="168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81240" y="4667400"/>
            <a:ext cx="282600" cy="458640"/>
          </a:xfrm>
          <a:custGeom>
            <a:avLst/>
            <a:gdLst/>
            <a:ahLst/>
            <a:rect l="l" t="t" r="r" b="b"/>
            <a:pathLst>
              <a:path w="193" h="289">
                <a:moveTo>
                  <a:pt x="0" y="0"/>
                </a:moveTo>
                <a:lnTo>
                  <a:pt x="192" y="0"/>
                </a:lnTo>
                <a:lnTo>
                  <a:pt x="192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7840" y="2517840"/>
            <a:ext cx="185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4 cijfers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02080" y="2146320"/>
            <a:ext cx="3031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ije tek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.b.v. onderve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eks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57160" y="4651200"/>
            <a:ext cx="1669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cijfers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04240" y="4292640"/>
            <a:ext cx="3962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stell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m.b.v.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3F3C1-F25C-43E7-99BC-4899F284D9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52600"/>
            <a:ext cx="810576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7 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GROENVOORZIENIN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1574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7160" y="1488960"/>
            <a:ext cx="5522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WERKEN EN Z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 00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 plant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ken plant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tten plan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zen plan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nten van 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en van 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nbrengen boomp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7B663-C4BB-4A30-B2E3-060AA67C3A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3080" y="475920"/>
            <a:ext cx="7754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2  HOOFDCO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0480" y="1295280"/>
            <a:ext cx="814860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OO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NTREINIGDE GROND EN VERONTR.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M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EUF- EN SLEUFLOZE TECHN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ABEL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ERPU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2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UNDERINGS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zovoort t/m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3E80F-06C3-4E14-8F43-EB0CC810C3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RIJHEID IN WIJZE VAN UITVOERING EN</a:t>
            </a: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KEUZE VAN MATERIE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9680" y="1790280"/>
            <a:ext cx="82566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zij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ns op onherstelbare fou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venredig groot r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erming belangen van de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waliteitseisen alleen bij bepaalde uitvoering haal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2E193-E826-4FAE-BB53-5AC4840A11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52560" y="13129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84120"/>
            <a:ext cx="7256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scheiden, verdichten en prof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863640"/>
            <a:ext cx="907920" cy="37476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0" y="288"/>
                </a:moveTo>
                <a:lnTo>
                  <a:pt x="0" y="0"/>
                </a:lnTo>
                <a:lnTo>
                  <a:pt x="57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5181480"/>
            <a:ext cx="1162080" cy="530280"/>
          </a:xfrm>
          <a:custGeom>
            <a:avLst/>
            <a:gdLst/>
            <a:ahLst/>
            <a:rect l="l" t="t" r="r" b="b"/>
            <a:pathLst>
              <a:path w="673" h="241">
                <a:moveTo>
                  <a:pt x="0" y="0"/>
                </a:moveTo>
                <a:lnTo>
                  <a:pt x="0" y="240"/>
                </a:lnTo>
                <a:lnTo>
                  <a:pt x="672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A416B-E447-49D9-94E5-BA45EA96B43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70360" y="630360"/>
            <a:ext cx="228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45600" y="1209600"/>
            <a:ext cx="262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8760" y="1743120"/>
            <a:ext cx="191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g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52640" y="3060720"/>
            <a:ext cx="690480" cy="273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36880" y="3594240"/>
            <a:ext cx="692280" cy="219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66960" y="2527200"/>
            <a:ext cx="691920" cy="3264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19444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35600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89640" y="3648240"/>
            <a:ext cx="247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84240" y="4410000"/>
            <a:ext cx="345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nd ontgraven uit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84600" y="5248440"/>
            <a:ext cx="458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rond ontgraven uit opho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8756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7180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5748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7180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5748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8756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8756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7180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87560" y="25812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82840" y="221616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91080" y="2581200"/>
            <a:ext cx="265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97160" y="168264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2920" y="11494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9AA74-D095-4181-93FB-DB40031352C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95640" y="5565600"/>
            <a:ext cx="32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Besteksposten niet compl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94200" y="1566720"/>
            <a:ext cx="3235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 ontgraven uit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u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Veiligheidsklasse: basiskla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Situering: Ketel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: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klei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0,40 m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604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veen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0,50 m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756 m3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sbepaling: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aan de hand 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meting in het werk in profiel van ontgr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en gescheiden ontgra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hoogte gemiddeld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0,90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breedte op bodem gemidd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5,40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luds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oegestane positieve en negatieve afwijking 0,0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212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9520" y="1566720"/>
            <a:ext cx="49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13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2240" y="858960"/>
            <a:ext cx="106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13680" y="630360"/>
            <a:ext cx="50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0256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5952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160" y="641520"/>
            <a:ext cx="7794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224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9520" y="1566720"/>
            <a:ext cx="108108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06360" y="614520"/>
            <a:ext cx="194076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ode       1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37B9-8EAB-438C-AA78-01BB1B4A2F2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94200" y="1566720"/>
            <a:ext cx="32353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brengen PVC-bu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Velperpl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chte buis, drukklasse PN 8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kleur grij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ominale middellijn 16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binding buizen vrijvervalriool d.m.v. mof met rubbermanch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1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2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29520" y="1566720"/>
            <a:ext cx="4921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257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9880" y="1566720"/>
            <a:ext cx="12945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651880" y="1566720"/>
            <a:ext cx="277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96320" y="1571760"/>
            <a:ext cx="70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4FAF-192A-4040-BBC4-32F433DFFBA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RESULTAATSBESCHRIJVING: 5 W’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212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t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va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voorwaar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hoeveelhe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: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m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463AC-CB43-4E75-A5D7-5ADE45326E6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EL 2.2 BIJZONDERHED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400" y="1238040"/>
            <a:ext cx="6764400" cy="48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EEN CIJFER IN DEFI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tekst op positie in catalo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st door bestekschrijver niet gebrui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er mag geen informatie ontbre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CIJFER ‘9’ IN DEFICODE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(eigen tek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juiste keuze mog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voegen twee defi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1FF29-8EC9-4A40-937B-D6981317517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1896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12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97480" y="1566720"/>
            <a:ext cx="49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8960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6072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3092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8272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73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83072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168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8960" y="533520"/>
            <a:ext cx="8582040" cy="4724280"/>
            <a:chOff x="318960" y="533520"/>
            <a:chExt cx="8582040" cy="4724280"/>
          </a:xfrm>
        </p:grpSpPr>
        <p:sp>
          <p:nvSpPr>
            <p:cNvPr id="292" name=""/>
            <p:cNvSpPr/>
            <p:nvPr/>
          </p:nvSpPr>
          <p:spPr>
            <a:xfrm>
              <a:off x="31896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9712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896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444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6324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618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926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9568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896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06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1760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28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39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508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1804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7845480" y="1566720"/>
            <a:ext cx="7729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18400" y="1566720"/>
            <a:ext cx="2811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19240" y="1571760"/>
            <a:ext cx="84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73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4960" y="1571760"/>
            <a:ext cx="1294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87720" y="1571760"/>
            <a:ext cx="323532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pbreken betonstraatste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ituering: Stations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Totale breedte van 1,5 tot 3,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tonstraatstenen standaard keiformaat;</a:t>
            </a:r>
            <a:br>
              <a:rPr sz="1200"/>
            </a:b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dikte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80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De volgende vrijgekomen materialen vervoeren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tegorie 1; ongebroken stenen herbruikbaar ca. 245 m2 naar gemeentewe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verige vrijgekomen materialen worden geacht voor de opdrachtgever geen waarde te hebben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tegorie 1; hak- en knipwerk en gebroken stenen ca. 5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798200" y="3941640"/>
            <a:ext cx="4524840" cy="1190880"/>
            <a:chOff x="1798200" y="3941640"/>
            <a:chExt cx="4524840" cy="1190880"/>
          </a:xfrm>
        </p:grpSpPr>
        <p:sp>
          <p:nvSpPr>
            <p:cNvPr id="313" name=""/>
            <p:cNvSpPr/>
            <p:nvPr/>
          </p:nvSpPr>
          <p:spPr>
            <a:xfrm>
              <a:off x="3087720" y="3944880"/>
              <a:ext cx="32353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van toepa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Inclusief oppervlakbehandeling of voegvul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aanwezig in catalog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van toepa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Hele stenen palletteren / pakkett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98200" y="3941640"/>
              <a:ext cx="109800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f9f400"/>
                  </a:solidFill>
                  <a:latin typeface="Arial"/>
                </a:rPr>
                <a:t>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     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          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207440" y="614520"/>
            <a:ext cx="187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96A58-4237-414C-86C1-E3EB7437FDA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62120" y="571680"/>
            <a:ext cx="7789680" cy="52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ESULTAATSBESCHRIJVING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5199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CIJFERS ‘99’ IN HOOFD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00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03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99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spost samenstellen met eigen tek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D1110-8F36-4829-8D56-5FDE4D8E066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6212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EEN STANDAARD HOOFDCODE?   GEEN DEFICOD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BOUW POST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voorwaa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hoeveel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jk naar soortgelijke resultaatsbeschrijv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nk aan bepaling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CFDD-1318-4EA4-AF37-84591D2D31F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3200" y="64116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ndel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4520" y="1828800"/>
            <a:ext cx="716184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n bestekspostnummers van 6 cijfe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den kosten toege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ekspost eindigend op </a:t>
            </a:r>
            <a:r>
              <a:rPr b="1" lang="en-US" sz="2400" spc="-1" strike="noStrike">
                <a:solidFill>
                  <a:srgbClr val="f9f4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9f400"/>
                </a:solidFill>
                <a:latin typeface="Arial"/>
              </a:rPr>
              <a:t>betalingsniv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ventueel sommatie onderliggende besteksposten;</a:t>
            </a:r>
            <a:br>
              <a:rPr sz="2400"/>
            </a:b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laatste cijfer </a:t>
            </a:r>
            <a:r>
              <a:rPr b="1" lang="en-US" sz="2400" spc="-1" strike="noStrike">
                <a:solidFill>
                  <a:srgbClr val="ffff01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3774D-BA07-455A-9368-360F867E288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STEK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cc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508040"/>
            <a:ext cx="7119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BESTEK VOLGENS UAV 19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behorende tek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dende 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s-verbaal van aanwij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437F-2368-4B1A-B1EB-78901E7670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3614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NDELING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1760" y="1276200"/>
            <a:ext cx="838188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ofd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ost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 xx 99    Samenvatting hoeveelheid (V/N/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1e beschrij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2e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Symbol"/>
                <a:ea typeface="Symbol"/>
              </a:rPr>
              <a:t>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3e         </a:t>
            </a:r>
            <a:r>
              <a:rPr b="0" lang="nl-NL" sz="2400" spc="-1" strike="noStrike">
                <a:solidFill>
                  <a:srgbClr val="ffffff"/>
                </a:solidFill>
                <a:latin typeface="Symbol"/>
                <a:ea typeface="Symbol"/>
              </a:rPr>
              <a:t>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1397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ij onderliggende posten geen hoeveelheid in kolom ‘Hoeveelheid resultaatsverplichting’ mogelijk: informatie in kolom ‘Hoeveelheid ter inlichting’ (I), en / of in kolom ‘Omschrijving’ vermel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2BB9E-1370-4FE2-AA83-5EBBC7A6468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063960" y="1555920"/>
            <a:ext cx="3260520" cy="27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Aanbrengen PVC incl. grondwe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Kalver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Graven en aanvullen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In vaste grond met veel hinder van aanwezige kabels, leidingen en boomwort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leufdiepte 0,7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leufbreedte 0,4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brengen PVC-bu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chte buis, drukklasse PN 8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kleur grij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ominale middellijn 125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0760" y="1504800"/>
            <a:ext cx="77292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93680" y="1504800"/>
            <a:ext cx="84456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522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2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99280" y="1555920"/>
            <a:ext cx="49212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91400" y="1555920"/>
            <a:ext cx="77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60720" y="15559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18960" y="457200"/>
            <a:ext cx="8583840" cy="4800600"/>
            <a:chOff x="318960" y="457200"/>
            <a:chExt cx="8583840" cy="4800600"/>
          </a:xfrm>
        </p:grpSpPr>
        <p:sp>
          <p:nvSpPr>
            <p:cNvPr id="329" name=""/>
            <p:cNvSpPr/>
            <p:nvPr/>
          </p:nvSpPr>
          <p:spPr>
            <a:xfrm>
              <a:off x="318960" y="1524240"/>
              <a:ext cx="858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9820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9104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4620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64680" y="1524240"/>
              <a:ext cx="0" cy="37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6216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9296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96040" y="924120"/>
              <a:ext cx="0" cy="433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8960" y="457200"/>
              <a:ext cx="8583840" cy="480060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0700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1832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2928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4024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5120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619840" y="1524240"/>
              <a:ext cx="0" cy="37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845480" y="1555920"/>
            <a:ext cx="77472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620200" y="1555920"/>
            <a:ext cx="28080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98200" y="1633680"/>
            <a:ext cx="91044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nl-NL" sz="1200" spc="-1" strike="noStrike">
                <a:solidFill>
                  <a:srgbClr val="be1128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00ff00"/>
                </a:solidFill>
                <a:latin typeface="Arial"/>
              </a:rPr>
              <a:t>              </a:t>
            </a:r>
            <a:r>
              <a:rPr b="1" lang="nl-NL" sz="1200" spc="-1" strike="noStrike">
                <a:solidFill>
                  <a:srgbClr val="be1128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63960" y="5565600"/>
            <a:ext cx="32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66ff66"/>
                </a:solidFill>
                <a:latin typeface="Arial"/>
              </a:rPr>
              <a:t>Besteksposten niet compl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3092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8272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73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3072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168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07440" y="533520"/>
            <a:ext cx="187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3081-A249-4BA9-9A99-5E4DDEEDFB8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761760" y="571680"/>
            <a:ext cx="775476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 VOOR </a:t>
            </a: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ELKE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 BESTEKSP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genoeg kostenhom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statie moet meetbaar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antwoorden van de 5 W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XTRA VOORWAARDEN BUN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latie tussen de onder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betaling op onder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544C-18FE-494D-BF6F-BB9947EF88F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3 BEPALIN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79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nderschei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ministr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 be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geldend in Standaard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jectgebonden in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9AD5-B215-4EC4-8361-AB0FDDB418D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lke bepalingen waar 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257480"/>
            <a:ext cx="792504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Keuze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Indien ...; …tenzij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Invul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t bestek vermeldt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Eigen 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tijd afstemmen op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anvulling op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fwijking van 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852A4-3DF4-48BA-9920-7D2AAB92542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ling algemene 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ministratieve bepalin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51200" y="1316160"/>
            <a:ext cx="1506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20880" y="1523880"/>
            <a:ext cx="1887480" cy="1144800"/>
          </a:xfrm>
          <a:custGeom>
            <a:avLst/>
            <a:gdLst/>
            <a:ahLst/>
            <a:rect l="l" t="t" r="r" b="b"/>
            <a:pathLst>
              <a:path w="1249" h="721">
                <a:moveTo>
                  <a:pt x="0" y="720"/>
                </a:moveTo>
                <a:lnTo>
                  <a:pt x="0" y="0"/>
                </a:lnTo>
                <a:lnTo>
                  <a:pt x="1248" y="0"/>
                </a:lnTo>
                <a:lnTo>
                  <a:pt x="1198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54040" y="1828800"/>
            <a:ext cx="1354320" cy="839880"/>
          </a:xfrm>
          <a:custGeom>
            <a:avLst/>
            <a:gdLst/>
            <a:ahLst/>
            <a:rect l="l" t="t" r="r" b="b"/>
            <a:pathLst>
              <a:path w="913" h="529">
                <a:moveTo>
                  <a:pt x="0" y="528"/>
                </a:moveTo>
                <a:lnTo>
                  <a:pt x="0" y="0"/>
                </a:lnTo>
                <a:lnTo>
                  <a:pt x="912" y="0"/>
                </a:lnTo>
                <a:lnTo>
                  <a:pt x="875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87560" y="2133720"/>
            <a:ext cx="820800" cy="5349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79760" y="2438280"/>
            <a:ext cx="228600" cy="2286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144"/>
                </a:moveTo>
                <a:lnTo>
                  <a:pt x="0" y="0"/>
                </a:lnTo>
                <a:lnTo>
                  <a:pt x="240" y="0"/>
                </a:lnTo>
                <a:lnTo>
                  <a:pt x="23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0120" y="2800440"/>
            <a:ext cx="733788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LG. EN ADM.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ijdrage RAW-systemati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ijdrage Fonds Collectief Onderz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lgordelijk of eigen numm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overeenkomstig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59080" y="2819520"/>
            <a:ext cx="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12720" y="5219640"/>
            <a:ext cx="1295640" cy="544680"/>
          </a:xfrm>
          <a:custGeom>
            <a:avLst/>
            <a:gdLst/>
            <a:ahLst/>
            <a:rect l="l" t="t" r="r" b="b"/>
            <a:pathLst>
              <a:path w="913" h="289">
                <a:moveTo>
                  <a:pt x="0" y="0"/>
                </a:moveTo>
                <a:lnTo>
                  <a:pt x="0" y="288"/>
                </a:lnTo>
                <a:lnTo>
                  <a:pt x="912" y="288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19360" y="5219640"/>
            <a:ext cx="189000" cy="190440"/>
          </a:xfrm>
          <a:custGeom>
            <a:avLst/>
            <a:gdLst/>
            <a:ahLst/>
            <a:rect l="l" t="t" r="r" b="b"/>
            <a:pathLst>
              <a:path w="145" h="97">
                <a:moveTo>
                  <a:pt x="0" y="0"/>
                </a:moveTo>
                <a:lnTo>
                  <a:pt x="0" y="96"/>
                </a:lnTo>
                <a:lnTo>
                  <a:pt x="144" y="96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4991040"/>
            <a:ext cx="1530360" cy="230400"/>
          </a:xfrm>
          <a:custGeom>
            <a:avLst/>
            <a:gdLst/>
            <a:ahLst/>
            <a:rect l="l" t="t" r="r" b="b"/>
            <a:pathLst>
              <a:path w="961" h="145">
                <a:moveTo>
                  <a:pt x="0" y="0"/>
                </a:moveTo>
                <a:lnTo>
                  <a:pt x="0" y="144"/>
                </a:lnTo>
                <a:lnTo>
                  <a:pt x="960" y="144"/>
                </a:lnTo>
                <a:lnTo>
                  <a:pt x="960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60600" y="4991040"/>
            <a:ext cx="352440" cy="2304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0"/>
                </a:moveTo>
                <a:lnTo>
                  <a:pt x="0" y="144"/>
                </a:lnTo>
                <a:lnTo>
                  <a:pt x="240" y="144"/>
                </a:lnTo>
                <a:lnTo>
                  <a:pt x="24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BCCB-88DA-4903-9317-E804C11E5D6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51200" y="1316160"/>
            <a:ext cx="1506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20880" y="1523880"/>
            <a:ext cx="1887480" cy="1144800"/>
          </a:xfrm>
          <a:custGeom>
            <a:avLst/>
            <a:gdLst/>
            <a:ahLst/>
            <a:rect l="l" t="t" r="r" b="b"/>
            <a:pathLst>
              <a:path w="1249" h="721">
                <a:moveTo>
                  <a:pt x="0" y="720"/>
                </a:moveTo>
                <a:lnTo>
                  <a:pt x="0" y="0"/>
                </a:lnTo>
                <a:lnTo>
                  <a:pt x="1248" y="0"/>
                </a:lnTo>
                <a:lnTo>
                  <a:pt x="1198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54040" y="1828800"/>
            <a:ext cx="1354320" cy="839880"/>
          </a:xfrm>
          <a:custGeom>
            <a:avLst/>
            <a:gdLst/>
            <a:ahLst/>
            <a:rect l="l" t="t" r="r" b="b"/>
            <a:pathLst>
              <a:path w="913" h="529">
                <a:moveTo>
                  <a:pt x="0" y="528"/>
                </a:moveTo>
                <a:lnTo>
                  <a:pt x="0" y="0"/>
                </a:lnTo>
                <a:lnTo>
                  <a:pt x="912" y="0"/>
                </a:lnTo>
                <a:lnTo>
                  <a:pt x="875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7560" y="2133720"/>
            <a:ext cx="820800" cy="5349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21080" y="2438280"/>
            <a:ext cx="287280" cy="2286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144"/>
                </a:moveTo>
                <a:lnTo>
                  <a:pt x="0" y="0"/>
                </a:lnTo>
                <a:lnTo>
                  <a:pt x="240" y="0"/>
                </a:lnTo>
                <a:lnTo>
                  <a:pt x="23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2800440"/>
            <a:ext cx="837072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EGVERHARDINGE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4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ISEN EN UITVOERING STRAA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4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Uitvoering nieuwe kantopsluitingen, goten,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olken en putdek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n afwijking van art. 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31.4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.03 lid 02 Standaard 2005 mo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lengte van passtukken ten minste 0,40 m bed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lgordelijk of eigen numm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overeenkomstig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92440" y="2819520"/>
            <a:ext cx="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28680" y="5219640"/>
            <a:ext cx="1579680" cy="544680"/>
          </a:xfrm>
          <a:custGeom>
            <a:avLst/>
            <a:gdLst/>
            <a:ahLst/>
            <a:rect l="l" t="t" r="r" b="b"/>
            <a:pathLst>
              <a:path w="913" h="289">
                <a:moveTo>
                  <a:pt x="0" y="0"/>
                </a:moveTo>
                <a:lnTo>
                  <a:pt x="0" y="288"/>
                </a:lnTo>
                <a:lnTo>
                  <a:pt x="912" y="288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98680" y="5219640"/>
            <a:ext cx="409680" cy="190440"/>
          </a:xfrm>
          <a:custGeom>
            <a:avLst/>
            <a:gdLst/>
            <a:ahLst/>
            <a:rect l="l" t="t" r="r" b="b"/>
            <a:pathLst>
              <a:path w="145" h="97">
                <a:moveTo>
                  <a:pt x="0" y="0"/>
                </a:moveTo>
                <a:lnTo>
                  <a:pt x="0" y="96"/>
                </a:lnTo>
                <a:lnTo>
                  <a:pt x="144" y="96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4991040"/>
            <a:ext cx="1025640" cy="230400"/>
          </a:xfrm>
          <a:custGeom>
            <a:avLst/>
            <a:gdLst/>
            <a:ahLst/>
            <a:rect l="l" t="t" r="r" b="b"/>
            <a:pathLst>
              <a:path w="961" h="145">
                <a:moveTo>
                  <a:pt x="0" y="0"/>
                </a:moveTo>
                <a:lnTo>
                  <a:pt x="0" y="144"/>
                </a:lnTo>
                <a:lnTo>
                  <a:pt x="960" y="144"/>
                </a:lnTo>
                <a:lnTo>
                  <a:pt x="960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59040" y="4991040"/>
            <a:ext cx="949320" cy="2304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0"/>
                </a:moveTo>
                <a:lnTo>
                  <a:pt x="0" y="144"/>
                </a:lnTo>
                <a:lnTo>
                  <a:pt x="240" y="144"/>
                </a:lnTo>
                <a:lnTo>
                  <a:pt x="24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B9CA0-522B-4E0E-AE06-756D3441A70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766160" y="4876920"/>
            <a:ext cx="226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040" y="1442880"/>
            <a:ext cx="41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gverhardinge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57520" y="1860480"/>
            <a:ext cx="150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4520" y="2970360"/>
            <a:ext cx="80881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gverhardingen II,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faltverhar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onverhar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a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2100240"/>
            <a:ext cx="914400" cy="73332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60520" y="2481120"/>
            <a:ext cx="291960" cy="35244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371600" y="4691160"/>
            <a:ext cx="380880" cy="42840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3200" y="495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D475A-2330-4998-8137-A71DD092A42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766160" y="5423040"/>
            <a:ext cx="192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zeve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8400" y="1278000"/>
            <a:ext cx="423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ofdstuk 11 t/m 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7520" y="1695600"/>
            <a:ext cx="150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4520" y="2592360"/>
            <a:ext cx="808812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Eisen en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Informatie-over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Risicoverdeling en garan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ijbehorende verp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ouw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Meet- en verrekenmetho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558800" y="5380200"/>
            <a:ext cx="193680" cy="3045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1935000"/>
            <a:ext cx="914400" cy="6573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60520" y="2316240"/>
            <a:ext cx="291960" cy="27612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3200" y="495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91BA-A191-47F2-9260-3DCCE929344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69960" y="419040"/>
            <a:ext cx="72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gemene 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ministratieve bepali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25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Paragraf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emene bepal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aannemings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afwijkingen van verrekenbare hoeveelh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risicoreg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declar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uitvoerings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ekerheidst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bels en leid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gunn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538BD-0C91-4DB4-9044-5DEB767E6F4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L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9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Contract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aanbest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eventuele geschi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2252C-4B27-4DB3-8AD5-086F62A282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09480" y="380880"/>
            <a:ext cx="8001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3197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en administratieve bepalingen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1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erband met andere werk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Maatregelen in het belang van het verke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3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waliteitsplan, algemeen tijdschema, werkpla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flexibele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uitvoeringstermij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4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ouwstof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5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aran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6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erzeker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7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rijgekomen materia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8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cherming te handhaven vegeta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9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0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waliteitsbor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1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vereenkomsten met open p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):  Te werk stellen van leerlingen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A3CF2-6313-4CB5-A566-FDAE13C4183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CHRIJVINGSDOCUMENT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82680" y="324180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99880" y="4089240"/>
            <a:ext cx="600660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TLEDING VAN DE AANNEMINGS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084400" y="300960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3009960"/>
            <a:ext cx="230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265C-A9D2-48C9-976F-A3BAD2165CB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40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76240" y="981000"/>
            <a:ext cx="8115480" cy="793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Productiegebonden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oeveelheid met prijs per eenheid of bedrag in 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76240" y="2565360"/>
            <a:ext cx="8115480" cy="265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taartkosten in bedragen in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malige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s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nst en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el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1917720"/>
            <a:ext cx="243864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TO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6560" y="5373720"/>
            <a:ext cx="299412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NEMINGS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FC60-AB15-4862-8851-1ED1AA828FD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71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822960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enmalige 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 met eenmalig karak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afhankelijk van productievoortg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verreken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dere specificaties door opdrachtgever en doo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mog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of volgens te treffen regeling;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niet toerekenbaar dan % van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C1073-BCEE-4BBD-8FA4-34DD76F7634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257480"/>
            <a:ext cx="8107200" cy="33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Uitvoerings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, gedeeltelijk op het werk waarneem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beginsel niet verreken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m.u.v. art. 01.06.01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E4AF-4A9B-45EE-850D-6E898CDBFAA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761760" y="1380960"/>
            <a:ext cx="8018280" cy="35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Algemene 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inst en r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42E1-C385-48E3-9AE3-B63DE022A8E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762120" y="1380600"/>
            <a:ext cx="769608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telp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pn 950010 e.v. resp. hoofdcode 6105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3 Standaard 2005) incl.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svergoeding 5 of 10% (§ 37 UAV 198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pn 960010 resp. 960020 in 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volgens par. 01.08 Standaard 2005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rt. 01.08.01 resp. 01.08.02 in deel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F5B2-CEC0-4548-A402-6BE407A2CDD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81200" y="475920"/>
            <a:ext cx="5713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ERREKENPRIJ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61760" y="16765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FUNCTIE INSCHRIJVINGSSTA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chakel besteksadministr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1.04 lid 05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rekening betalingstermij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Vaststellen verrekenprij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21DE-17CE-4A32-94B3-00D4B9EC7F1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763560" y="5716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AV 1989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verrekenprijs alle rechtstreeks voo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 benodigde kost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§ 39 lid 5 UAV 198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RAW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 verrekenprijs productiegebonden kosten,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algemene kosten, winst en risico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Eenmalige kosten en uitvoeringskosten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blijven buiten beschouw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2120" y="4648320"/>
            <a:ext cx="6848280" cy="82404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aarom in art. 01.03.03 lid 02 Standaard 200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§ 39 lid 5 UAV 1989 niet van toe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4D2CD-B9D1-4DBD-BAF1-AC80077DF36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REKENPRIJS VOLGENS RAW</a:t>
            </a:r>
            <a:br>
              <a:rPr sz="28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3.03 lid 01 Standaard 200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2502000"/>
            <a:ext cx="6541920" cy="22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 u="sng">
                <a:solidFill>
                  <a:srgbClr val="ffff00"/>
                </a:solidFill>
                <a:uFillTx/>
                <a:latin typeface="Arial"/>
              </a:rPr>
              <a:t>algemene kosten + winst en risico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subtota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rcentage afronden op ti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rekenprijs afronden op hele euro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571840"/>
            <a:ext cx="80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p.p.e.+ (      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x 100 %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) x p.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D5E4-669D-4D92-98CE-A7383F6D21C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13334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Informatiedr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conom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aming van kost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alculati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oetsing van aanbieding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uring en bewaking bouwpr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095560" indent="0">
              <a:lnSpc>
                <a:spcPts val="2798"/>
              </a:lnSpc>
              <a:buNone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statiebe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raad bij uitvoer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ontrolemid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L BESTE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AD03C-9E91-4C60-836E-8F2355CEFB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REKENPRIJS VOLGENS RAW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br>
              <a:rPr sz="28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3.03 lid 01 Standaard 200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rekenbare hoeveelheid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rijs per eenhei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000 eenhed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 16,50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6.5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ubtotaa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16.5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enmalige 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voerings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9,1%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4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27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lgemene 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1.000,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Winst en risico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500,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annemingssom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23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rekenprijs € 16,50 +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9,1%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x € 16,50 = € 18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019920" y="2666880"/>
            <a:ext cx="569880" cy="1677600"/>
            <a:chOff x="6019920" y="2666880"/>
            <a:chExt cx="569880" cy="1677600"/>
          </a:xfrm>
        </p:grpSpPr>
        <p:sp>
          <p:nvSpPr>
            <p:cNvPr id="431" name=""/>
            <p:cNvSpPr/>
            <p:nvPr/>
          </p:nvSpPr>
          <p:spPr>
            <a:xfrm flipV="1">
              <a:off x="6589800" y="3835080"/>
              <a:ext cx="0" cy="509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9920" y="2666880"/>
              <a:ext cx="563400" cy="1386000"/>
            </a:xfrm>
            <a:custGeom>
              <a:avLst/>
              <a:gdLst/>
              <a:ahLst/>
              <a:rect l="l" t="t" r="r" b="b"/>
              <a:pathLst>
                <a:path w="241" h="913">
                  <a:moveTo>
                    <a:pt x="240" y="0"/>
                  </a:moveTo>
                  <a:lnTo>
                    <a:pt x="0" y="0"/>
                  </a:lnTo>
                  <a:lnTo>
                    <a:pt x="0" y="912"/>
                  </a:lnTo>
                  <a:lnTo>
                    <a:pt x="240" y="912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2743200" y="5477040"/>
            <a:ext cx="3505320" cy="39744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Denk aan afrondingsreg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62920" y="44197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62920" y="24382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812000" y="5373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20C9E-A4EB-4BAD-BFD3-D02CA2B9091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4964C-B6F5-4B5E-AD43-02C8838AD657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69960" y="419040"/>
            <a:ext cx="809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ormen binnen RAW-best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17334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Aan de orde komen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264780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gerichte resultaatsverplichting (deel 2.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eld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eenkomst met open p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1E6ED-FB1D-4209-8453-509E942E402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571320" y="596880"/>
            <a:ext cx="838188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1"/>
                </a:solidFill>
                <a:latin typeface="Arial"/>
              </a:rPr>
              <a:t>Productgerich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1"/>
                </a:solidFill>
                <a:latin typeface="Arial"/>
              </a:rPr>
              <a:t>resultaatsverplich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19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 productgerichte resultaatsverplichting is 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undeling resulterend in een herkenbaar onderd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n het we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resultaatsverplichting kenmerkt zich do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heid : st / keer / v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geheel g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enmerk ‘A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FF239-14F7-4AC2-AC69-B7D6D67E920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987640" y="1523880"/>
            <a:ext cx="32353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Aanbrengen betonnen dui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ond ontgraven t.b.v.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ien betonnen pa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kes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oplegmateria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tonnen duik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rechthoekig profie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tonnen stootpl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vullen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st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4440" y="1523880"/>
            <a:ext cx="77328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 u="sng">
                <a:solidFill>
                  <a:srgbClr val="ffff01"/>
                </a:solidFill>
                <a:uFillTx/>
                <a:latin typeface="Arial"/>
              </a:rPr>
              <a:t>42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17720" y="1523880"/>
            <a:ext cx="84456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551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11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25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51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731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21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22960" y="1523880"/>
            <a:ext cx="4921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15080" y="1523880"/>
            <a:ext cx="773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81520" y="152388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43000" y="457200"/>
            <a:ext cx="8583480" cy="4876560"/>
            <a:chOff x="243000" y="457200"/>
            <a:chExt cx="8583480" cy="4876560"/>
          </a:xfrm>
        </p:grpSpPr>
        <p:sp>
          <p:nvSpPr>
            <p:cNvPr id="450" name=""/>
            <p:cNvSpPr/>
            <p:nvPr/>
          </p:nvSpPr>
          <p:spPr>
            <a:xfrm>
              <a:off x="243000" y="1541160"/>
              <a:ext cx="8582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2224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1472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6988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8360" y="1541160"/>
              <a:ext cx="0" cy="379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8620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1700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20080" y="931320"/>
              <a:ext cx="0" cy="440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000" y="457200"/>
              <a:ext cx="8583480" cy="487656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104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4200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5296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6428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7524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43520" y="1541160"/>
              <a:ext cx="0" cy="379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7769160" y="1523880"/>
            <a:ext cx="77472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.52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6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4,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7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92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.03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543880" y="1523880"/>
            <a:ext cx="2113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556560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400" spc="-1" strike="noStrike">
                <a:solidFill>
                  <a:srgbClr val="f9f400"/>
                </a:solidFill>
                <a:latin typeface="Arial"/>
              </a:rPr>
              <a:t>Ter indica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4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06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697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754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572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99800" y="614520"/>
            <a:ext cx="19648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0626-5D0C-4023-9460-BE43BF68F4D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69960" y="291960"/>
            <a:ext cx="72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RAW-beeldbestekk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685440" y="1549080"/>
            <a:ext cx="762012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 beeldbestek is een besteksvorm waarbij wor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itgegaan van de beschrijving van kwaliteitsnivea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beeldbestek kenmerkt zich doo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rijving in kwaliteitsnive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voorkomende werkzaam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heid in we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bare resulta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5A79A-9B2C-425E-B085-E4B4054E2EC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094200" y="1566720"/>
            <a:ext cx="330660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nkruidbeheersing in beplantingsv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Renkum Oost, zie tek. A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ppervlakte te onderhouden percelen: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 500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tal te onderhouden percelen: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19 stu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Horizontaal of met een talud flauwer dan 1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treft: bodembedekkende he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Leeftijd beplanting: ca. 3 jaar of meer na aan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Kwaliteitsniveau B (onkruidbeheersing, standa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eriode: in groeiseizo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rijgekomen materiaal verwerken volgens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bestekspostnummer 201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142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1566720"/>
            <a:ext cx="685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490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1566720"/>
            <a:ext cx="137160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CD64-F0FB-4FCA-B8B1-8047E7FC989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Beschrijving in kwaliteitsniveau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4280" y="1257120"/>
            <a:ext cx="807696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ier kwaliteitsnive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A: intensief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B: standaard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C: extensief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D: extensief, referentie niveau voor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waliteitsniveaus zijn gestandaardisee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n op elkaar afgeste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1D12-1D3E-44AC-AC18-FADBB6372EF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1"/>
                </a:solidFill>
                <a:latin typeface="Arial"/>
              </a:rPr>
              <a:t>Overeenkomsten met open posten (OMOP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8400" y="1968480"/>
            <a:ext cx="8077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376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ctvorm voor het geval da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get bekend (en beschikbaar)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zetverwachting (daarmee) in te schatte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rd van meest voorkomende werkzaamheden bekend is (de onderlinge verhouding ‘bij benadering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a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440" y="4723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eveelheden en/of de datum van uitvoering niet bekend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7C7C-61BB-4F3C-AA79-2C57DC4A155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eenkomst met open post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730160"/>
            <a:ext cx="7772400" cy="10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RAW Raambestek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het </a:t>
            </a:r>
            <a:r>
              <a:rPr b="0" lang="nl-NL" sz="2400" spc="-1" strike="noStrike" u="sng">
                <a:solidFill>
                  <a:srgbClr val="ffff00"/>
                </a:solidFill>
                <a:uFillTx/>
                <a:latin typeface="Arial"/>
              </a:rPr>
              <a:t>uitvoer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van </a:t>
            </a: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rkzaamhed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onderhoud riool, bestrating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84280" y="3162240"/>
            <a:ext cx="77724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W Servicebeste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r he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p afroep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uitvoer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erkzaamhed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egslepen voertuigen, gladheidsbestrijding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18BC1-EF57-46B7-B29E-12DEDE22990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762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SENTIËLE INFORMA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7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v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voorwaar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hoeveelhe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3120" y="4556160"/>
            <a:ext cx="7718400" cy="824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Alle kostenbeïnvloedende factoren moeten vo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zover mogelijk in het bestek tot uitdrukking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C18E2-A3E4-4604-ACBB-F3C96A8FEF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Kenmerken OMO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4280" y="1257480"/>
            <a:ext cx="7772400" cy="209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nmerk resultaatsverp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O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veelheid resultaatsverp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*******,**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*******,**’ L / T /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at met fictieve hoeveelheden bij inschrij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09623-8A0E-4768-8F22-4597B1E3B6C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094200" y="1566720"/>
            <a:ext cx="33066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trottoirbanden van b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engte per deelopdracht: van 0 tot 25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ellen met schraal beton op zand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 voorzien van steunrug van</a:t>
            </a:r>
            <a:r>
              <a:rPr b="1" lang="en-US" sz="1200" spc="-1" strike="noStrike">
                <a:solidFill>
                  <a:srgbClr val="ee1128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schraal beton B25, milieuklasse 3. Te rekenen met 0,06 m3 per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ngs de trottoirbanden 1 rollaag van betonstraatstenen in cementspecie aanbrengen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, standaard dikformaat, dik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 mm, kleur heidepa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Te rekenen met 0,01 m3 cementspecie per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fiel 180/200 x 200 mm</a:t>
            </a:r>
            <a:r>
              <a:rPr b="1" lang="en-US" sz="1200" spc="-1" strike="noStrike">
                <a:solidFill>
                  <a:srgbClr val="ee1128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ang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050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14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1566720"/>
            <a:ext cx="60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84840" y="1566720"/>
            <a:ext cx="30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538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828800" y="1566720"/>
            <a:ext cx="1371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6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5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997760" y="27432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686800" y="27194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34200" y="194796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9520" y="338616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29520" y="375300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34200" y="265752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993080" y="200016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997760" y="345744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993080" y="385776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686800" y="197640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686800" y="34196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682120" y="38242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5E914-5A77-42EF-8D8C-8C719DCB162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8720" y="608040"/>
            <a:ext cx="171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76240" y="1606680"/>
            <a:ext cx="1979640" cy="125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76240" y="4808520"/>
            <a:ext cx="1979640" cy="4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74880" y="2870280"/>
            <a:ext cx="0" cy="34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4880" y="4464000"/>
            <a:ext cx="0" cy="336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93920" y="1469880"/>
            <a:ext cx="583596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; tekeningen; voorwaarden;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.; proces verbaal van aanw.; inschrijvingsbiljet en inschrijvingsstaa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balans; bijbehorende staten;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95720" y="3679920"/>
            <a:ext cx="235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76240" y="3209760"/>
            <a:ext cx="1979640" cy="125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5000" y="604800"/>
            <a:ext cx="225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651E-2DBF-4DF1-BA25-B3C68CC5EC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8T14:17:12Z</dcterms:created>
  <dc:creator>Henk Deenik</dc:creator>
  <dc:description/>
  <dc:language>en-US</dc:language>
  <cp:lastModifiedBy>Deenik</cp:lastModifiedBy>
  <cp:lastPrinted>2001-01-05T12:37:35Z</cp:lastPrinted>
  <dcterms:modified xsi:type="dcterms:W3CDTF">2007-06-25T12:21:53Z</dcterms:modified>
  <cp:revision>88</cp:revision>
  <dc:subject/>
  <dc:title>Onderwijsmodule</dc:title>
</cp:coreProperties>
</file>