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722-10EA-480D-9D3B-FDFCFF5D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3C5-CCE9-4CD9-A52D-B2D3633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B64-001F-46F6-8707-475F7268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EB6-A41A-40DF-816B-B8D3B16C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D79-3ED0-4EE9-929A-B7182A4A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A7F-97D3-43D0-8B94-167F347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F05-8B10-41F7-8A51-10F4F846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04D-958B-44B2-A0FC-18733DE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DCC-20B5-49E1-B5DF-F4DB7D72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CCA-B7BC-42D3-9AC8-6514DA5B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B19-31B0-4CF6-A36A-AC77F95D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3C2-0047-4B95-B45D-15946F4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38D-B7AE-46B6-9668-6296453D95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misverstanden met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kenen van de kosten (offe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heid voor het person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komen van misvers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juridisch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communicati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angspunt voor  calculatie en 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 over rechten en p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ssen opdrachtgever en uitvo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wel opdrachgever als uitvoerder kunnen de kosten berek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. Het resultaat t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de afspraken nage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ctuele gelijkwaar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verdeling van verantwoordelijk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duidige besteks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een verschil van m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icht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homogen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eer- of minderwerk voor afgesproken prij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W bestekken van de C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worpen voor de grond- water- en wegen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ook voor de groen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automatis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volgorde waarin ze worden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gens een vast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hand van de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zicht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 gebruikte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gelegd in een standaar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toepassing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ijkingen apart ben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51 voor de groenvoorzi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van hetbestek voor 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an te leggen of te beheren oppervla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ijze van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verwerk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reik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nds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elen van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schrijven van de te verrichten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van oppervlakten 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en werk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werkzaamhed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materialen die gebruik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noem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bewerken oppervl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do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leven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keuzes (afhankelijk van de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of -volg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Peter</cp:lastModifiedBy>
  <dcterms:modified xsi:type="dcterms:W3CDTF">2008-12-15T13:32:27Z</dcterms:modified>
  <cp:revision>4</cp:revision>
  <dc:subject/>
  <dc:title>Werkbeschrijvingen en bestekken</dc:title>
</cp:coreProperties>
</file>