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0D15-FAB1-481A-8057-87C577174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49BF-763E-4FD0-984C-02C5F5CE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2AEB-530B-461A-B285-7CB376CE0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CF5B-67BF-475C-8F62-DAF0F5696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782D-164C-4680-A47C-CE0C268C0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D313-7067-4B25-B4F6-CB640129C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B025-E657-4AEF-831F-F3A68C161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4074-1F3F-4A07-B48D-93C33EE86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6FCB-097B-443C-BE4B-49F8C1A85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DC34-8CCA-4DAD-9E97-ECF0E402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E950-5081-4D26-A035-A9D31864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C09C-15FF-49CA-B79E-A58AE8B6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3269C-4B80-481F-8A8D-D0F94FAFB7B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rkbeschrijvingen en bestek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t bel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en misverstanden met de k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rekenen van de kosten (offer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uidelijkheid voor het person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komen van misversta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t best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juridisch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communicatiemid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itgangspunt voor  calculatie en ra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idraad voor de uitvo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estatiebeschrij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rolemid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Juridisch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uidelijk over rechten en plich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187280" y="2232000"/>
            <a:ext cx="518508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mmunicatiemid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ussen opdrachtgever en uitvoe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76360" y="2235240"/>
            <a:ext cx="604836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Uitgangspunt voor calcul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wel opdrachgever als uitvoerder kunnen de kosten berek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116000" y="2637000"/>
            <a:ext cx="5543640" cy="41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eidraad voor de uitvo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estatiebeschrijving. Het resultaat te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403280" y="2297160"/>
            <a:ext cx="655488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ntr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ijn de afspraken nagekom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2465280"/>
            <a:ext cx="4859280" cy="4392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427640" y="2492280"/>
            <a:ext cx="4716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Waaraan moet een goed bestek voldo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ractuele gelijkwaardig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verdeling van verantwoordelijkhed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duidige besteksinform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geen verschil van men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richte inform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duidelijkheid over te gebruiken materialen en toelaatbare afwijk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ostenhomogenit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meer- of minderwerk voor afgesproken prijz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AW- bestek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AW bestekken van de C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tworpen voor de grond- water- en wegenbou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u ook voor de groene 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automatisee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werkomschrij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le werkzaamheden voor het aanleggen of onderhouden van groen of een tu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 volgorde waarin ze worden uitgevoe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lgens een vast sch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 de hand van de inventaris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verzichtelij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andaardbepal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est gebruikte bepal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stgelegd in een standaardw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n toepassing bepa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fwijkingen apart benoe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ofdstuk 51 voor de groenvoorzi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orbeeld standa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11280" y="888840"/>
            <a:ext cx="8208720" cy="58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inschrijvingssta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amenvatting van hetbestek voor calcu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7200720" cy="53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t overzic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aan te leggen of te beheren oppervla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wijze van uitvo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 verwerken materia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bereikbaar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grondso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Beschrijving van de werkzaamhed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delen van de werkzaam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mschrijven van de te verrichten werkzaam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eveelheden van oppervlakten en materia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chines en werkmeth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orbeeld van een in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74167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mschrijving per onderde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schrijven van de werkzaamheden die nodig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schrijven van de materialen die gebruikt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chines noemen die nodig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methoden beschrij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1967040"/>
            <a:ext cx="9144000" cy="48909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en voorbeeld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 bewerken oppervlak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eveelheden dode materia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eveelheden levende materia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chinekeuzes (afhankelijk van de omstandig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methoden of -volgo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20:18:07Z</dcterms:created>
  <dc:creator>Peter</dc:creator>
  <dc:description/>
  <dc:language>en-US</dc:language>
  <cp:lastModifiedBy>Peter</cp:lastModifiedBy>
  <dcterms:modified xsi:type="dcterms:W3CDTF">2008-12-15T13:32:27Z</dcterms:modified>
  <cp:revision>4</cp:revision>
  <dc:subject/>
  <dc:title>Werkbeschrijvingen en bestekken</dc:title>
</cp:coreProperties>
</file>