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58E-F31C-4628-B73F-0F45ABE3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CFD-B252-4DAC-93C5-5CC10B7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3EF-89D9-4E2F-8764-7189DC90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C43-C79D-43FE-B9EA-3AE871BC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C33-8A2F-4E6F-936A-91EF8A05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F8F-EC46-481E-AA9B-8EDBCE2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C65-9470-479E-AB04-44A322FF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684-7F53-4CF7-B2A9-119654D5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AAE-111F-47D5-A112-EE23C83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9A0-7F45-4A09-93D9-8A1B1FE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CFE-E5FF-41CC-8398-2F81E43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4A5-CC54-4D69-A343-B7B01A0F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541-8D48-4767-A13D-C5EBAF7BA4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misverstanden met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kenen van de kosten (offe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heid voor het person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komen van misvers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juridisch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communicati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angspunt voor  calculatie en 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 over rechten en p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ssen opdrachtgever en uitvo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wel opdrachgever als uitvoerder kunnen de kosten berek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. Het resultaat t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de afspraken nage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ctuele 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verdeling van verantwoordelijk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duidige besteks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een verschil van m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icht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homogen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eer- of minderwerk voor afgesproken prij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W bestekken van de C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worpen voor de grond- water- en wegen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ook voor de groen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automatis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volgorde waarin ze worden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gens een vas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hand van de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zicht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 gebruikte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gelegd in een standaar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toepassing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ijkingen apart ben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51 voor de groenvoorzi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van hetbestek voor 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an te leggen of te beheren oppervla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ijze van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verwerk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reik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nds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elen van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schrijven van de te verrichten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van oppervlakten 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en werk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werkzaamhed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materialen die gebruik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noem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bewerken oppervl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do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leven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keuzes (afhankelijk van de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of -volg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Peter</cp:lastModifiedBy>
  <dcterms:modified xsi:type="dcterms:W3CDTF">2008-12-15T13:32:27Z</dcterms:modified>
  <cp:revision>4</cp:revision>
  <dc:subject/>
  <dc:title>Werkbeschrijvingen en bestekken</dc:title>
</cp:coreProperties>
</file>