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83800" y="747360"/>
            <a:ext cx="4892760" cy="367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4"/>
          </p:nvPr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5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C7B534-38D7-4037-929D-7AC2C9D469D0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8E9A8B2-B156-4DAC-A302-F8FA7F5CCB98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kom en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ksten aangepast aan veralgeminisering aanbestedingsreg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ksten aangepast aan veralgeminisering aanbestedingsreg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ksten aangepast aan veralgeminisering bepaling in kader van aanbestedingsreg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betervoorstel doorgevoerd: 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 vervangen door ‘niet zijnd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880920" y="744480"/>
            <a:ext cx="4899240" cy="36734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887040" y="4670280"/>
            <a:ext cx="4886280" cy="442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heet ongewijzigd doorgevoerd: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j bundelingen moet zowel ‘I’ als ‘L’ worden ingev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68BDA0-B36B-41BE-B14E-6D282FE1ED4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2B5B1A-CA21-4166-90AC-A0A9013600CC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FFB6954-5AA7-428F-A5C7-47104E11552B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standaardiseerd: niveau A moet in gemeente X hetzelfde zijn als in gemeent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p elkaar afgestemd: niveau A van het ene onderwerp (bv grof zwerfvuil) is qua beeld vergelijkbaar met niveau A van een ander onderwerp (bv veegvui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884160" y="747720"/>
            <a:ext cx="4892760" cy="36702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040" y="4648320"/>
            <a:ext cx="4876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Kenmerken zichtbaar maken met res.beschrijving volgende sh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F6E61D3-580F-46F6-8A3E-3224C361FB29}" type="slidenum"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-180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180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48808-B4F8-48CA-AF00-59436D3AE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3550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45B24-8A19-4BF9-95BB-634F39DDE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9DCFB-934A-4F86-A638-81D573F7B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3550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1B407-16AF-4FAB-87B7-0944E5A0DE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C5BF3-8466-41EF-A06B-DCA9A4DFD5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94291-5139-441F-B94D-D478399DF7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29899-280A-4449-AD69-028AFEE2F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2FE0D-2DE3-4F51-B976-C33C229BD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8367B-F80D-4B74-8DE3-D745B41B8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836D3-3350-49CD-B5DF-05E19B9F9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3550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5C984-0C06-46B0-B679-912C3C64D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60020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3550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6B331-1DB2-4CB6-BDB2-D812B796F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956200"/>
            <a:ext cx="9144000" cy="9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95280" y="6513120"/>
            <a:ext cx="510552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222960" y="6000840"/>
            <a:ext cx="2363760" cy="834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584840" y="6513120"/>
            <a:ext cx="1523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DAF6-E979-4209-B211-963C7692756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317520" cy="1714680"/>
          </a:xfrm>
          <a:prstGeom prst="rect">
            <a:avLst/>
          </a:prstGeom>
          <a:solidFill>
            <a:srgbClr val="ce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527880"/>
            <a:ext cx="317520" cy="330120"/>
          </a:xfrm>
          <a:prstGeom prst="rect">
            <a:avLst/>
          </a:prstGeom>
          <a:solidFill>
            <a:srgbClr val="ce0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file:///../../110-120%20RAW/plaatjes%20nieuw.pp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file:///../../110-120%20RAW/plaatjes%20nieuw.pps" TargetMode="External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../../110-120%20RAW/plaatjes%20nieuw.pps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560" y="1650960"/>
            <a:ext cx="7705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Onderwijsmodule</a:t>
            </a:r>
            <a:br>
              <a:rPr sz="4400"/>
            </a:b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op basis van Standaard 2005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ersie mei 200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2773440"/>
            <a:ext cx="2432160" cy="223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F87D4-7702-488A-BFC2-483AAD82BD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GOR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9680" y="1295280"/>
            <a:ext cx="7993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197"/>
              </a:lnSpc>
              <a:buNone/>
              <a:tabLst>
                <a:tab algn="l" pos="0"/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UAV 1989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 § 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Van toepassing zijnde voorschriften,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tegenstrijdige bepa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ldig tenzij afgeweken in 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oepassing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enoemde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 N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nor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ederlands re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tegenstrijdig: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uw vóór ou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 vóór teken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zonder vóór algeme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uitkomst: uitleg ten nadele van opsteller 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762120"/>
                <a:tab algn="l" pos="15238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schuwingsplicht aannemer bij tegenstrijdig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5760-FE8B-4BCD-9A79-47B608B031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61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GOR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0040" y="125712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STANDAARD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EN-normen volgens ‘Normenoverzicht GWW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jziging wordt ‘automatisch’ van kra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 boven Standa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latie technische bepalingen en proev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tus gedrukt versus automatisch lees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1"/>
                </a:solidFill>
                <a:latin typeface="Arial"/>
              </a:rPr>
              <a:t>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uitzondering andere documen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726B6-6ABB-4BF9-9FBE-70D7CC1434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24040" y="1646280"/>
            <a:ext cx="5627520" cy="30369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01800" y="731880"/>
            <a:ext cx="7315200" cy="7621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ARD BES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89120" y="744480"/>
            <a:ext cx="7567200" cy="596880"/>
            <a:chOff x="789120" y="744480"/>
            <a:chExt cx="7567200" cy="596880"/>
          </a:xfrm>
        </p:grpSpPr>
        <p:sp>
          <p:nvSpPr>
            <p:cNvPr id="87" name=""/>
            <p:cNvSpPr/>
            <p:nvPr/>
          </p:nvSpPr>
          <p:spPr>
            <a:xfrm>
              <a:off x="798840" y="744480"/>
              <a:ext cx="7557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89120" y="874800"/>
              <a:ext cx="7480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tandaardteksten (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BB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)   Resultaatsbeschrijvin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656160" y="1579680"/>
            <a:ext cx="162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S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38240" y="2027160"/>
            <a:ext cx="5205600" cy="18478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0  Totstandk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1  ALGEM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2  BESCHRIJVING (post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el 3  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16160" y="5300640"/>
            <a:ext cx="6497640" cy="5335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STANDAARD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4280" y="3821040"/>
            <a:ext cx="252144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206960" y="4734000"/>
            <a:ext cx="795240" cy="488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20560" y="1189080"/>
            <a:ext cx="0" cy="762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09760" y="1189080"/>
            <a:ext cx="3981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9760" y="1951200"/>
            <a:ext cx="121752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899640" y="5618160"/>
            <a:ext cx="42228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898560" y="3170160"/>
            <a:ext cx="0" cy="2448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17016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60216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56440" y="3284640"/>
            <a:ext cx="9842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28080" y="3284640"/>
            <a:ext cx="0" cy="1181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580000" y="4465800"/>
            <a:ext cx="25480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38240" y="2541600"/>
            <a:ext cx="520560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38240" y="2989440"/>
            <a:ext cx="520560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898560" y="2306160"/>
            <a:ext cx="0" cy="86364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230652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70480" y="731880"/>
            <a:ext cx="0" cy="762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28160" y="1112760"/>
            <a:ext cx="2808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08960" y="1112760"/>
            <a:ext cx="0" cy="2028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35920" y="3141720"/>
            <a:ext cx="136044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46160" y="3433680"/>
            <a:ext cx="520560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95320" y="2725560"/>
            <a:ext cx="1038240" cy="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D0217-3ECE-49E6-B092-B9A0913AE2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ARD BESTEKSINDEL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6560" y="1233360"/>
            <a:ext cx="4498920" cy="1295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0  Totstandko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overeenkom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gevens van belang vóór g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9800" y="4052880"/>
            <a:ext cx="4498920" cy="1752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2  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EMENE GEGEV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gevens m.b.t. het w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2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DERE BESCHRIJ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5763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at van bestekspo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02160" y="1233360"/>
            <a:ext cx="3490920" cy="1295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3  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emeen en administrati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i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00720" y="2833560"/>
            <a:ext cx="3490920" cy="2971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Vaste bij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&amp;G-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rondba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9800" y="2833560"/>
            <a:ext cx="4498920" cy="914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 1  Algem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gevens m.b.t. de overeenkom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8EB43-88FE-4C50-8305-FB213D4F17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72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0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Totstandkoming</a:t>
            </a:r>
            <a:br>
              <a:rPr sz="4400"/>
            </a:b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overeenkoms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839960"/>
            <a:ext cx="81309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aragra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ende die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431A0-7889-4729-8685-95515CE42A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577800"/>
            <a:ext cx="813096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ENDE DIENST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 en wa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uropees / nation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s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 aanbestedingsreg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LICHTINGEN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, wanne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 van in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CB1B3-450B-44E7-BD7B-24D49624C0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409400"/>
            <a:ext cx="830556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 op inschrijvingsbilj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tleding aannemingssom op inschrijvingssta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ternatieve aanbied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anneme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bied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lternatief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an</a:t>
            </a:r>
            <a:br>
              <a:rPr sz="1600"/>
            </a:b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geve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vraag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arian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5000" indent="0">
              <a:lnSpc>
                <a:spcPts val="3600"/>
              </a:lnSpc>
              <a:buNone/>
              <a:tabLst>
                <a:tab algn="l" pos="0"/>
                <a:tab algn="l" pos="152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staat in afzonderlijke envelop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: artikel 01.01.02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784C6-669A-47C7-B943-99CECD365C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2120" y="1409400"/>
            <a:ext cx="824688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indtotaal moet kloppen met bedrag op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leen productiekosten in prijs per eenhei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.q. bedrag in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 niet in prijs per eenhei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.q. bedrag in e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lnSpc>
                <a:spcPts val="3600"/>
              </a:lnSpc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mag eenmalige kosten specifice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5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: artikel 01.01.03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CB6CF-D42A-4EEB-B56C-746B604AF3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2120" y="1371240"/>
            <a:ext cx="82468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ag – datum – tij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ocatie en pla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6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F51BA-6B2D-4653-9519-C22A7EB928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1760" y="1380600"/>
            <a:ext cx="8094600" cy="28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verrekenprijzen gunningscriterium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verrekenprijzen kennelijk onredelijk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7 dagen gelegenheid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m ontleding aan te p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malige correctiepos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762120" y="488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7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: artikel 01.01.04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31A23-81E9-463D-8619-9AEF2363B8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434360" y="2577960"/>
            <a:ext cx="1454040" cy="1600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ONDERDELEN</a:t>
            </a: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RAW-SYSTEMATI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atalogus met resultaatsbeschrijv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andleiding RAW-systematiek (spelrege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 RAW Bepa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and met keuze- en invulbepalingen: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Besteksbestand RAW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8584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INLEI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6766A-7461-4B0D-8A84-F55F973981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.07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7960" y="1565280"/>
            <a:ext cx="68389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1138320" indent="-376200">
              <a:lnSpc>
                <a:spcPts val="3600"/>
              </a:lnSpc>
              <a:tabLst>
                <a:tab algn="l" pos="0"/>
                <a:tab algn="l" pos="113832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UNNINGS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8320" indent="-37620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113832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3832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113832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uit de inschrijvingsstaat te herleiden verrekenprij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2AC1-D505-4AF8-9F5E-ACCE05DC4A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37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DEEL 1  ALGEME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413000"/>
            <a:ext cx="813096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aragra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Opdracht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Direc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Algemene 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ijdsbep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Onderhoudsterm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Kwaliteitsbor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96FCE-A6DF-4969-AB48-F40C335B44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577800"/>
            <a:ext cx="8177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1  OPDRACHTG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 en wa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2  DIR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3  LOCATIE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0">
              <a:lnSpc>
                <a:spcPts val="36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laats van 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B4BB5-4BAA-4FA0-AEF0-3C527821F3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62120" y="577440"/>
            <a:ext cx="8229600" cy="53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NE BESCHRIJVING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z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ha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hoeveel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60E33-CBD4-4085-AC85-6E4D637F42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62120" y="577440"/>
            <a:ext cx="8229600" cy="53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IJDSBEPALING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sduur, tijdstip oplev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2076480" indent="-228600">
              <a:lnSpc>
                <a:spcPts val="3600"/>
              </a:lnSpc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lexibele uitvoeringstermijn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art. 01.13.07 Standaard 200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076480" indent="-228600">
              <a:lnSpc>
                <a:spcPts val="3600"/>
              </a:lnSpc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ste termijn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§ 8 UAV 198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rting bij tijdsoverschrijding anders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an in § 42 lid 2 UAV 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onodig relaties tijdstippen vastleggen</a:t>
            </a:r>
            <a:br>
              <a:rPr sz="2400"/>
            </a:b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§ 42 lid 4 UAV 198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ts val="3600"/>
              </a:lnSpc>
              <a:buNone/>
              <a:tabLst>
                <a:tab algn="l" pos="762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27D57-B1C5-4190-A940-98F60999E9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2120" y="577440"/>
            <a:ext cx="8229600" cy="53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DERHOUDSTERMIJN 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doeld in § 11 lid 1 UAV 19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1.0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EITSBORGING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langen kwaliteitsplan indien gewerkt wordt onder kwaliteitsborging overeenkomstig par. 01.13 en 01.20 van de Standaard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08200" indent="0">
              <a:lnSpc>
                <a:spcPts val="3600"/>
              </a:lnSpc>
              <a:buNone/>
              <a:tabLst>
                <a:tab algn="l" pos="0"/>
                <a:tab algn="l" pos="80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dat geval in Deel 0 bij par. 0.04 van de inschrijver een kopie kwaliteitssysteemcertificaat verl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A2AF7-8DD7-4254-B33A-D4C1A4A879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285480"/>
            <a:ext cx="82645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2.1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lgemene gegeve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557360"/>
            <a:ext cx="84582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eningen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ilen en hoofdafmetingen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eitsborging (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indien I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oppunten vermel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lagen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horend tot bestek bijv. V&amp;G-plan, grondbalans,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gevens t.b.v. bemal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rt. 21.03.01 Standaard 2000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r informatie bijv. rapport bodem- en wateronderzoek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rt. 17.04.01 Standaard 2000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7792E-4649-4F88-9A3E-6918F60F9D6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101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lnSpc>
                <a:spcPts val="998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vullende rubrieken zoa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mechanische gegev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erstan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re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380880">
              <a:lnSpc>
                <a:spcPts val="2999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3200" y="1622520"/>
            <a:ext cx="761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65080" y="1171440"/>
            <a:ext cx="673200" cy="2287800"/>
          </a:xfrm>
          <a:custGeom>
            <a:avLst/>
            <a:gdLst/>
            <a:ahLst/>
            <a:rect l="l" t="t" r="r" b="b"/>
            <a:pathLst>
              <a:path w="433" h="1441">
                <a:moveTo>
                  <a:pt x="0" y="0"/>
                </a:moveTo>
                <a:lnTo>
                  <a:pt x="432" y="0"/>
                </a:lnTo>
                <a:lnTo>
                  <a:pt x="432" y="1440"/>
                </a:lnTo>
                <a:lnTo>
                  <a:pt x="0" y="14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68C68-AE08-40F1-8CA4-FC533C23585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0720" y="285480"/>
            <a:ext cx="79660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2.2  Vaste pagin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1240" y="1195560"/>
            <a:ext cx="802188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JURIDISCHE VERANTWO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klaring van de hierna volgende s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2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enmerk resultaatsverp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3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76500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4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enzen van de situ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08756-C5FB-46B4-80A5-D017FACF70D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73200" y="457200"/>
            <a:ext cx="717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errekenbare hoeveelheden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5720" y="1523880"/>
            <a:ext cx="81536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mschrijv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wijzing naar § 38 lid 1 UAV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oel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le afwijkingen worden ver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bij voorkeur te gebruiken; in ieder geval indien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de uitvoering afwijkingen worden verwa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D14A4-5638-4A81-84F4-342384F450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75920"/>
            <a:ext cx="8105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ITGANGSPUNTEN RAW-SYSTEMATI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70040" y="137160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lijkwaardigheid van partij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besteding (ARW 2005 / UAR-EG 1991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 UAV 1989 resp. UAV-TI 1992 (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.a. afbakening verantwoordelijkheden (§ 5 en § 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genoeg kostenhom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duidige en relevante inform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rijheid in wijze van uitvoering en keuze van materi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75C81-411F-4248-8691-73B61C7CDB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73200" y="457200"/>
            <a:ext cx="816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iet verrekenbare hoeveelheden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5720" y="1523880"/>
            <a:ext cx="8153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mschrijv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wijzing naar § 38 lid 2 UAV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oel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wijkingen tot en met 10% worden niet ver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oede 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wijkingen worden niet verwacht tijdens 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mstandigheden hebben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irectie heeft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814CB-D864-4CE1-B5CA-0FDC706A471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73200" y="457200"/>
            <a:ext cx="717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 accorderen hoeveelheden (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5720" y="1523880"/>
            <a:ext cx="79488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mschrijv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wijzing naar art. 01.01.05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óór aanvang uitvoer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rden hoeveelheden vastgesteld; daarbij worden…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wijking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 controlefase worden verrek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eenkomstig art. 01.01.06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wijking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 uitvoeringsfase niet ver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E7419-E913-48BE-AF18-A1F140A46DD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73200" y="457200"/>
            <a:ext cx="816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e accorderen hoeveelhed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5720" y="1523880"/>
            <a:ext cx="85582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oede voorber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fwijkingen worden niet verwacht tijdens 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mstandigheden hebben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irectie heeft geen invlo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den vooraf controleerbaar op basis va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, tekeningen en gegevens opdrachtg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geva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0B847-E3E5-4F9C-BA3A-5B4D173202E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73200" y="457200"/>
            <a:ext cx="816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nneer welke hoeveelhei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5720" y="1562040"/>
            <a:ext cx="855828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errekenbaa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den waarop afwijkingen te verwachten z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et verrekenbaa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uwkeurige hoeveelheden waarop geen afwijkingen worden verw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Te accorder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uwkeurige hoeveelheden waarop geen afwijkingen worden verwacht en welke controleerbaar zijn aan de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and van bestek, documenten en aanvullende gegev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2AE5A-DBAA-469E-87E5-9FB0C1BE11E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628200"/>
            <a:ext cx="7772400" cy="43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EVEELHEID TER INLICH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504440"/>
            <a:ext cx="8229600" cy="432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’ uitsluitend ter inlichting,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nzij af te leiden uit resultaatsverplic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levert bouwstof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drachtgever stelt bouwstof ter beschikking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 het werk komende bouwstoff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ts val="3600"/>
              </a:lnSpc>
              <a:buNone/>
              <a:tabLst>
                <a:tab algn="l" pos="0"/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herkomst in kolom ‘omschrijving’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ter inlichting (calculatiegegeven)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-3729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r" pos="781056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verplichting is inclusief verwerk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den ter inlich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75280" y="2743200"/>
            <a:ext cx="3019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67480" y="4559400"/>
            <a:ext cx="627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08800" y="322596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E64A8-D7CE-421C-8AA3-4EA4F4F7E78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46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EL 2.2  BESTEKSPOSTNUMM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0344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352520"/>
            <a:ext cx="8312040" cy="41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dere 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chrijving van alle benodigde ‘klussen’ in besteksp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gevolg van betaling naar productie en kostenhomogeniteit kan het aantal posten groot wo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arom indeling belangr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197"/>
              </a:lnSpc>
              <a:tabLst>
                <a:tab algn="l" pos="0"/>
                <a:tab algn="l" pos="380880"/>
                <a:tab algn="l" pos="85716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deling besteksposten door bestekschrij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5FCE0-C5D4-4818-A026-559663F117E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43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GELIJKE INDELING BESTEKSPOST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45720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76920" indent="-37692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werkcatego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ndwe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id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har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envoorzien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-37692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situ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92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ering i.v.m. verkeer e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27640" y="1676520"/>
            <a:ext cx="313056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constru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hoof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jl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ki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p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762120"/>
                <a:tab algn="l" pos="114300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FD820-D355-4BF4-9126-8F8197B9A36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49160" y="604800"/>
            <a:ext cx="504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STEKSPOSTNUMM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1040" y="1527120"/>
            <a:ext cx="9957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1400" y="4727520"/>
            <a:ext cx="1401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81240" y="1467000"/>
            <a:ext cx="282600" cy="2668320"/>
          </a:xfrm>
          <a:custGeom>
            <a:avLst/>
            <a:gdLst/>
            <a:ahLst/>
            <a:rect l="l" t="t" r="r" b="b"/>
            <a:pathLst>
              <a:path w="193" h="1681">
                <a:moveTo>
                  <a:pt x="0" y="0"/>
                </a:moveTo>
                <a:lnTo>
                  <a:pt x="192" y="0"/>
                </a:lnTo>
                <a:lnTo>
                  <a:pt x="192" y="1680"/>
                </a:lnTo>
                <a:lnTo>
                  <a:pt x="0" y="168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81240" y="4667400"/>
            <a:ext cx="282600" cy="458640"/>
          </a:xfrm>
          <a:custGeom>
            <a:avLst/>
            <a:gdLst/>
            <a:ahLst/>
            <a:rect l="l" t="t" r="r" b="b"/>
            <a:pathLst>
              <a:path w="193" h="289">
                <a:moveTo>
                  <a:pt x="0" y="0"/>
                </a:moveTo>
                <a:lnTo>
                  <a:pt x="192" y="0"/>
                </a:lnTo>
                <a:lnTo>
                  <a:pt x="192" y="288"/>
                </a:lnTo>
                <a:lnTo>
                  <a:pt x="0" y="2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7840" y="2517840"/>
            <a:ext cx="185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-4 cijfers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02080" y="2146320"/>
            <a:ext cx="3031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rije tek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.b.v. onderverde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eksp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57160" y="4651200"/>
            <a:ext cx="1669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cijfers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04240" y="4292640"/>
            <a:ext cx="3962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stell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verplichting m.b.v.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sultaatsbeschrij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EF938-3FE9-4A1F-B6E7-7A35B29F989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552600"/>
            <a:ext cx="810576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7 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GROENVOORZIENING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11574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7160" y="1488960"/>
            <a:ext cx="5522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WERKEN EN ZAA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VO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2 00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 plantmateri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3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3 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ken plantplaat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3 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tten plan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73 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zen plantpla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000"/>
                </a:solidFill>
                <a:latin typeface="Arial"/>
              </a:rPr>
              <a:t>73 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nten van b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000"/>
                </a:solidFill>
                <a:latin typeface="Arial"/>
              </a:rPr>
              <a:t>73 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ten van b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0512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000"/>
                </a:solidFill>
                <a:latin typeface="Arial"/>
              </a:rPr>
              <a:t>73 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nbrengen boompa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188C1-B0B7-4791-9E0F-261DF4EE2E6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03080" y="475920"/>
            <a:ext cx="77547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2.2  HOOFDCO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0480" y="1295280"/>
            <a:ext cx="814860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OOP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1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NTREINIGDE GROND EN VERONTR.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M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EUF- EN SLEUFLOZE TECHNI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ING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ABEL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27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ERPU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28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UNDERINGS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nzovoort t/m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5F12A-D6A0-4422-977A-DE0656F1B69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RIJHEID IN WIJZE VAN UITVOERING EN</a:t>
            </a:r>
            <a:br>
              <a:rPr sz="2800"/>
            </a:b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KEUZE VAN MATERIE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9680" y="1790280"/>
            <a:ext cx="82566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zij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ns op onherstelbare fou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venredig groot r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cherming belangen van de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waliteitseisen alleen bij bepaalde uitvoering haal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3E078-0FF4-4A49-A0C0-C55734B3FC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52560" y="131292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384120"/>
            <a:ext cx="72565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Werkcatego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ont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vervo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ver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0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 scheiden, verdichten en profil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400"/>
              </a:lnSpc>
              <a:tabLst>
                <a:tab algn="l" pos="0"/>
                <a:tab algn="l" pos="114300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ub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863640"/>
            <a:ext cx="907920" cy="374760"/>
          </a:xfrm>
          <a:custGeom>
            <a:avLst/>
            <a:gdLst/>
            <a:ahLst/>
            <a:rect l="l" t="t" r="r" b="b"/>
            <a:pathLst>
              <a:path w="577" h="289">
                <a:moveTo>
                  <a:pt x="0" y="288"/>
                </a:moveTo>
                <a:lnTo>
                  <a:pt x="0" y="0"/>
                </a:lnTo>
                <a:lnTo>
                  <a:pt x="57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5181480"/>
            <a:ext cx="1162080" cy="530280"/>
          </a:xfrm>
          <a:custGeom>
            <a:avLst/>
            <a:gdLst/>
            <a:ahLst/>
            <a:rect l="l" t="t" r="r" b="b"/>
            <a:pathLst>
              <a:path w="673" h="241">
                <a:moveTo>
                  <a:pt x="0" y="0"/>
                </a:moveTo>
                <a:lnTo>
                  <a:pt x="0" y="240"/>
                </a:lnTo>
                <a:lnTo>
                  <a:pt x="672" y="2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74956-D571-4C9A-B0F4-4A7849B08B8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70360" y="630360"/>
            <a:ext cx="228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45600" y="1209600"/>
            <a:ext cx="262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ubwerkcateg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8760" y="1743120"/>
            <a:ext cx="191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g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52640" y="3060720"/>
            <a:ext cx="690480" cy="2730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36880" y="3594240"/>
            <a:ext cx="692280" cy="2197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66960" y="2527200"/>
            <a:ext cx="691920" cy="3264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5194440"/>
            <a:ext cx="800100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4356000"/>
            <a:ext cx="8001000" cy="596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89640" y="3648240"/>
            <a:ext cx="247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nd ont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84240" y="4410000"/>
            <a:ext cx="345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ond ontgraven uit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84600" y="5248440"/>
            <a:ext cx="458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rond ontgraven uit opho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8756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7180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57480" y="52484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7180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5748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87560" y="44100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87560" y="36482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71800" y="364824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87560" y="258120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82840" y="221616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91080" y="2581200"/>
            <a:ext cx="265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ND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97160" y="1682640"/>
            <a:ext cx="0" cy="1295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2920" y="114948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67713-ED53-44A4-9694-4EC10D26724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95640" y="5565600"/>
            <a:ext cx="32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Arial"/>
              </a:rPr>
              <a:t>Besteksposten niet compl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94200" y="1566720"/>
            <a:ext cx="3235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 ontgraven uit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u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Veiligheidsklasse: basiskla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Situering: Ketelstra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soort: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klei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0,40 m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604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veen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0,50 m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ca. 756 m3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sbepaling:</a:t>
            </a: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aan de hand v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meting in het werk in profiel van ontgr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Grondsoorten gescheiden ontgrav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ntgravingshoogte gemiddeld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0,90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Ontgravingsbreedte op bodem gemidd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5,40</a:t>
            </a:r>
            <a:r>
              <a:rPr b="0" lang="nl-NL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luds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nl-NL" sz="12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0" i="1" lang="nl-NL" sz="12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oegestane positieve en negatieve afwijking 0,03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212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29520" y="1566720"/>
            <a:ext cx="49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13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9240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ffff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2240" y="858960"/>
            <a:ext cx="106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13680" y="630360"/>
            <a:ext cx="507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02560" y="630360"/>
            <a:ext cx="1035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59520" y="630360"/>
            <a:ext cx="10353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160" y="641520"/>
            <a:ext cx="7794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224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29520" y="1566720"/>
            <a:ext cx="108108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697960" y="156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996320" y="1571760"/>
            <a:ext cx="70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06360" y="614520"/>
            <a:ext cx="194076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code       1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9AB07-944F-47FE-90B3-6C2A5F87177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094200" y="1566720"/>
            <a:ext cx="32353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Aanbrengen PVC-bu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Situering: Velperpl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chte buis, drukklasse PN 8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kleur grij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ominale middellijn 16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binding buizen vrijvervalriool d.m.v. mof met rubbermanch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31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52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29520" y="1566720"/>
            <a:ext cx="4921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9240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62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14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05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862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336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257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9880" y="1566720"/>
            <a:ext cx="12945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651880" y="1566720"/>
            <a:ext cx="2779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96320" y="1571760"/>
            <a:ext cx="70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07440" y="614520"/>
            <a:ext cx="192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BBA6C-D4BD-4D72-95E3-FA23D5E4C30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RESULTAATSBESCHRIJVING: 5 W’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2120" y="1409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t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ar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aarva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lke voorwaard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elke hoeveelheden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ET: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m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765000"/>
                <a:tab algn="l" pos="1139760"/>
                <a:tab algn="l" pos="343368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  <a:tab algn="l" pos="9524880"/>
                <a:tab algn="l" pos="9906120"/>
                <a:tab algn="l" pos="1028700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o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22283-5C8D-466E-AEC6-68D77AED08E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324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EL 2.2 BIJZONDERHEDE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79400" y="1238040"/>
            <a:ext cx="6764400" cy="485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GEEN CIJFER IN DEFI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tekst op positie in catalo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st door bestekschrijver niet gebrui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er mag geen informatie ontbre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CIJFER ‘9’ IN DEFICODE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(eigen tek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juiste keuze mogel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amenvoegen twee defic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CD02B-3569-4F22-BEA5-C6169978AF9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1896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112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97480" y="1566720"/>
            <a:ext cx="49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8960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6072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3092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28272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773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83072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168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8960" y="533520"/>
            <a:ext cx="8582040" cy="4724280"/>
            <a:chOff x="318960" y="533520"/>
            <a:chExt cx="8582040" cy="4724280"/>
          </a:xfrm>
        </p:grpSpPr>
        <p:sp>
          <p:nvSpPr>
            <p:cNvPr id="292" name=""/>
            <p:cNvSpPr/>
            <p:nvPr/>
          </p:nvSpPr>
          <p:spPr>
            <a:xfrm>
              <a:off x="31896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9712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896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444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6324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618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9260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9568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896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06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1760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28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39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508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61804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7845480" y="1566720"/>
            <a:ext cx="77292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618400" y="1566720"/>
            <a:ext cx="2811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19240" y="1571760"/>
            <a:ext cx="842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73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4960" y="1571760"/>
            <a:ext cx="12945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87720" y="1571760"/>
            <a:ext cx="323532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pbreken betonstraatsten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ituering: Stationsstra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Totale breedte van 1,5 tot 3,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tonstraatstenen standaard keiformaat;</a:t>
            </a:r>
            <a:br>
              <a:rPr sz="1200"/>
            </a:b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dikte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80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De volgende vrijgekomen materialen vervoeren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categorie 1; ongebroken stenen herbruikbaar ca. 245 m2 naar gemeentewe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verige vrijgekomen materialen worden geacht voor de opdrachtgever geen waarde te hebben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categorie 1; hak- en knipwerk en gebroken stenen ca. 5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798200" y="3941640"/>
            <a:ext cx="4524840" cy="1190880"/>
            <a:chOff x="1798200" y="3941640"/>
            <a:chExt cx="4524840" cy="1190880"/>
          </a:xfrm>
        </p:grpSpPr>
        <p:sp>
          <p:nvSpPr>
            <p:cNvPr id="313" name=""/>
            <p:cNvSpPr/>
            <p:nvPr/>
          </p:nvSpPr>
          <p:spPr>
            <a:xfrm>
              <a:off x="3087720" y="3944880"/>
              <a:ext cx="323532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Niet gebruikt: niet van toepas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Inclusief oppervlakbehandeling of voegvul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Niet gebruikt: niet aanwezig in catalog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Niet gebruikt: niet van toepas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nl-NL" sz="1200" spc="-1" strike="noStrike">
                  <a:solidFill>
                    <a:srgbClr val="66ff66"/>
                  </a:solidFill>
                  <a:latin typeface="Arial"/>
                </a:rPr>
                <a:t>Hele stenen palletteren / pakkette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98200" y="3941640"/>
              <a:ext cx="109800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f9f400"/>
                  </a:solidFill>
                  <a:latin typeface="Arial"/>
                </a:rPr>
                <a:t>         </a:t>
              </a: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              </a:t>
              </a: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                   </a:t>
              </a: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207440" y="614520"/>
            <a:ext cx="187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CDE4C-5523-4D0D-A9B1-35DFA7AA9A9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762120" y="571680"/>
            <a:ext cx="7789680" cy="52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RESULTAATSBESCHRIJVING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5199"/>
              </a:lnSpc>
              <a:buNone/>
              <a:tabLst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CIJFERS ‘99’ IN HOOFD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.00.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.03.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2.99.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17146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  <a:tab algn="l" pos="8381880"/>
                <a:tab algn="l" pos="876312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spost samenstellen met eigen tek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59500-6A61-4A6C-A3C3-00BD6C42035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62120" y="571680"/>
            <a:ext cx="8229600" cy="57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GEEN STANDAARD HOOFDCODE?   GEEN DEFICOD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BOUW POST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arv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e voorwaa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e hoeveel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jk naar soortgelijke resultaatsbeschrijv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nk aan bepalinge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722C5-7E97-4EC8-820A-ADB75C40F54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73200" y="64116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ndel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4520" y="1828800"/>
            <a:ext cx="7161840" cy="32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n bestekspostnummers van 6 cijfer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den kosten toegerek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ekspost eindigend op </a:t>
            </a:r>
            <a:r>
              <a:rPr b="1" lang="en-US" sz="2400" spc="-1" strike="noStrike">
                <a:solidFill>
                  <a:srgbClr val="f9f4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f9f400"/>
                </a:solidFill>
                <a:latin typeface="Arial"/>
              </a:rPr>
              <a:t>betalingsniv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ventueel sommatie onderliggende besteksposten;</a:t>
            </a:r>
            <a:br>
              <a:rPr sz="2400"/>
            </a:b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laatste cijfer </a:t>
            </a:r>
            <a:r>
              <a:rPr b="1" lang="en-US" sz="2400" spc="-1" strike="noStrike">
                <a:solidFill>
                  <a:srgbClr val="ffff01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1BE6-8EC3-4B3A-AD8D-56F20E6B456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8548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STEK ALGEME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3333cc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22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41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508040"/>
            <a:ext cx="71197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ts val="36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BESTEK VOLGENS UAV 19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tabLst>
                <a:tab algn="l" pos="0"/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 van he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behorende teken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ldende voorwa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 van in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ces-verbaal van aanwij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091DF-8B9E-40B6-B15C-5100400E2F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3614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NDELING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1760" y="1276200"/>
            <a:ext cx="838188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ofd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ost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 xx 99    Samenvatting hoeveelheid (V/N/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 .  . .  . .    1e beschrij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 .  . .  . .    2e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Symbol"/>
                <a:ea typeface="Symbol"/>
              </a:rPr>
              <a:t>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XXXXX</a:t>
            </a: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. .  . .  . .    3e         </a:t>
            </a:r>
            <a:r>
              <a:rPr b="0" lang="nl-NL" sz="2400" spc="-1" strike="noStrike">
                <a:solidFill>
                  <a:srgbClr val="ffffff"/>
                </a:solidFill>
                <a:latin typeface="Symbol"/>
                <a:ea typeface="Symbol"/>
              </a:rPr>
              <a:t>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n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1397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2798"/>
              </a:lnSpc>
              <a:buNone/>
              <a:tabLst>
                <a:tab algn="l" pos="0"/>
                <a:tab algn="l" pos="2004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ij onderliggende posten geen hoeveelheid in kolom ‘Hoeveelheid resultaatsverplichting’ mogelijk: informatie in kolom ‘Hoeveelheid ter inlichting’ (I), en / of in kolom ‘Omschrijving’ vermeld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CEABB-83CB-4E92-A241-A7512A1C90D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063960" y="1555920"/>
            <a:ext cx="3260520" cy="27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Aanbrengen PVC incl. grondwe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Situering: Kalverstra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Graven en aanvullen sle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In vaste grond met veel hinder van aanwezige kabels, leidingen en boomwort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leufdiepte 0,7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leufbreedte 0,4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Aanbrengen PVC-bu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chte buis, drukklasse PN 8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kleur grij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ominale middellijn 125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0760" y="1504800"/>
            <a:ext cx="77292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93680" y="1504800"/>
            <a:ext cx="844560" cy="2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522</a:t>
            </a:r>
            <a:r>
              <a:rPr b="1" i="1" lang="en-US" sz="1600" spc="-1" strike="noStrike">
                <a:solidFill>
                  <a:srgbClr val="ffff01"/>
                </a:solidFill>
                <a:latin typeface="Arial"/>
              </a:rPr>
              <a:t>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0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522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99280" y="1555920"/>
            <a:ext cx="49212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91400" y="1555920"/>
            <a:ext cx="77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60720" y="15559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18960" y="457200"/>
            <a:ext cx="8583840" cy="4800600"/>
            <a:chOff x="318960" y="457200"/>
            <a:chExt cx="8583840" cy="4800600"/>
          </a:xfrm>
        </p:grpSpPr>
        <p:sp>
          <p:nvSpPr>
            <p:cNvPr id="329" name=""/>
            <p:cNvSpPr/>
            <p:nvPr/>
          </p:nvSpPr>
          <p:spPr>
            <a:xfrm>
              <a:off x="318960" y="1524240"/>
              <a:ext cx="858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9820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9104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4620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64680" y="1524240"/>
              <a:ext cx="0" cy="37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6216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92960" y="457200"/>
              <a:ext cx="0" cy="480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96040" y="924120"/>
              <a:ext cx="0" cy="433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8960" y="457200"/>
              <a:ext cx="8583840" cy="480060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0700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1832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2928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64024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51200" y="1311480"/>
              <a:ext cx="0" cy="394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619840" y="1524240"/>
              <a:ext cx="0" cy="37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7845480" y="1555920"/>
            <a:ext cx="77472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620200" y="1555920"/>
            <a:ext cx="28080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98200" y="1633680"/>
            <a:ext cx="910440" cy="28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nl-NL" sz="1200" spc="-1" strike="noStrike">
                <a:solidFill>
                  <a:srgbClr val="be1128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00ff00"/>
                </a:solidFill>
                <a:latin typeface="Arial"/>
              </a:rPr>
              <a:t>              </a:t>
            </a:r>
            <a:r>
              <a:rPr b="1" lang="nl-NL" sz="1200" spc="-1" strike="noStrike">
                <a:solidFill>
                  <a:srgbClr val="be1128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63960" y="5565600"/>
            <a:ext cx="32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66ff66"/>
                </a:solidFill>
                <a:latin typeface="Arial"/>
              </a:rPr>
              <a:t>Besteksposten niet comple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3092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8272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773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83072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168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07440" y="533520"/>
            <a:ext cx="187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230AF-B58A-4C15-9A19-BD04C550065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761760" y="571680"/>
            <a:ext cx="775476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WAARDEN VOOR </a:t>
            </a: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ELKE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 BESTEKSP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genoeg kostenhom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statie moet meetbaar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antwoorden van de 5 W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EXTRA VOORWAARDEN BUNDE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elatie tussen de onder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en betaling op onder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95A8-BAFE-455D-97FA-7457E27C9F3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399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EL 3 BEPALING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79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nderschei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ministr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chnis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 be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en geldend in Standaard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ojectgebonden in 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3906F-F7D8-4C5C-B38D-E0EA1EB1AC5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73200" y="45684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lke bepalingen waar 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257480"/>
            <a:ext cx="792504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 2005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ff01"/>
              </a:buClr>
              <a:buFont typeface="Arial"/>
              <a:buChar char="•"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Keuzebepal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Indien ...; …tenzij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ff01"/>
              </a:buClr>
              <a:buFont typeface="Arial"/>
              <a:buChar char="•"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Invulbepal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Het bestek vermeldt 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e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ff01"/>
              </a:buClr>
              <a:buFont typeface="Arial"/>
              <a:buChar char="•"/>
              <a:tabLst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Eigen bepaling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tijd afstemmen op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bepali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aanvulling op ....... (art. / § ...  van  ...) 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331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afwijking van  ....... (art. / § ...  van  ...) 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89B38-C652-49A8-ACAE-5C33551039D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73200" y="45684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ling algemene 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ministratieve bepaling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851200" y="1316160"/>
            <a:ext cx="1506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20880" y="1523880"/>
            <a:ext cx="1887480" cy="1144800"/>
          </a:xfrm>
          <a:custGeom>
            <a:avLst/>
            <a:gdLst/>
            <a:ahLst/>
            <a:rect l="l" t="t" r="r" b="b"/>
            <a:pathLst>
              <a:path w="1249" h="721">
                <a:moveTo>
                  <a:pt x="0" y="720"/>
                </a:moveTo>
                <a:lnTo>
                  <a:pt x="0" y="0"/>
                </a:lnTo>
                <a:lnTo>
                  <a:pt x="1248" y="0"/>
                </a:lnTo>
                <a:lnTo>
                  <a:pt x="1198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454040" y="1828800"/>
            <a:ext cx="1354320" cy="839880"/>
          </a:xfrm>
          <a:custGeom>
            <a:avLst/>
            <a:gdLst/>
            <a:ahLst/>
            <a:rect l="l" t="t" r="r" b="b"/>
            <a:pathLst>
              <a:path w="913" h="529">
                <a:moveTo>
                  <a:pt x="0" y="528"/>
                </a:moveTo>
                <a:lnTo>
                  <a:pt x="0" y="0"/>
                </a:lnTo>
                <a:lnTo>
                  <a:pt x="912" y="0"/>
                </a:lnTo>
                <a:lnTo>
                  <a:pt x="875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87560" y="2133720"/>
            <a:ext cx="820800" cy="5349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79760" y="2438280"/>
            <a:ext cx="228600" cy="2286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144"/>
                </a:moveTo>
                <a:lnTo>
                  <a:pt x="0" y="0"/>
                </a:lnTo>
                <a:lnTo>
                  <a:pt x="240" y="0"/>
                </a:lnTo>
                <a:lnTo>
                  <a:pt x="23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0120" y="2800440"/>
            <a:ext cx="733788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LG. EN ADM. 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8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8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ijdrage RAW-systemati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8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ijdrage Fonds Collectief Onderzo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0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lgordelijk of eigen numm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overeenkomstig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59080" y="2819520"/>
            <a:ext cx="0" cy="19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12720" y="5219640"/>
            <a:ext cx="1295640" cy="544680"/>
          </a:xfrm>
          <a:custGeom>
            <a:avLst/>
            <a:gdLst/>
            <a:ahLst/>
            <a:rect l="l" t="t" r="r" b="b"/>
            <a:pathLst>
              <a:path w="913" h="289">
                <a:moveTo>
                  <a:pt x="0" y="0"/>
                </a:moveTo>
                <a:lnTo>
                  <a:pt x="0" y="288"/>
                </a:lnTo>
                <a:lnTo>
                  <a:pt x="912" y="288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619360" y="5219640"/>
            <a:ext cx="189000" cy="190440"/>
          </a:xfrm>
          <a:custGeom>
            <a:avLst/>
            <a:gdLst/>
            <a:ahLst/>
            <a:rect l="l" t="t" r="r" b="b"/>
            <a:pathLst>
              <a:path w="145" h="97">
                <a:moveTo>
                  <a:pt x="0" y="0"/>
                </a:moveTo>
                <a:lnTo>
                  <a:pt x="0" y="96"/>
                </a:lnTo>
                <a:lnTo>
                  <a:pt x="144" y="96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120" y="4991040"/>
            <a:ext cx="1530360" cy="230400"/>
          </a:xfrm>
          <a:custGeom>
            <a:avLst/>
            <a:gdLst/>
            <a:ahLst/>
            <a:rect l="l" t="t" r="r" b="b"/>
            <a:pathLst>
              <a:path w="961" h="145">
                <a:moveTo>
                  <a:pt x="0" y="0"/>
                </a:moveTo>
                <a:lnTo>
                  <a:pt x="0" y="144"/>
                </a:lnTo>
                <a:lnTo>
                  <a:pt x="960" y="144"/>
                </a:lnTo>
                <a:lnTo>
                  <a:pt x="960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60600" y="4991040"/>
            <a:ext cx="352440" cy="2304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0"/>
                </a:moveTo>
                <a:lnTo>
                  <a:pt x="0" y="144"/>
                </a:lnTo>
                <a:lnTo>
                  <a:pt x="240" y="144"/>
                </a:lnTo>
                <a:lnTo>
                  <a:pt x="24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3D606-5BC7-476D-B1BD-46E22499860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73200" y="456840"/>
            <a:ext cx="71755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ling technische bepaling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51200" y="1316160"/>
            <a:ext cx="1506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20880" y="1523880"/>
            <a:ext cx="1887480" cy="1144800"/>
          </a:xfrm>
          <a:custGeom>
            <a:avLst/>
            <a:gdLst/>
            <a:ahLst/>
            <a:rect l="l" t="t" r="r" b="b"/>
            <a:pathLst>
              <a:path w="1249" h="721">
                <a:moveTo>
                  <a:pt x="0" y="720"/>
                </a:moveTo>
                <a:lnTo>
                  <a:pt x="0" y="0"/>
                </a:lnTo>
                <a:lnTo>
                  <a:pt x="1248" y="0"/>
                </a:lnTo>
                <a:lnTo>
                  <a:pt x="1198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54040" y="1828800"/>
            <a:ext cx="1354320" cy="839880"/>
          </a:xfrm>
          <a:custGeom>
            <a:avLst/>
            <a:gdLst/>
            <a:ahLst/>
            <a:rect l="l" t="t" r="r" b="b"/>
            <a:pathLst>
              <a:path w="913" h="529">
                <a:moveTo>
                  <a:pt x="0" y="528"/>
                </a:moveTo>
                <a:lnTo>
                  <a:pt x="0" y="0"/>
                </a:lnTo>
                <a:lnTo>
                  <a:pt x="912" y="0"/>
                </a:lnTo>
                <a:lnTo>
                  <a:pt x="875" y="0"/>
                </a:lnTo>
              </a:path>
            </a:pathLst>
          </a:custGeom>
          <a:noFill/>
          <a:ln cap="rnd" w="28440">
            <a:solidFill>
              <a:srgbClr val="fff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87560" y="2133720"/>
            <a:ext cx="820800" cy="5349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21080" y="2438280"/>
            <a:ext cx="287280" cy="2286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144"/>
                </a:moveTo>
                <a:lnTo>
                  <a:pt x="0" y="0"/>
                </a:lnTo>
                <a:lnTo>
                  <a:pt x="240" y="0"/>
                </a:lnTo>
                <a:lnTo>
                  <a:pt x="23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2800440"/>
            <a:ext cx="8370720" cy="31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3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EGVERHARDINGE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3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4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ISEN EN UITVOERING STRAAT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31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42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Uitvoering nieuwe kantopsluitingen, goten,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kolken en putdek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06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n afwijking van art. 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31.42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.03 lid 02 Standaard 2005 mo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lengte van passtukken ten minste 0,40 m bedra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lgordelijk of eigen numm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6360"/>
                <a:tab algn="l" pos="1139760"/>
                <a:tab algn="l" pos="1717560"/>
                <a:tab algn="l" pos="2193840"/>
                <a:tab algn="l" pos="2298600"/>
                <a:tab algn="l" pos="2873520"/>
                <a:tab algn="l" pos="3448080"/>
                <a:tab algn="l" pos="4022640"/>
                <a:tab algn="l" pos="4597560"/>
                <a:tab algn="l" pos="5172120"/>
                <a:tab algn="l" pos="5746680"/>
                <a:tab algn="l" pos="6321600"/>
                <a:tab algn="l" pos="6896160"/>
                <a:tab algn="l" pos="7470720"/>
                <a:tab algn="l" pos="8045280"/>
                <a:tab algn="l" pos="8620200"/>
                <a:tab algn="l" pos="9194760"/>
                <a:tab algn="l" pos="9769320"/>
                <a:tab algn="l" pos="10344240"/>
                <a:tab algn="l" pos="109188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1"/>
                </a:solidFill>
                <a:latin typeface="Arial"/>
              </a:rPr>
              <a:t>overeenkomstig 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92440" y="2819520"/>
            <a:ext cx="0" cy="1981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28680" y="5219640"/>
            <a:ext cx="1579680" cy="544680"/>
          </a:xfrm>
          <a:custGeom>
            <a:avLst/>
            <a:gdLst/>
            <a:ahLst/>
            <a:rect l="l" t="t" r="r" b="b"/>
            <a:pathLst>
              <a:path w="913" h="289">
                <a:moveTo>
                  <a:pt x="0" y="0"/>
                </a:moveTo>
                <a:lnTo>
                  <a:pt x="0" y="288"/>
                </a:lnTo>
                <a:lnTo>
                  <a:pt x="912" y="288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98680" y="5219640"/>
            <a:ext cx="409680" cy="190440"/>
          </a:xfrm>
          <a:custGeom>
            <a:avLst/>
            <a:gdLst/>
            <a:ahLst/>
            <a:rect l="l" t="t" r="r" b="b"/>
            <a:pathLst>
              <a:path w="145" h="97">
                <a:moveTo>
                  <a:pt x="0" y="0"/>
                </a:moveTo>
                <a:lnTo>
                  <a:pt x="0" y="96"/>
                </a:lnTo>
                <a:lnTo>
                  <a:pt x="144" y="96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4991040"/>
            <a:ext cx="1025640" cy="230400"/>
          </a:xfrm>
          <a:custGeom>
            <a:avLst/>
            <a:gdLst/>
            <a:ahLst/>
            <a:rect l="l" t="t" r="r" b="b"/>
            <a:pathLst>
              <a:path w="961" h="145">
                <a:moveTo>
                  <a:pt x="0" y="0"/>
                </a:moveTo>
                <a:lnTo>
                  <a:pt x="0" y="144"/>
                </a:lnTo>
                <a:lnTo>
                  <a:pt x="960" y="144"/>
                </a:lnTo>
                <a:lnTo>
                  <a:pt x="960" y="0"/>
                </a:lnTo>
              </a:path>
            </a:pathLst>
          </a:custGeom>
          <a:noFill/>
          <a:ln cap="rnd"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59040" y="4991040"/>
            <a:ext cx="949320" cy="230400"/>
          </a:xfrm>
          <a:custGeom>
            <a:avLst/>
            <a:gdLst/>
            <a:ahLst/>
            <a:rect l="l" t="t" r="r" b="b"/>
            <a:pathLst>
              <a:path w="241" h="145">
                <a:moveTo>
                  <a:pt x="0" y="0"/>
                </a:moveTo>
                <a:lnTo>
                  <a:pt x="0" y="144"/>
                </a:lnTo>
                <a:lnTo>
                  <a:pt x="240" y="144"/>
                </a:lnTo>
                <a:lnTo>
                  <a:pt x="240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BF01E-EBE2-49D1-9098-D52F47D169D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766160" y="4876920"/>
            <a:ext cx="226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deel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040" y="1442880"/>
            <a:ext cx="416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768240"/>
                <a:tab algn="l" pos="1152360"/>
                <a:tab algn="l" pos="1536840"/>
                <a:tab algn="l" pos="1920960"/>
                <a:tab algn="l" pos="2305080"/>
                <a:tab algn="l" pos="2689200"/>
                <a:tab algn="l" pos="3073320"/>
                <a:tab algn="l" pos="3457440"/>
                <a:tab algn="l" pos="3841920"/>
                <a:tab algn="l" pos="4226040"/>
                <a:tab algn="l" pos="4610160"/>
                <a:tab algn="l" pos="4994280"/>
                <a:tab algn="l" pos="5378400"/>
                <a:tab algn="l" pos="5762520"/>
                <a:tab algn="l" pos="6146640"/>
                <a:tab algn="l" pos="6531120"/>
                <a:tab algn="l" pos="6915240"/>
                <a:tab algn="l" pos="7299360"/>
                <a:tab algn="l" pos="768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gverhardinge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57520" y="1860480"/>
            <a:ext cx="150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4520" y="2970360"/>
            <a:ext cx="80881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gverhardingen II, algem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faltverhar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onverhar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at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38080" y="2100240"/>
            <a:ext cx="914400" cy="73332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460520" y="2481120"/>
            <a:ext cx="291960" cy="35244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371600" y="4691160"/>
            <a:ext cx="380880" cy="42840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73200" y="495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eling technische bepaling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154F1-DEC4-40EE-B294-DBF10FD45D4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766160" y="5423040"/>
            <a:ext cx="192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zeve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8400" y="1278000"/>
            <a:ext cx="423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55600"/>
                <a:tab algn="l" pos="1733400"/>
                <a:tab algn="l" pos="2311560"/>
                <a:tab algn="l" pos="2889360"/>
                <a:tab algn="l" pos="3467160"/>
                <a:tab algn="l" pos="4044960"/>
                <a:tab algn="l" pos="4622760"/>
                <a:tab algn="l" pos="5200560"/>
                <a:tab algn="l" pos="5778360"/>
                <a:tab algn="l" pos="6356520"/>
                <a:tab algn="l" pos="6934320"/>
                <a:tab algn="l" pos="7512120"/>
                <a:tab algn="l" pos="8089920"/>
                <a:tab algn="l" pos="8667720"/>
                <a:tab algn="l" pos="9245520"/>
                <a:tab algn="l" pos="9823320"/>
                <a:tab algn="l" pos="10401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X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ofdstuk 11 t/m 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57520" y="1695600"/>
            <a:ext cx="150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fds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gra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4520" y="2592360"/>
            <a:ext cx="8088120" cy="27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Begri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Eisen en uitvo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Informatie-over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Risicoverdeling en garan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Bijbehorende verplicht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Bouwsto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1"/>
                </a:solidFill>
                <a:latin typeface="Arial"/>
              </a:rPr>
              <a:t>Meet- en verrekenmetho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558800" y="5380200"/>
            <a:ext cx="193680" cy="3045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0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1935000"/>
            <a:ext cx="914400" cy="65736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60520" y="2316240"/>
            <a:ext cx="291960" cy="276120"/>
          </a:xfrm>
          <a:custGeom>
            <a:avLst/>
            <a:gdLst/>
            <a:ahLst/>
            <a:rect l="l" t="t" r="r" b="b"/>
            <a:pathLst>
              <a:path w="577" h="337">
                <a:moveTo>
                  <a:pt x="0" y="336"/>
                </a:moveTo>
                <a:lnTo>
                  <a:pt x="0" y="0"/>
                </a:lnTo>
                <a:lnTo>
                  <a:pt x="576" y="0"/>
                </a:lnTo>
                <a:lnTo>
                  <a:pt x="552" y="0"/>
                </a:lnTo>
              </a:path>
            </a:pathLst>
          </a:custGeom>
          <a:noFill/>
          <a:ln cap="rnd"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73200" y="495000"/>
            <a:ext cx="847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eling technische bepaling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3F075-EC0A-46EB-B0E7-89455B70346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669960" y="419040"/>
            <a:ext cx="724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gemene 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ministratieve bepalin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ts val="2500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1"/>
                </a:solidFill>
                <a:latin typeface="Arial"/>
              </a:rPr>
              <a:t>Paragraf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gemene bepal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aannemingss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afwijkingen van verrekenbare hoeveelh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risicoreg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declar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alingsregelingen: uitvoerings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ekerheidste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jdr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0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bels en leid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.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gunn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0950F-9DB0-4ACD-92D8-0E180FA6E43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L BEST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29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Contract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aanbeste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uitvo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eventuele geschi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3B440-3C3F-47B3-BD97-20E1DE17DE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609480" y="380880"/>
            <a:ext cx="8001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ts val="3197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ne en administratieve bepalingen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vervolg)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1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erband met andere werk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2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Maatregelen in het belang van het verke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3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waliteitsplan, algemeen tijdschema, werkpla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flexibele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uitvoeringstermij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4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ouwstoff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5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aran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6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erzekeri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7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Vrijgekomen materia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8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scherming te handhaven vegeta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19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rbeidsomstandigh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20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waliteitsbor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21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vereenkomsten met open p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99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01.22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ABB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):  Te werk stellen van leerlingen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CCB5E-9945-4425-A7F3-3CDD111E0A7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2120" y="3240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CHRIJVINGSDOCUMENTE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schrijvingsbilj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Inschrijvingssta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182680" y="324180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099880" y="4089240"/>
            <a:ext cx="600660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TLEDING VAN DE AANNEMINGSS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084400" y="300960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19320" y="3009960"/>
            <a:ext cx="230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0445D-D084-467D-B2DD-6458004B34B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2120" y="40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CHRIJVINGSSTA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76240" y="981000"/>
            <a:ext cx="8115480" cy="793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Productiegebonden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Arial"/>
              </a:rPr>
              <a:t>Hoeveelheid met prijs per eenheid of bedrag in 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76240" y="2565360"/>
            <a:ext cx="8115480" cy="265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taartkosten in bedragen in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malige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s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gemene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nst en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elp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dr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52680" y="1917720"/>
            <a:ext cx="243864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TO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76560" y="5373720"/>
            <a:ext cx="2994120" cy="45828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NEMINGSS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E26C9-8574-4C8A-9851-8FB43520371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71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822960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Eenmalige 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sten met eenmalig karak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afhankelijk van productievoortg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 verreken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dere specificaties door opdrachtgever en doo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 mogelij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of volgens te treffen regeling;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dien niet toerekenbaar dan % van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B8D3-E507-4880-AC2F-8BA4EF4F4F2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71480" y="418680"/>
            <a:ext cx="81057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62120" y="1257480"/>
            <a:ext cx="8107200" cy="33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Uitvoerings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sten, gedeeltelijk op het werk waarneem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van het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4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beginsel niet verrekenb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57168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m.u.v. art. 01.06.01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387D7-5049-44F6-A619-24931E79D25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761760" y="1380960"/>
            <a:ext cx="8018280" cy="35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Algemene 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van het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4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Winst en r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 van het subtota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ts val="3600"/>
              </a:lnSpc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4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771480" y="418680"/>
            <a:ext cx="81057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02FB0-9290-494A-9DA8-294198CC98A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762120" y="1380600"/>
            <a:ext cx="769608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6200" indent="0">
              <a:lnSpc>
                <a:spcPts val="3197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Stelp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pn 950010 e.v. resp. hoofdcode 6105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naar productie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2.03 lid 03 Standaard 2005) incl.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emersvergoeding 5 of 10% (§ 37 UAV 198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0">
              <a:lnSpc>
                <a:spcPts val="3197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0">
              <a:lnSpc>
                <a:spcPts val="3197"/>
              </a:lnSpc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Bijd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pn 960010 resp. 960020 in inschrijvingssta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ling volgens par. 01.08 Standaard 2005: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rt. 01.08.01 resp. 01.08.02 in deel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771480" y="418680"/>
            <a:ext cx="81057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ARTKOST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7FE52-19A2-4956-BFA1-59C41BBAC049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81200" y="475920"/>
            <a:ext cx="5713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ERREKENPRIJ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761760" y="16765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00"/>
                </a:solidFill>
                <a:latin typeface="Arial"/>
              </a:rPr>
              <a:t>FUNCTIE INSCHRIJVINGSSTA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chakel besteksadministr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1.04 lid 05 Standaard 200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rekening betalingstermij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Vaststellen verrekenprij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E6206-CCB1-4AA3-97D8-54085394B9C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763560" y="5716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0">
              <a:lnSpc>
                <a:spcPts val="3600"/>
              </a:lnSpc>
              <a:buNone/>
              <a:tabLst>
                <a:tab algn="l" pos="0"/>
                <a:tab algn="l" pos="190512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AV 1989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verrekenprijs alle rechtstreeks voor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uitvoering benodigde kost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§ 39 lid 5 UAV 198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ts val="3600"/>
              </a:lnSpc>
              <a:buNone/>
              <a:tabLst>
                <a:tab algn="l" pos="0"/>
                <a:tab algn="l" pos="190512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2960" indent="0">
              <a:lnSpc>
                <a:spcPts val="3600"/>
              </a:lnSpc>
              <a:buNone/>
              <a:tabLst>
                <a:tab algn="l" pos="0"/>
                <a:tab algn="l" pos="190512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RAW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In verrekenprijs productiegebonden kosten,</a:t>
            </a:r>
            <a:br>
              <a:rPr sz="24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algemene kosten, winst en risico</a:t>
            </a:r>
            <a:br>
              <a:rPr sz="24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Eenmalige kosten en uitvoeringskosten</a:t>
            </a:r>
            <a:br>
              <a:rPr sz="2400"/>
            </a:b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blijven buiten beschouwing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2120" y="4648320"/>
            <a:ext cx="6848280" cy="82404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aarom in art. 01.03.03 lid 02 Standaard 200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§ 39 lid 5 UAV 1989 niet van toepa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17A55-6361-4D5F-9287-877539230AC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ERREKENPRIJS VOLGENS RAW</a:t>
            </a:r>
            <a:br>
              <a:rPr sz="28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3.03 lid 01 Standaard 200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2502000"/>
            <a:ext cx="6541920" cy="22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80880" indent="-380880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000" spc="-1" strike="noStrike" u="sng">
                <a:solidFill>
                  <a:srgbClr val="ffff00"/>
                </a:solidFill>
                <a:uFillTx/>
                <a:latin typeface="Arial"/>
              </a:rPr>
              <a:t>algemene kosten + winst en risico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subtota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rcentage afronden op tie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rekenprijs afronden op hele euro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2571840"/>
            <a:ext cx="80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p.p.e.+ (           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x 100 %</a:t>
            </a:r>
            <a:r>
              <a:rPr b="0" lang="nl-NL" sz="2400" spc="-1" strike="noStrike">
                <a:solidFill>
                  <a:srgbClr val="ffff00"/>
                </a:solidFill>
                <a:latin typeface="Arial"/>
              </a:rPr>
              <a:t> ) x p.p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C3AA5-C0D2-4DD2-A192-41F45ED764B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2120" y="133344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Informatiedr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conomisch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aming van kost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alculatie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oetsing van aanbieding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turing en bewaking bouwpro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095560" indent="0">
              <a:lnSpc>
                <a:spcPts val="2798"/>
              </a:lnSpc>
              <a:buNone/>
              <a:tabLst>
                <a:tab algn="l" pos="762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chnisch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statiebeschrijv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idraad bij uitvoering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ontrolemid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L BESTE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6CA96-BBCC-4A06-BC40-6CB44B41EB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VERREKENPRIJS VOLGENS RAW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(vervolg)</a:t>
            </a:r>
            <a:br>
              <a:rPr sz="28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art. 01.03.03 lid 01 Standaard 200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rekenbare hoeveelheid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rijs per eenhei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1000 eenhed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 16,50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16.5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ubtotaal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16.5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enmalige kos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1.0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voeringskos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9,1%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4.0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27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Algemene koste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1.000,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Winst en risico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00"/>
                </a:solidFill>
                <a:latin typeface="Arial"/>
              </a:rPr>
              <a:t>500,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annemingssom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23.000,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ts val="499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3044880"/>
                <a:tab algn="l" pos="3233880"/>
                <a:tab algn="l" pos="4286160"/>
                <a:tab algn="l" pos="590220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rekenprijs € 16,50 + </a:t>
            </a: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9,1%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x € 16,50 = € 18,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6019920" y="2666880"/>
            <a:ext cx="569880" cy="1677600"/>
            <a:chOff x="6019920" y="2666880"/>
            <a:chExt cx="569880" cy="1677600"/>
          </a:xfrm>
        </p:grpSpPr>
        <p:sp>
          <p:nvSpPr>
            <p:cNvPr id="431" name=""/>
            <p:cNvSpPr/>
            <p:nvPr/>
          </p:nvSpPr>
          <p:spPr>
            <a:xfrm flipV="1">
              <a:off x="6589800" y="3835080"/>
              <a:ext cx="0" cy="5094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19920" y="2666880"/>
              <a:ext cx="563400" cy="1386000"/>
            </a:xfrm>
            <a:custGeom>
              <a:avLst/>
              <a:gdLst/>
              <a:ahLst/>
              <a:rect l="l" t="t" r="r" b="b"/>
              <a:pathLst>
                <a:path w="241" h="913">
                  <a:moveTo>
                    <a:pt x="240" y="0"/>
                  </a:moveTo>
                  <a:lnTo>
                    <a:pt x="0" y="0"/>
                  </a:lnTo>
                  <a:lnTo>
                    <a:pt x="0" y="912"/>
                  </a:lnTo>
                  <a:lnTo>
                    <a:pt x="240" y="912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2743200" y="5477040"/>
            <a:ext cx="3505320" cy="397440"/>
          </a:xfrm>
          <a:prstGeom prst="rect">
            <a:avLst/>
          </a:prstGeom>
          <a:noFill/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Denk aan afrondingsreg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162920" y="441972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62920" y="24382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812000" y="5373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7A4E7-8800-4654-B4D7-988A1567035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63392-B44C-4484-A6BF-CC62BB61ADAD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69960" y="419040"/>
            <a:ext cx="8093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ormen binnen RAW-best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173340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Aan de orde komen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2647800"/>
            <a:ext cx="8229600" cy="16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gerichte resultaatsverplichting (deel 2.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eldbest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eenkomst met open p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>
            <a:hlinkClick r:id="rId1"/>
          </p:cNvPr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F7F23-1925-4F9A-9433-CD1245383D2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571320" y="596880"/>
            <a:ext cx="8381880" cy="544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1"/>
                </a:solidFill>
                <a:latin typeface="Arial"/>
              </a:rPr>
              <a:t>Productgerich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1"/>
                </a:solidFill>
                <a:latin typeface="Arial"/>
              </a:rPr>
              <a:t>resultaatsverplich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19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 productgerichte resultaatsverplichting is 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undeling resulterend in een herkenbaar onderde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n het we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2798"/>
              </a:lnSpc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resultaatsverplichting kenmerkt zich do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2798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heid : st / keer / v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 geheel g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enmerk ‘A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>
            <a:hlinkClick r:id="rId1"/>
          </p:cNvPr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FADD-AC12-4221-992F-F9670850B65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987640" y="1523880"/>
            <a:ext cx="323532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Aanbrengen betonnen dui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rond ontgraven t.b.v. sle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eien betonnen pa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kes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oplegmateria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betonnen duiker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rechthoekig profie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betonnen stootpl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vullen sle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best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44440" y="1523880"/>
            <a:ext cx="77328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 u="sng">
                <a:solidFill>
                  <a:srgbClr val="ffff01"/>
                </a:solidFill>
                <a:uFillTx/>
                <a:latin typeface="Arial"/>
              </a:rPr>
              <a:t>42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21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017720" y="1523880"/>
            <a:ext cx="84456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551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0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1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11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25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551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731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401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21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22960" y="1523880"/>
            <a:ext cx="49212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15080" y="1523880"/>
            <a:ext cx="773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481520" y="1523880"/>
            <a:ext cx="294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43000" y="457200"/>
            <a:ext cx="8583480" cy="4876560"/>
            <a:chOff x="243000" y="457200"/>
            <a:chExt cx="8583480" cy="4876560"/>
          </a:xfrm>
        </p:grpSpPr>
        <p:sp>
          <p:nvSpPr>
            <p:cNvPr id="450" name=""/>
            <p:cNvSpPr/>
            <p:nvPr/>
          </p:nvSpPr>
          <p:spPr>
            <a:xfrm>
              <a:off x="243000" y="1541160"/>
              <a:ext cx="8582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2224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71472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6988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8360" y="1541160"/>
              <a:ext cx="0" cy="379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8620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017000" y="457200"/>
              <a:ext cx="0" cy="487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20080" y="931320"/>
              <a:ext cx="0" cy="440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000" y="457200"/>
              <a:ext cx="8583480" cy="487656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104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4200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5296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6428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75240" y="1324800"/>
              <a:ext cx="0" cy="400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43520" y="1541160"/>
              <a:ext cx="0" cy="379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7769160" y="1523880"/>
            <a:ext cx="774720" cy="37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.52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6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14,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7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192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.030,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4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543880" y="1523880"/>
            <a:ext cx="211320" cy="33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5565600"/>
            <a:ext cx="438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400" spc="-1" strike="noStrike">
                <a:solidFill>
                  <a:srgbClr val="f9f400"/>
                </a:solidFill>
                <a:latin typeface="Arial"/>
              </a:rPr>
              <a:t>Ter indicat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54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06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697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754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572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99800" y="614520"/>
            <a:ext cx="19648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rId1"/>
          </p:cNvPr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22850-7162-4312-BB3D-0069EE5C3BC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669960" y="291960"/>
            <a:ext cx="724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RAW-beeldbestekk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685440" y="1549080"/>
            <a:ext cx="7620120" cy="36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n beeldbestek is een besteksvorm waarbij word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itgegaan van de beschrijving van kwaliteitsnivea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ts val="3197"/>
              </a:lnSpc>
              <a:buNone/>
              <a:tabLst>
                <a:tab algn="l" pos="0"/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beeldbestek kenmerkt zich doo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chrijving in kwaliteitsnivea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 voorkomende werkzaamh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nheid in we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ctr" pos="5621400"/>
                <a:tab algn="r" pos="6854760"/>
                <a:tab algn="r" pos="7243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tbare resulta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17338-FEFF-41D8-9840-1A9C6A3A9EB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094200" y="1566720"/>
            <a:ext cx="3306600" cy="28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nkruidbeheersing in beplantingsv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Situering: Renkum Oost, zie tek. A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Oppervlakte te onderhouden percelen: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ca 500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Aantal te onderhouden percelen: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19 stu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Horizontaal of met een talud flauwer dan 1: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treft: bodembedekkende hee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Leeftijd beplanting: ca. 3 jaar of meer na aan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Kwaliteitsniveau B (onkruidbeheersing, standaa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eriode: in groeiseizo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rijgekomen materiaal verwerken volgens </a:t>
            </a:r>
            <a:r>
              <a:rPr b="1" i="1" lang="nl-NL" sz="1200" spc="-1" strike="noStrike">
                <a:solidFill>
                  <a:srgbClr val="ffff01"/>
                </a:solidFill>
                <a:latin typeface="Arial"/>
              </a:rPr>
              <a:t>bestekspostnummer 201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201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5142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48520" y="1566720"/>
            <a:ext cx="685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592400" y="1566720"/>
            <a:ext cx="287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062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314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805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862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3336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490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1566720"/>
            <a:ext cx="1371600" cy="31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697960" y="156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996320" y="1571760"/>
            <a:ext cx="70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07440" y="614520"/>
            <a:ext cx="192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779AB-A8E7-40A5-A108-6791BCE7A95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84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Beschrijving in kwaliteitsniveau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84280" y="1257120"/>
            <a:ext cx="8076960" cy="46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ier kwaliteitsnivea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A: intensief beh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B: standaard beh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C: extensief behe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veau D: extensief, referentie niveau voor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waliteitsniveaus zijn gestandaardisee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n op elkaar afgestem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lnSpc>
                <a:spcPts val="3600"/>
              </a:lnSpc>
              <a:buNone/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EBBDB-93AB-4604-A83E-E2984AA4589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558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1"/>
                </a:solidFill>
                <a:latin typeface="Arial"/>
              </a:rPr>
              <a:t>Overeenkomsten met open posten (OMOP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98400" y="1968480"/>
            <a:ext cx="80773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76200" indent="-37620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actvorm voor het geval da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get bekend (en beschikbaar)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mzetverwachting (daarmee) in te schatten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ard van meest voorkomende werkzaamheden bekend is (de onderlinge verhouding ‘bij benadering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200" indent="-376200"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a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440" y="47239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eveelheden en/of de datum van uitvoering niet bekend zij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B8F49-F686-4E99-A83A-0EE5C015AD7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84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eenkomst met open post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62120" y="1730160"/>
            <a:ext cx="7772400" cy="10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00"/>
                </a:solidFill>
                <a:latin typeface="Arial"/>
              </a:rPr>
              <a:t>RAW Raambestek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het </a:t>
            </a:r>
            <a:r>
              <a:rPr b="0" lang="nl-NL" sz="2400" spc="-1" strike="noStrike" u="sng">
                <a:solidFill>
                  <a:srgbClr val="ffff00"/>
                </a:solidFill>
                <a:uFillTx/>
                <a:latin typeface="Arial"/>
              </a:rPr>
              <a:t>uitvoer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van </a:t>
            </a:r>
            <a:r>
              <a:rPr b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rkzaamheden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onderhoud riool, bestrating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84280" y="3162240"/>
            <a:ext cx="77724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ts val="2798"/>
              </a:lnSpc>
              <a:tabLst>
                <a:tab algn="l" pos="0"/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W Servicebeste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or het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op afroep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uitvoer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a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erkzaamhed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egslepen voertuigen, gladheidsbestrijding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B9D23-9149-4D0B-8BDE-5053F31AD13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7628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SENTIËLE INFORMAT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257120"/>
            <a:ext cx="7772400" cy="27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va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ke voorwaard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ke hoeveelhed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43120" y="4556160"/>
            <a:ext cx="7718400" cy="824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Alle kostenbeïnvloedende factoren moeten vo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01"/>
                </a:solidFill>
                <a:latin typeface="Arial"/>
              </a:rPr>
              <a:t>zover mogelijk in het bestek tot uitdrukking ko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63BC9-4C96-45E7-AE18-802BE87F67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84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1"/>
                </a:solidFill>
                <a:latin typeface="Arial"/>
              </a:rPr>
              <a:t>Kenmerken OMO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84280" y="1257480"/>
            <a:ext cx="7772400" cy="209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nmerk resultaatsverplich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O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veelheid resultaatsverplich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*******,**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veelheid ter inlich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*******,**’ L / T /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160" indent="-425160">
              <a:lnSpc>
                <a:spcPts val="3600"/>
              </a:lnSpc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2095560"/>
                <a:tab algn="l" pos="5245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at met fictieve hoeveelheden bij inschrij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2BC3E-CE5D-4071-B0ED-54AD34DBD2D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094200" y="1566720"/>
            <a:ext cx="33066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anbrengen trottoirbanden van be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engte per deelopdracht: van 0 tot 25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ellen met schraal beton op zand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 voorzien van steunrug van</a:t>
            </a:r>
            <a:r>
              <a:rPr b="1" lang="en-US" sz="1200" spc="-1" strike="noStrike">
                <a:solidFill>
                  <a:srgbClr val="ee1128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schraal beton B25, milieuklasse 3. Te rekenen met 0,06 m3 per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ngs de trottoirbanden 1 rollaag van betonstraatstenen in cementspecie aanbrengen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, standaard dikformaat, dik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80 mm, kleur heidepaa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Te rekenen met 0,01 m3 cementspecie per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2480"/>
                <a:tab algn="l" pos="1328760"/>
                <a:tab algn="l" pos="219384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fiel 180/200 x 200 mm</a:t>
            </a:r>
            <a:r>
              <a:rPr b="1" lang="en-US" sz="1200" spc="-1" strike="noStrike">
                <a:solidFill>
                  <a:srgbClr val="ee1128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ang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51000" y="1566720"/>
            <a:ext cx="774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3050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25360" y="1566720"/>
            <a:ext cx="843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143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24480" y="1566720"/>
            <a:ext cx="609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21640" y="1566720"/>
            <a:ext cx="774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584840" y="1566720"/>
            <a:ext cx="30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62600" y="858960"/>
            <a:ext cx="116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mschrij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314400" y="630360"/>
            <a:ext cx="5158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Ee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0508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resultaa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verp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862400" y="630360"/>
            <a:ext cx="1085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eveelh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lic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3360" y="641520"/>
            <a:ext cx="8222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Bestek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pos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51000" y="533520"/>
            <a:ext cx="8582040" cy="4724280"/>
            <a:chOff x="351000" y="533520"/>
            <a:chExt cx="8582040" cy="4724280"/>
          </a:xfrm>
        </p:grpSpPr>
        <p:sp>
          <p:nvSpPr>
            <p:cNvPr id="538" name=""/>
            <p:cNvSpPr/>
            <p:nvPr/>
          </p:nvSpPr>
          <p:spPr>
            <a:xfrm>
              <a:off x="351000" y="1583280"/>
              <a:ext cx="8580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32916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821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8764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5952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938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124640" y="533520"/>
              <a:ext cx="0" cy="472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27720" y="992880"/>
              <a:ext cx="0" cy="426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1000" y="533520"/>
              <a:ext cx="8582040" cy="4724280"/>
            </a:xfrm>
            <a:custGeom>
              <a:avLst/>
              <a:gdLst/>
              <a:ahLst/>
              <a:rect l="l" t="t" r="r" b="b"/>
              <a:pathLst>
                <a:path w="5857" h="2449">
                  <a:moveTo>
                    <a:pt x="0" y="2448"/>
                  </a:moveTo>
                  <a:lnTo>
                    <a:pt x="0" y="0"/>
                  </a:lnTo>
                  <a:lnTo>
                    <a:pt x="5856" y="0"/>
                  </a:lnTo>
                  <a:lnTo>
                    <a:pt x="5856" y="2448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386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4964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6096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7192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82880" y="1374120"/>
              <a:ext cx="0" cy="388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650080" y="1583280"/>
              <a:ext cx="0" cy="3674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7877160" y="1566720"/>
            <a:ext cx="77328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650440" y="1566720"/>
            <a:ext cx="28080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828800" y="1566720"/>
            <a:ext cx="1371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4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6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5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8697960" y="15667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996320" y="1571760"/>
            <a:ext cx="703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07440" y="614520"/>
            <a:ext cx="19224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talogus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oofd-       Defi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de      1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   3   4   5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997760" y="274320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686800" y="27194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334200" y="194796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329520" y="338616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329520" y="375300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334200" y="2657520"/>
            <a:ext cx="609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993080" y="200016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997760" y="345744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993080" y="385776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1"/>
                </a:solidFill>
                <a:latin typeface="Arial"/>
              </a:rPr>
              <a:t>*******,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686800" y="197640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686800" y="34196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682120" y="38242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01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0"/>
            <a:ext cx="304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B6232-DB1A-41D2-90EB-13D465BC51E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8720" y="608040"/>
            <a:ext cx="171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76240" y="1606680"/>
            <a:ext cx="1979640" cy="1258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76240" y="4808520"/>
            <a:ext cx="1979640" cy="468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V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74880" y="2870280"/>
            <a:ext cx="0" cy="34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4880" y="4464000"/>
            <a:ext cx="0" cy="336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93920" y="1469880"/>
            <a:ext cx="583596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schrijving; tekeningen; voorwaarden;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ota van inl.; proces verbaal van aanw.; inschrijvingsbiljet en inschrijvingsstaa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balans; bijbehorende staten;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95720" y="3679920"/>
            <a:ext cx="235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ndaard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76240" y="3209760"/>
            <a:ext cx="1979640" cy="1258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pa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5000" y="604800"/>
            <a:ext cx="225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GO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nderwijsmodule Standaard 2005; versie mei 200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6B8AA-008B-4E76-94D9-12E7DC583F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18T14:17:12Z</dcterms:created>
  <dc:creator>Henk Deenik</dc:creator>
  <dc:description/>
  <dc:language>en-US</dc:language>
  <cp:lastModifiedBy>Deenik</cp:lastModifiedBy>
  <cp:lastPrinted>2001-01-05T12:37:35Z</cp:lastPrinted>
  <dcterms:modified xsi:type="dcterms:W3CDTF">2007-06-25T12:21:53Z</dcterms:modified>
  <cp:revision>88</cp:revision>
  <dc:subject/>
  <dc:title>Onderwijsmodule</dc:title>
</cp:coreProperties>
</file>