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8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180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883800" y="747360"/>
            <a:ext cx="4892760" cy="367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4"/>
          </p:nvPr>
        </p:nvSpPr>
        <p:spPr>
          <a:xfrm>
            <a:off x="-180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5"/>
          </p:nvPr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B0824F4-53D7-4EB5-97BF-18621844F626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6F4D96E-B843-4702-8194-AE5A9213E328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-180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-180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kom en 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eksten aangepast aan veralgeminisering aanbestedingsreg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eksten aangepast aan veralgeminisering aanbestedingsreg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eksten aangepast aan veralgeminisering bepaling in kader van aanbestedingsreg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erbetervoorstel doorgevoerd: </a:t>
            </a:r>
            <a:r>
              <a:rPr b="0" lang="nl-NL" sz="1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 vervangen door ‘niet zijnde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880920" y="744480"/>
            <a:ext cx="4899240" cy="367344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heet ongewijzigd doorgevoerd: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ij bundelingen moet zowel ‘I’ als ‘L’ worden ingev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C9F939D-007E-44EE-882E-EE006A0CBA8F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-180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-180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C30D673-BB86-496E-8F4C-D418A0BD8508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-180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-180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Kenmerken zichtbaar maken met res.beschrijving volgende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07F69C7-922F-4E72-B17D-B8E43D93954C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-180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-180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Gestandaardiseerd: niveau A moet in gemeente X hetzelfde zijn als in gemeente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Op elkaar afgestemd: niveau A van het ene onderwerp (bv grof zwerfvuil) is qua beeld vergelijkbaar met niveau A van een ander onderwerp (bv veegvui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Kenmerken zichtbaar maken met res.beschrijving volgende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Kenmerken zichtbaar maken met res.beschrijving volgende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Kenmerken zichtbaar maken met res.beschrijving volgende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 txBox="1"/>
          <p:nvPr/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464A925-F481-4396-973A-372E85D07CD6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-180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-180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42886-86F8-4767-A023-2A3F4EE4F9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35506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23B9C-30C6-4DA7-9F36-CED27E0A38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3550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3550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A0057-727D-43B5-94E9-4CCB8AA90D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3550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3550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3550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87046-4CEC-45F9-B456-57E6FC07ED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42841-5003-4812-BE2E-AB218A4F22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C5437-B11A-4D33-866C-BC3B135ED9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46058-0EF0-4DD4-A9D7-508A70369A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09481-1175-47C5-BF01-BCBE85ED63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6EE6F-158A-483E-BB12-F3FE0DBA3F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3550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5D44A-1290-48DE-9D1B-7304450B01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3550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E748D-5970-4C0C-84D8-B9D0E7B587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5506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1B721-5C0D-4C9C-9CA8-D261FEF85B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5956200"/>
            <a:ext cx="9144000" cy="9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95280" y="6513120"/>
            <a:ext cx="510552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222960" y="6000840"/>
            <a:ext cx="2363760" cy="8348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584840" y="6513120"/>
            <a:ext cx="15238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0D49-A729-4A79-A48A-CD316E9325D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317520" cy="1714680"/>
          </a:xfrm>
          <a:prstGeom prst="rect">
            <a:avLst/>
          </a:prstGeom>
          <a:solidFill>
            <a:srgbClr val="ce0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527880"/>
            <a:ext cx="317520" cy="330120"/>
          </a:xfrm>
          <a:prstGeom prst="rect">
            <a:avLst/>
          </a:prstGeom>
          <a:solidFill>
            <a:srgbClr val="ce0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hyperlink" Target="file:///../../110-120%20RAW/plaatjes%20nieuw.pps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hyperlink" Target="file:///../../110-120%20RAW/plaatjes%20nieuw.pps" TargetMode="External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file:///../../110-120%20RAW/plaatjes%20nieuw.pps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560" y="1650960"/>
            <a:ext cx="7705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Onderwijsmodule</a:t>
            </a:r>
            <a:br>
              <a:rPr sz="4400"/>
            </a:b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op basis van Standaard 2005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versie mei 200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35640" y="2773440"/>
            <a:ext cx="2432160" cy="223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FAD38-2345-4AFB-89CF-3B430CA9C04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3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NGORD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vervolg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9680" y="1295280"/>
            <a:ext cx="7993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197"/>
              </a:lnSpc>
              <a:buNone/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1"/>
                </a:solidFill>
                <a:latin typeface="Arial"/>
              </a:rPr>
              <a:t>UAV 1989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 § 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Van toepassing zijnde voorschriften,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tegenstrijdige bepal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762120"/>
                <a:tab algn="l" pos="15238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ldig tenzij afgeweken in best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762120"/>
                <a:tab algn="l" pos="15238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oepassing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genoemde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 N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nor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762120"/>
                <a:tab algn="l" pos="15238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ederlands re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762120"/>
                <a:tab algn="l" pos="15238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dien tegenstrijdig: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ieuw vóór oud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chrijving vóór tekening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zonder vóór algeme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en uitkomst: uitleg ten nadele van opsteller best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762120"/>
                <a:tab algn="l" pos="15238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arschuwingsplicht aannemer bij tegenstrijdigh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929CB-0B51-44E8-B878-BB3A935D21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361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NGORD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rvolg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70040" y="1257120"/>
            <a:ext cx="7772400" cy="468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1"/>
                </a:solidFill>
                <a:latin typeface="Arial"/>
              </a:rPr>
              <a:t>STANDAARD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EN-normen volgens ‘Normenoverzicht GWW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ijziging wordt ‘automatisch’ van kra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tek boven Standa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elatie technische bepalingen en proev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atus gedrukt versus automatisch leesba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1"/>
                </a:solidFill>
                <a:latin typeface="Arial"/>
              </a:rPr>
              <a:t>BEST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uitzondering andere documen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06E03-00C9-40FF-9369-1DD3D50492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24040" y="1646280"/>
            <a:ext cx="5627520" cy="30369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01800" y="731880"/>
            <a:ext cx="7315200" cy="7621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NDAARD BEST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89120" y="744480"/>
            <a:ext cx="7567200" cy="596880"/>
            <a:chOff x="789120" y="744480"/>
            <a:chExt cx="7567200" cy="596880"/>
          </a:xfrm>
        </p:grpSpPr>
        <p:sp>
          <p:nvSpPr>
            <p:cNvPr id="87" name=""/>
            <p:cNvSpPr/>
            <p:nvPr/>
          </p:nvSpPr>
          <p:spPr>
            <a:xfrm>
              <a:off x="798840" y="744480"/>
              <a:ext cx="7557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89120" y="874800"/>
              <a:ext cx="7480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tandaardteksten (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BB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)   Resultaatsbeschrijving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656160" y="1579680"/>
            <a:ext cx="162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ST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38240" y="2027160"/>
            <a:ext cx="5205600" cy="1847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el 0  Totstandk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el 1  ALGEM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el 2  BESCHRIJVING (post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el 3  BEPAL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16160" y="5300640"/>
            <a:ext cx="6497640" cy="5335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STANDAARD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14280" y="3821040"/>
            <a:ext cx="252144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sbilj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sst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206960" y="4734000"/>
            <a:ext cx="795240" cy="488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20560" y="1189080"/>
            <a:ext cx="0" cy="762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09760" y="1189080"/>
            <a:ext cx="3981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9760" y="1951200"/>
            <a:ext cx="12175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899640" y="5618160"/>
            <a:ext cx="422280" cy="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898560" y="3170160"/>
            <a:ext cx="0" cy="2448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3170160"/>
            <a:ext cx="10382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3602160"/>
            <a:ext cx="10382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56440" y="3284640"/>
            <a:ext cx="9842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128080" y="3284640"/>
            <a:ext cx="0" cy="11811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580000" y="4465800"/>
            <a:ext cx="25480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38240" y="2541600"/>
            <a:ext cx="5205600" cy="0"/>
          </a:xfrm>
          <a:prstGeom prst="line">
            <a:avLst/>
          </a:prstGeom>
          <a:ln w="1260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38240" y="2989440"/>
            <a:ext cx="5205600" cy="0"/>
          </a:xfrm>
          <a:prstGeom prst="line">
            <a:avLst/>
          </a:prstGeom>
          <a:ln w="1260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898560" y="2306160"/>
            <a:ext cx="0" cy="86364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00000" y="2306520"/>
            <a:ext cx="1038240" cy="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70480" y="731880"/>
            <a:ext cx="0" cy="762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28160" y="1112760"/>
            <a:ext cx="280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508960" y="1112760"/>
            <a:ext cx="0" cy="20289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35920" y="3141720"/>
            <a:ext cx="1360440" cy="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46160" y="3433680"/>
            <a:ext cx="5205600" cy="0"/>
          </a:xfrm>
          <a:prstGeom prst="line">
            <a:avLst/>
          </a:prstGeom>
          <a:ln w="1260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95320" y="2725560"/>
            <a:ext cx="1038240" cy="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1EEAE-7874-4936-9519-3028340F64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NDAARD BESTEKSINDEL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6560" y="1233360"/>
            <a:ext cx="4498920" cy="1295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Deel 0  Totstandko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overeenkom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gevens van belang vóór gu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9800" y="4052880"/>
            <a:ext cx="4498920" cy="1752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7636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Deel 2  Beschrij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GEMENE GEGEV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gevens m.b.t. het we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2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DERE BESCHRIJ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57636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at van bestekspo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02160" y="1233360"/>
            <a:ext cx="3490920" cy="1295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Deel 3  Bepal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gemeen en administrati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chnis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00720" y="2833560"/>
            <a:ext cx="3490920" cy="2971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Vaste bijl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chrijvingsbilj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chrijvingssta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V&amp;G-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Grondbal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9800" y="2833560"/>
            <a:ext cx="4498920" cy="9144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Deel 1  Algem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gevens m.b.t. de overeenkom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A5E12-7F8D-4331-A117-2EE9C3DD7B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72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DEEL 0</a:t>
            </a: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Totstandkoming</a:t>
            </a:r>
            <a:br>
              <a:rPr sz="4400"/>
            </a:b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overeenkoms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1839960"/>
            <a:ext cx="813096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aragra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bestedende dien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3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lich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sst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6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beste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7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dr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AD1B6-50AC-4B00-BAAC-D4C0F6F5CB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62120" y="577800"/>
            <a:ext cx="813096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1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BESTEDENDE DIENST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ie en wa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2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OCEDUR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uropees / nation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bestedings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elk aanbestedingsreg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3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LICHTINGEN: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ar, wanne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ota van inlich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73D2D-CEBF-41DB-A9F3-2E511648F0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1760" y="1409400"/>
            <a:ext cx="830556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5000" indent="0">
              <a:lnSpc>
                <a:spcPts val="3600"/>
              </a:lnSpc>
              <a:buNone/>
              <a:tabLst>
                <a:tab algn="l" pos="0"/>
                <a:tab algn="l" pos="152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1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 op inschrijvingsbilj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5000" indent="0">
              <a:lnSpc>
                <a:spcPts val="3600"/>
              </a:lnSpc>
              <a:buNone/>
              <a:tabLst>
                <a:tab algn="l" pos="0"/>
                <a:tab algn="l" pos="152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2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ntleding aannemingssom op inschrijvingssta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5000" indent="0">
              <a:lnSpc>
                <a:spcPts val="3600"/>
              </a:lnSpc>
              <a:buNone/>
              <a:tabLst>
                <a:tab algn="l" pos="0"/>
                <a:tab algn="l" pos="152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3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ternatieve aanbieding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annemer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bied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lternatief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aan</a:t>
            </a:r>
            <a:br>
              <a:rPr sz="1600"/>
            </a:b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drachtgever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vraag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arian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5000" indent="0">
              <a:lnSpc>
                <a:spcPts val="3600"/>
              </a:lnSpc>
              <a:buNone/>
              <a:tabLst>
                <a:tab algn="l" pos="0"/>
                <a:tab algn="l" pos="152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4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sstaat in afzonderlijke envelop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76212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4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: artikel 01.01.02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D3C7B-7B18-4DEB-8BB0-618B7D2FDA3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62120" y="1409400"/>
            <a:ext cx="8246880" cy="514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2120" indent="0">
              <a:lnSpc>
                <a:spcPts val="3600"/>
              </a:lnSpc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1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indtotaal moet kloppen met bedrag op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sbilj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ts val="3600"/>
              </a:lnSpc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2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leen productiekosten in prijs per eenheid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.q. bedrag in eu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ts val="3600"/>
              </a:lnSpc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3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t niet in prijs per eenheid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.q. bedrag in eu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ts val="3600"/>
              </a:lnSpc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4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nemer mag eenmalige kosten specifice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76212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5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: artikel 01.01.03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23CD3-FEB0-4053-9DA0-EB556DB7E2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62120" y="1371240"/>
            <a:ext cx="824688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ag – datum – tij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ocatie en plaa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76212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6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BESTEDING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9972C-5D7C-4D55-8CAD-444D5537334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61760" y="1380600"/>
            <a:ext cx="8094600" cy="288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76212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1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dien verrekenprijzen gunningscriterium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212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2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dien verrekenprijzen kennelijk onredelijk zij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212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3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nemer 7 dagen gelegenheid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m ontleding aan te pa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212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4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nmalige correctiepost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762120" y="488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7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DRACHT: artikel 01.01.04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89E24-EE95-42DC-B894-0CD3767786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434360" y="2577960"/>
            <a:ext cx="1454040" cy="16002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ONDERDELEN</a:t>
            </a:r>
            <a:r>
              <a:rPr b="1" lang="nl-N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RAW-SYSTEMATI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atalogus met resultaatsbeschrijv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andleiding RAW-systematiek (spelrege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andaard RAW Bepal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tand met keuze- en invulbepalingen: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gemeen Besteksbestand RAW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28584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INLEI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81C0F-FBFC-4B27-84B3-81729E86CE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7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DRACHT 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vervolg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77960" y="1565280"/>
            <a:ext cx="68389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1138320" indent="-376200">
              <a:lnSpc>
                <a:spcPts val="3600"/>
              </a:lnSpc>
              <a:tabLst>
                <a:tab algn="l" pos="0"/>
                <a:tab algn="l" pos="113832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UNNINGS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8320" indent="-37620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113832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8320" indent="-376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113832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 uit de inschrijvingsstaat te herleiden verrekenprij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538ED-0CF7-48A7-ABBB-A3A67BF4271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37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DEEL 1  ALGEME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413000"/>
            <a:ext cx="813096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aragra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Opdrachtg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Dire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3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Algemene beschrij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Tijdsbep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6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Onderhoudsterm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7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Kwaliteitsbor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F7A2B-A692-40A3-A785-05E40DAA3C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62120" y="577800"/>
            <a:ext cx="8177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1  OPDRACHTGE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4300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ie en waa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2  DIR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4300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4300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3  LOCATIE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4300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laats van uitvo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E3E7A-2301-4CCE-92E7-06E70BED14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762120" y="577440"/>
            <a:ext cx="8229600" cy="53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GEMENE BESCHRIJVING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z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amenha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en hoeveelh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44EA8-3AF4-40E3-97AF-573E9AA653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762120" y="577440"/>
            <a:ext cx="8229600" cy="53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IJDSBEPALING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Uitvoeringsduur, tijdstip oplev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2076480" indent="-228600">
              <a:lnSpc>
                <a:spcPts val="3600"/>
              </a:lnSpc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flexibele uitvoeringstermijn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(art. 01.13.07 Standaard 200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076480" indent="-228600">
              <a:lnSpc>
                <a:spcPts val="3600"/>
              </a:lnSpc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aste termijn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(§ 8 UAV 1989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orting bij tijdsoverschrijding anders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an in § 42 lid 2 UAV 198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Zonodig relaties tijdstippen vastleggen</a:t>
            </a:r>
            <a:br>
              <a:rPr sz="2400"/>
            </a:b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(§ 42 lid 4 UAV 1989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ts val="3600"/>
              </a:lnSpc>
              <a:buNone/>
              <a:tabLst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6E95E-2C39-44C3-872F-33C5CAD2C8D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62120" y="577440"/>
            <a:ext cx="8229600" cy="53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6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NDERHOUDSTERMIJN 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0">
              <a:lnSpc>
                <a:spcPts val="3600"/>
              </a:lnSpc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doeld in § 11 lid 1 UAV 198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7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LITEITSBORGING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nl-NL" sz="18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0">
              <a:lnSpc>
                <a:spcPts val="3600"/>
              </a:lnSpc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langen kwaliteitsplan indien gewerkt wordt onder kwaliteitsborging overeenkomstig par. 01.13 en 01.20 van de Standaard 200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0">
              <a:lnSpc>
                <a:spcPts val="3600"/>
              </a:lnSpc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0">
              <a:lnSpc>
                <a:spcPts val="3600"/>
              </a:lnSpc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 dat geval in Deel 0 bij par. 0.04 van de inschrijver een kopie kwaliteitssysteemcertificaat verla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BE173-EEED-4EBB-A564-1E553BA675A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285480"/>
            <a:ext cx="82645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EL 2.1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lgemene gegeven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55640" y="990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19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41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557360"/>
            <a:ext cx="845820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1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keningen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2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eilen en hoofdafmetingen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3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liteitsborging (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(indien IS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oppunten vermel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4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lagen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horend tot bestek bijv. V&amp;G-plan, grondbalans,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gevens t.b.v. bemaling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art. 21.03.01 Standaard 2000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r informatie bijv. rapport bodem- en wateronderzoek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art. 17.04.01 Standaard 2000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46FFD-DC62-4F2C-9CD8-32F89627B6E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1019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lnSpc>
                <a:spcPts val="998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vullende rubrieken zoal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lnSpc>
                <a:spcPts val="2999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mechanische gegev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lnSpc>
                <a:spcPts val="2999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terstan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lnSpc>
                <a:spcPts val="2999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dre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lnSpc>
                <a:spcPts val="2999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3200" y="1622520"/>
            <a:ext cx="761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65080" y="1171440"/>
            <a:ext cx="673200" cy="2287800"/>
          </a:xfrm>
          <a:custGeom>
            <a:avLst/>
            <a:gdLst/>
            <a:ahLst/>
            <a:rect l="l" t="t" r="r" b="b"/>
            <a:pathLst>
              <a:path w="433" h="1441">
                <a:moveTo>
                  <a:pt x="0" y="0"/>
                </a:moveTo>
                <a:lnTo>
                  <a:pt x="432" y="0"/>
                </a:lnTo>
                <a:lnTo>
                  <a:pt x="432" y="1440"/>
                </a:lnTo>
                <a:lnTo>
                  <a:pt x="0" y="144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68281-BB82-4F53-B16A-4D3C4813C5D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0720" y="285480"/>
            <a:ext cx="79660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EL 2.2  Vaste pagin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41240" y="1195560"/>
            <a:ext cx="802188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JURIDISCHE VERANTWOOR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1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klaring van de hierna volgende st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2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enmerk resultaatsverplic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3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 ter inlic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4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enzen van de situ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3D861-DB90-41FF-8B6B-DD13306F5F9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73200" y="457200"/>
            <a:ext cx="7175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rekenbare hoeveelheden (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5720" y="1523880"/>
            <a:ext cx="81536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mschrijving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wijzing naar § 38 lid 1 UAV 19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oel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le afwijkingen worden verrek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oorwaa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(bij voorkeur te gebruiken; in ieder geval indien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in de uitvoering afwijkingen worden verwac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CD036-0FF1-4EC1-A85D-34F6C40DAC9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475920"/>
            <a:ext cx="8105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ITGANGSPUNTEN RAW-SYSTEMATI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70040" y="137160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lijkwaardigheid van partij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besteding (ARW 2005 / UAR-EG 1991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Uitvoering UAV 1989 resp. UAV-TI 1992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.a. afbakening verantwoordelijkheden (§ 5 en § 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taling naar produ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genoeg kostenhomog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nduidige en relevante inform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rijheid in wijze van uitvoering en keuze van materie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2A23B-6934-4565-9937-EA10ABA37F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73200" y="457200"/>
            <a:ext cx="816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iet verrekenbare hoeveelheden (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5720" y="1523880"/>
            <a:ext cx="815364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mschrijving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wijzing naar § 38 lid 2 UAV 19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oel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fwijkingen tot en met 10% worden niet verrek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oorwaa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oede voorber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fwijkingen worden niet verwacht tijdens uitvo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mstandigheden hebben geen invlo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irectie heeft geen invlo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9E945-64C9-499C-9A1E-BC98EDA4FE9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73200" y="457200"/>
            <a:ext cx="7175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e accorderen hoeveelheden (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5720" y="1523880"/>
            <a:ext cx="79488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mschrijv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wijzing naar art. 01.01.05 Standaard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óór aanvang uitvoer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orden hoeveelheden vastgesteld; daarbij worden…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wijkinge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 controlefase worden verrek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eenkomstig art. 01.01.06 Standaard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wijkinge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 uitvoeringsfase niet verrek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32AE2-9156-455B-9846-96288C902D6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73200" y="457200"/>
            <a:ext cx="816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e accorderen hoeveelhede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vervol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5720" y="1523880"/>
            <a:ext cx="85582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oorwaard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oede voorber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fwijkingen worden niet verwacht tijdens uitvo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mstandigheden hebben geen invlo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irectie heeft geen invlo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den vooraf controleerbaar op basis va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tek, tekeningen en gegevens opdrachtg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amengeva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526B5-5A0C-4468-8182-52172EB8D34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73200" y="457200"/>
            <a:ext cx="816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anneer welke hoeveelhei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5720" y="1562040"/>
            <a:ext cx="855828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errekenbaar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den waarop afwijkingen te verwachten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et verrekenbaar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uwkeurige hoeveelheden waarop geen afwijkingen worden verw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Te accorder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uwkeurige hoeveelheden waarop geen afwijkingen worden verwacht en welke controleerbaar zijn aan de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and van bestek, documenten en aanvullende gegev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94647-6F4A-4E1B-8075-01F1EA77765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628200"/>
            <a:ext cx="7772400" cy="43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EVEELHEID TER INLICHT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504440"/>
            <a:ext cx="8229600" cy="432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72960" indent="-3729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 ter inlichting’ uitsluitend ter inlichting,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nzij af te leiden uit resultaatsverplich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nemer levert bouwstof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‘</a:t>
            </a: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drachtgever stelt bouwstof ter beschikking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Uit het werk komende bouwstoff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0">
              <a:lnSpc>
                <a:spcPts val="3600"/>
              </a:lnSpc>
              <a:buNone/>
              <a:tabLst>
                <a:tab algn="l" pos="0"/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herkomst in kolom ‘omschrijving’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 ter inlichting (calculatiegegeven)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esultaatsverplichting is inclusief verwerk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den ter inlich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75280" y="2743200"/>
            <a:ext cx="3019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467480" y="4559400"/>
            <a:ext cx="627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408800" y="322596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564A5-78C5-4A97-93D6-0DBE57DB404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18680"/>
            <a:ext cx="8246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EL 2.2  BESTEKSPOSTNUMM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03440" y="12193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19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41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1352520"/>
            <a:ext cx="8312040" cy="41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ts val="3197"/>
              </a:lnSpc>
              <a:tabLst>
                <a:tab algn="l" pos="0"/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dere beschrij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197"/>
              </a:lnSpc>
              <a:tabLst>
                <a:tab algn="l" pos="0"/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chrijving van alle benodigde ‘klussen’ in besteksp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 gevolg van betaling naar productie en kostenhomogeniteit kan het aantal posten groot wo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197"/>
              </a:lnSpc>
              <a:tabLst>
                <a:tab algn="l" pos="0"/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197"/>
              </a:lnSpc>
              <a:tabLst>
                <a:tab algn="l" pos="0"/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arom indeling belangr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197"/>
              </a:lnSpc>
              <a:tabLst>
                <a:tab algn="l" pos="0"/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197"/>
              </a:lnSpc>
              <a:tabLst>
                <a:tab algn="l" pos="0"/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deling besteksposten door bestekschrij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F75A3-F2A5-4BFF-AFE7-510C8A51606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43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GELIJKE INDELING BESTEKSPOST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4572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76920" indent="-37692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ar werkcatego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92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ndwe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92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id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92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har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92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envoorzien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920" indent="-37692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ar situ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92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sering i.v.m. verkeer e.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27640" y="1676520"/>
            <a:ext cx="313056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ar constru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dhoof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jl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ki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p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A00EF-ECB8-41E2-BF41-91AAECA4D47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749160" y="604800"/>
            <a:ext cx="5049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STEKSPOSTNUMM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1040" y="1527120"/>
            <a:ext cx="9957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1400" y="4727520"/>
            <a:ext cx="1401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X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81240" y="1467000"/>
            <a:ext cx="282600" cy="2668320"/>
          </a:xfrm>
          <a:custGeom>
            <a:avLst/>
            <a:gdLst/>
            <a:ahLst/>
            <a:rect l="l" t="t" r="r" b="b"/>
            <a:pathLst>
              <a:path w="193" h="1681">
                <a:moveTo>
                  <a:pt x="0" y="0"/>
                </a:moveTo>
                <a:lnTo>
                  <a:pt x="192" y="0"/>
                </a:lnTo>
                <a:lnTo>
                  <a:pt x="192" y="1680"/>
                </a:lnTo>
                <a:lnTo>
                  <a:pt x="0" y="168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81240" y="4667400"/>
            <a:ext cx="282600" cy="458640"/>
          </a:xfrm>
          <a:custGeom>
            <a:avLst/>
            <a:gdLst/>
            <a:ahLst/>
            <a:rect l="l" t="t" r="r" b="b"/>
            <a:pathLst>
              <a:path w="193" h="289">
                <a:moveTo>
                  <a:pt x="0" y="0"/>
                </a:moveTo>
                <a:lnTo>
                  <a:pt x="192" y="0"/>
                </a:lnTo>
                <a:lnTo>
                  <a:pt x="192" y="288"/>
                </a:lnTo>
                <a:lnTo>
                  <a:pt x="0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17840" y="2517840"/>
            <a:ext cx="1855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-4 cijfers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02080" y="2146320"/>
            <a:ext cx="30319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rije tek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.b.v. onderverde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teksp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57160" y="4651200"/>
            <a:ext cx="1669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 cijfers 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04240" y="4292640"/>
            <a:ext cx="39628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amenstell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esultaatsverplichting m.b.v.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esultaatsbeschrij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C2759-2BD0-4F47-B705-56D3F9E74E1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552600"/>
            <a:ext cx="8105760" cy="62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7 </a:t>
            </a: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GROENVOORZIENING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11574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7160" y="1488960"/>
            <a:ext cx="5522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WERKEN EN ZAA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VO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2 00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port plantmateri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3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73 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ken plant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73 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itten plantpla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73 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zen plantpla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000"/>
                </a:solidFill>
                <a:latin typeface="Arial"/>
              </a:rPr>
              <a:t>73 1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lanten van b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000"/>
                </a:solidFill>
                <a:latin typeface="Arial"/>
              </a:rPr>
              <a:t>73 1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ten van b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000"/>
                </a:solidFill>
                <a:latin typeface="Arial"/>
              </a:rPr>
              <a:t>73 1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anbrengen boompa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1BEF7-0E9C-40C8-B6F9-D900432FCE6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03080" y="475920"/>
            <a:ext cx="77547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EL 2.2  HOOFDCO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640" y="990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19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41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90480" y="1295280"/>
            <a:ext cx="8148600" cy="49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ERKCATEGO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1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LOOP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17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ONTREINIGDE GROND EN VERONTR.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MAL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3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RAIN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LEUF- EN SLEUFLOZE TECHNI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EIDING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6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ABEL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7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TERPU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28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FUNDERINGSL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nl-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nl-NL" sz="1800" spc="-1" strike="noStrike">
                <a:solidFill>
                  <a:srgbClr val="ffff00"/>
                </a:solidFill>
                <a:latin typeface="Arial"/>
              </a:rPr>
              <a:t>. 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nzovoort t/m 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D8E26-AFDB-49F2-B53D-B6F5545CC27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VRIJHEID IN WIJZE VAN UITVOERING EN</a:t>
            </a:r>
            <a:br>
              <a:rPr sz="2800"/>
            </a:b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KEUZE VAN MATERIE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9680" y="1790280"/>
            <a:ext cx="82566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nzij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ans op onherstelbare fou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venredig groot r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cherming belangen van der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waliteitseisen alleen bij bepaalde uitvoering haalba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2B3D5-9493-4E8C-BD62-64101963D7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952560" y="131292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384120"/>
            <a:ext cx="725652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Werkcatego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0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 ontgra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0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 vervo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03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 ver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0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 scheiden, verdichten en profil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. 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subwerkcatego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863640"/>
            <a:ext cx="907920" cy="374760"/>
          </a:xfrm>
          <a:custGeom>
            <a:avLst/>
            <a:gdLst/>
            <a:ahLst/>
            <a:rect l="l" t="t" r="r" b="b"/>
            <a:pathLst>
              <a:path w="577" h="289">
                <a:moveTo>
                  <a:pt x="0" y="288"/>
                </a:moveTo>
                <a:lnTo>
                  <a:pt x="0" y="0"/>
                </a:lnTo>
                <a:lnTo>
                  <a:pt x="576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71600" y="5181480"/>
            <a:ext cx="1162080" cy="530280"/>
          </a:xfrm>
          <a:custGeom>
            <a:avLst/>
            <a:gdLst/>
            <a:ahLst/>
            <a:rect l="l" t="t" r="r" b="b"/>
            <a:pathLst>
              <a:path w="673" h="241">
                <a:moveTo>
                  <a:pt x="0" y="0"/>
                </a:moveTo>
                <a:lnTo>
                  <a:pt x="0" y="240"/>
                </a:lnTo>
                <a:lnTo>
                  <a:pt x="672" y="24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AD670-98D0-4433-BC70-9B376CA2861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70360" y="630360"/>
            <a:ext cx="2285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rkcatego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45600" y="1209600"/>
            <a:ext cx="2621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ubwerkcatego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28760" y="1743120"/>
            <a:ext cx="191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lgnu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52640" y="3060720"/>
            <a:ext cx="690480" cy="2730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36880" y="3594240"/>
            <a:ext cx="692280" cy="2197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66960" y="2527200"/>
            <a:ext cx="691920" cy="3264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5194440"/>
            <a:ext cx="8001000" cy="596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4356000"/>
            <a:ext cx="8001000" cy="596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689640" y="3648240"/>
            <a:ext cx="247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nd ontgra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84240" y="4410000"/>
            <a:ext cx="3457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rond ontgraven uit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684600" y="5248440"/>
            <a:ext cx="4587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Grond ontgraven uit opho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87560" y="524844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71800" y="524844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57480" y="524844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71800" y="441000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57480" y="441000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87560" y="441000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87560" y="364824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071800" y="364824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87560" y="258120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82840" y="221616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691080" y="2581200"/>
            <a:ext cx="2653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ND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97160" y="1682640"/>
            <a:ext cx="0" cy="1295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12920" y="114948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E91A3-7310-412C-817F-70949C961CE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095640" y="5565600"/>
            <a:ext cx="323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Besteksposten niet comple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94200" y="1566720"/>
            <a:ext cx="32353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Grond ontgraven uit 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cun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Veiligheidsklasse: basisklas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Situering: Ketelstra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Grondsoort: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klei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ca. 0,40 m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ca. 604 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veen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ca. 0,50 m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ca. 756 m3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Hoeveelheidsbepaling:</a:t>
            </a:r>
            <a:r>
              <a:rPr b="0" lang="nl-NL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aan de hand v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meting in het werk in profiel van ontgr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Grondsoorten gescheiden ontgrav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Ontgravingshoogte gemiddeld 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0,90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Ontgravingsbreedte op bodem gemidd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5,40</a:t>
            </a:r>
            <a:r>
              <a:rPr b="0" lang="nl-NL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luds 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oegestane positieve en negatieve afwijking 0,03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1000" y="1566720"/>
            <a:ext cx="774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200" spc="-1" strike="noStrike">
                <a:solidFill>
                  <a:srgbClr val="ffff00"/>
                </a:solidFill>
                <a:latin typeface="Arial"/>
              </a:rPr>
              <a:t>212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25360" y="1566720"/>
            <a:ext cx="843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20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29520" y="1566720"/>
            <a:ext cx="492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21640" y="1566720"/>
            <a:ext cx="7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200" spc="-1" strike="noStrike">
                <a:solidFill>
                  <a:srgbClr val="ffff00"/>
                </a:solidFill>
                <a:latin typeface="Arial"/>
              </a:rPr>
              <a:t>13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592400" y="1566720"/>
            <a:ext cx="28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200" spc="-1" strike="noStrike">
                <a:solidFill>
                  <a:srgbClr val="ffff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62240" y="858960"/>
            <a:ext cx="1065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mschrij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13680" y="630360"/>
            <a:ext cx="507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Ee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02560" y="630360"/>
            <a:ext cx="10353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resultaa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verp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859520" y="630360"/>
            <a:ext cx="10353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5160" y="641520"/>
            <a:ext cx="77940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Bestek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pos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351000" y="533520"/>
            <a:ext cx="8582040" cy="4724280"/>
            <a:chOff x="351000" y="533520"/>
            <a:chExt cx="8582040" cy="4724280"/>
          </a:xfrm>
        </p:grpSpPr>
        <p:sp>
          <p:nvSpPr>
            <p:cNvPr id="224" name=""/>
            <p:cNvSpPr/>
            <p:nvPr/>
          </p:nvSpPr>
          <p:spPr>
            <a:xfrm>
              <a:off x="351000" y="1583280"/>
              <a:ext cx="8580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32916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8216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8764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59528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938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246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27720" y="992880"/>
              <a:ext cx="0" cy="426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51000" y="533520"/>
              <a:ext cx="8582040" cy="4724280"/>
            </a:xfrm>
            <a:custGeom>
              <a:avLst/>
              <a:gdLst/>
              <a:ahLst/>
              <a:rect l="l" t="t" r="r" b="b"/>
              <a:pathLst>
                <a:path w="5857" h="2449">
                  <a:moveTo>
                    <a:pt x="0" y="2448"/>
                  </a:moveTo>
                  <a:lnTo>
                    <a:pt x="0" y="0"/>
                  </a:lnTo>
                  <a:lnTo>
                    <a:pt x="5856" y="0"/>
                  </a:lnTo>
                  <a:lnTo>
                    <a:pt x="5856" y="244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03868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24964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46096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67192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88288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65008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7877160" y="1566720"/>
            <a:ext cx="77328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650440" y="1566720"/>
            <a:ext cx="28080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29520" y="1566720"/>
            <a:ext cx="1081080" cy="24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697960" y="15667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996320" y="1571760"/>
            <a:ext cx="703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06360" y="614520"/>
            <a:ext cx="194076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Catalogus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Hoofd-       Defi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code       1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2   3   4   5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91A7C-7FA9-4145-97AC-BCF0D91798F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094200" y="1566720"/>
            <a:ext cx="32353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Aanbrengen PVC-bu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Situering: Velperpl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Rechte buis, drukklasse PN 8 </a:t>
            </a: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kleur grij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Nominale middellijn 160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Verbinding buizen vrijvervalriool d.m.v. mof met rubbermanch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1000" y="1566720"/>
            <a:ext cx="774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311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25360" y="1566720"/>
            <a:ext cx="843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522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329520" y="1566720"/>
            <a:ext cx="49212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21640" y="1566720"/>
            <a:ext cx="7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92400" y="1566720"/>
            <a:ext cx="28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062600" y="858960"/>
            <a:ext cx="1162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mschrij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314400" y="630360"/>
            <a:ext cx="515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Ee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0508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resultaa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verp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86240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33360" y="641520"/>
            <a:ext cx="8222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Bestek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pos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51000" y="533520"/>
            <a:ext cx="8582040" cy="4724280"/>
            <a:chOff x="351000" y="533520"/>
            <a:chExt cx="8582040" cy="4724280"/>
          </a:xfrm>
        </p:grpSpPr>
        <p:sp>
          <p:nvSpPr>
            <p:cNvPr id="257" name=""/>
            <p:cNvSpPr/>
            <p:nvPr/>
          </p:nvSpPr>
          <p:spPr>
            <a:xfrm>
              <a:off x="351000" y="1583280"/>
              <a:ext cx="8580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32916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8216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8764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9528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0938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1246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827720" y="992880"/>
              <a:ext cx="0" cy="426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1000" y="533520"/>
              <a:ext cx="8582040" cy="4724280"/>
            </a:xfrm>
            <a:custGeom>
              <a:avLst/>
              <a:gdLst/>
              <a:ahLst/>
              <a:rect l="l" t="t" r="r" b="b"/>
              <a:pathLst>
                <a:path w="5857" h="2449">
                  <a:moveTo>
                    <a:pt x="0" y="2448"/>
                  </a:moveTo>
                  <a:lnTo>
                    <a:pt x="0" y="0"/>
                  </a:lnTo>
                  <a:lnTo>
                    <a:pt x="5856" y="0"/>
                  </a:lnTo>
                  <a:lnTo>
                    <a:pt x="5856" y="244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03868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24964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6096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67192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88288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65008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7877160" y="1566720"/>
            <a:ext cx="77328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650440" y="1566720"/>
            <a:ext cx="28080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29880" y="1566720"/>
            <a:ext cx="129456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651880" y="1566720"/>
            <a:ext cx="27792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996320" y="1571760"/>
            <a:ext cx="70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07440" y="614520"/>
            <a:ext cx="19224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talogus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ofd-       Defi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de      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   3   4   5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B2878-CFF7-43AC-99A8-7EFBF523C9E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2120" y="475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RESULTAATSBESCHRIJVING: 5 W’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62120" y="1409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at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aar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aarvan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elke voorwaarden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elke hoeveelheden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ET: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arm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o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21940-4105-49E3-9C89-6FF5B982C55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2120" y="324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EL 2.2 BIJZONDERHEDE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79400" y="1238040"/>
            <a:ext cx="6764400" cy="485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GEEN CIJFER IN DEFI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en tekst op positie in catalog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kst door bestekschrijver niet gebruik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er mag geen informatie ontbre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CIJFER ‘9’ IN DEFICODE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(eigen tek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en juiste keuze mogelij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amenvoegen twee defico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0BF46-CD26-4E92-BA21-8FCE901D5CB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18960" y="1566720"/>
            <a:ext cx="7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1122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97480" y="1566720"/>
            <a:ext cx="492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789600" y="1566720"/>
            <a:ext cx="7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560720" y="1566720"/>
            <a:ext cx="28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030920" y="858960"/>
            <a:ext cx="1162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mschrij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282720" y="630360"/>
            <a:ext cx="515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Ee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77340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resultaa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verp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83072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01680" y="641520"/>
            <a:ext cx="8222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Bestek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pos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318960" y="533520"/>
            <a:ext cx="8582040" cy="4724280"/>
            <a:chOff x="318960" y="533520"/>
            <a:chExt cx="8582040" cy="4724280"/>
          </a:xfrm>
        </p:grpSpPr>
        <p:sp>
          <p:nvSpPr>
            <p:cNvPr id="292" name=""/>
            <p:cNvSpPr/>
            <p:nvPr/>
          </p:nvSpPr>
          <p:spPr>
            <a:xfrm>
              <a:off x="318960" y="1583280"/>
              <a:ext cx="8580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9712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78960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84440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56324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06180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09260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795680" y="992880"/>
              <a:ext cx="0" cy="426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18960" y="533520"/>
              <a:ext cx="8582040" cy="4724280"/>
            </a:xfrm>
            <a:custGeom>
              <a:avLst/>
              <a:gdLst/>
              <a:ahLst/>
              <a:rect l="l" t="t" r="r" b="b"/>
              <a:pathLst>
                <a:path w="5857" h="2449">
                  <a:moveTo>
                    <a:pt x="0" y="2448"/>
                  </a:moveTo>
                  <a:lnTo>
                    <a:pt x="0" y="0"/>
                  </a:lnTo>
                  <a:lnTo>
                    <a:pt x="5856" y="0"/>
                  </a:lnTo>
                  <a:lnTo>
                    <a:pt x="5856" y="244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0664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21760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42892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63988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85084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61804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7845480" y="1566720"/>
            <a:ext cx="77292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618400" y="1566720"/>
            <a:ext cx="28116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19240" y="1571760"/>
            <a:ext cx="842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073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94960" y="1571760"/>
            <a:ext cx="129456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087720" y="1571760"/>
            <a:ext cx="3235320" cy="24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Opbreken betonstraatsten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Situering: Stationsstra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Totale breedte van 1,5 tot 3,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Betonstraatstenen standaard keiformaat;</a:t>
            </a:r>
            <a:br>
              <a:rPr sz="1200"/>
            </a:b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dikte </a:t>
            </a: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80</a:t>
            </a: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De volgende vrijgekomen materialen vervoeren </a:t>
            </a: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categorie 1; ongebroken stenen herbruikbaar ca. 245 m2 naar gemeentewe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Overige vrijgekomen materialen worden geacht voor de opdrachtgever geen waarde te hebben </a:t>
            </a: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categorie 1; hak- en knipwerk en gebroken stenen ca. 55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798200" y="3941640"/>
            <a:ext cx="4524840" cy="1190880"/>
            <a:chOff x="1798200" y="3941640"/>
            <a:chExt cx="4524840" cy="1190880"/>
          </a:xfrm>
        </p:grpSpPr>
        <p:sp>
          <p:nvSpPr>
            <p:cNvPr id="313" name=""/>
            <p:cNvSpPr/>
            <p:nvPr/>
          </p:nvSpPr>
          <p:spPr>
            <a:xfrm>
              <a:off x="3087720" y="3944880"/>
              <a:ext cx="3235320" cy="11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nl-NL" sz="1200" spc="-1" strike="noStrike">
                  <a:solidFill>
                    <a:srgbClr val="66ff66"/>
                  </a:solidFill>
                  <a:latin typeface="Arial"/>
                </a:rPr>
                <a:t>Niet gebruikt: niet van toepass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nl-NL" sz="1200" spc="-1" strike="noStrike">
                  <a:solidFill>
                    <a:srgbClr val="66ff66"/>
                  </a:solidFill>
                  <a:latin typeface="Arial"/>
                </a:rPr>
                <a:t>Inclusief oppervlakbehandeling of voegvull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nl-NL" sz="1200" spc="-1" strike="noStrike">
                  <a:solidFill>
                    <a:srgbClr val="66ff66"/>
                  </a:solidFill>
                  <a:latin typeface="Arial"/>
                </a:rPr>
                <a:t>Niet gebruikt: niet aanwezig in catalog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nl-NL" sz="1200" spc="-1" strike="noStrike">
                  <a:solidFill>
                    <a:srgbClr val="66ff66"/>
                  </a:solidFill>
                  <a:latin typeface="Arial"/>
                </a:rPr>
                <a:t>Niet gebruikt: niet van toepass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nl-NL" sz="1200" spc="-1" strike="noStrike">
                  <a:solidFill>
                    <a:srgbClr val="66ff66"/>
                  </a:solidFill>
                  <a:latin typeface="Arial"/>
                </a:rPr>
                <a:t>Hele stenen palletteren / pakkette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798200" y="3941640"/>
              <a:ext cx="1098000" cy="10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f9f400"/>
                  </a:solidFill>
                  <a:latin typeface="Arial"/>
                </a:rPr>
                <a:t>         </a:t>
              </a:r>
              <a:r>
                <a:rPr b="1" lang="en-US" sz="1200" spc="-1" strike="noStrike">
                  <a:solidFill>
                    <a:srgbClr val="66ff66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66ff66"/>
                  </a:solidFill>
                  <a:latin typeface="Arial"/>
                </a:rPr>
                <a:t>              </a:t>
              </a:r>
              <a:r>
                <a:rPr b="1" lang="en-US" sz="1200" spc="-1" strike="noStrike">
                  <a:solidFill>
                    <a:srgbClr val="66ff66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66ff66"/>
                  </a:solidFill>
                  <a:latin typeface="Arial"/>
                </a:rPr>
                <a:t>                   </a:t>
              </a:r>
              <a:r>
                <a:rPr b="1" lang="en-US" sz="1200" spc="-1" strike="noStrike">
                  <a:solidFill>
                    <a:srgbClr val="66ff66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1207440" y="614520"/>
            <a:ext cx="18795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talogus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ofd-       Defi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de     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   3   4   5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96ED4-D1BD-4A61-9296-B2970FE6099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762120" y="571680"/>
            <a:ext cx="7789680" cy="529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17146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RESULTAATSBESCHRIJVING NIET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5199"/>
              </a:lnSpc>
              <a:buNone/>
              <a:tabLst>
                <a:tab algn="l" pos="17146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17146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CIJFERS ‘99’ IN HOOFD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17146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17146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.00.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17146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: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.03.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17146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.99.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17146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17146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tekspost samenstellen met eigen tek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CA471-6074-4DBB-B3BF-2B94BCEA87B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762120" y="571680"/>
            <a:ext cx="8229600" cy="575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GEEN STANDAARD HOOFDCODE?   GEEN DEFICOD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BOUW POST: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arv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elke voorwaar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elke hoeveelh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ijk naar soortgelijke resultaatsbeschrijv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enk aan bepalinge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F4C2C-0807-4EDF-8FE2-C8149F97FB0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73200" y="641160"/>
            <a:ext cx="7175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undel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14520" y="1828800"/>
            <a:ext cx="7161840" cy="32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an bestekspostnummers van 6 cijfer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den kosten toegerek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XXX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stekspost eindigend op </a:t>
            </a:r>
            <a:r>
              <a:rPr b="1" lang="en-US" sz="2400" spc="-1" strike="noStrike">
                <a:solidFill>
                  <a:srgbClr val="f9f4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1" lang="en-US" sz="2400" spc="-1" strike="noStrike">
                <a:solidFill>
                  <a:srgbClr val="f9f400"/>
                </a:solidFill>
                <a:latin typeface="Arial"/>
              </a:rPr>
              <a:t>betalingsniv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ventueel sommatie onderliggende besteksposten;</a:t>
            </a:r>
            <a:br>
              <a:rPr sz="2400"/>
            </a:b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laatste cijfer </a:t>
            </a:r>
            <a:r>
              <a:rPr b="1" lang="en-US" sz="2400" spc="-1" strike="noStrike">
                <a:solidFill>
                  <a:srgbClr val="ffff01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 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94C19-6163-4776-B654-7B138A29D26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28548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ESTEK ALGEME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990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19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33cc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41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1508040"/>
            <a:ext cx="711972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ts val="3600"/>
              </a:lnSpc>
              <a:tabLst>
                <a:tab algn="l" pos="0"/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BESTEK VOLGENS UAV 198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chrijving van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behorende teken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ldende voorwaa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ota van inlich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oces-verbaal van aanwij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9B52E-9B8A-4FFB-ACB3-0348DC83E4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2120" y="36144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NDELING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vervolg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61760" y="1276200"/>
            <a:ext cx="8381880" cy="481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teks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ofd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ost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um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XXXXX</a:t>
            </a: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xx xx 99    Samenvatting hoeveelheid (V/N/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XXXXX</a:t>
            </a: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. .  . .  . .    1e beschrij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XXXXX</a:t>
            </a: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. .  . .  . .    2e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Symbol"/>
                <a:ea typeface="Symbol"/>
              </a:rPr>
              <a:t>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XXXXX</a:t>
            </a: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. .  . .  . .    3e         </a:t>
            </a:r>
            <a:r>
              <a:rPr b="0" lang="nl-NL" sz="2400" spc="-1" strike="noStrike">
                <a:solidFill>
                  <a:srgbClr val="ffffff"/>
                </a:solidFill>
                <a:latin typeface="Symbol"/>
                <a:ea typeface="Symbol"/>
              </a:rPr>
              <a:t>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nz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1397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Bij onderliggende posten geen hoeveelheid in kolom ‘Hoeveelheid resultaatsverplichting’ mogelijk: informatie in kolom ‘Hoeveelheid ter inlichting’ (I), en / of in kolom ‘Omschrijving’ vermeld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23A91-B8A0-4456-83E6-674EB397883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063960" y="1555920"/>
            <a:ext cx="3260520" cy="27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Aanbrengen PVC incl. grondwe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Situering: Kalverstra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Graven en aanvullen sleu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In vaste grond met veel hinder van aanwezige kabels, leidingen en boomwort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Sleufdiepte 0,7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Sleufbreedte 0,4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Aanbrengen PVC-bu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Rechte buis, drukklasse PN 8 </a:t>
            </a: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kleur grij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Nominale middellijn 125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20760" y="1504800"/>
            <a:ext cx="772920" cy="24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010</a:t>
            </a:r>
            <a:r>
              <a:rPr b="1" i="1" lang="en-US" sz="1600" spc="-1" strike="noStrike">
                <a:solidFill>
                  <a:srgbClr val="ffff01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010</a:t>
            </a:r>
            <a:r>
              <a:rPr b="1" i="1" lang="en-US" sz="1600" spc="-1" strike="noStrike">
                <a:solidFill>
                  <a:srgbClr val="ffff01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010</a:t>
            </a:r>
            <a:r>
              <a:rPr b="1" i="1" lang="en-US" sz="1600" spc="-1" strike="noStrike">
                <a:solidFill>
                  <a:srgbClr val="ffff01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093680" y="1504800"/>
            <a:ext cx="844560" cy="23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522</a:t>
            </a:r>
            <a:r>
              <a:rPr b="1" i="1" lang="en-US" sz="1600" spc="-1" strike="noStrike">
                <a:solidFill>
                  <a:srgbClr val="ffff01"/>
                </a:solidFill>
                <a:latin typeface="Arial"/>
              </a:rPr>
              <a:t>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402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522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299280" y="1555920"/>
            <a:ext cx="492120" cy="25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91400" y="1555920"/>
            <a:ext cx="772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60720" y="1555920"/>
            <a:ext cx="28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318960" y="457200"/>
            <a:ext cx="8583840" cy="4800600"/>
            <a:chOff x="318960" y="457200"/>
            <a:chExt cx="8583840" cy="4800600"/>
          </a:xfrm>
        </p:grpSpPr>
        <p:sp>
          <p:nvSpPr>
            <p:cNvPr id="329" name=""/>
            <p:cNvSpPr/>
            <p:nvPr/>
          </p:nvSpPr>
          <p:spPr>
            <a:xfrm>
              <a:off x="318960" y="1524240"/>
              <a:ext cx="858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298200" y="457200"/>
              <a:ext cx="0" cy="4800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791040" y="457200"/>
              <a:ext cx="0" cy="4800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46200" y="457200"/>
              <a:ext cx="0" cy="4800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64680" y="1524240"/>
              <a:ext cx="0" cy="373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062160" y="457200"/>
              <a:ext cx="0" cy="4800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092960" y="457200"/>
              <a:ext cx="0" cy="4800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796040" y="924120"/>
              <a:ext cx="0" cy="433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8960" y="457200"/>
              <a:ext cx="8583840" cy="4800600"/>
            </a:xfrm>
            <a:custGeom>
              <a:avLst/>
              <a:gdLst/>
              <a:ahLst/>
              <a:rect l="l" t="t" r="r" b="b"/>
              <a:pathLst>
                <a:path w="5857" h="2449">
                  <a:moveTo>
                    <a:pt x="0" y="2448"/>
                  </a:moveTo>
                  <a:lnTo>
                    <a:pt x="0" y="0"/>
                  </a:lnTo>
                  <a:lnTo>
                    <a:pt x="5856" y="0"/>
                  </a:lnTo>
                  <a:lnTo>
                    <a:pt x="5856" y="244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07000" y="1311480"/>
              <a:ext cx="0" cy="394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218320" y="1311480"/>
              <a:ext cx="0" cy="394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29280" y="1311480"/>
              <a:ext cx="0" cy="394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640240" y="1311480"/>
              <a:ext cx="0" cy="394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851200" y="1311480"/>
              <a:ext cx="0" cy="394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619840" y="1524240"/>
              <a:ext cx="0" cy="373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7845480" y="1555920"/>
            <a:ext cx="774720" cy="25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4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620200" y="1555920"/>
            <a:ext cx="280800" cy="25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798200" y="1633680"/>
            <a:ext cx="910440" cy="28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nl-NL" sz="1200" spc="-1" strike="noStrike">
                <a:solidFill>
                  <a:srgbClr val="be1128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2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00ff00"/>
                </a:solidFill>
                <a:latin typeface="Arial"/>
              </a:rPr>
              <a:t>              </a:t>
            </a:r>
            <a:r>
              <a:rPr b="1" lang="nl-NL" sz="1200" spc="-1" strike="noStrike">
                <a:solidFill>
                  <a:srgbClr val="be1128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63960" y="5565600"/>
            <a:ext cx="323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66ff66"/>
                </a:solidFill>
                <a:latin typeface="Arial"/>
              </a:rPr>
              <a:t>Besteksposten niet comple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030920" y="858960"/>
            <a:ext cx="1162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mschrij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82720" y="630360"/>
            <a:ext cx="515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Ee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77340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resultaa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verp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83072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01680" y="641520"/>
            <a:ext cx="8222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Bestek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pos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207440" y="533520"/>
            <a:ext cx="18795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talogus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ofd-       Defi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de     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   3   4   5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FD604-240E-4906-819F-9969187DF54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761760" y="571680"/>
            <a:ext cx="7754760" cy="499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OORWAARDEN VOOR </a:t>
            </a:r>
            <a:r>
              <a:rPr b="1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ELKE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 BESTEKSP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genoeg kostenhomog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statie moet meetbaar zij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antwoorden van de 5 W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EXTRA VOORWAARDEN BUNDE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elatie tussen de onderde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en betaling op onderde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4C451-9E2E-4864-9BA5-90AB1BD8E56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399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EL 3 BEPALING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794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nderschei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gem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dministrat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chnis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oor bei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gemeen geldend in Standaard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ojectgebonden in best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E97C4-2468-4398-89AA-D20F52788862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73200" y="456840"/>
            <a:ext cx="7175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elke bepalingen waar 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257480"/>
            <a:ext cx="792504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331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andaard 2005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ff01"/>
              </a:buClr>
              <a:buFont typeface="Arial"/>
              <a:buChar char="•"/>
              <a:tabLst>
                <a:tab algn="l" pos="331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Keuzebepaling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Indien ...; …tenzij..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ff01"/>
              </a:buClr>
              <a:buFont typeface="Arial"/>
              <a:buChar char="•"/>
              <a:tabLst>
                <a:tab algn="l" pos="331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Invulbepaling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Het bestek vermeldt …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331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331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te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ff01"/>
              </a:buClr>
              <a:buFont typeface="Arial"/>
              <a:buChar char="•"/>
              <a:tabLst>
                <a:tab algn="l" pos="331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Eigen bepaling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tijd afstemmen op              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andaardbepal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331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 aanvulling op ....... (art. / § ...  van  ...) 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331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 afwijking van  ....... (art. / § ...  van  ...) 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756D9-4CF9-46CE-9938-CCB7ECDD914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73200" y="456840"/>
            <a:ext cx="7175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deling algemene 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ministratieve bepaling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851200" y="1316160"/>
            <a:ext cx="1506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ofdst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gra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i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920880" y="1523880"/>
            <a:ext cx="1887480" cy="1144800"/>
          </a:xfrm>
          <a:custGeom>
            <a:avLst/>
            <a:gdLst/>
            <a:ahLst/>
            <a:rect l="l" t="t" r="r" b="b"/>
            <a:pathLst>
              <a:path w="1249" h="721">
                <a:moveTo>
                  <a:pt x="0" y="720"/>
                </a:moveTo>
                <a:lnTo>
                  <a:pt x="0" y="0"/>
                </a:lnTo>
                <a:lnTo>
                  <a:pt x="1248" y="0"/>
                </a:lnTo>
                <a:lnTo>
                  <a:pt x="1198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454040" y="1828800"/>
            <a:ext cx="1354320" cy="839880"/>
          </a:xfrm>
          <a:custGeom>
            <a:avLst/>
            <a:gdLst/>
            <a:ahLst/>
            <a:rect l="l" t="t" r="r" b="b"/>
            <a:pathLst>
              <a:path w="913" h="529">
                <a:moveTo>
                  <a:pt x="0" y="528"/>
                </a:moveTo>
                <a:lnTo>
                  <a:pt x="0" y="0"/>
                </a:lnTo>
                <a:lnTo>
                  <a:pt x="912" y="0"/>
                </a:lnTo>
                <a:lnTo>
                  <a:pt x="875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987560" y="2133720"/>
            <a:ext cx="820800" cy="534960"/>
          </a:xfrm>
          <a:custGeom>
            <a:avLst/>
            <a:gdLst/>
            <a:ahLst/>
            <a:rect l="l" t="t" r="r" b="b"/>
            <a:pathLst>
              <a:path w="577" h="337">
                <a:moveTo>
                  <a:pt x="0" y="336"/>
                </a:moveTo>
                <a:lnTo>
                  <a:pt x="0" y="0"/>
                </a:lnTo>
                <a:lnTo>
                  <a:pt x="576" y="0"/>
                </a:lnTo>
                <a:lnTo>
                  <a:pt x="552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579760" y="2438280"/>
            <a:ext cx="228600" cy="228600"/>
          </a:xfrm>
          <a:custGeom>
            <a:avLst/>
            <a:gdLst/>
            <a:ahLst/>
            <a:rect l="l" t="t" r="r" b="b"/>
            <a:pathLst>
              <a:path w="241" h="145">
                <a:moveTo>
                  <a:pt x="0" y="144"/>
                </a:moveTo>
                <a:lnTo>
                  <a:pt x="0" y="0"/>
                </a:lnTo>
                <a:lnTo>
                  <a:pt x="240" y="0"/>
                </a:lnTo>
                <a:lnTo>
                  <a:pt x="230" y="0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90120" y="2800440"/>
            <a:ext cx="7337880" cy="32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0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LG. EN ADM. BEPAL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01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08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D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01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08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0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Bijdrage RAW-systemati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0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01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08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0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Bijdrage Fonds Collectief Onderzo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0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lgordelijk of eigen numm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overeenkomstig Standaard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359080" y="2819520"/>
            <a:ext cx="0" cy="1981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512720" y="5219640"/>
            <a:ext cx="1295640" cy="544680"/>
          </a:xfrm>
          <a:custGeom>
            <a:avLst/>
            <a:gdLst/>
            <a:ahLst/>
            <a:rect l="l" t="t" r="r" b="b"/>
            <a:pathLst>
              <a:path w="913" h="289">
                <a:moveTo>
                  <a:pt x="0" y="0"/>
                </a:moveTo>
                <a:lnTo>
                  <a:pt x="0" y="288"/>
                </a:lnTo>
                <a:lnTo>
                  <a:pt x="912" y="288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619360" y="5219640"/>
            <a:ext cx="189000" cy="190440"/>
          </a:xfrm>
          <a:custGeom>
            <a:avLst/>
            <a:gdLst/>
            <a:ahLst/>
            <a:rect l="l" t="t" r="r" b="b"/>
            <a:pathLst>
              <a:path w="145" h="97">
                <a:moveTo>
                  <a:pt x="0" y="0"/>
                </a:moveTo>
                <a:lnTo>
                  <a:pt x="0" y="96"/>
                </a:lnTo>
                <a:lnTo>
                  <a:pt x="144" y="96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62120" y="4991040"/>
            <a:ext cx="1530360" cy="230400"/>
          </a:xfrm>
          <a:custGeom>
            <a:avLst/>
            <a:gdLst/>
            <a:ahLst/>
            <a:rect l="l" t="t" r="r" b="b"/>
            <a:pathLst>
              <a:path w="961" h="145">
                <a:moveTo>
                  <a:pt x="0" y="0"/>
                </a:moveTo>
                <a:lnTo>
                  <a:pt x="0" y="144"/>
                </a:lnTo>
                <a:lnTo>
                  <a:pt x="960" y="144"/>
                </a:lnTo>
                <a:lnTo>
                  <a:pt x="960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460600" y="4991040"/>
            <a:ext cx="352440" cy="230400"/>
          </a:xfrm>
          <a:custGeom>
            <a:avLst/>
            <a:gdLst/>
            <a:ahLst/>
            <a:rect l="l" t="t" r="r" b="b"/>
            <a:pathLst>
              <a:path w="241" h="145">
                <a:moveTo>
                  <a:pt x="0" y="0"/>
                </a:moveTo>
                <a:lnTo>
                  <a:pt x="0" y="144"/>
                </a:lnTo>
                <a:lnTo>
                  <a:pt x="240" y="144"/>
                </a:lnTo>
                <a:lnTo>
                  <a:pt x="240" y="0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60DE2-E484-4BB5-A4A8-B78630C8051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73200" y="456840"/>
            <a:ext cx="7175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deling technische bepaling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851200" y="1316160"/>
            <a:ext cx="1506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ofdst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gra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i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920880" y="1523880"/>
            <a:ext cx="1887480" cy="1144800"/>
          </a:xfrm>
          <a:custGeom>
            <a:avLst/>
            <a:gdLst/>
            <a:ahLst/>
            <a:rect l="l" t="t" r="r" b="b"/>
            <a:pathLst>
              <a:path w="1249" h="721">
                <a:moveTo>
                  <a:pt x="0" y="720"/>
                </a:moveTo>
                <a:lnTo>
                  <a:pt x="0" y="0"/>
                </a:lnTo>
                <a:lnTo>
                  <a:pt x="1248" y="0"/>
                </a:lnTo>
                <a:lnTo>
                  <a:pt x="1198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454040" y="1828800"/>
            <a:ext cx="1354320" cy="839880"/>
          </a:xfrm>
          <a:custGeom>
            <a:avLst/>
            <a:gdLst/>
            <a:ahLst/>
            <a:rect l="l" t="t" r="r" b="b"/>
            <a:pathLst>
              <a:path w="913" h="529">
                <a:moveTo>
                  <a:pt x="0" y="528"/>
                </a:moveTo>
                <a:lnTo>
                  <a:pt x="0" y="0"/>
                </a:lnTo>
                <a:lnTo>
                  <a:pt x="912" y="0"/>
                </a:lnTo>
                <a:lnTo>
                  <a:pt x="875" y="0"/>
                </a:lnTo>
              </a:path>
            </a:pathLst>
          </a:custGeom>
          <a:noFill/>
          <a:ln cap="rnd" w="28440">
            <a:solidFill>
              <a:srgbClr val="ffff0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87560" y="2133720"/>
            <a:ext cx="820800" cy="534960"/>
          </a:xfrm>
          <a:custGeom>
            <a:avLst/>
            <a:gdLst/>
            <a:ahLst/>
            <a:rect l="l" t="t" r="r" b="b"/>
            <a:pathLst>
              <a:path w="577" h="337">
                <a:moveTo>
                  <a:pt x="0" y="336"/>
                </a:moveTo>
                <a:lnTo>
                  <a:pt x="0" y="0"/>
                </a:lnTo>
                <a:lnTo>
                  <a:pt x="576" y="0"/>
                </a:lnTo>
                <a:lnTo>
                  <a:pt x="552" y="0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521080" y="2438280"/>
            <a:ext cx="287280" cy="228600"/>
          </a:xfrm>
          <a:custGeom>
            <a:avLst/>
            <a:gdLst/>
            <a:ahLst/>
            <a:rect l="l" t="t" r="r" b="b"/>
            <a:pathLst>
              <a:path w="241" h="145">
                <a:moveTo>
                  <a:pt x="0" y="144"/>
                </a:moveTo>
                <a:lnTo>
                  <a:pt x="0" y="0"/>
                </a:lnTo>
                <a:lnTo>
                  <a:pt x="240" y="0"/>
                </a:lnTo>
                <a:lnTo>
                  <a:pt x="230" y="0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5800" y="2800440"/>
            <a:ext cx="8370720" cy="31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3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EGVERHARDINGEN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31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4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ISEN EN UITVOERING STRAAT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31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4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Uitvoering nieuwe kantopsluitingen, goten,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kolken en putdeks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06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In afwijking van art. 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31.42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.03 lid 02 Standaard 2005 mo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lengte van passtukken ten minste 0,40 m bedrag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lgordelijk of eigen numm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overeenkomstig Standaard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792440" y="2819520"/>
            <a:ext cx="0" cy="1981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228680" y="5219640"/>
            <a:ext cx="1579680" cy="544680"/>
          </a:xfrm>
          <a:custGeom>
            <a:avLst/>
            <a:gdLst/>
            <a:ahLst/>
            <a:rect l="l" t="t" r="r" b="b"/>
            <a:pathLst>
              <a:path w="913" h="289">
                <a:moveTo>
                  <a:pt x="0" y="0"/>
                </a:moveTo>
                <a:lnTo>
                  <a:pt x="0" y="288"/>
                </a:lnTo>
                <a:lnTo>
                  <a:pt x="912" y="288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398680" y="5219640"/>
            <a:ext cx="409680" cy="190440"/>
          </a:xfrm>
          <a:custGeom>
            <a:avLst/>
            <a:gdLst/>
            <a:ahLst/>
            <a:rect l="l" t="t" r="r" b="b"/>
            <a:pathLst>
              <a:path w="145" h="97">
                <a:moveTo>
                  <a:pt x="0" y="0"/>
                </a:moveTo>
                <a:lnTo>
                  <a:pt x="0" y="96"/>
                </a:lnTo>
                <a:lnTo>
                  <a:pt x="144" y="96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85800" y="4991040"/>
            <a:ext cx="1025640" cy="230400"/>
          </a:xfrm>
          <a:custGeom>
            <a:avLst/>
            <a:gdLst/>
            <a:ahLst/>
            <a:rect l="l" t="t" r="r" b="b"/>
            <a:pathLst>
              <a:path w="961" h="145">
                <a:moveTo>
                  <a:pt x="0" y="0"/>
                </a:moveTo>
                <a:lnTo>
                  <a:pt x="0" y="144"/>
                </a:lnTo>
                <a:lnTo>
                  <a:pt x="960" y="144"/>
                </a:lnTo>
                <a:lnTo>
                  <a:pt x="960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59040" y="4991040"/>
            <a:ext cx="949320" cy="230400"/>
          </a:xfrm>
          <a:custGeom>
            <a:avLst/>
            <a:gdLst/>
            <a:ahLst/>
            <a:rect l="l" t="t" r="r" b="b"/>
            <a:pathLst>
              <a:path w="241" h="145">
                <a:moveTo>
                  <a:pt x="0" y="0"/>
                </a:moveTo>
                <a:lnTo>
                  <a:pt x="0" y="144"/>
                </a:lnTo>
                <a:lnTo>
                  <a:pt x="240" y="144"/>
                </a:lnTo>
                <a:lnTo>
                  <a:pt x="240" y="0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65889-2EEA-4548-8974-627CC434A685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766160" y="4876920"/>
            <a:ext cx="2266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deelhoofdst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8040" y="1442880"/>
            <a:ext cx="4165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gverhardingen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57520" y="1860480"/>
            <a:ext cx="1506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ofdst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gra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14520" y="2970360"/>
            <a:ext cx="808812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gverhardingen II, algem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faltverhar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onverhar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aat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38080" y="2100240"/>
            <a:ext cx="914400" cy="733320"/>
          </a:xfrm>
          <a:custGeom>
            <a:avLst/>
            <a:gdLst/>
            <a:ahLst/>
            <a:rect l="l" t="t" r="r" b="b"/>
            <a:pathLst>
              <a:path w="577" h="337">
                <a:moveTo>
                  <a:pt x="0" y="336"/>
                </a:moveTo>
                <a:lnTo>
                  <a:pt x="0" y="0"/>
                </a:lnTo>
                <a:lnTo>
                  <a:pt x="576" y="0"/>
                </a:lnTo>
                <a:lnTo>
                  <a:pt x="552" y="0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460520" y="2481120"/>
            <a:ext cx="291960" cy="352440"/>
          </a:xfrm>
          <a:custGeom>
            <a:avLst/>
            <a:gdLst/>
            <a:ahLst/>
            <a:rect l="l" t="t" r="r" b="b"/>
            <a:pathLst>
              <a:path w="577" h="337">
                <a:moveTo>
                  <a:pt x="0" y="336"/>
                </a:moveTo>
                <a:lnTo>
                  <a:pt x="0" y="0"/>
                </a:lnTo>
                <a:lnTo>
                  <a:pt x="576" y="0"/>
                </a:lnTo>
                <a:lnTo>
                  <a:pt x="552" y="0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1371600" y="4691160"/>
            <a:ext cx="380880" cy="428400"/>
          </a:xfrm>
          <a:custGeom>
            <a:avLst/>
            <a:gdLst/>
            <a:ahLst/>
            <a:rect l="l" t="t" r="r" b="b"/>
            <a:pathLst>
              <a:path w="577" h="337">
                <a:moveTo>
                  <a:pt x="0" y="336"/>
                </a:moveTo>
                <a:lnTo>
                  <a:pt x="0" y="0"/>
                </a:lnTo>
                <a:lnTo>
                  <a:pt x="576" y="0"/>
                </a:lnTo>
                <a:lnTo>
                  <a:pt x="552" y="0"/>
                </a:lnTo>
              </a:path>
            </a:pathLst>
          </a:custGeom>
          <a:noFill/>
          <a:ln cap="rnd" w="28440">
            <a:solidFill>
              <a:srgbClr val="ffff0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73200" y="495000"/>
            <a:ext cx="847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eling technische bepaling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vervolg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AE299-5930-4030-BE25-458E8450DE84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766160" y="5423040"/>
            <a:ext cx="1928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zeven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08400" y="1278000"/>
            <a:ext cx="423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X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ofdstuk 11 t/m 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757520" y="1695600"/>
            <a:ext cx="1506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ofdst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gra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14520" y="2592360"/>
            <a:ext cx="8088120" cy="27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1"/>
                </a:solidFill>
                <a:latin typeface="Arial"/>
              </a:rPr>
              <a:t>Begri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1"/>
                </a:solidFill>
                <a:latin typeface="Arial"/>
              </a:rPr>
              <a:t>Eisen en uitvo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1"/>
                </a:solidFill>
                <a:latin typeface="Arial"/>
              </a:rPr>
              <a:t>Informatie-overdr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1"/>
                </a:solidFill>
                <a:latin typeface="Arial"/>
              </a:rPr>
              <a:t>Risicoverdeling en garan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1"/>
                </a:solidFill>
                <a:latin typeface="Arial"/>
              </a:rPr>
              <a:t>Bijbehorende verplich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1"/>
                </a:solidFill>
                <a:latin typeface="Arial"/>
              </a:rPr>
              <a:t>Bouw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1"/>
                </a:solidFill>
                <a:latin typeface="Arial"/>
              </a:rPr>
              <a:t>Meet- en verrekenmetho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1558800" y="5380200"/>
            <a:ext cx="193680" cy="304560"/>
          </a:xfrm>
          <a:custGeom>
            <a:avLst/>
            <a:gdLst/>
            <a:ahLst/>
            <a:rect l="l" t="t" r="r" b="b"/>
            <a:pathLst>
              <a:path w="577" h="337">
                <a:moveTo>
                  <a:pt x="0" y="336"/>
                </a:moveTo>
                <a:lnTo>
                  <a:pt x="0" y="0"/>
                </a:lnTo>
                <a:lnTo>
                  <a:pt x="576" y="0"/>
                </a:lnTo>
                <a:lnTo>
                  <a:pt x="552" y="0"/>
                </a:lnTo>
              </a:path>
            </a:pathLst>
          </a:custGeom>
          <a:noFill/>
          <a:ln cap="rnd" w="28440">
            <a:solidFill>
              <a:srgbClr val="ffff0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8080" y="1935000"/>
            <a:ext cx="914400" cy="657360"/>
          </a:xfrm>
          <a:custGeom>
            <a:avLst/>
            <a:gdLst/>
            <a:ahLst/>
            <a:rect l="l" t="t" r="r" b="b"/>
            <a:pathLst>
              <a:path w="577" h="337">
                <a:moveTo>
                  <a:pt x="0" y="336"/>
                </a:moveTo>
                <a:lnTo>
                  <a:pt x="0" y="0"/>
                </a:lnTo>
                <a:lnTo>
                  <a:pt x="576" y="0"/>
                </a:lnTo>
                <a:lnTo>
                  <a:pt x="552" y="0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460520" y="2316240"/>
            <a:ext cx="291960" cy="276120"/>
          </a:xfrm>
          <a:custGeom>
            <a:avLst/>
            <a:gdLst/>
            <a:ahLst/>
            <a:rect l="l" t="t" r="r" b="b"/>
            <a:pathLst>
              <a:path w="577" h="337">
                <a:moveTo>
                  <a:pt x="0" y="336"/>
                </a:moveTo>
                <a:lnTo>
                  <a:pt x="0" y="0"/>
                </a:lnTo>
                <a:lnTo>
                  <a:pt x="576" y="0"/>
                </a:lnTo>
                <a:lnTo>
                  <a:pt x="552" y="0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73200" y="495000"/>
            <a:ext cx="847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eling technische bepaling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vervolg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F32B3-AB6F-49DA-95CC-A70B80690C25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669960" y="419040"/>
            <a:ext cx="724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gemene 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ministratieve bepaling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9480" y="175248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ts val="2500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Paragraf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.0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gemene bepali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.0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alingsregelingen: aannemingss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.0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alingsregelingen: afwijkingen van verrekenbare hoeveelhe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.0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alingsregelingen: risicoreg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.0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alingsregelingen: declara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.0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alingsregelingen: uitvoeringskos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.0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ekerheidste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.0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jdra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.09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abels en leidi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.1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gunni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29785-B629-45B3-B113-193360807B2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EL BEST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7772400" cy="29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Contract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aanbeste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uitvo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eventuele geschi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F7E46-21BB-422D-9378-F8CDBFDCAB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609480" y="380880"/>
            <a:ext cx="800100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ts val="3197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gemene en administratieve bepalingen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vervolg)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11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Verband met andere werk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12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Maatregelen in het belang van het verke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13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Kwaliteitsplan, algemeen tijdschema, werkpla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flexibele 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uitvoeringstermij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14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ouwstoff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15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Garant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16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Verzekeri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17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Vrijgekomen materia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18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scherming te handhaven vegetat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19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Arbeidsomstandighe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20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Kwaliteitsbor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21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Overeenkomsten met open pos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22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):  Te werk stellen van leerlingen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E6AD5-14D9-4229-BF1E-74A37D9FCD90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62120" y="3240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SCHRIJVINGSDOCUMENTE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761760" y="1600200"/>
            <a:ext cx="70866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sbilj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Inschrijvingssta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182680" y="324180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v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099880" y="4089240"/>
            <a:ext cx="6006600" cy="458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TLEDING VAN DE AANNEMINGSS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2084400" y="3009600"/>
            <a:ext cx="0" cy="1066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219320" y="3009960"/>
            <a:ext cx="2303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CD5BF-610E-4652-AB46-3BCECEB31D31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62120" y="4046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SCHRIJVINGSSTA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876240" y="981000"/>
            <a:ext cx="8115480" cy="793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Productiegebonden k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Hoeveelheid met prijs per eenheid of bedrag in eu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76240" y="2565360"/>
            <a:ext cx="8115480" cy="2652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Staartkosten in bedragen in e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nmalige k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Uitvoeringsk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gemene k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inst en ri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elp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d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352680" y="1917720"/>
            <a:ext cx="2438640" cy="458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BTO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076560" y="5373720"/>
            <a:ext cx="2994120" cy="458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ANNEMINGSS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56F27-35D9-4ABE-B444-68B4A208142A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71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ARTKOST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822960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Eenmalige kos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osten met eenmalig karak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nafhankelijk van productievoortga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iet verrekenba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dere specificaties door opdrachtgever en door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nemer mogelij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taling naar productie of volgens te treffen regeling;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dien niet toerekenbaar dan % van subtota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BECE9-1D41-42BA-B4D3-6AF56C768C1C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71480" y="418680"/>
            <a:ext cx="81057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ARTKOSTE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vervolg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62120" y="1257480"/>
            <a:ext cx="8107200" cy="33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57168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Uitvoeringskos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57168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osten, gedeeltelijk op het werk waarneemba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taling naar productie van het subtota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57168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art. 01.02.03 lid 04 Standaard 200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 beginsel niet verrekenba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57168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m.u.v. art. 01.06.01 Standaard 200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26E1F-0EB5-4E1F-8F21-0D6C499B6C39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761760" y="1380960"/>
            <a:ext cx="8018280" cy="35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Algemene kos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taling naar productie van het subtota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art. 01.02.03 lid 04 Standaard 200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inst en r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taling naar productie van het subtota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art. 01.02.03 lid 04 Standaard 200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title"/>
          </p:nvPr>
        </p:nvSpPr>
        <p:spPr>
          <a:xfrm>
            <a:off x="771480" y="418680"/>
            <a:ext cx="81057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ARTKOSTE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vervolg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B88EF-B914-4021-8D3C-D9FA31DB6D00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762120" y="1380600"/>
            <a:ext cx="7696080" cy="45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6200" indent="0">
              <a:lnSpc>
                <a:spcPts val="3197"/>
              </a:lnSpc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Stelpos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200" indent="-376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pn 950010 e.v. resp. hoofdcode 6105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200" indent="-376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taling naar productie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art. 01.02.03 lid 03 Standaard 2005) incl.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nemersvergoeding 5 of 10% (§ 37 UAV 198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200" indent="0">
              <a:lnSpc>
                <a:spcPts val="3197"/>
              </a:lnSpc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200" indent="0">
              <a:lnSpc>
                <a:spcPts val="3197"/>
              </a:lnSpc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Bijd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200" indent="-376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pn 960010 resp. 960020 in inschrijvingssta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200" indent="-376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taling volgens par. 01.08 Standaard 2005: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rt. 01.08.01 resp. 01.08.02 in deel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771480" y="418680"/>
            <a:ext cx="81057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ARTKOSTE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vervolg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CB34D-045E-4214-8F8E-6C61C98048C1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81200" y="475920"/>
            <a:ext cx="5713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ERREKENPRIJ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761760" y="1676520"/>
            <a:ext cx="70866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00"/>
                </a:solidFill>
                <a:latin typeface="Arial"/>
              </a:rPr>
              <a:t>FUNCTIE INSCHRIJVINGSSTA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Schakel besteksadministr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art. 01.01.04 lid 05 Standaard 200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rekening betalingstermij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Vaststellen verrekenprijz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3DC55-30CD-4768-8204-1DF9A18F92E0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763560" y="571680"/>
            <a:ext cx="8151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72960" indent="0">
              <a:lnSpc>
                <a:spcPts val="3600"/>
              </a:lnSpc>
              <a:buNone/>
              <a:tabLst>
                <a:tab algn="l" pos="0"/>
                <a:tab algn="l" pos="190512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AV 1989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 verrekenprijs alle rechtstreeks voor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uitvoering benodigde kost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§ 39 lid 5 UAV 198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0">
              <a:lnSpc>
                <a:spcPts val="3600"/>
              </a:lnSpc>
              <a:buNone/>
              <a:tabLst>
                <a:tab algn="l" pos="0"/>
                <a:tab algn="l" pos="190512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0">
              <a:lnSpc>
                <a:spcPts val="3600"/>
              </a:lnSpc>
              <a:buNone/>
              <a:tabLst>
                <a:tab algn="l" pos="0"/>
                <a:tab algn="l" pos="190512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RAW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In verrekenprijs productiegebonden kosten,</a:t>
            </a:r>
            <a:br>
              <a:rPr sz="2400"/>
            </a:b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algemene kosten, winst en risico</a:t>
            </a:r>
            <a:br>
              <a:rPr sz="2400"/>
            </a:b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Eenmalige kosten en uitvoeringskosten</a:t>
            </a:r>
            <a:br>
              <a:rPr sz="2400"/>
            </a:b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blijven buiten beschouwing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62120" y="4648320"/>
            <a:ext cx="6848280" cy="82404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aarom in art. 01.03.03 lid 02 Standaard 200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§ 39 lid 5 UAV 1989 niet van toepa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4DDDF-4447-479A-8BD0-DDF1C910CEDF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VERREKENPRIJS VOLGENS RAW</a:t>
            </a:r>
            <a:br>
              <a:rPr sz="28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art. 01.03.03 lid 01 Standaard 200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62120" y="2502000"/>
            <a:ext cx="6541920" cy="22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000" spc="-1" strike="noStrike" u="sng">
                <a:solidFill>
                  <a:srgbClr val="ffff00"/>
                </a:solidFill>
                <a:uFillTx/>
                <a:latin typeface="Arial"/>
              </a:rPr>
              <a:t>algemene kosten + winst en risico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subtota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7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ercentage afronden op tie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rekenprijs afronden op hele euro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62120" y="2571840"/>
            <a:ext cx="809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p.p.e.+ (          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x 100 %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) x p.p.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156C7-A50F-4540-8492-B20A5DD9F588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62120" y="1333440"/>
            <a:ext cx="77724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Informatiedr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2798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conomisch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aming van kost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alculatie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oetsing van aanbieding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turing en bewaking bouwpro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095560" indent="0">
              <a:lnSpc>
                <a:spcPts val="2798"/>
              </a:lnSpc>
              <a:buNone/>
              <a:tabLst>
                <a:tab algn="l" pos="762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2798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chnisch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statiebeschrijving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eidraad bij uitvoering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ontrolemid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EL BESTEK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vervolg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23AF8-627B-44DD-B6C3-557B7C99FE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8105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VERREKENPRIJS VOLGENS RAW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(vervolg)</a:t>
            </a:r>
            <a:br>
              <a:rPr sz="28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art. 01.03.03 lid 01 Standaard 200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ts val="1998"/>
              </a:lnSpc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errekenbare hoeveelheid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prijs per eenhei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ts val="1998"/>
              </a:lnSpc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1000 eenheden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€ 16,50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16.500,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ts val="499"/>
              </a:lnSpc>
              <a:spcBef>
                <a:spcPts val="499"/>
              </a:spcBef>
              <a:buNone/>
              <a:tabLst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Subtotaal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€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16.500,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ts val="499"/>
              </a:lnSpc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ts val="1998"/>
              </a:lnSpc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Eenmalige kosten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1.000,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ts val="1998"/>
              </a:lnSpc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Uitvoeringskosten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9,1%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4.000,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ts val="2798"/>
              </a:lnSpc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lgemene kosten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€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1.000,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ts val="1998"/>
              </a:lnSpc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Winst en risico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€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500,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ts val="499"/>
              </a:lnSpc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Aannemingssom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23.000,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ts val="499"/>
              </a:lnSpc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errekenprijs € 16,50 + 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9,1%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x € 16,50 = € 18,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6019920" y="2666880"/>
            <a:ext cx="569880" cy="1677600"/>
            <a:chOff x="6019920" y="2666880"/>
            <a:chExt cx="569880" cy="1677600"/>
          </a:xfrm>
        </p:grpSpPr>
        <p:sp>
          <p:nvSpPr>
            <p:cNvPr id="431" name=""/>
            <p:cNvSpPr/>
            <p:nvPr/>
          </p:nvSpPr>
          <p:spPr>
            <a:xfrm flipV="1">
              <a:off x="6589800" y="3835080"/>
              <a:ext cx="0" cy="509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19920" y="2666880"/>
              <a:ext cx="563400" cy="1386000"/>
            </a:xfrm>
            <a:custGeom>
              <a:avLst/>
              <a:gdLst/>
              <a:ahLst/>
              <a:rect l="l" t="t" r="r" b="b"/>
              <a:pathLst>
                <a:path w="241" h="913">
                  <a:moveTo>
                    <a:pt x="240" y="0"/>
                  </a:moveTo>
                  <a:lnTo>
                    <a:pt x="0" y="0"/>
                  </a:lnTo>
                  <a:lnTo>
                    <a:pt x="0" y="912"/>
                  </a:lnTo>
                  <a:lnTo>
                    <a:pt x="240" y="912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2743200" y="5477040"/>
            <a:ext cx="3505320" cy="397440"/>
          </a:xfrm>
          <a:prstGeom prst="rect">
            <a:avLst/>
          </a:prstGeom>
          <a:noFill/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Denk aan afrondingsreg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162920" y="441972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162920" y="243828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812000" y="53737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1D30D-37CF-4BE8-BD91-95B8D7B2E631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E68D7-5605-429F-A1AC-210C3EFB167E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669960" y="419040"/>
            <a:ext cx="8093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ormen binnen RAW-best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173340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1"/>
                </a:solidFill>
                <a:latin typeface="Arial"/>
              </a:rPr>
              <a:t>Aan de orde komen…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480" y="2647800"/>
            <a:ext cx="8229600" cy="169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tgerichte resultaatsverplichting (deel 2.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eldbest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eenkomst met open pos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>
            <a:hlinkClick r:id="rId1"/>
          </p:cNvPr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88581-6A55-4C67-80BB-4AF1C4BB8C66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571320" y="596880"/>
            <a:ext cx="8381880" cy="54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1"/>
                </a:solidFill>
                <a:latin typeface="Arial"/>
              </a:rPr>
              <a:t>Productgerich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1"/>
                </a:solidFill>
                <a:latin typeface="Arial"/>
              </a:rPr>
              <a:t>resultaatsverplich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1998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n productgerichte resultaatsverplichting is 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undeling resulterend in een herkenbaar onderde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an het we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 resultaatsverplichting kenmerkt zich do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2798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nheid : st / keer / v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 geheel ge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enmerk ‘A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>
            <a:hlinkClick r:id="rId1"/>
          </p:cNvPr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718C2-1D2B-417D-8120-42A706222886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2987640" y="1523880"/>
            <a:ext cx="3235320" cy="33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Aanbrengen betonnen dui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rond ontgraven t.b.v. sleu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eien betonnen pa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anbrengen kesp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anbrengen oplegmateria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anbrengen betonnen duiker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rechthoekig profiel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anbrengen betonnen stootpl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anvullen sleu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anbrengen best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44440" y="1523880"/>
            <a:ext cx="773280" cy="33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 u="sng">
                <a:solidFill>
                  <a:srgbClr val="ffff01"/>
                </a:solidFill>
                <a:uFillTx/>
                <a:latin typeface="Arial"/>
              </a:rPr>
              <a:t>421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421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421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421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4210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421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421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421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421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017720" y="1523880"/>
            <a:ext cx="844560" cy="33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551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401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10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113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255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551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731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401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21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222960" y="1523880"/>
            <a:ext cx="492120" cy="33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715080" y="1523880"/>
            <a:ext cx="773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,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481520" y="152388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243000" y="457200"/>
            <a:ext cx="8583480" cy="4876560"/>
            <a:chOff x="243000" y="457200"/>
            <a:chExt cx="8583480" cy="4876560"/>
          </a:xfrm>
        </p:grpSpPr>
        <p:sp>
          <p:nvSpPr>
            <p:cNvPr id="450" name=""/>
            <p:cNvSpPr/>
            <p:nvPr/>
          </p:nvSpPr>
          <p:spPr>
            <a:xfrm>
              <a:off x="243000" y="1541160"/>
              <a:ext cx="8582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222240" y="457200"/>
              <a:ext cx="0" cy="487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714720" y="457200"/>
              <a:ext cx="0" cy="487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769880" y="457200"/>
              <a:ext cx="0" cy="487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488360" y="1541160"/>
              <a:ext cx="0" cy="379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986200" y="457200"/>
              <a:ext cx="0" cy="487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017000" y="457200"/>
              <a:ext cx="0" cy="487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720080" y="931320"/>
              <a:ext cx="0" cy="440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3000" y="457200"/>
              <a:ext cx="8583480" cy="4876560"/>
            </a:xfrm>
            <a:custGeom>
              <a:avLst/>
              <a:gdLst/>
              <a:ahLst/>
              <a:rect l="l" t="t" r="r" b="b"/>
              <a:pathLst>
                <a:path w="5857" h="2449">
                  <a:moveTo>
                    <a:pt x="0" y="2448"/>
                  </a:moveTo>
                  <a:lnTo>
                    <a:pt x="0" y="0"/>
                  </a:lnTo>
                  <a:lnTo>
                    <a:pt x="5856" y="0"/>
                  </a:lnTo>
                  <a:lnTo>
                    <a:pt x="5856" y="244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31040" y="1324800"/>
              <a:ext cx="0" cy="400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142000" y="1324800"/>
              <a:ext cx="0" cy="400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352960" y="1324800"/>
              <a:ext cx="0" cy="400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564280" y="1324800"/>
              <a:ext cx="0" cy="400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775240" y="1324800"/>
              <a:ext cx="0" cy="400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543520" y="1541160"/>
              <a:ext cx="0" cy="379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7769160" y="1523880"/>
            <a:ext cx="774720" cy="37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.520,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60,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4,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14,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70,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192,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.030,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4,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543880" y="1523880"/>
            <a:ext cx="211320" cy="33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38280" y="5565600"/>
            <a:ext cx="438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nl-NL" sz="1400" spc="-1" strike="noStrike">
                <a:solidFill>
                  <a:srgbClr val="f9f400"/>
                </a:solidFill>
                <a:latin typeface="Arial"/>
              </a:rPr>
              <a:t>Ter indicat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954600" y="858960"/>
            <a:ext cx="1162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mschrij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206400" y="630360"/>
            <a:ext cx="515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Ee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69708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resultaa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verp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75440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25720" y="641520"/>
            <a:ext cx="8222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Bestek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pos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099800" y="614520"/>
            <a:ext cx="19648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talogus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ofd-       Defi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de       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   3   4   5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>
            <a:hlinkClick r:id="rId1"/>
          </p:cNvPr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4FC09-44FD-4933-9BB9-85707E22249E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669960" y="291960"/>
            <a:ext cx="724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1"/>
                </a:solidFill>
                <a:latin typeface="Arial"/>
              </a:rPr>
              <a:t>RAW-beeldbestekk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685440" y="1549080"/>
            <a:ext cx="7620120" cy="36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3197"/>
              </a:lnSpc>
              <a:buNone/>
              <a:tabLst>
                <a:tab algn="l" pos="0"/>
                <a:tab algn="ctr" pos="5621400"/>
                <a:tab algn="r" pos="685476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en beeldbestek is een besteksvorm waarbij word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ts val="3197"/>
              </a:lnSpc>
              <a:buNone/>
              <a:tabLst>
                <a:tab algn="l" pos="0"/>
                <a:tab algn="ctr" pos="5621400"/>
                <a:tab algn="r" pos="685476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itgegaan van de beschrijving van kwaliteitsnivea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ts val="3197"/>
              </a:lnSpc>
              <a:buNone/>
              <a:tabLst>
                <a:tab algn="l" pos="0"/>
                <a:tab algn="ctr" pos="5621400"/>
                <a:tab algn="r" pos="685476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ts val="3197"/>
              </a:lnSpc>
              <a:buNone/>
              <a:tabLst>
                <a:tab algn="l" pos="0"/>
                <a:tab algn="ctr" pos="5621400"/>
                <a:tab algn="r" pos="685476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t beeldbestek kenmerkt zich doo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ctr" pos="5621400"/>
                <a:tab algn="r" pos="685476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chrijving in kwaliteitsnivea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ctr" pos="5621400"/>
                <a:tab algn="r" pos="685476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quent voorkomende werkzaamh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ctr" pos="5621400"/>
                <a:tab algn="r" pos="685476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enheid in we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ctr" pos="5621400"/>
                <a:tab algn="r" pos="685476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etbare resulta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29168-1C0A-4E22-9DBC-93237413DF02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3094200" y="1566720"/>
            <a:ext cx="3306600" cy="28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Onkruidbeheersing in beplantingsv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Situering: Renkum Oost, zie tek. A2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Oppervlakte te onderhouden percelen: </a:t>
            </a: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ca 500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Aantal te onderhouden percelen: </a:t>
            </a: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19 stu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Horizontaal of met een talud flauwer dan 1: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Betreft: bodembedekkende he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Leeftijd beplanting: ca. 3 jaar of meer na aan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Kwaliteitsniveau B (onkruidbeheersing, standaar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Periode: in groeiseizo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Vrijgekomen materiaal verwerken volgens </a:t>
            </a: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bestekspostnummer 2010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51000" y="1566720"/>
            <a:ext cx="774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01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125360" y="1566720"/>
            <a:ext cx="843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142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248520" y="1566720"/>
            <a:ext cx="685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e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821640" y="1566720"/>
            <a:ext cx="7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592400" y="1566720"/>
            <a:ext cx="28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062600" y="858960"/>
            <a:ext cx="1162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mschrij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314400" y="630360"/>
            <a:ext cx="515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Ee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80508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resultaa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verp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86240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33360" y="641520"/>
            <a:ext cx="8222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Bestek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pos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351000" y="533520"/>
            <a:ext cx="8582040" cy="4724280"/>
            <a:chOff x="351000" y="533520"/>
            <a:chExt cx="8582040" cy="4724280"/>
          </a:xfrm>
        </p:grpSpPr>
        <p:sp>
          <p:nvSpPr>
            <p:cNvPr id="490" name=""/>
            <p:cNvSpPr/>
            <p:nvPr/>
          </p:nvSpPr>
          <p:spPr>
            <a:xfrm>
              <a:off x="351000" y="1583280"/>
              <a:ext cx="8580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2916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216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8764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59528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0938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1246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827720" y="992880"/>
              <a:ext cx="0" cy="426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51000" y="533520"/>
              <a:ext cx="8582040" cy="4724280"/>
            </a:xfrm>
            <a:custGeom>
              <a:avLst/>
              <a:gdLst/>
              <a:ahLst/>
              <a:rect l="l" t="t" r="r" b="b"/>
              <a:pathLst>
                <a:path w="5857" h="2449">
                  <a:moveTo>
                    <a:pt x="0" y="2448"/>
                  </a:moveTo>
                  <a:lnTo>
                    <a:pt x="0" y="0"/>
                  </a:lnTo>
                  <a:lnTo>
                    <a:pt x="5856" y="0"/>
                  </a:lnTo>
                  <a:lnTo>
                    <a:pt x="5856" y="244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03868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24964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46096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67192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88288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65008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7877160" y="1566720"/>
            <a:ext cx="77328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650440" y="1566720"/>
            <a:ext cx="28080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828800" y="1566720"/>
            <a:ext cx="1371600" cy="31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697960" y="15667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996320" y="1571760"/>
            <a:ext cx="703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207440" y="614520"/>
            <a:ext cx="19224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talogus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ofd-       Defi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de      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   3   4   5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70044-05D3-4E5B-898B-B35C0B5A8550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84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1"/>
                </a:solidFill>
                <a:latin typeface="Arial"/>
              </a:rPr>
              <a:t>Beschrijving in kwaliteitsniveau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84280" y="1257120"/>
            <a:ext cx="8076960" cy="468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ier kwaliteitsnivea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iveau A: intensief behe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iveau B: standaard behe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iveau C: extensief behe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iveau D: extensief, referentie niveau voor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waliteitsniveaus zijn gestandaardiseer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n op elkaar afgestem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A720F-A434-4FC6-A0AD-5C84D6DF5D44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480" y="558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1"/>
                </a:solidFill>
                <a:latin typeface="Arial"/>
              </a:rPr>
              <a:t>Overeenkomsten met open posten (OMOP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98400" y="1968480"/>
            <a:ext cx="80773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76200" indent="-376200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actvorm voor het geval da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dget bekend (en beschikbaar)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mzetverwachting (daarmee) in te schatten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ard van meest voorkomende werkzaamheden bekend is (de onderlinge verhouding ‘bij benadering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a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440" y="47239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eveelheden en/of de datum van uitvoering niet bekend zij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5E1C9-F1B9-44B5-9169-BF11354ECDA6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84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vereenkomst met open post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62120" y="1730160"/>
            <a:ext cx="7772400" cy="10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52560"/>
                <a:tab algn="l" pos="2095560"/>
                <a:tab algn="l" pos="524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RAW Raambestek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het </a:t>
            </a:r>
            <a:r>
              <a:rPr b="0" lang="nl-NL" sz="2400" spc="-1" strike="noStrike" u="sng">
                <a:solidFill>
                  <a:srgbClr val="ffff00"/>
                </a:solidFill>
                <a:uFillTx/>
                <a:latin typeface="Arial"/>
              </a:rPr>
              <a:t>uitvoer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van </a:t>
            </a:r>
            <a:r>
              <a:rPr b="1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werkzaamhed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onderhoud riool, bestrating…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84280" y="3162240"/>
            <a:ext cx="777240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ts val="2798"/>
              </a:lnSpc>
              <a:tabLst>
                <a:tab algn="l" pos="0"/>
                <a:tab algn="l" pos="952560"/>
                <a:tab algn="l" pos="2095560"/>
                <a:tab algn="l" pos="524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AW Servicebeste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or het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op afroep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uitvoer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va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erkzaamhede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wegslepen voertuigen, gladheidsbestrijding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A685F-396B-49A5-9CA1-DD31EDD3B650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7628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SENTIËLE INFORMATI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7772400" cy="27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a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arva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ke voorwaard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ke hoeveelhed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43120" y="4556160"/>
            <a:ext cx="7718400" cy="8240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Alle kostenbeïnvloedende factoren moeten vo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zover mogelijk in het bestek tot uitdrukking k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EF729-AE49-4238-9286-CF8313F3C5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84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1"/>
                </a:solidFill>
                <a:latin typeface="Arial"/>
              </a:rPr>
              <a:t>Kenmerken OMO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84280" y="1257480"/>
            <a:ext cx="7772400" cy="209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425160" indent="-4251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2095560"/>
                <a:tab algn="l" pos="524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nmerk resultaatsverplicht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‘O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160" indent="-4251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2095560"/>
                <a:tab algn="l" pos="524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eveelheid resultaatsverplicht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‘*******,**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160" indent="-4251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2095560"/>
                <a:tab algn="l" pos="524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eveelheid ter inlicht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‘*******,**’ L / T /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160" indent="-4251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2095560"/>
                <a:tab algn="l" pos="524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at met fictieve hoeveelheden bij inschrij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04F50-0F5C-4676-B484-178275E110AC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3094200" y="1566720"/>
            <a:ext cx="3306600" cy="24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anbrengen trottoirbanden van b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Lengte per deelopdracht: van 0 tot 25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ellen met schraal beton op zand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 voorzien van steunrug van</a:t>
            </a:r>
            <a:r>
              <a:rPr b="1" lang="en-US" sz="1200" spc="-1" strike="noStrike">
                <a:solidFill>
                  <a:srgbClr val="ee1128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schraal beton B25, milieuklasse 3. Te rekenen met 0,06 m3 per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angs de trottoirbanden 1 rollaag van betonstraatstenen in cementspecie aanbrengen</a:t>
            </a: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, standaard dikformaat, dik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80 mm, kleur heidepaa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Te rekenen met 0,01 m3 cementspecie per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fiel 180/200 x 200 mm</a:t>
            </a:r>
            <a:r>
              <a:rPr b="1" lang="en-US" sz="1200" spc="-1" strike="noStrike">
                <a:solidFill>
                  <a:srgbClr val="ee1128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lang 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51000" y="1566720"/>
            <a:ext cx="774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3050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125360" y="1566720"/>
            <a:ext cx="843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143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324480" y="1566720"/>
            <a:ext cx="609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21640" y="1566720"/>
            <a:ext cx="7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01"/>
                </a:solidFill>
                <a:latin typeface="Arial"/>
              </a:rPr>
              <a:t>*******,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584840" y="1566720"/>
            <a:ext cx="30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062600" y="858960"/>
            <a:ext cx="1162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mschrij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314400" y="630360"/>
            <a:ext cx="515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Ee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0508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resultaa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verp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86240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33360" y="641520"/>
            <a:ext cx="8222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Bestek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pos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351000" y="533520"/>
            <a:ext cx="8582040" cy="4724280"/>
            <a:chOff x="351000" y="533520"/>
            <a:chExt cx="8582040" cy="4724280"/>
          </a:xfrm>
        </p:grpSpPr>
        <p:sp>
          <p:nvSpPr>
            <p:cNvPr id="538" name=""/>
            <p:cNvSpPr/>
            <p:nvPr/>
          </p:nvSpPr>
          <p:spPr>
            <a:xfrm>
              <a:off x="351000" y="1583280"/>
              <a:ext cx="8580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32916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8216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8764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59528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0938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1246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827720" y="992880"/>
              <a:ext cx="0" cy="426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51000" y="533520"/>
              <a:ext cx="8582040" cy="4724280"/>
            </a:xfrm>
            <a:custGeom>
              <a:avLst/>
              <a:gdLst/>
              <a:ahLst/>
              <a:rect l="l" t="t" r="r" b="b"/>
              <a:pathLst>
                <a:path w="5857" h="2449">
                  <a:moveTo>
                    <a:pt x="0" y="2448"/>
                  </a:moveTo>
                  <a:lnTo>
                    <a:pt x="0" y="0"/>
                  </a:lnTo>
                  <a:lnTo>
                    <a:pt x="5856" y="0"/>
                  </a:lnTo>
                  <a:lnTo>
                    <a:pt x="5856" y="244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03868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24964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46096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67192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88288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65008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7877160" y="1566720"/>
            <a:ext cx="77328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8650440" y="1566720"/>
            <a:ext cx="28080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828800" y="1566720"/>
            <a:ext cx="1371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4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6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5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8697960" y="15667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996320" y="1571760"/>
            <a:ext cx="703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207440" y="614520"/>
            <a:ext cx="19224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talogus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ofd-       Defi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de      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   3   4   5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997760" y="2743200"/>
            <a:ext cx="57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1"/>
                </a:solidFill>
                <a:latin typeface="Arial"/>
              </a:rPr>
              <a:t>*******,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686800" y="271944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334200" y="1947960"/>
            <a:ext cx="609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329520" y="3386160"/>
            <a:ext cx="609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329520" y="3753000"/>
            <a:ext cx="609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334200" y="2657520"/>
            <a:ext cx="609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993080" y="2000160"/>
            <a:ext cx="57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1"/>
                </a:solidFill>
                <a:latin typeface="Arial"/>
              </a:rPr>
              <a:t>*******,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997760" y="3457440"/>
            <a:ext cx="57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1"/>
                </a:solidFill>
                <a:latin typeface="Arial"/>
              </a:rPr>
              <a:t>*******,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993080" y="3857760"/>
            <a:ext cx="57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1"/>
                </a:solidFill>
                <a:latin typeface="Arial"/>
              </a:rPr>
              <a:t>*******,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686800" y="197640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686800" y="341964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8682120" y="382428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6B242-2E24-4944-AFD4-8B7261F7A502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28720" y="608040"/>
            <a:ext cx="171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76240" y="1606680"/>
            <a:ext cx="1979640" cy="1258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76240" y="4808520"/>
            <a:ext cx="1979640" cy="4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V 19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74880" y="2870280"/>
            <a:ext cx="0" cy="342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74880" y="4464000"/>
            <a:ext cx="0" cy="336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93920" y="1469880"/>
            <a:ext cx="583596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chrijving; tekeningen; voorwaarden; 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ota van inl.; proces verbaal van aanw.; inschrijvingsbiljet en inschrijvingsstaa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balans; bijbehorende staten;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95720" y="3679920"/>
            <a:ext cx="2352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andaard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76240" y="3209760"/>
            <a:ext cx="1979640" cy="1258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pal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5000" y="604800"/>
            <a:ext cx="225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NGO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5502E-F3E3-4C69-871D-BFF70AAEFE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18T14:17:12Z</dcterms:created>
  <dc:creator>Henk Deenik</dc:creator>
  <dc:description/>
  <dc:language>en-US</dc:language>
  <cp:lastModifiedBy>Deenik</cp:lastModifiedBy>
  <cp:lastPrinted>2001-01-05T12:37:35Z</cp:lastPrinted>
  <dcterms:modified xsi:type="dcterms:W3CDTF">2007-06-25T12:21:53Z</dcterms:modified>
  <cp:revision>88</cp:revision>
  <dc:subject/>
  <dc:title>Onderwijsmodule</dc:title>
</cp:coreProperties>
</file>