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A30-CD1D-4357-AD9F-B490C0FE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858-5507-4F54-831C-B48721E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5F7-2DAF-4E97-A3F3-76753A35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94F-D30F-402B-8A90-B0BB34F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6C1-ECDC-4575-A27D-C344229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713-4F08-40AC-BDB0-387BC24B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9ED-57D6-4CAA-9975-BAF6A303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095-168D-42C8-AD4E-5452D8E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12-1285-4008-8714-E35CD9E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284-6312-4480-B67E-182741F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CB0-E125-4C3E-9DE6-88C83FC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2AC-74EA-47DB-AF11-3FEC4FD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939E-2B61-44BB-9E23-DA0DB2FA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 je vija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ijding van 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els aanpakken. (geen water en voe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 aanpakken. Geen blad is geen energie. Vaak maaien of wegpluk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aby’s!! (geen zaad laten vormen; alleen zaadon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kruid in bestra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i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misch. Branden,vriezen, stomen. Blad weg + wortel de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chanisch: borstelen,bosmaaier., uitkrabben. Blad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e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if(zeker eenzaadlobbig monocotyl en tweezaadlobbig dicoty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chanisch: schoffelen, wieden, plukken, uitgrep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e met 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erbloem: grond laat slecht water toe en is verd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ring/weegbree: humus toevoe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: losse, humusrijk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skruid/kleefkruid/zwarte nachtschade: voedselrijke, stikstofhoudend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ardebloem/distel/kruiskruid: pioniers. Losbreken grond dmv penwor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em en 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498680"/>
            <a:ext cx="5543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ad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lik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st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f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nete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008800"/>
            <a:ext cx="853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icatorplant. Planten groeien op (stiktof)rijke gr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inderlokkend. Atalanta, kleine vos en dagpauwoog bezoeken de plant v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eurstof. In de EG toegelaten kleurstof met als code E1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verfstof. Van brandnetelextract maakt men gele of oranje verfst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tbaar.De toppen kun je gebruiken in soep. Maar ook rauw (brandnetelka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meststof. Rijk aan minera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cinaal. Brandnetel is bloedzuiverend en ontwater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bestrijdingsmiddel. Aftreksel is goed middel tegen schimmelziekten en blad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tof. Vroeger maakte men van vezels touw en vislij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werktuig. Brandharen bevatten mierezu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onkru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onkruid verwijd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eft mens nodig om te l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eft een plant nodig om te l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es wortel/stengel/bl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tosyn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49440" y="1268280"/>
            <a:ext cx="4503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208160"/>
            <a:ext cx="67690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ermeerderd een plant zi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76440" y="2324160"/>
            <a:ext cx="4191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ermeerderd onkruid z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zaad. (Gener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groei van plantendelen. (veget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geen voorbeelden noe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stokken. Vb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kjes wortel. Vb kweek, 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ngelvoet penwortel vb 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ende stengel.  Vb 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opers. Kruipend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kru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licht. Grond afdekken met antiworteldoek, bodembedekkers, grind, cocopeat, boomschors, schelpen, asfalteren, bestraten. (dus gesloten verharding, open verharding en halfverhar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kieming: caseron (afsluiting gro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0:29Z</dcterms:created>
  <dc:creator>johan</dc:creator>
  <dc:description/>
  <dc:language>en-US</dc:language>
  <cp:lastModifiedBy>johan</cp:lastModifiedBy>
  <dcterms:modified xsi:type="dcterms:W3CDTF">2008-08-27T21:06:08Z</dcterms:modified>
  <cp:revision>6</cp:revision>
  <dc:subject/>
  <dc:title>Ken je vijand!</dc:title>
</cp:coreProperties>
</file>