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4D8-C095-4B00-8D06-027D9E9A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77C-1A87-4E8A-BCA4-30142F05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AFC-C07B-4C7C-A3A7-BC965A15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3AE-37DC-4CE7-BA1E-3B2C2C90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7B9-E87F-468A-AFEF-85B0EC2D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0AC-49A0-49DC-B153-6595D3DE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DAC-77E5-4636-B6AC-2BAFA593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E45-51E3-462E-BF52-2814B580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44D-0572-4B92-A777-11B72B95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50D-A253-4387-B477-2561C77F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5C8-B930-4582-A29E-1434DA8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33C-0A24-4D73-9D25-B02FDB68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CCC4-3991-46B0-8B4D-8AC8B5FC0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 je vija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ijding van on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tels aanpakken. (geen water en voe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d aanpakken. Geen blad is geen energie. Vaak maaien of wegpluk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baby’s!! (geen zaad laten vormen; alleen zaadonkru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kruid in bestra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i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rmisch. Branden,vriezen, stomen. Blad weg + wortel de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chanisch: borstelen,bosmaaier., uitkrabben. Blad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bepl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if(zeker eenzaadlobbig monocotyl en tweezaadlobbig dicoty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chanisch: schoffelen, wieden, plukken, uitgrep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e met bo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erbloem: grond laat slecht water toe en is verd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ring/weegbree: humus toevoe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: losse, humusrijk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skruid/kleefkruid/zwarte nachtschade: voedselrijke, stikstofhoudend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ardebloem/distel/kruiskruid: pioniers. Losbreken grond dmv penwort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em en 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1498680"/>
            <a:ext cx="5543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ad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klik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urst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f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nete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008800"/>
            <a:ext cx="853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icatorplant. Planten groeien op (stiktof)rijke gr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inderlokkend. Atalanta, kleine vos en dagpauwoog bezoeken de plant va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eurstof. In de EG toegelaten kleurstof met als code E1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verfstof. Van brandnetelextract maakt men gele of oranje verfst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tbaar.De toppen kun je gebruiken in soep. Maar ook rauw (brandnetelka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meststof. Rijk aan minera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icinaal. Brandnetel is bloedzuiverend en ontwater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bestrijdingsmiddel. Aftreksel is goed middel tegen schimmelziekten en bladl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ndstof. Vroeger maakte men van vezels touw en vislij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werktuig. Brandharen bevatten mierezu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onkru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onkruid verwijd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eft mens nodig om te le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eft een plant nodig om te le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es wortel/stengel/bl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tosyn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49440" y="1268280"/>
            <a:ext cx="45039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208160"/>
            <a:ext cx="67690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ermeerderd een plant zi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76440" y="2324160"/>
            <a:ext cx="41911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ermeerderd onkruid zi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a zaad. (Gener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a groei van plantendelen. (veget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geen voorbeelden noe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stokken. Vb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kjes wortel. Vb kweek, 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ngelvoet penwortel vb 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ende stengel.  Vb 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opers. Kruipend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kru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n licht. Grond afdekken met antiworteldoek, bodembedekkers, grind, cocopeat, boomschors, schelpen, asfalteren, bestraten. (dus gesloten verharding, open verharding en halfverhar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n kieming: caseron (afsluiting gro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50:29Z</dcterms:created>
  <dc:creator>johan</dc:creator>
  <dc:description/>
  <dc:language>en-US</dc:language>
  <cp:lastModifiedBy>johan</cp:lastModifiedBy>
  <dcterms:modified xsi:type="dcterms:W3CDTF">2008-08-27T21:06:08Z</dcterms:modified>
  <cp:revision>6</cp:revision>
  <dc:subject/>
  <dc:title>Ken je vijand!</dc:title>
</cp:coreProperties>
</file>