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E7A-50EB-42D4-A6F0-0A23338A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7A9-7F44-4939-ACE8-136AB8F1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B16-C0BC-4276-802D-FC817122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DE9-03FE-4125-B1B6-3784EDA5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BA7-0F4C-4320-B6C0-1DD804AF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AC4-247E-4349-AF16-05999016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E29-C330-465A-8B9D-8B2AF387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E6F-F17B-4A3D-875B-84E165A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C64-6E29-4F52-B924-F4811809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BBA-22BB-44B9-A2DA-11A46938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088-9BE9-4D77-8C06-D747CE6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7AA-E7FF-4115-B395-C7EF0BD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446E-5487-463A-834C-C2BCEF044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Mais_kiemplan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gaz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144468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dbeemd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1422360"/>
            <a:ext cx="5545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85800" y="1413000"/>
            <a:ext cx="5373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v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4723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1395360"/>
            <a:ext cx="56167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golfb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425600"/>
            <a:ext cx="55436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zaadlob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aïs kiemplant met rechts het coleoptylLinks komt het eerste blaadje door het coleoptyl naar buit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" y="2060640"/>
            <a:ext cx="3964320" cy="41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weezaadlobbige kiemplanten van Bladmoes"/>
          <p:cNvPicPr/>
          <p:nvPr/>
        </p:nvPicPr>
        <p:blipFill>
          <a:blip r:embed="rId3"/>
          <a:stretch/>
        </p:blipFill>
        <p:spPr>
          <a:xfrm>
            <a:off x="4716360" y="2803680"/>
            <a:ext cx="3959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1405080"/>
            <a:ext cx="54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kenning van gras 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fam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mb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u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r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frequ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= 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x per jaar = kru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x per jaar is 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groeit gras? Groeip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vormt het snel za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kun je het best inzaa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aak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welke hoogte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laa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hoo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sonderho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i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 + wanne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ten ste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ticut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?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zaa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g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etbalv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adruim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ge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di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kru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soo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uch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 +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m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l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pen (gras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weepen (g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zure gro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n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laag maai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ger 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veel schadu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er meng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ilt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u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weinig luc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nde la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veldku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ctie (sportveld, golf, sierg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seng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8:48Z</dcterms:created>
  <dc:creator>johan</dc:creator>
  <dc:description/>
  <dc:language>en-US</dc:language>
  <cp:lastModifiedBy>johan</cp:lastModifiedBy>
  <dcterms:modified xsi:type="dcterms:W3CDTF">2009-02-19T08:32:10Z</dcterms:modified>
  <cp:revision>5</cp:revision>
  <dc:subject/>
  <dc:title>Gras theorie</dc:title>
</cp:coreProperties>
</file>