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8B11-28D4-4C91-AF79-0419124D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1B5F-8BA5-4D84-9D54-0B7180C7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8B4-4A39-41B9-BA8D-BFF55A08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42D-368F-4C88-9512-6EB05EB0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3BA-6182-41BA-B1C2-0B9AADC0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72B-D059-41A7-AC5C-2B5CEFD3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D08F-E944-4184-BD68-CA61FCC0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162-D855-43C9-8FDD-3B97C949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B72C-2E3B-473D-BE45-1F9E5583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9B8-BA0F-469C-89C1-5EF9E6D8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D1F5-059C-425B-BBC4-37F824A4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210-02B3-4041-8C21-7C6CC9DD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DEB5-37CD-44D1-902A-FA22E9E66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 maa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syst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ssenkooimaa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922560" cy="47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103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oi maaibe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nipt g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voelig voor st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 geen hoog gras maa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celmaa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30240" y="1341360"/>
            <a:ext cx="3803760" cy="453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3175200" cy="3457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31748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g gras maa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voudig in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ibeeld m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ib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1944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g g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oi maaibe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nip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str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epelmaa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4284720" cy="3427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2325600"/>
            <a:ext cx="439272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il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last van stenen, zwerfvu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cht maaibe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37:16Z</dcterms:created>
  <dc:creator>Johan</dc:creator>
  <dc:description/>
  <dc:language>en-US</dc:language>
  <cp:lastModifiedBy>Johan</cp:lastModifiedBy>
  <dcterms:modified xsi:type="dcterms:W3CDTF">2007-03-09T19:17:28Z</dcterms:modified>
  <cp:revision>3</cp:revision>
  <dc:subject/>
  <dc:title>Gras maaien</dc:title>
</cp:coreProperties>
</file>