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9B15-FB11-4CBE-BCF8-5E6FF577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5B53-2712-4A7B-9512-A7B25D78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790C-A27E-4635-B76A-FD243253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07D7-9510-42CC-A1E7-5B7A5B98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18B3-38F3-4502-85B5-7C41510D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B6A5-B784-40F4-AD37-FD4492F8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52CD-D93C-481F-AB63-8B2B4FBB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2169-AC5D-4D3C-AA30-46A5C84C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53B9-15F2-4E06-B002-BC95EF3D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0436-7B94-4436-BBD2-DAFB680D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83CD-F676-4519-803E-B7FAA7B4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9F99-F354-467F-AF37-C7418B8F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1642-6B1F-4F13-A3E8-53CD50C9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26F4-8B8B-4E39-A7D9-0CEA4EAC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41A4-599B-4231-B0CD-0AC990A6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B597-C67D-4DD7-8DB3-12BB7D3D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FC43-3463-4CA7-B0BC-A623EE30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2669-E083-4C3D-A116-E3630ED0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7F3B-185D-439B-A557-B432544E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4B0-CC5C-4EE6-B22E-7FA44585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E2CC-D2D1-48D1-8CE9-2121A3DF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9EFC-F62C-4108-9C08-9F9EDE1A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927D-68BC-45DF-BF03-D2C7D1AC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B54F-9CF5-4E89-B40B-D9464D40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A61B-91AB-434E-9933-F2C745DBAAF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0FFE-4AE7-48D6-9F7C-9E6070F1377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meten van een groot terre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1557360"/>
            <a:ext cx="2519280" cy="2376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723960"/>
            <a:ext cx="3240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alle omtreksma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 een diagona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itwerk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op schaal 1: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eerst de en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daarna de ander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 het niet past: opnieuw me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16360" y="3357360"/>
            <a:ext cx="1008000" cy="122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787640" y="1916280"/>
            <a:ext cx="36036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a nu aan het we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eet het voormalige maisveld op en teken het uit op papi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5:33:35Z</dcterms:created>
  <dc:creator>default</dc:creator>
  <dc:description/>
  <dc:language>en-US</dc:language>
  <cp:lastModifiedBy>default</cp:lastModifiedBy>
  <dcterms:modified xsi:type="dcterms:W3CDTF">2009-09-15T09:29:16Z</dcterms:modified>
  <cp:revision>4</cp:revision>
  <dc:subject/>
  <dc:title>Inmeten van een groot terrein</dc:title>
</cp:coreProperties>
</file>