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315-7AB0-40E4-961D-B2F98C8F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2B5-D002-4C85-A012-EC952E42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8D4-49E2-4C2B-99BB-A884AF56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439-5428-4442-9862-A351D535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81F-0C34-4A9F-AAEA-229211C5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12E-1002-4C8B-8B52-A84770F1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E99-C4CB-4AA7-BBFB-AD374E2C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BD0-E53F-4FAF-A6D8-19C0B29D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C08-E3AA-48DF-A10E-2E7F024C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6F4-87C4-4015-9743-34FE90D3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850-010F-4522-9487-60860F8F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419-B6B2-4AC3-8849-FAE08AA3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5B49-CA5B-41EA-85A7-CE4ADD160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g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e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tergrond 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rwaa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          of           stra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43400" y="2668680"/>
            <a:ext cx="2846520" cy="238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73320" y="2284560"/>
            <a:ext cx="240480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o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: zie sierhe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897280"/>
            <a:ext cx="9144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oeire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e zijkant, dan boven. Waa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beneden naar boven knippen. Waa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4x per jaar. (mei + august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htshand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erbeen tegen h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p voo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jk van afstand naar je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p vlak bij oude snoeiw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ken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ei niet bij warm w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xus verbr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uk, schors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maecyparis loopt niet uit op bruine tak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en met groot blad: gele ran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10:18:46Z</dcterms:created>
  <dc:creator>johan</dc:creator>
  <dc:description/>
  <dc:language>en-US</dc:language>
  <cp:lastModifiedBy>johan</cp:lastModifiedBy>
  <dcterms:modified xsi:type="dcterms:W3CDTF">2009-12-29T10:21:57Z</dcterms:modified>
  <cp:revision>2</cp:revision>
  <dc:subject/>
  <dc:title>Heggen</dc:title>
</cp:coreProperties>
</file>