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682-15BB-43CF-BA39-2216B930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109-0937-4659-8FCA-4F1F9CE9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EA4-0240-403E-A12D-04C1E8D8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53D-B5C9-4B5C-A85D-EE77BC20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CB1-D796-453A-AD75-EB6AAC3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A58-9988-49DC-8EA4-7825AF8E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21A-60C2-4378-802C-21926D2E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1A3-FFE5-4879-A913-800A945F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EEE-0C33-44DA-9DC0-B4EEC374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92B-2FD2-4A14-A5CE-1E72653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675-4018-4BA7-9B6C-75A94E0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13E-BC76-4D51-895C-B7986E3F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0FE0-B84C-431E-A0B5-6FBD88C33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maa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enkooi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22560" cy="47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t g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voelig voor st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geen 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c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30240" y="1341360"/>
            <a:ext cx="3803760" cy="453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175200" cy="345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1748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voudig in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ibeeld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b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tr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p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4284720" cy="342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23256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last van stenen, zwerfv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cht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37:16Z</dcterms:created>
  <dc:creator>Johan</dc:creator>
  <dc:description/>
  <dc:language>en-US</dc:language>
  <cp:lastModifiedBy>Johan</cp:lastModifiedBy>
  <dcterms:modified xsi:type="dcterms:W3CDTF">2007-03-09T19:17:28Z</dcterms:modified>
  <cp:revision>3</cp:revision>
  <dc:subject/>
  <dc:title>Gras maaien</dc:title>
</cp:coreProperties>
</file>