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5384-E5E2-470F-89CA-2E933C9BF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1D45-26C9-4DCE-A090-F8B334CE0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430B-1456-4DBF-9AE5-B84B6D78B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6939-6BA4-4437-B1FA-2B8A1B2CA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62D3-59DA-45B6-9540-2E79A7B47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62C8-B352-414B-BF5E-655A6E9E2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4DBE-875F-4748-8526-3C1E8FB8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0D53-40CD-452C-A813-F6C37BCB2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B987-3263-4F76-8BAA-BC10B1E7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FFD6-4561-4B70-B1DC-C1E5D7C4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84BE-29E7-4EE3-A2B5-82EFC361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2360-2432-4F52-BA2C-7EA777D2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39A1E-7CFC-486A-9037-1B785EBB0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g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no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e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sche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sche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htergrond b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rwaar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00720" y="162864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          of           stra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243400" y="2668680"/>
            <a:ext cx="2846520" cy="2388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273320" y="2284560"/>
            <a:ext cx="240480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no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: zie sierhee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k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2897280"/>
            <a:ext cx="91440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noeireg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e zijkant, dan boven. Waar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n beneden naar boven knippen. Waar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4x per jaar. (mei + august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htshand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hterbeen tegen h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ip voor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jk van afstand naar je w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ip vlak bij oude snoeiw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enkenn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noei niet bij warm we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xus verbra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uk, schorsbr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maecyparis loopt niet uit op bruine takk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en met groot blad: gele ran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9T10:18:46Z</dcterms:created>
  <dc:creator>johan</dc:creator>
  <dc:description/>
  <dc:language>en-US</dc:language>
  <cp:lastModifiedBy>johan</cp:lastModifiedBy>
  <dcterms:modified xsi:type="dcterms:W3CDTF">2009-12-29T10:21:57Z</dcterms:modified>
  <cp:revision>2</cp:revision>
  <dc:subject/>
  <dc:title>Heggen</dc:title>
</cp:coreProperties>
</file>