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985-43C1-4D61-B7F6-77A8FBB1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B7C-1CA3-42E0-A697-79B47762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D71-D8B7-42A9-BCAA-09F698AF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7A3-D32A-417A-A267-EE17FA03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EE8-96FE-47F1-B12F-9CDDBB8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B11-AF3B-4862-A9D9-F81DEE7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738-AE09-4AA5-933C-3B78542A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A4A-88BA-48AC-BFD2-26595758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3DE-ACF7-413B-AFC7-5AFBE19F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40F-8284-4A55-B49F-172D217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146-0E4A-4B79-883C-51EBCC0B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FD5-57A6-49A4-B14B-A8CA02A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90A-EE2F-463A-AAA7-B7A07E25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.bp.blogspot.com/_cW05S5AV1Sg/R90BYC4FSgI/AAAAAAAAATg/u7W3hzreXEY/s320/IMG_0637.JPG&amp;imgrefurl=http://benitabosvelt3dbk.blogspot.com/2008/03/klei-pop-2.html&amp;usg=__RnhAYW4TgVdNxAzRLI-qGrOVkBs=&amp;h=320&amp;w=240&amp;sz=11&amp;hl=nl&amp;start=5&amp;tbnid=bzVBmO9lDR7N1M:&amp;tbnh=118&amp;tbnw=89&amp;prev=/images%3Fq%3Dklei%2Bpop%26hl%3Dnl%26lr%3Dlang_nl%26sa%3DN%26newwindow%3D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628640"/>
            <a:ext cx="1998720" cy="264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413000"/>
            <a:ext cx="2962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4137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62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047760" cy="2019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2747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29:43Z</dcterms:created>
  <dc:creator>schuppert</dc:creator>
  <dc:description/>
  <dc:language>en-US</dc:language>
  <cp:lastModifiedBy>schuppert</cp:lastModifiedBy>
  <dcterms:modified xsi:type="dcterms:W3CDTF">2009-09-08T11:37:25Z</dcterms:modified>
  <cp:revision>2</cp:revision>
  <dc:subject/>
  <dc:title>Grond </dc:title>
</cp:coreProperties>
</file>