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6CD-3CE1-4709-9766-B53890C4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D73-428C-4FA2-958F-632BF9CE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6B9-A874-4156-B48F-3C6FFD2A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76B-7B3C-409D-B02C-1E49742A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458-78FD-4124-A6CD-24CEA942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8BC-C031-4045-886B-7B28EB48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C01-6B05-41C6-B7F7-83AEB240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756-DC76-48F9-9858-E2C9888A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CFD-5098-4A1B-BC01-F0C97275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41E-803B-44F1-ACCA-4BE44CB7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99A-59CE-4BA5-A7A5-93865425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3ED-B470-48B8-8765-B4CC99DB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9FBB-63ED-42FC-8572-3BBA15BD2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1.bp.blogspot.com/_cW05S5AV1Sg/R90BYC4FSgI/AAAAAAAAATg/u7W3hzreXEY/s320/IMG_0637.JPG&amp;imgrefurl=http://benitabosvelt3dbk.blogspot.com/2008/03/klei-pop-2.html&amp;usg=__RnhAYW4TgVdNxAzRLI-qGrOVkBs=&amp;h=320&amp;w=240&amp;sz=11&amp;hl=nl&amp;start=5&amp;tbnid=bzVBmO9lDR7N1M:&amp;tbnh=118&amp;tbnw=89&amp;prev=/images%3Fq%3Dklei%2Bpop%26hl%3Dnl%26lr%3Dlang_nl%26sa%3DN%26newwindow%3D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sc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628640"/>
            <a:ext cx="1998720" cy="2649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71640" y="1413000"/>
            <a:ext cx="2962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41371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6197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62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047760" cy="2019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084720" y="4005360"/>
            <a:ext cx="127476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1:29:43Z</dcterms:created>
  <dc:creator>schuppert</dc:creator>
  <dc:description/>
  <dc:language>en-US</dc:language>
  <cp:lastModifiedBy>schuppert</cp:lastModifiedBy>
  <dcterms:modified xsi:type="dcterms:W3CDTF">2009-09-08T11:37:25Z</dcterms:modified>
  <cp:revision>2</cp:revision>
  <dc:subject/>
  <dc:title>Grond </dc:title>
</cp:coreProperties>
</file>