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applause.wav" ContentType="audio/x-wav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13B-2427-4C49-97C4-487C1BBD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D0D-BE3B-470A-B15B-97D2C7A6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0AF-3F80-4969-8D91-69D351AD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7C9-57F2-4C15-BF88-A3E1B781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939-FBB6-4055-B5D1-1EE07B71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43D-B14C-4AFF-85C2-63BBB83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0C0-58E5-4461-BE40-178F89C3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193-1179-452E-9C5F-6DFC3834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542-B8CE-466C-8CB4-46D736FF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4A6-B85F-4BD7-B396-83AA23A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CC9-4D9F-4CBF-B4A9-6972AF17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F91-2FD9-47EA-A0D7-E056E06C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A27-881C-4523-905F-C9D23CCF4B6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ewegende-plaatjes.net/galerij/buttons/pijlen/Arrowl.gif.html" TargetMode="Externa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6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8.gif"/><Relationship Id="rId12" Type="http://schemas.openxmlformats.org/officeDocument/2006/relationships/image" Target="../media/image11.gif"/><Relationship Id="rId13" Type="http://schemas.openxmlformats.org/officeDocument/2006/relationships/image" Target="../media/image7.gif"/><Relationship Id="rId14" Type="http://schemas.openxmlformats.org/officeDocument/2006/relationships/image" Target="../media/image12.gif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Persoonsvorm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320" y="2500200"/>
            <a:ext cx="77151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Belangrijk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pelling van werkwoor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Leren van andere tal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Arrow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714760"/>
            <a:ext cx="2171880" cy="45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rrowr.gif"/>
          <p:cNvPicPr/>
          <p:nvPr/>
        </p:nvPicPr>
        <p:blipFill>
          <a:blip r:embed="rId3"/>
          <a:stretch/>
        </p:blipFill>
        <p:spPr>
          <a:xfrm>
            <a:off x="928800" y="2629080"/>
            <a:ext cx="235728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i="1" lang="nl-NL" sz="2800" spc="-1" strike="noStrike">
                <a:solidFill>
                  <a:srgbClr val="ffffff"/>
                </a:solidFill>
                <a:latin typeface="Calibri"/>
              </a:rPr>
              <a:t>Tussenstapj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2640" y="3142800"/>
            <a:ext cx="7543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ets wat je kunt do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zwemmen, vallen, hebben, zijn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e kunt een werkwoord vervoe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(combineren met ik/jij/wij, waardoor het werkwoord een andere vorm krijgt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285840" y="33577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85840" y="50720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dina24.nl/Animatie%20Letters/Treintje.gif"/>
          <p:cNvPicPr/>
          <p:nvPr/>
        </p:nvPicPr>
        <p:blipFill>
          <a:blip r:embed="rId3"/>
          <a:stretch/>
        </p:blipFill>
        <p:spPr>
          <a:xfrm>
            <a:off x="1571760" y="1643040"/>
            <a:ext cx="1147680" cy="676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www.dina24.nl/Animatie%20Letters/Treintje_23.gif"/>
          <p:cNvPicPr/>
          <p:nvPr/>
        </p:nvPicPr>
        <p:blipFill>
          <a:blip r:embed="rId4"/>
          <a:stretch/>
        </p:blipFill>
        <p:spPr>
          <a:xfrm>
            <a:off x="2571840" y="1500120"/>
            <a:ext cx="571320" cy="781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dina24.nl/Animatie%20Letters/Treintje_9.gif"/>
          <p:cNvPicPr/>
          <p:nvPr/>
        </p:nvPicPr>
        <p:blipFill>
          <a:blip r:embed="rId5"/>
          <a:stretch/>
        </p:blipFill>
        <p:spPr>
          <a:xfrm>
            <a:off x="307188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dina24.nl/Animatie%20Letters/Treintje_12.gif"/>
          <p:cNvPicPr/>
          <p:nvPr/>
        </p:nvPicPr>
        <p:blipFill>
          <a:blip r:embed="rId6"/>
          <a:stretch/>
        </p:blipFill>
        <p:spPr>
          <a:xfrm>
            <a:off x="3500280" y="1571760"/>
            <a:ext cx="500400" cy="69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ttp://www.dina24.nl/Animatie%20Letters/Treintje_14.gif"/>
          <p:cNvPicPr/>
          <p:nvPr/>
        </p:nvPicPr>
        <p:blipFill>
          <a:blip r:embed="rId7"/>
          <a:stretch/>
        </p:blipFill>
        <p:spPr>
          <a:xfrm>
            <a:off x="39290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www.dina24.nl/Animatie%20Letters/Treintje_23.gif"/>
          <p:cNvPicPr/>
          <p:nvPr/>
        </p:nvPicPr>
        <p:blipFill>
          <a:blip r:embed="rId8"/>
          <a:stretch/>
        </p:blipFill>
        <p:spPr>
          <a:xfrm>
            <a:off x="4357800" y="1500120"/>
            <a:ext cx="571320" cy="727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http://www.dina24.nl/Animatie%20Letters/Treintje_10.gif"/>
          <p:cNvPicPr/>
          <p:nvPr/>
        </p:nvPicPr>
        <p:blipFill>
          <a:blip r:embed="rId9"/>
          <a:stretch/>
        </p:blipFill>
        <p:spPr>
          <a:xfrm>
            <a:off x="48578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dina24.nl/Animatie%20Letters/Treintje_10.gif"/>
          <p:cNvPicPr/>
          <p:nvPr/>
        </p:nvPicPr>
        <p:blipFill>
          <a:blip r:embed="rId10"/>
          <a:stretch/>
        </p:blipFill>
        <p:spPr>
          <a:xfrm>
            <a:off x="5286240" y="1571760"/>
            <a:ext cx="500040" cy="6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http://www.dina24.nl/Animatie%20Letters/Treintje_12.gif"/>
          <p:cNvPicPr/>
          <p:nvPr/>
        </p:nvPicPr>
        <p:blipFill>
          <a:blip r:embed="rId11"/>
          <a:stretch/>
        </p:blipFill>
        <p:spPr>
          <a:xfrm>
            <a:off x="5715000" y="1571760"/>
            <a:ext cx="500040" cy="69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www.dina24.nl/Animatie%20Letters/Treintje_4.gif"/>
          <p:cNvPicPr/>
          <p:nvPr/>
        </p:nvPicPr>
        <p:blipFill>
          <a:blip r:embed="rId12"/>
          <a:stretch/>
        </p:blipFill>
        <p:spPr>
          <a:xfrm>
            <a:off x="6143760" y="1571760"/>
            <a:ext cx="546120" cy="695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http://www.dina24.nl/Animatie%20Letters/Treintje_9.gif"/>
          <p:cNvPicPr/>
          <p:nvPr/>
        </p:nvPicPr>
        <p:blipFill>
          <a:blip r:embed="rId13"/>
          <a:stretch/>
        </p:blipFill>
        <p:spPr>
          <a:xfrm>
            <a:off x="6572160" y="1643040"/>
            <a:ext cx="470160" cy="65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http://www.dina24.nl/Animatie%20Letters/Treintje_17.gif"/>
          <p:cNvPicPr/>
          <p:nvPr/>
        </p:nvPicPr>
        <p:blipFill>
          <a:blip r:embed="rId14"/>
          <a:stretch/>
        </p:blipFill>
        <p:spPr>
          <a:xfrm>
            <a:off x="6929280" y="1571760"/>
            <a:ext cx="50040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s  </a:t>
            </a:r>
            <a:r>
              <a:rPr b="1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ALTIJD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en werkwoor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ft de actie aan in  een z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oort bij het onderwerp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animatieplaatjes.nl/plaatjesP/pijlen.gif"/>
          <p:cNvPicPr/>
          <p:nvPr/>
        </p:nvPicPr>
        <p:blipFill>
          <a:blip r:embed="rId1"/>
          <a:stretch/>
        </p:blipFill>
        <p:spPr>
          <a:xfrm>
            <a:off x="642960" y="235728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571680" y="350028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642960" y="4643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www.disneyplaatjes.nl/donald_duck/donald45.gif"/>
          <p:cNvPicPr/>
          <p:nvPr/>
        </p:nvPicPr>
        <p:blipFill>
          <a:blip r:embed="rId4"/>
          <a:stretch/>
        </p:blipFill>
        <p:spPr>
          <a:xfrm>
            <a:off x="6929280" y="4808520"/>
            <a:ext cx="193680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31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Hoe vinden we hem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28800" y="1571760"/>
            <a:ext cx="76867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vraagproef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Morgen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naar de nieuwe lachfilm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Gaa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we morgen naar de nieuwe lachfil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tijdproef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was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Vorige maand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ik zie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ia de getalproe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Ik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Jullie </a:t>
            </a:r>
            <a:r>
              <a:rPr b="0" lang="nl-NL" sz="2400" spc="-1" strike="noStrike" u="sng">
                <a:solidFill>
                  <a:srgbClr val="eeece1"/>
                </a:solidFill>
                <a:uFillTx/>
                <a:latin typeface="Calibri"/>
              </a:rPr>
              <a:t>hebben</a:t>
            </a:r>
            <a:r>
              <a:rPr b="0" lang="nl-NL" sz="2400" spc="-1" strike="noStrike">
                <a:solidFill>
                  <a:srgbClr val="eeece1"/>
                </a:solidFill>
                <a:latin typeface="Calibri"/>
              </a:rPr>
              <a:t> een leuk bijbaant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6" descr="http://beelden.gifmania.nl/Gif-Animaties-Geanimeerde-Letters/Beelden-Animaties-Leesteken/Gifplaatjes-Vraagteken/question-mark13.gif"/>
          <p:cNvPicPr/>
          <p:nvPr/>
        </p:nvPicPr>
        <p:blipFill>
          <a:blip r:embed="rId1"/>
          <a:stretch/>
        </p:blipFill>
        <p:spPr>
          <a:xfrm>
            <a:off x="8286840" y="214200"/>
            <a:ext cx="571320" cy="116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www.animatieplaatjes.nl/plaatjesP/pijlen.gif"/>
          <p:cNvPicPr/>
          <p:nvPr/>
        </p:nvPicPr>
        <p:blipFill>
          <a:blip r:embed="rId2"/>
          <a:stretch/>
        </p:blipFill>
        <p:spPr>
          <a:xfrm>
            <a:off x="214200" y="178596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animatieplaatjes.nl/plaatjesP/pijlen.gif"/>
          <p:cNvPicPr/>
          <p:nvPr/>
        </p:nvPicPr>
        <p:blipFill>
          <a:blip r:embed="rId3"/>
          <a:stretch/>
        </p:blipFill>
        <p:spPr>
          <a:xfrm>
            <a:off x="214200" y="3143160"/>
            <a:ext cx="571680" cy="5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ww.animatieplaatjes.nl/plaatjesP/pijlen.gif"/>
          <p:cNvPicPr/>
          <p:nvPr/>
        </p:nvPicPr>
        <p:blipFill>
          <a:blip r:embed="rId4"/>
          <a:stretch/>
        </p:blipFill>
        <p:spPr>
          <a:xfrm>
            <a:off x="285840" y="521496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beelden.gifmania.nl/Gif-Animaties-Geanimeerde-Letters/Beelden-Animaties-Leesteken/Gifplaatjes-Vraagteken/question-mark103.gif"/>
          <p:cNvPicPr/>
          <p:nvPr/>
        </p:nvPicPr>
        <p:blipFill>
          <a:blip r:embed="rId5"/>
          <a:stretch/>
        </p:blipFill>
        <p:spPr>
          <a:xfrm>
            <a:off x="4000680" y="1500120"/>
            <a:ext cx="22536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http://www.animatieplaatjes.nl/plaatjesK/klokken17.gif"/>
          <p:cNvPicPr/>
          <p:nvPr/>
        </p:nvPicPr>
        <p:blipFill>
          <a:blip r:embed="rId6"/>
          <a:stretch/>
        </p:blipFill>
        <p:spPr>
          <a:xfrm>
            <a:off x="3714840" y="29289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www.animatieplaatjes.nl/plaatjesC/cijfers31.gif"/>
          <p:cNvPicPr/>
          <p:nvPr/>
        </p:nvPicPr>
        <p:blipFill>
          <a:blip r:embed="rId7"/>
          <a:stretch/>
        </p:blipFill>
        <p:spPr>
          <a:xfrm>
            <a:off x="4143240" y="5214960"/>
            <a:ext cx="147600" cy="357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www.animatieplaatjes.nl/plaatjesC/cijfers32.gif"/>
          <p:cNvPicPr/>
          <p:nvPr/>
        </p:nvPicPr>
        <p:blipFill>
          <a:blip r:embed="rId8"/>
          <a:stretch/>
        </p:blipFill>
        <p:spPr>
          <a:xfrm>
            <a:off x="4643280" y="5214960"/>
            <a:ext cx="265320" cy="3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http://beelden.gifmania.nl/Gif-Animaties-Geanimeerde-Letters/Beelden-Animaties-Leesteken/Gifplaatjes-Plus/plus-sign6.gif"/>
          <p:cNvPicPr/>
          <p:nvPr/>
        </p:nvPicPr>
        <p:blipFill>
          <a:blip r:embed="rId9"/>
          <a:stretch/>
        </p:blipFill>
        <p:spPr>
          <a:xfrm>
            <a:off x="4286160" y="5000760"/>
            <a:ext cx="38124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3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6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efene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00080" y="2286000"/>
            <a:ext cx="768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e computer mag op haar kamer staa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at apparaat heeft veel geld gekos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ijn vader en moeder hebben mij op mij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verjaardag erg verwe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bz00027.gif"/>
          <p:cNvPicPr/>
          <p:nvPr/>
        </p:nvPicPr>
        <p:blipFill>
          <a:blip r:embed="rId1"/>
          <a:stretch/>
        </p:blipFill>
        <p:spPr>
          <a:xfrm>
            <a:off x="214200" y="20001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bz00028.gif"/>
          <p:cNvPicPr/>
          <p:nvPr/>
        </p:nvPicPr>
        <p:blipFill>
          <a:blip r:embed="rId2"/>
          <a:stretch/>
        </p:blipFill>
        <p:spPr>
          <a:xfrm>
            <a:off x="285840" y="3786120"/>
            <a:ext cx="785880" cy="785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z00029.gif"/>
          <p:cNvPicPr/>
          <p:nvPr/>
        </p:nvPicPr>
        <p:blipFill>
          <a:blip r:embed="rId3"/>
          <a:stretch/>
        </p:blipFill>
        <p:spPr>
          <a:xfrm>
            <a:off x="357120" y="5286240"/>
            <a:ext cx="7858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3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9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Nu jij!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214560" y="1428840"/>
            <a:ext cx="89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ondeugende jongetjes boden oom Pieter e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lap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vriendelijke man bedankte de ventjes hartelij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tevreden gezicht stak hij de sigaar a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Met een harde knal knapte de sigaar even later uit elkaa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De jongens hadden zich inmiddels achter in de tu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erstop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Zulke grappen kunnen behoorlijk gevaarlijk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Voor straf moesten de jongens de hele middag in hu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ffffff"/>
                </a:solidFill>
                <a:latin typeface="Calibri"/>
              </a:rPr>
              <a:t>kamer blijv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www.1polly.nl/donaldduckani/gpalaced43-.gif"/>
          <p:cNvPicPr/>
          <p:nvPr/>
        </p:nvPicPr>
        <p:blipFill>
          <a:blip r:embed="rId1"/>
          <a:stretch/>
        </p:blipFill>
        <p:spPr>
          <a:xfrm>
            <a:off x="7643880" y="214200"/>
            <a:ext cx="128592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Persoonsvorm</a:t>
            </a:r>
            <a:br>
              <a:rPr sz="4000"/>
            </a:b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Snap je h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55717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Succes met het leren van de toe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leuke en gratis Donald Duck animaties"/>
          <p:cNvPicPr/>
          <p:nvPr/>
        </p:nvPicPr>
        <p:blipFill>
          <a:blip r:embed="rId1"/>
          <a:stretch/>
        </p:blipFill>
        <p:spPr>
          <a:xfrm>
            <a:off x="3286080" y="2143080"/>
            <a:ext cx="264312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4:09Z</dcterms:created>
  <dc:creator>Gea</dc:creator>
  <dc:description/>
  <dc:language>en-US</dc:language>
  <cp:lastModifiedBy>linde college</cp:lastModifiedBy>
  <dcterms:modified xsi:type="dcterms:W3CDTF">2011-02-07T14:16:25Z</dcterms:modified>
  <cp:revision>18</cp:revision>
  <dc:subject/>
  <dc:title>Dia 1</dc:title>
</cp:coreProperties>
</file>