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5.gif" ContentType="image/gif"/>
  <Override PartName="/ppt/media/image4.gif" ContentType="image/gif"/>
  <Override PartName="/ppt/media/image1.jpeg" ContentType="image/jpeg"/>
  <Override PartName="/ppt/media/image3.gif" ContentType="image/gif"/>
  <Override PartName="/ppt/media/applause.wav" ContentType="audio/x-wav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BB3-4D63-43F0-A266-D71C3085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F46A-5D9F-4FB9-BB8C-225047A2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ABB-BCC5-4113-9002-1D748E42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1785-D396-450F-81F3-7A738187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B2C7-9FA7-4E15-AB6C-BECCCAF1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C7C-164F-4D01-AEAF-94A9B2AC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AE7-55FD-497F-9FB1-9FB83CC2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86F0-03BC-48E5-A2A8-D213371B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CF43-7058-4402-8745-66000416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C86-605D-4D11-8C57-7DA6B782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4E5E-5A3F-4425-83A4-BBA5FF0A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9D1C-EBE4-4211-B590-BE840C90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C38A-6A7E-4F72-B6E2-A65A5B05E9E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ewegende-plaatjes.net/galerij/buttons/pijlen/Arrowl.gif.html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6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8.gif"/><Relationship Id="rId12" Type="http://schemas.openxmlformats.org/officeDocument/2006/relationships/image" Target="../media/image11.gif"/><Relationship Id="rId13" Type="http://schemas.openxmlformats.org/officeDocument/2006/relationships/image" Target="../media/image7.gif"/><Relationship Id="rId14" Type="http://schemas.openxmlformats.org/officeDocument/2006/relationships/image" Target="../media/image12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Persoonsvor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2500200"/>
            <a:ext cx="77151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Belangrijk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pelling van werkwoor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Leren van andere tal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8" descr="Arrowl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714760"/>
            <a:ext cx="2171880" cy="45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rrowr.gif"/>
          <p:cNvPicPr/>
          <p:nvPr/>
        </p:nvPicPr>
        <p:blipFill>
          <a:blip r:embed="rId3"/>
          <a:stretch/>
        </p:blipFill>
        <p:spPr>
          <a:xfrm>
            <a:off x="928800" y="2629080"/>
            <a:ext cx="235728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i="1" lang="nl-NL" sz="2800" spc="-1" strike="noStrike">
                <a:solidFill>
                  <a:srgbClr val="ffffff"/>
                </a:solidFill>
                <a:latin typeface="Calibri"/>
              </a:rPr>
              <a:t>Tussenstapj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2640" y="3142800"/>
            <a:ext cx="7543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ets wat je kunt do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(zwemmen, vallen, hebben, zijn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je kunt een werkwoord vervoe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(combineren met ik/jij/wij, waardoor het werkwoord een andere vorm krijg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http://www.animatieplaatjes.nl/plaatjesP/pijlen.gif"/>
          <p:cNvPicPr/>
          <p:nvPr/>
        </p:nvPicPr>
        <p:blipFill>
          <a:blip r:embed="rId1"/>
          <a:stretch/>
        </p:blipFill>
        <p:spPr>
          <a:xfrm>
            <a:off x="285840" y="33577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285840" y="50720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www.dina24.nl/Animatie%20Letters/Treintje.gif"/>
          <p:cNvPicPr/>
          <p:nvPr/>
        </p:nvPicPr>
        <p:blipFill>
          <a:blip r:embed="rId3"/>
          <a:stretch/>
        </p:blipFill>
        <p:spPr>
          <a:xfrm>
            <a:off x="1571760" y="1643040"/>
            <a:ext cx="1147680" cy="676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www.dina24.nl/Animatie%20Letters/Treintje_23.gif"/>
          <p:cNvPicPr/>
          <p:nvPr/>
        </p:nvPicPr>
        <p:blipFill>
          <a:blip r:embed="rId4"/>
          <a:stretch/>
        </p:blipFill>
        <p:spPr>
          <a:xfrm>
            <a:off x="2571840" y="1500120"/>
            <a:ext cx="571320" cy="781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dina24.nl/Animatie%20Letters/Treintje_9.gif"/>
          <p:cNvPicPr/>
          <p:nvPr/>
        </p:nvPicPr>
        <p:blipFill>
          <a:blip r:embed="rId5"/>
          <a:stretch/>
        </p:blipFill>
        <p:spPr>
          <a:xfrm>
            <a:off x="3071880" y="1571760"/>
            <a:ext cx="500040" cy="69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dina24.nl/Animatie%20Letters/Treintje_12.gif"/>
          <p:cNvPicPr/>
          <p:nvPr/>
        </p:nvPicPr>
        <p:blipFill>
          <a:blip r:embed="rId6"/>
          <a:stretch/>
        </p:blipFill>
        <p:spPr>
          <a:xfrm>
            <a:off x="3500280" y="1571760"/>
            <a:ext cx="500400" cy="69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www.dina24.nl/Animatie%20Letters/Treintje_14.gif"/>
          <p:cNvPicPr/>
          <p:nvPr/>
        </p:nvPicPr>
        <p:blipFill>
          <a:blip r:embed="rId7"/>
          <a:stretch/>
        </p:blipFill>
        <p:spPr>
          <a:xfrm>
            <a:off x="39290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dina24.nl/Animatie%20Letters/Treintje_23.gif"/>
          <p:cNvPicPr/>
          <p:nvPr/>
        </p:nvPicPr>
        <p:blipFill>
          <a:blip r:embed="rId8"/>
          <a:stretch/>
        </p:blipFill>
        <p:spPr>
          <a:xfrm>
            <a:off x="4357800" y="1500120"/>
            <a:ext cx="571320" cy="72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ttp://www.dina24.nl/Animatie%20Letters/Treintje_10.gif"/>
          <p:cNvPicPr/>
          <p:nvPr/>
        </p:nvPicPr>
        <p:blipFill>
          <a:blip r:embed="rId9"/>
          <a:stretch/>
        </p:blipFill>
        <p:spPr>
          <a:xfrm>
            <a:off x="48578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www.dina24.nl/Animatie%20Letters/Treintje_10.gif"/>
          <p:cNvPicPr/>
          <p:nvPr/>
        </p:nvPicPr>
        <p:blipFill>
          <a:blip r:embed="rId10"/>
          <a:stretch/>
        </p:blipFill>
        <p:spPr>
          <a:xfrm>
            <a:off x="52862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http://www.dina24.nl/Animatie%20Letters/Treintje_12.gif"/>
          <p:cNvPicPr/>
          <p:nvPr/>
        </p:nvPicPr>
        <p:blipFill>
          <a:blip r:embed="rId11"/>
          <a:stretch/>
        </p:blipFill>
        <p:spPr>
          <a:xfrm>
            <a:off x="5715000" y="1571760"/>
            <a:ext cx="500040" cy="69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http://www.dina24.nl/Animatie%20Letters/Treintje_4.gif"/>
          <p:cNvPicPr/>
          <p:nvPr/>
        </p:nvPicPr>
        <p:blipFill>
          <a:blip r:embed="rId12"/>
          <a:stretch/>
        </p:blipFill>
        <p:spPr>
          <a:xfrm>
            <a:off x="6143760" y="1571760"/>
            <a:ext cx="546120" cy="695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dina24.nl/Animatie%20Letters/Treintje_9.gif"/>
          <p:cNvPicPr/>
          <p:nvPr/>
        </p:nvPicPr>
        <p:blipFill>
          <a:blip r:embed="rId13"/>
          <a:stretch/>
        </p:blipFill>
        <p:spPr>
          <a:xfrm>
            <a:off x="6572160" y="1643040"/>
            <a:ext cx="470160" cy="65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http://www.dina24.nl/Animatie%20Letters/Treintje_17.gif"/>
          <p:cNvPicPr/>
          <p:nvPr/>
        </p:nvPicPr>
        <p:blipFill>
          <a:blip r:embed="rId14"/>
          <a:stretch/>
        </p:blipFill>
        <p:spPr>
          <a:xfrm>
            <a:off x="6929280" y="1571760"/>
            <a:ext cx="5004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s  </a:t>
            </a:r>
            <a:r>
              <a:rPr b="1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LTIJD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en werkwoor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geeft de actie aan in  een zi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hoort bij het onderwerp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http://www.animatieplaatjes.nl/plaatjesP/pijlen.gif"/>
          <p:cNvPicPr/>
          <p:nvPr/>
        </p:nvPicPr>
        <p:blipFill>
          <a:blip r:embed="rId1"/>
          <a:stretch/>
        </p:blipFill>
        <p:spPr>
          <a:xfrm>
            <a:off x="642960" y="23572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571680" y="3500280"/>
            <a:ext cx="642600" cy="64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animatieplaatjes.nl/plaatjesP/pijlen.gif"/>
          <p:cNvPicPr/>
          <p:nvPr/>
        </p:nvPicPr>
        <p:blipFill>
          <a:blip r:embed="rId3"/>
          <a:stretch/>
        </p:blipFill>
        <p:spPr>
          <a:xfrm>
            <a:off x="642960" y="4643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ttp://www.disneyplaatjes.nl/donald_duck/donald45.gif"/>
          <p:cNvPicPr/>
          <p:nvPr/>
        </p:nvPicPr>
        <p:blipFill>
          <a:blip r:embed="rId4"/>
          <a:stretch/>
        </p:blipFill>
        <p:spPr>
          <a:xfrm>
            <a:off x="6929280" y="4808520"/>
            <a:ext cx="19368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31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Hoe vinden we hem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28800" y="1571760"/>
            <a:ext cx="76867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vraagproef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Morgen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gaa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we naar de nieuwe lachfilm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Gaa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we morgen naar de nieuwe lachfil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tijdproef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Vorige maand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was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ik ziek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Vorige maand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be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ik ziek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getalproe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Ik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heb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een leuk bijbaantj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Jullie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hebbe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een leuk bijbaant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6" descr="http://beelden.gifmania.nl/Gif-Animaties-Geanimeerde-Letters/Beelden-Animaties-Leesteken/Gifplaatjes-Vraagteken/question-mark13.gif"/>
          <p:cNvPicPr/>
          <p:nvPr/>
        </p:nvPicPr>
        <p:blipFill>
          <a:blip r:embed="rId1"/>
          <a:stretch/>
        </p:blipFill>
        <p:spPr>
          <a:xfrm>
            <a:off x="8286840" y="214200"/>
            <a:ext cx="571320" cy="1166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214200" y="17859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www.animatieplaatjes.nl/plaatjesP/pijlen.gif"/>
          <p:cNvPicPr/>
          <p:nvPr/>
        </p:nvPicPr>
        <p:blipFill>
          <a:blip r:embed="rId3"/>
          <a:stretch/>
        </p:blipFill>
        <p:spPr>
          <a:xfrm>
            <a:off x="214200" y="31431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animatieplaatjes.nl/plaatjesP/pijlen.gif"/>
          <p:cNvPicPr/>
          <p:nvPr/>
        </p:nvPicPr>
        <p:blipFill>
          <a:blip r:embed="rId4"/>
          <a:stretch/>
        </p:blipFill>
        <p:spPr>
          <a:xfrm>
            <a:off x="285840" y="5214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beelden.gifmania.nl/Gif-Animaties-Geanimeerde-Letters/Beelden-Animaties-Leesteken/Gifplaatjes-Vraagteken/question-mark103.gif"/>
          <p:cNvPicPr/>
          <p:nvPr/>
        </p:nvPicPr>
        <p:blipFill>
          <a:blip r:embed="rId5"/>
          <a:stretch/>
        </p:blipFill>
        <p:spPr>
          <a:xfrm>
            <a:off x="4000680" y="1500120"/>
            <a:ext cx="225360" cy="571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animatieplaatjes.nl/plaatjesK/klokken17.gif"/>
          <p:cNvPicPr/>
          <p:nvPr/>
        </p:nvPicPr>
        <p:blipFill>
          <a:blip r:embed="rId6"/>
          <a:stretch/>
        </p:blipFill>
        <p:spPr>
          <a:xfrm>
            <a:off x="3714840" y="29289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http://www.animatieplaatjes.nl/plaatjesC/cijfers31.gif"/>
          <p:cNvPicPr/>
          <p:nvPr/>
        </p:nvPicPr>
        <p:blipFill>
          <a:blip r:embed="rId7"/>
          <a:stretch/>
        </p:blipFill>
        <p:spPr>
          <a:xfrm>
            <a:off x="4143240" y="5214960"/>
            <a:ext cx="147600" cy="357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www.animatieplaatjes.nl/plaatjesC/cijfers32.gif"/>
          <p:cNvPicPr/>
          <p:nvPr/>
        </p:nvPicPr>
        <p:blipFill>
          <a:blip r:embed="rId8"/>
          <a:stretch/>
        </p:blipFill>
        <p:spPr>
          <a:xfrm>
            <a:off x="4643280" y="5214960"/>
            <a:ext cx="265320" cy="3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http://beelden.gifmania.nl/Gif-Animaties-Geanimeerde-Letters/Beelden-Animaties-Leesteken/Gifplaatjes-Plus/plus-sign6.gif"/>
          <p:cNvPicPr/>
          <p:nvPr/>
        </p:nvPicPr>
        <p:blipFill>
          <a:blip r:embed="rId9"/>
          <a:stretch/>
        </p:blipFill>
        <p:spPr>
          <a:xfrm>
            <a:off x="4286160" y="5000760"/>
            <a:ext cx="38124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3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4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efen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00080" y="2286000"/>
            <a:ext cx="7686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e computer mag op haar kamer staa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at apparaat heeft veel geld geko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Mijn vader en moeder hebben mij op mij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erjaardag erg verwen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bz00027.gif"/>
          <p:cNvPicPr/>
          <p:nvPr/>
        </p:nvPicPr>
        <p:blipFill>
          <a:blip r:embed="rId1"/>
          <a:stretch/>
        </p:blipFill>
        <p:spPr>
          <a:xfrm>
            <a:off x="21420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bz00028.gif"/>
          <p:cNvPicPr/>
          <p:nvPr/>
        </p:nvPicPr>
        <p:blipFill>
          <a:blip r:embed="rId2"/>
          <a:stretch/>
        </p:blipFill>
        <p:spPr>
          <a:xfrm>
            <a:off x="285840" y="3786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bz00029.gif"/>
          <p:cNvPicPr/>
          <p:nvPr/>
        </p:nvPicPr>
        <p:blipFill>
          <a:blip r:embed="rId3"/>
          <a:stretch/>
        </p:blipFill>
        <p:spPr>
          <a:xfrm>
            <a:off x="357120" y="528624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3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4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Nu jij!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214560" y="1428840"/>
            <a:ext cx="89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ondeugende jongetjes boden oom Pieter e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klapsigaar a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vriendelijke man bedankte de ventjes hartelij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Met een tevreden gezicht stak hij de sigaar a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Met een harde knal knapte de sigaar even later uit elkaa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jongens hadden zich inmiddels achter in de tui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verstop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Zulke grappen kunnen behoorlijk gevaarlijk zij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Voor straf moesten de jongens de hele middag in hu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kamer blijv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2" descr="http://www.1polly.nl/donaldduckani/gpalaced43-.gif"/>
          <p:cNvPicPr/>
          <p:nvPr/>
        </p:nvPicPr>
        <p:blipFill>
          <a:blip r:embed="rId1"/>
          <a:stretch/>
        </p:blipFill>
        <p:spPr>
          <a:xfrm>
            <a:off x="7643880" y="214200"/>
            <a:ext cx="12859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Snap je het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55717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ucces met het leren van de toe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leuke en gratis Donald Duck animaties"/>
          <p:cNvPicPr/>
          <p:nvPr/>
        </p:nvPicPr>
        <p:blipFill>
          <a:blip r:embed="rId1"/>
          <a:stretch/>
        </p:blipFill>
        <p:spPr>
          <a:xfrm>
            <a:off x="3286080" y="2143080"/>
            <a:ext cx="2643120" cy="298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4:54:09Z</dcterms:created>
  <dc:creator>Gea</dc:creator>
  <dc:description/>
  <dc:language>en-US</dc:language>
  <cp:lastModifiedBy>linde college</cp:lastModifiedBy>
  <dcterms:modified xsi:type="dcterms:W3CDTF">2011-02-07T14:16:25Z</dcterms:modified>
  <cp:revision>18</cp:revision>
  <dc:subject/>
  <dc:title>Dia 1</dc:title>
</cp:coreProperties>
</file>