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8.jpeg" ContentType="image/jpeg"/>
  <Override PartName="/ppt/media/image23.wmf" ContentType="image/x-wmf"/>
  <Override PartName="/ppt/media/image27.jpeg" ContentType="image/jpeg"/>
  <Override PartName="/ppt/media/image21.jpeg" ContentType="image/jpeg"/>
  <Override PartName="/ppt/media/image20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8.png" ContentType="image/png"/>
  <Override PartName="/ppt/media/image14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26.jpeg" ContentType="image/jpeg"/>
  <Override PartName="/ppt/media/image17.jpeg" ContentType="image/jpeg"/>
  <Override PartName="/ppt/media/image5.jpeg" ContentType="image/jpeg"/>
  <Override PartName="/ppt/media/image11.wmf" ContentType="image/x-wmf"/>
  <Override PartName="/ppt/media/image33.jpeg" ContentType="image/jpeg"/>
  <Override PartName="/ppt/media/image12.jpeg" ContentType="image/jpeg"/>
  <Override PartName="/ppt/media/image34.wmf" ContentType="image/x-wmf"/>
  <Override PartName="/ppt/media/image31.jpeg" ContentType="image/jpeg"/>
  <Override PartName="/ppt/media/image10.wmf" ContentType="image/x-wmf"/>
  <Override PartName="/ppt/media/image4.jpeg" ContentType="image/jpeg"/>
  <Override PartName="/ppt/media/image25.jpeg" ContentType="image/jpeg"/>
  <Override PartName="/ppt/media/image6.png" ContentType="image/png"/>
  <Override PartName="/ppt/media/image2.jpeg" ContentType="image/jpeg"/>
  <Override PartName="/ppt/media/image15.jpeg" ContentType="image/jpeg"/>
  <Override PartName="/ppt/media/image35.wmf" ContentType="image/x-wmf"/>
  <Override PartName="/ppt/media/image16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C24A-F2BC-483F-B0FD-F9EB77FC5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DF15-2A94-45A2-B2BB-8128503C7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D8D3-DB5B-48E6-9883-1A649501B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DC21-6AC7-416C-BAE4-6046648EF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7B24-964F-4255-BCF0-A1A003F1F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F059-F04A-4ECD-AED1-BE463036F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E720-4559-466D-A045-EBA9AF2F5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987C-32CA-4B47-AB9F-A581D3B35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E962-D727-4DC4-AFEC-2B416216B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734C-8DEF-4EF3-B6C3-6AFEA8F9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99D7-6101-4E49-B9F0-8E73103B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027A-9C9F-4DB9-8662-ADA2AD26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03968-6860-4E41-9119-B2167925E24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dezeure.be/img/fotos/beertonnen/Dec11_03.jpg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m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755964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rdringer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835280" y="1468440"/>
            <a:ext cx="550836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ifugaal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6516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ifugaal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84360" y="1484280"/>
            <a:ext cx="784836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t- en regelge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deling per 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eluchting grasz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inder vervlieging van voedingsstoffen, minder kunstm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een versmering van gewa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inder geuroverl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me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denbeme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uwland-inject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odenbeme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952640"/>
            <a:ext cx="822960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odenbeme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3168360" cy="3132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50920" y="5013360"/>
            <a:ext cx="324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Doorsnee van 250 mm en een dikte v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2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4572000" y="1557360"/>
            <a:ext cx="4105440" cy="26668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4284720" y="4292640"/>
            <a:ext cx="45352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uwland-inject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26920" y="1401840"/>
            <a:ext cx="752508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uwland-inject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4643280" cy="3095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643280" y="3857760"/>
            <a:ext cx="45007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uwland-injecteu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4572000" cy="33163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572000" y="3543480"/>
            <a:ext cx="457200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h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oorten giert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m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ject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me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leepsl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derne techni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almeststroo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eepsl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55640" y="1401840"/>
            <a:ext cx="752472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eepsl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4500720" cy="3264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500720" y="3490920"/>
            <a:ext cx="464328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rne technie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pdrukcili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55640" y="1351080"/>
            <a:ext cx="7596360" cy="55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andendrukwisselsyste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68360" y="1557360"/>
            <a:ext cx="460872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ele tankinh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Optifill tank"/>
          <p:cNvPicPr/>
          <p:nvPr/>
        </p:nvPicPr>
        <p:blipFill>
          <a:blip r:embed="rId1"/>
          <a:stretch/>
        </p:blipFill>
        <p:spPr>
          <a:xfrm>
            <a:off x="755640" y="1916280"/>
            <a:ext cx="7632720" cy="38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ndeng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79280" y="1268280"/>
            <a:ext cx="5040360" cy="2167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643280" y="3594240"/>
            <a:ext cx="4500720" cy="3263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0" y="3543480"/>
            <a:ext cx="457200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ur-achterw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19280" y="1700280"/>
            <a:ext cx="590400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26920" y="1214280"/>
            <a:ext cx="752508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716360" y="3500280"/>
            <a:ext cx="4032360" cy="28101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3492360" cy="34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orten giert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kel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andem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idem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4 -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3960720" cy="2970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076720" y="4202280"/>
            <a:ext cx="406728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 rot="5400000">
            <a:off x="1158120" y="2233080"/>
            <a:ext cx="2554200" cy="32180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 rot="5400000">
            <a:off x="5319360" y="2391840"/>
            <a:ext cx="28242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kel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26920" y="1365120"/>
            <a:ext cx="7596360" cy="54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dem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8360" y="1409760"/>
            <a:ext cx="817236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ridem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8360" y="1362240"/>
            <a:ext cx="824400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 -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8360" y="1379520"/>
            <a:ext cx="817236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m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cuümpo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dringerpo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entrifugaalpo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cuüm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26920" y="1285920"/>
            <a:ext cx="742968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15:46:13Z</dcterms:created>
  <dc:creator>Harm v Eijck</dc:creator>
  <dc:description/>
  <dc:language>en-US</dc:language>
  <cp:lastModifiedBy>eme</cp:lastModifiedBy>
  <dcterms:modified xsi:type="dcterms:W3CDTF">2010-03-11T14:57:16Z</dcterms:modified>
  <cp:revision>3</cp:revision>
  <dc:subject/>
  <dc:title>Bemesting</dc:title>
</cp:coreProperties>
</file>