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23.wmf" ContentType="image/x-wmf"/>
  <Override PartName="/ppt/media/image27.jpeg" ContentType="image/jpeg"/>
  <Override PartName="/ppt/media/image21.jpeg" ContentType="image/jpeg"/>
  <Override PartName="/ppt/media/image2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26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12.jpeg" ContentType="image/jpeg"/>
  <Override PartName="/ppt/media/image34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6.png" ContentType="image/png"/>
  <Override PartName="/ppt/media/image2.jpeg" ContentType="image/jpeg"/>
  <Override PartName="/ppt/media/image15.jpeg" ContentType="image/jpeg"/>
  <Override PartName="/ppt/media/image35.wmf" ContentType="image/x-wmf"/>
  <Override PartName="/ppt/media/image16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58D-7458-423D-BEFF-A3645A5F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12E9-4676-4612-988B-0F790DA6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6CF2-D70C-42BB-AA72-34CEFEC0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49B-43CD-40C5-8FA8-4A88ED9B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236-1E92-477D-914B-C130A386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E8D5-847D-4B88-999D-030C2A44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AE43-D244-42E0-B485-7F187372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10B-1F09-4F6D-AA57-C47E5792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2D8-1A13-4C05-8F17-A93CF1EC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FE1-DCB7-4611-AF37-D7CDA80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CA1-23DC-4872-9DE8-887AEA16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CB2D-1761-47A0-B123-5CBB1B30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18AE-8650-4611-9B4D-59FDD072FD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ezeure.be/img/fotos/beertonnen/Dec11_03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55964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1468440"/>
            <a:ext cx="5508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651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t- en regel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per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eluchting gras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vervlieging van voedingsstoffen, minder kunstm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en versmering van gew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nder geurover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952640"/>
            <a:ext cx="822960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denbem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168360" cy="313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5013360"/>
            <a:ext cx="32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oorsnee van 250 mm en een dikte v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572000" y="1557360"/>
            <a:ext cx="410544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4284720" y="4292640"/>
            <a:ext cx="4535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6920" y="1401840"/>
            <a:ext cx="75250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4643280" cy="3095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3280" y="3857760"/>
            <a:ext cx="45007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land-injecteu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572000" cy="3316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jec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m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401840"/>
            <a:ext cx="752472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eepsl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4500720" cy="3264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500720" y="3490920"/>
            <a:ext cx="464328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rne techni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pdrukci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55640" y="1351080"/>
            <a:ext cx="75963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andendrukwisselsyste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ele tankin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Optifill tank"/>
          <p:cNvPicPr/>
          <p:nvPr/>
        </p:nvPicPr>
        <p:blipFill>
          <a:blip r:embed="rId1"/>
          <a:stretch/>
        </p:blipFill>
        <p:spPr>
          <a:xfrm>
            <a:off x="755640" y="1916280"/>
            <a:ext cx="763272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denga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9280" y="1268280"/>
            <a:ext cx="5040360" cy="2167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3280" y="3594240"/>
            <a:ext cx="4500720" cy="326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0" y="354348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ur-achterw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04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26920" y="1214280"/>
            <a:ext cx="75250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3500280"/>
            <a:ext cx="4032360" cy="2810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349236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en giert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76720" y="4202280"/>
            <a:ext cx="406728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meststroo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 rot="5400000">
            <a:off x="1158120" y="2233080"/>
            <a:ext cx="2554200" cy="321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5400000">
            <a:off x="5319360" y="2391840"/>
            <a:ext cx="28242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kel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1365120"/>
            <a:ext cx="759636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409760"/>
            <a:ext cx="8172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idem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362240"/>
            <a:ext cx="82440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 - As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68360" y="1379520"/>
            <a:ext cx="81723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m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ringer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ifugaalpo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uümpo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285920"/>
            <a:ext cx="742968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5:46:13Z</dcterms:created>
  <dc:creator>Harm v Eijck</dc:creator>
  <dc:description/>
  <dc:language>en-US</dc:language>
  <cp:lastModifiedBy>eme</cp:lastModifiedBy>
  <dcterms:modified xsi:type="dcterms:W3CDTF">2010-03-11T14:57:16Z</dcterms:modified>
  <cp:revision>3</cp:revision>
  <dc:subject/>
  <dc:title>Bemesting</dc:title>
</cp:coreProperties>
</file>