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364C-3C56-4834-A2CE-7289DCA57F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8B7E-28B3-488B-896D-22406C6B1552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64D7-1A12-4B9F-B458-5F7D6734A653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48CD-B488-40C1-B32A-7A89AC05E55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16F2-0F81-4689-882D-9483FBC194B6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F299-060A-45D8-8250-23D144826A67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C173-3FD1-4098-9D23-D0F02796A1A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DD08-BDBE-43F4-A213-255A238552F6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BC3E-3A4F-4FE1-850C-D3C9EDD63227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1910-D0E5-4D7F-979D-5C14FCBFDA27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3D8D-68D5-488E-B3A3-F228240AA825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6124-5D04-4CEB-99A1-2FDE791B7E2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75D9-3F35-419E-8FF3-A0C28428BC1F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2402-D324-4F80-8F0A-B6CC599B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7FE4-E197-428E-A070-3BBA2720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964-53A2-475B-A543-D0B6FBE9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1A8-3D24-46EC-AA47-AAA49492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19F4-2FC8-4364-BEC6-475F076B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2D53-AA0B-4E81-A124-1214037E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CA6A-DEF3-4011-B220-B7116C67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A2E3-BB4F-4A11-9DD0-BD9F081E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9FDC-D37D-4DCC-89F4-69FFD7DB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7680-DA39-4F68-BDC2-99767D77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EC00-F2BD-4372-92C2-CCAF6253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39C-3B0F-4D0D-B7B7-038B8678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2B51-FB90-4B4D-8F7B-DE7081B6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4479-C11B-411E-9D38-73EC9840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D16A-15BC-44A4-B756-5525B3EF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FE2F-5992-4D10-B847-BEFF0DD6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F724-E5A7-4DFD-B9FE-99D62801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2FFAB-8C4F-45AF-9E4F-2A48B1C4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DFE43-162D-4A36-9022-5C10833B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24204-F6DF-4030-B842-68D713D9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AA65F-C174-49D6-A02C-DB587839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83D8E-3F84-481A-813F-7FAD8B49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4039-3B98-48C3-9391-EECD3998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7CD03-4375-43B8-A10F-4BE27F13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FBF51-A81F-498C-AF26-77C433EB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5C9B1-AFC6-4E71-9F97-5F79C21C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F7CCA-CB99-4209-BB68-DC4336D3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D1D23-7B40-43B1-AE88-503800D5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17C5A-6078-4944-9D2C-35DACD1D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3FBEE-496C-4E52-8BCD-05CC1288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6F028-FE2F-4B48-93F8-B455007A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C508B-E5A0-4D85-A5CE-A7A4DCE7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E1585-DA2A-4D01-A167-06409522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121-2C5C-4A25-B688-83B2D633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4DA50-34BC-42CD-8A86-B0CC160F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25565-7BD4-4E9A-8D24-47F5C102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133B3-5915-48F9-8F3E-86D58D4F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2C977-FD9E-47C4-BFA9-CE1F9EF1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C183D-CC1B-4A4D-B5C1-9498919B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8F68C-0F0E-46DF-987C-148462BB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19DC4-1F4B-47E6-B784-C0F618DB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A137B-9901-46C5-84FC-FC98F602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0EF4E-CC60-4549-946C-8DA23AB0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DC572-CD1D-416F-B27D-B7F5F883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054-CE54-4C44-BF41-622A78D8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7416C-9778-43F9-A636-C022FF0A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AAA50-B35D-4670-97AB-ED27F9F0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38CC5-4984-404E-931D-0EB1CB0F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16239-3B3C-48FE-AE3D-F1352F4C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0F6A1-97FB-4902-A5D7-62269CC8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02C58-1FA5-4C01-8B9D-AAC3ED25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4C76B-0A4E-461D-B361-1661AA06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54AB1-B912-4A5E-B833-2A2919F9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413F4-8D9B-4FB2-ACA2-B9DB9307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C18ED-73C2-4684-B614-188D45BD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43C-5396-4D07-8804-C949C9B8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56911-C738-49C0-92F7-8963EBB1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3B6C1-368A-48A9-B57D-3CCB936B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2500C-6744-42D3-9268-0E42D173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5CAB7-4530-4B44-9ECF-021F1F49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64888-44CA-4BA0-B44E-32951609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77A53-F898-4F23-AF9E-2BDDD74C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B0FA4-C264-4EC2-B238-ECEFE58A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6EFB2-A6CB-4F2E-89B5-B2BCD31F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2334D-7CB5-4CD8-B17D-2FFC690E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B7744-5F18-4527-A0DF-37E257D6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FA1-F280-46CC-BD9C-3148C4F7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B9069-1C02-4A33-8702-D86FBC72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AE9AF-57D2-4ED7-8662-942B387B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A1C92-0D02-4B10-B5F2-94E4DA9F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AF693-1DFB-48EB-8123-3DA01CFA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7FD23-F8F5-4DAD-B5C4-23A3925A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430E4-8C84-4056-9BB9-5D86EF48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BFC32-6FF9-4EF4-8B4D-393DD54C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1969A-F056-4C16-90F4-11C2BFE1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863FC-30C8-495F-8E8E-8AE401B2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37448-2BDF-4026-8304-2A1849EF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787-C837-4ADD-B91C-19BBE57A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CB137-CB30-43AD-9869-01831B77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99FB3-A083-4C16-B23C-D619B53C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044EF-82FD-434E-8F84-916120A2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F34D8-B3CD-478B-91DA-119C3306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03B1A-8312-4A79-A888-AC0A1C6C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51FD8-34D4-4281-86CA-E3DEAC2B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B89E4-B8EE-41E7-AEAD-B4ED56FD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B0D5D-7388-4FAC-8BD5-71561925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13C65-3C1F-4AF5-AA3E-85625B95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A49C6-399A-4235-9C8B-C4F2A4A5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DBD1-A74D-4DC5-97B5-158457F5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417FC-AAA9-41A6-A5F7-E4D2E068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B04F4-1441-482C-A7B8-09A5E1FD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A8F0C-D077-4E39-85B3-23F19686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B1D0D-2A69-4949-9C4E-DFE87FA6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535F7-219C-4762-90AA-9663DE23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77672-D6FF-41E6-BE9E-29589419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36CC8-8C64-435D-B434-3BB721ED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F123-5D63-44D0-8EAE-B4B0E8AA5BBB}" type="slidenum">
              <a:rPr b="0" lang="nl-N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hoe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1D86-685B-4F53-BD9F-D607511F1C58}" type="slidenum">
              <a:rPr b="0" lang="nl-N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hthoe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8208-7C68-4626-A639-35E44EB3616A}" type="slidenum">
              <a:rPr b="0" lang="nl-N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Gelijkbenige driehoe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C02A-3D90-49F4-AE90-9E01B0FCFD24}" type="slidenum">
              <a:rPr b="0" lang="nl-N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BEBA-A6F0-4ED2-AC41-8286A0C24973}" type="slidenum">
              <a:rPr b="0" lang="nl-N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e verbindingslijn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Gelijkbenige driehoek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0468-A136-41F5-99B2-D074D866F43E}" type="slidenum">
              <a:rPr b="0" lang="nl-N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hthoek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1184-81B2-4E2E-976F-3CB9BD9BC9CC}" type="slidenum">
              <a:rPr b="0" lang="nl-N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e verbindingslijn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7A0C-C21D-44FC-AF0A-BBB3F9166256}" type="slidenum">
              <a:rPr b="0" lang="nl-N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rimme.de/Video/Produkte/sl.avi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grimme.de/Downloadbereich/Produktvideo/lagertechnik.wmv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rimme.de/Downloadbereich/Produktvideo/RH_Serie.wmv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Inschuurlij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0" name="Picture 2" descr="http://www1.trekkerweb.nl/media/default.aspx/emma/org/1151087/F1270970005/070924005.jpg"/>
          <p:cNvPicPr/>
          <p:nvPr/>
        </p:nvPicPr>
        <p:blipFill>
          <a:blip r:embed="rId1"/>
          <a:stretch/>
        </p:blipFill>
        <p:spPr>
          <a:xfrm>
            <a:off x="928800" y="1428840"/>
            <a:ext cx="31748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Hallenvull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0" name="Picture 2" descr="http://www1.trekkerweb.nl/media/default.aspx/emma/org/1151931/F2128989496/070927153.jpg"/>
          <p:cNvPicPr/>
          <p:nvPr/>
        </p:nvPicPr>
        <p:blipFill>
          <a:blip r:embed="rId1"/>
          <a:stretch/>
        </p:blipFill>
        <p:spPr>
          <a:xfrm>
            <a:off x="1428840" y="1928880"/>
            <a:ext cx="635004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Inschuurlijn Grimme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2" name="Picture 5" descr="sl125-11a_kl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276640"/>
            <a:ext cx="3238560" cy="2476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7"/>
          <p:cNvSpPr/>
          <p:nvPr/>
        </p:nvSpPr>
        <p:spPr>
          <a:xfrm>
            <a:off x="3708360" y="508464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lik op de foto voor het filmp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Combimachin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5" name="Picture 2" descr="http://www.bijlsmahercules.nl/assets/images/Combi6.jpg"/>
          <p:cNvPicPr/>
          <p:nvPr/>
        </p:nvPicPr>
        <p:blipFill>
          <a:blip r:embed="rId1"/>
          <a:stretch/>
        </p:blipFill>
        <p:spPr>
          <a:xfrm>
            <a:off x="857160" y="1571760"/>
            <a:ext cx="67532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Totaal programma Grim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Filmpje (7 minuten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8" name="Picture 4" descr="RH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2637000"/>
            <a:ext cx="3656160" cy="191268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5"/>
          <p:cNvSpPr/>
          <p:nvPr/>
        </p:nvSpPr>
        <p:spPr>
          <a:xfrm>
            <a:off x="3708360" y="508464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lik op de foto voor het filmp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Kiepe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2" name="Picture 2" descr="http://www1.trekkerweb.nl/media/default.aspx/emma/org/1151935/F90383315/070927223.jpg"/>
          <p:cNvPicPr/>
          <p:nvPr/>
        </p:nvPicPr>
        <p:blipFill>
          <a:blip r:embed="rId1"/>
          <a:stretch/>
        </p:blipFill>
        <p:spPr>
          <a:xfrm>
            <a:off x="1357200" y="1928880"/>
            <a:ext cx="57150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Stortbak met grondafvo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4" name="Picture 2" descr="http://www1.trekkerweb.nl/media/default.aspx/emma/org/1151090/F758233949/070924024.jpg"/>
          <p:cNvPicPr/>
          <p:nvPr/>
        </p:nvPicPr>
        <p:blipFill>
          <a:blip r:embed="rId1"/>
          <a:stretch/>
        </p:blipFill>
        <p:spPr>
          <a:xfrm>
            <a:off x="1714680" y="1785960"/>
            <a:ext cx="57150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Dubbele stortbak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6" name="Picture 2" descr="http://www1.trekkerweb.nl/media/default.aspx/emma/org/1104644/F1394630344/061009044.jpg"/>
          <p:cNvPicPr/>
          <p:nvPr/>
        </p:nvPicPr>
        <p:blipFill>
          <a:blip r:embed="rId1"/>
          <a:stretch/>
        </p:blipFill>
        <p:spPr>
          <a:xfrm>
            <a:off x="1357200" y="1643040"/>
            <a:ext cx="63374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Reinigen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8" name="Picture 2" descr="http://www1.trekkerweb.nl/media/default.aspx/emma/org/1104647/F979300589/060920171.jpg"/>
          <p:cNvPicPr/>
          <p:nvPr/>
        </p:nvPicPr>
        <p:blipFill>
          <a:blip r:embed="rId1"/>
          <a:stretch/>
        </p:blipFill>
        <p:spPr>
          <a:xfrm>
            <a:off x="1000080" y="1857240"/>
            <a:ext cx="63374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Reinigen (2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785960" y="2286000"/>
            <a:ext cx="4419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Filmpje stortbak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2" name="Picture 5" descr="RH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2637000"/>
            <a:ext cx="3656160" cy="191268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7"/>
          <p:cNvSpPr/>
          <p:nvPr/>
        </p:nvSpPr>
        <p:spPr>
          <a:xfrm>
            <a:off x="3708360" y="508464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lik op de foto voor het filmp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Duoban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5" name="Picture 2" descr="http://www1.trekkerweb.nl/media/default.aspx/emma/org/1104646/F1784849391/060920179.jpg"/>
          <p:cNvPicPr/>
          <p:nvPr/>
        </p:nvPicPr>
        <p:blipFill>
          <a:blip r:embed="rId1"/>
          <a:stretch/>
        </p:blipFill>
        <p:spPr>
          <a:xfrm>
            <a:off x="428760" y="1285920"/>
            <a:ext cx="4435200" cy="2960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http://www.aardappeldemodag.com/files/images/grimme_TC.jpg"/>
          <p:cNvPicPr/>
          <p:nvPr/>
        </p:nvPicPr>
        <p:blipFill>
          <a:blip r:embed="rId2"/>
          <a:stretch/>
        </p:blipFill>
        <p:spPr>
          <a:xfrm>
            <a:off x="4286160" y="3429000"/>
            <a:ext cx="42674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Hallenvull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8" name="Picture 2" descr="http://www1.trekkerweb.nl/media/default.aspx/emma/org/1151088/F846815324/070924076.jpg"/>
          <p:cNvPicPr/>
          <p:nvPr/>
        </p:nvPicPr>
        <p:blipFill>
          <a:blip r:embed="rId1"/>
          <a:stretch/>
        </p:blipFill>
        <p:spPr>
          <a:xfrm>
            <a:off x="3000240" y="1357200"/>
            <a:ext cx="3175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9:19:22Z</dcterms:created>
  <dc:creator>Mellema</dc:creator>
  <dc:description/>
  <dc:language>en-US</dc:language>
  <cp:lastModifiedBy>Pieter Arends</cp:lastModifiedBy>
  <dcterms:modified xsi:type="dcterms:W3CDTF">2017-05-17T08:05:45Z</dcterms:modified>
  <cp:revision>9</cp:revision>
  <dc:subject/>
  <dc:title>Inschuurlijn</dc:title>
</cp:coreProperties>
</file>