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FDE1-4DC5-4F17-9E4E-59D125ED9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E639-7C96-4270-893A-01F6525312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C039-9658-46BB-82C2-42F05BA6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CB4F-0C6A-4E60-AC47-CAE63BB9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933B-6841-49DB-9937-1C294B2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9BAD-47D7-47DB-B558-F9D91E5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D5295-F60C-4388-A942-8110F24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B3565-FA7C-479E-8075-460C687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9B30-BBB5-4C9A-9AB5-E7BE863C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FCBA-19E2-4527-8B08-E9928443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25C0-8F0C-4DAF-9568-32DB254A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25197-D8B0-4661-9F5A-D653A8CB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3617-1BAD-46F0-8A3A-A9EA181CC9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83AC-DD4B-4149-AB19-E27E68B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598A-1731-469C-A5D3-2F9F661B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EDD4A-E262-4BE5-A509-B99DC809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E525-E7B1-4885-89AB-E2E7B352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E40D-8910-4A01-BADA-ED884EAE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CE40E-C23E-4247-BAA8-5C46138A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A6D4-1F28-4280-A631-EDAA4EF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0FA3-359A-4F57-96AE-AB2353EA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1105C-DC22-4436-BF81-D37FB3B1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2E674-48CB-44BC-9FA7-E36D300D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1C21-3FF4-4E72-AC00-D85D12BB2C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16779-EA92-418E-AA2A-95F5D5E9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C422F-A54F-4834-896B-41F25D9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9385-01A8-4FF4-88C1-74CB8338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6B8E6-684A-4C89-894B-45340AA2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77FC5-35CA-4F3B-AD14-02C69CB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F0004-5F06-40B6-868D-199F20A0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432E9-8DE4-45A7-8274-27A7DFF8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56B2-B707-4EBF-8CED-22BB439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04AC-FD44-4048-A86C-B5E6210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768EE-3094-4E3D-9E29-CF8329E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F679-B6BB-4604-AF7C-0D9255CBC33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37DD-9D25-464D-9E89-A0262CAB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A115-E218-4BFF-AAD6-0768E9AF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3FD2-8744-4313-80F4-8A88C9D6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BDFF5-C591-44A3-B2FD-28E90381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9458-69B6-4AAA-9639-23D9BBD7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EA4C-3FBC-49F6-AED9-9B7A668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C1AC9-2D09-401B-9E4E-1FDFDF88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3831-489D-4406-8350-6BBB15F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ED306-176F-49FC-9DFB-1C5CBF4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DCB1D-7C1C-4EB4-8019-FB6F61B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1AC2-B04C-41B8-92F1-E0E6154907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909E-29F0-4E88-91E7-E4A3A0AD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499FD-C051-4DDC-845C-9B69D8A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8E358-1156-4DB2-BA49-1C832D1D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6059-6B48-46BD-BC65-EFB3DEF1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58259-8F22-4843-BDE1-34AAB252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17E46-BB0F-4839-A69A-8B9D03A3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D310-A804-44D4-A0C4-F9C7ECE1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C0026-C08B-47DD-94EA-E272FB0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B2BDC-9D45-4471-B25D-973006CD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32F50-B24E-43BE-9BAA-4D4BFCB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CA6-B2F7-484F-9AD8-6CAC33254B8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196C3-1036-48E8-96B2-CBCACE8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42680-A877-42E8-A971-A3EB40A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62F67-0F6D-4310-B763-9A82ABE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A1F59-ADDF-47EB-93CF-CBF68573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C7447-E0A6-4C2B-86A0-FC6ECD0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5E4E0-F7DA-4995-A9E9-7F299E8F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BD356-06DA-414A-A357-1B77CEA7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53AEE-24FD-4190-93A8-8EB0D42F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8060F-CE70-44C0-B238-77BE354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AFB8B-A14A-4C4D-9D35-51305CAE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3086-CED3-4118-80C6-A4E76C4E80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227F1-49E7-4482-B8FA-4837BE8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35F84-784D-48AA-AE83-86D8C93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64837-49B5-4737-B4BC-9250239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D3EC6-BF18-47E6-9840-B77D46B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4DA45-9C13-4E19-ABF6-1250486E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7F139-6B38-48CB-A871-DD454DC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63AFF-1990-47E6-A9C4-9F5D25A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1667F-0767-465B-A990-53A4E49D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AE290-A0B7-482A-94E4-4EDC6596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65958-1599-4F05-8BB6-EC7F628B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CD48-466D-4406-9259-0BCB165FF57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F90D-C4BB-4793-847C-0D66CEEE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4BF92-B8A0-4455-8295-2139822F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2D0D-75EB-4FE4-BC35-41CA908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88E96-5A4B-4C36-A8AF-D80065D5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C079-6A5D-4D28-900A-69F63B1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BC912-41EA-459F-87BF-739AD4A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E1596-13AB-415B-B6D2-BE071F5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70F8F-14E4-4AE9-AA90-C2DA8167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CAD17-1698-412B-AF57-14D4AAE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B10A-B99F-45D2-8AA3-E497E376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C9E89-A92A-4C7E-8A97-EC0B8BE759D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6397D-6473-43AA-82B1-DEF1C04A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BA1B4-B759-46BA-A2B9-B5D54F99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02668-F430-4678-B35B-A503331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E14BD-03C2-4E1E-BC18-FA0D7BF7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976D9-A35A-4F69-9C0C-1101AA30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3741A-E92E-4633-82E8-AD3CE8B7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D7478-015F-4087-BAA5-66BB7BB6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5952A-2F12-42BC-A468-27C4595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B2ACA-9240-4904-94E5-2100B7A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D63E2-87E5-47E5-9C7B-1FCE385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58D5-5AD8-4452-99D5-02240DFEA8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C4364-9FEA-448A-A31E-DC6C8BA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400F-B767-4F6F-A2C1-70603CB3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316F-1808-4D13-AA99-CB320D5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D9892-DD9C-4217-AA40-CC05E5C3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1FBBF-86D9-4248-84AA-7693597F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A2A51-F89B-49AB-8D3A-C3952C9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4E490-075B-4284-A02A-3AD9854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65952-9BD4-4FA5-8051-BF33AABE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9176F-E665-4FDD-8BE1-34C97B32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F7F06-BFB9-4A6F-8E72-4674281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091A-658C-4E31-A0D6-BE7E2D9F8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9BA1-40F8-496C-87A1-1D8A9AF4F38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598D6-448B-4793-A65B-189C820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8266A-8460-45D0-86B9-8EFCC61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F5985-D0F8-4B96-BEE9-7DEF73E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1AE90-E695-42F2-9707-60A118AB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0C5EC-9C82-43BE-A20E-A98200EF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AA245-D053-4231-930E-04029C6C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A34C8-882B-4F71-BD3C-F18E05E4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17C7D-A69C-41BF-977C-DD4FCDF8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2F103-64A7-4FA1-8BB3-B4F467A6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EA80F-5310-4FFE-B755-06769C0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8D1A-D3A0-4B72-8685-5066567F77B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3E837-5FA2-4EF8-BBF1-7C2837CD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92EEC-F42A-49FE-97DD-F6B146B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CACA6-7DF6-43CE-9FAC-8179E9C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1DF9D-5452-40BC-8DB5-60D9F12A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0DF59-1381-402C-B9F9-BD48B082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7BD74-B1BC-4B39-8279-6887C831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0E5FA-1ECF-496E-BA28-EAC54868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7919A-DFDC-4236-BBC9-7D9129A9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7A0FFA-D541-44F5-9B43-4DCE03C9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44220-EBC7-4CF3-B9B8-8DAA4A2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2E12-694E-4F8C-A8A5-00E314C717D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B0CB5-7FF9-4FD8-BA7E-F8BE2E1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27B05-9531-4288-B86C-F969EAB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293AE-F923-493C-BAF6-CCC2F258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683BD-DFB7-4B07-AD82-7BBB16F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39A690-CB50-48D5-8450-132D9067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50D42-02C0-4326-9D48-BF02A3BD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B5089-72D7-4972-B7BD-C752DB94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52537-5B30-412B-B493-0B6E082A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EB09E-50B9-4355-AFC5-AB63EFD9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1F118-FE20-40D7-A308-9D39AC18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BF50-4D2C-4A4A-905F-B7D886F9DA4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4CB03-4C7D-4DF3-8BF4-16A2F832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B8564-E071-4CE3-889F-9E72A74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27718-13B7-4BD8-8A50-974B460B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5A017-B8AC-48B2-BC67-A51AA1A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6E02C-8607-4D32-876E-EB57FC2E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9B220-5915-42CA-B09D-2092EF0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99D62-F777-4327-9521-00D323C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6E3AD-56BD-4C0D-84A9-AF562BA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344BC-DBDC-4666-8B95-BF1FEB4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9E835-8F5A-4F46-A1C7-001A35E3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4955-72E2-4812-8060-5CBFCDECCF1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54CC1-9B72-4C80-8C2C-2E3E4428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357CE-0C50-4B45-BF16-9436EC1C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EC0D8-432A-48A9-A5A0-2327D348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503E8-AEC5-4949-B7D0-BF8D63C7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9E6C0-C758-4B2A-8011-12A5C8A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366B9E-6A93-45A1-8462-CE44BDB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F7FC0-F2F4-4947-929B-AC34D8A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5715E-2F5B-47E4-A747-FA51F22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9DBF2-632C-49AD-A807-333CD03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09399-70DF-49C4-AC23-87B279F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19-C40F-4747-BC19-0B6C27BFA0E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DF1B1-214B-4273-AEF8-23F2B24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E0600-2AB1-4CFD-9AFA-7D7D1893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F1AD6-3EBA-4E5C-BF31-6BE341DA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38DE6-F77B-42F9-9863-84C06A9F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E343ED-51DD-4508-B40A-D8EFD8EB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2B9B5-4FF2-41A9-BD00-0355B013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92420-5E61-43BA-ACB3-AA0BB8F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9410F6-43EE-4574-A998-50A255AB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98AD7-E7BF-4E58-BC0A-27593664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C9F3C2-18EB-4077-9861-DC3230B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712-DFB1-4C0F-87BE-6880EDCCD87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EF3A5-B6DC-44B0-BDF7-D119F880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D54A1D-C090-46C0-85E7-7CC150F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0D391-855A-4082-93C2-C52A5607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AE4AF-85CE-4649-8F12-84B6DAE4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3A145-7F6D-4E8E-ACFF-73F66835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D6139-6493-4188-921B-EE579548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B48D0-7B54-4A82-A1F1-3FE9C9D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17F81E-B859-4796-993A-6D65B35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85683E-F0CB-42EC-98D9-C273768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3104EA-3ED3-4BE3-9E91-8310EEDF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8CC-6092-45A0-BC72-0F319555E4D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B96640-093D-471F-B184-0F06DB59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620A98-87CE-4FC8-ACBE-F1ED36F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6273D-2158-44B2-8488-662B207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C83CFA-5FDF-4273-8DC9-1BEBCEB8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B1DE2E-E932-417F-A4A1-4E44C8F8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BAEFC-1540-4BF2-B5DB-10CAEBA0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9DA9C-C938-4023-8474-01F90B9D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9ADA9-C1F8-4ADA-B48D-864A3BBF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D7494-B646-4123-BF86-953CA82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AEA5E-B72C-4EB4-805D-33F9B1C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F75-6DD6-467C-B070-B0C5C548C75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D989CD-2587-4AB3-A239-2552A9F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C3DDE-1F6C-4796-AE18-178D2A8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0CAD7-8112-46C1-9266-CBBC3495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915BF-96D5-431B-A5B3-23CE183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FE58E-37BE-460D-89D4-DDB4D6A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AACA7C-F512-435C-8B27-137DF6D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C1360-74C7-4C9D-8E53-DAACDE15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53209-1DDA-4615-927C-51DD7518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65F9F-0210-4B22-A276-B7E4980F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24E33-E887-4022-99E2-57C9FF34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D09-9FAF-4838-ACA8-38C077C5CDB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C441D-BE75-4652-98C0-B0AB608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F2FC7-6A9A-47E2-A88F-3882C44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E7B8A-630D-450A-9714-E69EC93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89F08-D903-45F1-94CD-4B75BA5D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B9D2A-794B-485B-932F-2C1E5645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5D29C3-F9C5-4E22-B368-5C35FEA0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5FA84-0F4C-4E07-ABD3-6A7F8BBF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7A58E-39E7-4D19-9EA6-0CEC0DF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5D417-4928-4E3C-9228-BE061DB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5A8E3-8BFF-4E14-B7E7-96A13F2A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268A-69FB-4FC7-8F7E-E52BBC2EE6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9CD-AD5B-482E-92FE-AE5A6466D96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B9D884-A172-477D-86BB-51B2D132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9AB-2C79-4B04-B054-4E9732CFB6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A08-BA47-4943-95D1-26D20F00A6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C07-3E27-4FF7-90B9-0288B2AC38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BD4-219E-48CC-92C4-14D16F8D37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1F4-FA3C-4D19-89E7-3841910FA9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FCE-EF25-4F23-9782-FDFBF78679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7113-CE43-4CD1-9F71-41F78E61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DE65-2C00-4D1D-9D97-6073CC95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500C-8CFD-4986-89DB-0EAD5FA1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C63A-A2A0-4FC6-8B3B-2FC5D23BB3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4F4-DD03-4F7C-A572-EDFAE8A6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15E9-E735-48CA-A1D0-26D3B60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E757-2485-40F4-BFAA-CBF4481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AD66-3569-414D-A4CE-996D74A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48F-0983-4B65-BBD7-1B2FDDF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9BA-9F1B-4A05-9ED8-E4FC179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4E0-E468-4E0A-935C-4D2D179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3A06-3332-427D-B518-1D06DD45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F6A-1C90-439A-A060-5496ED9A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E53C-FE88-4A60-9583-E3656233E0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2D91-82C5-4EF8-B44E-4448A29710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3589D-E230-4B00-B5E6-D512EA0F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106A7-619C-43F5-95D7-77F7407E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3AEC9-8042-456A-8671-B6627DBC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ECA5A-2CA8-47E6-89E4-B374622B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B4BBD-F388-46C6-9A86-AC1A6798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C4CED-13C5-4277-A42A-BE8D6B1E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F3462-E402-43DF-A7CD-9451A26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4874A-32BC-4581-BB16-D6A4CD19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3FB9E-D0FB-4E17-A622-0654F55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F26-0DA8-4C8E-8909-D7512F2CC0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C7686-0F79-4E02-A211-24174BDA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ABA28-2940-4F46-A438-E0F49529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89D5F-0960-4B26-9554-38EB70E2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72A9-A92E-4124-8602-FDAA8F6FC5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E905-D545-4460-8BE7-7B87F55ADF0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7F70-81B8-45AC-A152-50102765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0F0D-EC9B-48C0-8DEF-B55095CD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EECD-031D-411A-B2AD-E46EB48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11FA-D958-4B50-BB68-56EF85B12EC2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88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D6F-7266-4B0B-BCB5-A4C01F0A43EA}" type="datetime2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woensdag 29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42AC-26C4-4C81-986B-4AA86F01CCC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4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192B-807E-4BFC-9622-3D1AE1D6246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9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C8FF-CC84-41D5-A56B-6F218B912B5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4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6397-58FD-4406-846E-2CC19170A9A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3D3-C50E-41AA-ABC2-38CB6C499D3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041D-F60E-4E24-B73B-15AA1DA40A3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C49-931E-4ADB-9A28-3E221090700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5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F0F-7384-47BC-A761-C61CCA38092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8DD9-2332-4B82-B2C6-AA8E0105285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5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A7D2-9570-4CD0-9C75-8A6DDC03B42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873-494B-4F25-8F80-107A76F9240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0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0CFC-9ADD-4AA2-81A4-F03DC97592E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754D-2319-4191-8A66-0A612AEDF20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533-B132-4AA1-8441-966BEF0B8E0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E060-63E1-4C06-A26B-3F11CE3AD8E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E42D-7FB1-4146-B4F0-FBD7B495997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7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443-3F08-4F34-B87C-086DC6E9C69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B036-4F1C-4E68-AAD1-B7DEC4DD761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54E1-B4CD-46F3-93D1-D13F5901CE8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0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0574-0705-4043-8761-D5E60C40F864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F534-7025-4B8D-9A15-78C02842C81E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249-A209-4D77-B6D4-8CA4D7538274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F9A-8CB3-4998-8B3D-43162F10BD1F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ocrative.com/" TargetMode="External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s vanda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rhaling middels socrativ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kijken opdracht 17 t/m 19 blz 9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eriment 4.3  Lossen alle zouten op in water? Naar volgend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leg indampen van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ragraaf 4.5 Hard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ken opdracht 20 en 2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DEE-6E82-4ED7-9EBE-865E75E12E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Hardheid van water: ontharde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269" name="Picture 9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4495680" cy="269064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10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271" name="Line 11"/>
          <p:cNvSpPr/>
          <p:nvPr/>
        </p:nvSpPr>
        <p:spPr>
          <a:xfrm flipH="1">
            <a:off x="2286000" y="152388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2"/>
          <p:cNvSpPr/>
          <p:nvPr/>
        </p:nvSpPr>
        <p:spPr>
          <a:xfrm>
            <a:off x="76320" y="1981080"/>
            <a:ext cx="44956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voegen chemicali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ën (wasver–  zachters) reageren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/ Mg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3"/>
          <p:cNvSpPr/>
          <p:nvPr/>
        </p:nvSpPr>
        <p:spPr>
          <a:xfrm>
            <a:off x="5943600" y="152388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4"/>
          <p:cNvSpPr/>
          <p:nvPr/>
        </p:nvSpPr>
        <p:spPr>
          <a:xfrm>
            <a:off x="5105520" y="1981080"/>
            <a:ext cx="4038480" cy="1381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passen ionenwissela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Mg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isselen voor Na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5"/>
          <p:cNvSpPr/>
          <p:nvPr/>
        </p:nvSpPr>
        <p:spPr>
          <a:xfrm>
            <a:off x="6934320" y="3048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6"/>
          <p:cNvSpPr/>
          <p:nvPr/>
        </p:nvSpPr>
        <p:spPr>
          <a:xfrm>
            <a:off x="22096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Experment 4.3 blz 9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gaat onderzoeken of dat de volgende 5 zouten oplosbaar zijn in wat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men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antwoord daarna vraag a op bladzijde 9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erhaling middels socrativ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www.socrative.c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ik op student logi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s room name vul je in SKL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inas tab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zicht van belangrijkste i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losbaarheid van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9" name="Rectangle 4"/>
          <p:cNvSpPr/>
          <p:nvPr/>
        </p:nvSpPr>
        <p:spPr>
          <a:xfrm>
            <a:off x="466560" y="5734080"/>
            <a:ext cx="83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cc"/>
                </a:solidFill>
                <a:latin typeface="Arial"/>
              </a:rPr>
              <a:t>Een zout heeft totaal een neutrale l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161928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Black"/>
              </a:rPr>
              <a:t>Onderdeel 3: zou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Picture 6" descr="binas_oplosbaarheidstabel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6F7-F3AF-4A81-AA4D-E98C97DDAA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685800" y="1295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werkt Binas Tabel 45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6"/>
          <p:cNvSpPr/>
          <p:nvPr/>
        </p:nvSpPr>
        <p:spPr>
          <a:xfrm>
            <a:off x="762120" y="2057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1: kijk welke ionen je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7"/>
          <p:cNvSpPr/>
          <p:nvPr/>
        </p:nvSpPr>
        <p:spPr>
          <a:xfrm>
            <a:off x="762120" y="26668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2: kijk bij de combinatie van de ionen wat er staat: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8"/>
          <p:cNvSpPr/>
          <p:nvPr/>
        </p:nvSpPr>
        <p:spPr>
          <a:xfrm>
            <a:off x="1219320" y="3886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 : lost goed op en geeft g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19"/>
          <p:cNvSpPr/>
          <p:nvPr/>
        </p:nvSpPr>
        <p:spPr>
          <a:xfrm>
            <a:off x="1219320" y="4605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 : lost matig op en geeft 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0"/>
          <p:cNvSpPr/>
          <p:nvPr/>
        </p:nvSpPr>
        <p:spPr>
          <a:xfrm>
            <a:off x="1219320" y="534816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 : lost slecht op en geeft 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489-B613-412F-8558-01B1159B10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2" name="Text Box 3"/>
          <p:cNvSpPr/>
          <p:nvPr/>
        </p:nvSpPr>
        <p:spPr>
          <a:xfrm>
            <a:off x="685800" y="1295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st calciumnitraat op in wa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762120" y="3352680"/>
          <a:ext cx="6095880" cy="175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el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nl-NL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4" name="Text Box 15"/>
          <p:cNvSpPr/>
          <p:nvPr/>
        </p:nvSpPr>
        <p:spPr>
          <a:xfrm>
            <a:off x="4343400" y="4343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762120" y="2057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1: C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n NO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76212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2: g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lost goed op en geeft g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8"/>
          <p:cNvSpPr/>
          <p:nvPr/>
        </p:nvSpPr>
        <p:spPr>
          <a:xfrm>
            <a:off x="762120" y="5562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3: Ca(NO3)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3053160" y="556092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0"/>
          <p:cNvSpPr/>
          <p:nvPr/>
        </p:nvSpPr>
        <p:spPr>
          <a:xfrm>
            <a:off x="3818880" y="5562720"/>
            <a:ext cx="36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+ 2 NO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aq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4C6-9606-409B-BC4A-F21467C621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indam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685800" y="1506600"/>
            <a:ext cx="65530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indampen verdwijnt het water uit de oplossing met het z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zout blijft dan over als vast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ositieve en negatieve ionen in het zout gaan weer aan elkaar vastz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ampen is het tegenovergestelde van op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241B-3786-4369-9A22-1890B6C600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indam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685800" y="1528920"/>
            <a:ext cx="655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aq)   +   Cl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aq)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C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heet indampvergelij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og een 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K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aq) + S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aq)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4E7-8E6D-43FD-993D-F0758E13D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rebuchet MS"/>
              </a:rPr>
              <a:t>Hard wate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258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553440" cy="43308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4"/>
          <p:cNvSpPr/>
          <p:nvPr/>
        </p:nvSpPr>
        <p:spPr>
          <a:xfrm>
            <a:off x="3581280" y="1905120"/>
            <a:ext cx="1600200" cy="1191240"/>
          </a:xfrm>
          <a:prstGeom prst="rect">
            <a:avLst/>
          </a:prstGeom>
          <a:solidFill>
            <a:srgbClr val="90c226">
              <a:alpha val="50000"/>
            </a:srgbClr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erslag zonder zo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15"/>
          <p:cNvSpPr/>
          <p:nvPr/>
        </p:nvSpPr>
        <p:spPr>
          <a:xfrm>
            <a:off x="7086600" y="1905120"/>
            <a:ext cx="205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neemt zouten op uit de omgeving en als het door de bodem naar het grondwater ga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EBDC-F2C2-4060-9D20-02E3CBBB72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ardheid van water : gevol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29718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8"/>
          <p:cNvSpPr/>
          <p:nvPr/>
        </p:nvSpPr>
        <p:spPr>
          <a:xfrm>
            <a:off x="27194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5" name="Picture 9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3736800"/>
          </a:xfrm>
          <a:prstGeom prst="rect">
            <a:avLst/>
          </a:prstGeom>
          <a:ln w="0">
            <a:noFill/>
          </a:ln>
        </p:spPr>
      </p:pic>
      <p:sp>
        <p:nvSpPr>
          <p:cNvPr id="1266" name="Text Box 10"/>
          <p:cNvSpPr/>
          <p:nvPr/>
        </p:nvSpPr>
        <p:spPr>
          <a:xfrm>
            <a:off x="1295280" y="46483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 : Zeep schuimt minder en werkt sl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  Grauwsluier op kled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 : Kalkaanslag op verwarmingselementen geef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hogere slijtage en kos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27Z</dcterms:created>
  <dc:creator>Arjan Helder</dc:creator>
  <dc:description/>
  <dc:language>en-US</dc:language>
  <cp:lastModifiedBy>Lennart Koomen</cp:lastModifiedBy>
  <cp:lastPrinted>2015-02-27T07:18:33Z</cp:lastPrinted>
  <dcterms:modified xsi:type="dcterms:W3CDTF">2017-05-22T08:33:36Z</dcterms:modified>
  <cp:revision>102</cp:revision>
  <dc:subject/>
  <dc:title>Van komma naar getal</dc:title>
</cp:coreProperties>
</file>