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3E80-331B-4AB1-A6FC-F21CD2F27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C465-811E-4D92-975F-BCBF1083825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5D77D-A57D-491B-9FD4-8A45A749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B604-E272-4374-BDFD-1EC76D38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F0CF3-47D1-4E7C-94EF-21A092AD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F8EF-36D0-4764-B74A-696C046B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F6BD9-1906-4E81-9316-C814C96B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1ED5B-B425-403C-89D2-B641988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1FE03-5F83-4D74-8AF6-BC92D589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DC6A-D97A-4280-A18B-FA6B3710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C683-7E8B-497E-9FAA-1783D64C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2E949-98A0-41C6-B9F8-8093F55E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8399-0848-4CB5-BA1C-AC5A57E478B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7917-3280-4B70-B102-0CF0D2D8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A6689-048D-4319-A7D6-FF7A0E22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A71D8-F99D-4235-A3FB-F6EFA75A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070E0-8C87-49B2-896D-2F7C2AC0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0928F-A88E-4748-A17E-2E17B24E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8C4B-A235-4251-8297-FC305AC6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82C19-4409-42BC-92D4-0087FCD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B7CF0-2141-4F2E-A0F2-CF4ECFD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38748-3AB5-4350-98EB-FD6A7F85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4053-E2ED-46C8-9881-6B3A9318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3DD6-0BD2-4087-AD31-183CE338B9D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A61C5-F9BC-4BA7-B2EA-E478EF30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2A581-FC5A-429F-9DD1-991A3B60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2664E-3283-4039-9F60-94836EB2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DDBE5-2DC2-4697-A4D9-CD4804DD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39DFB-BA47-486D-83E0-48408CE2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8953-3A86-45CD-8DB2-904016D2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B836-4C78-4F23-B5FE-A616733C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6CF49-5E25-43F4-BA86-CAF82FD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EB219-9F3B-433A-B3B7-0C73649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A5297-7037-4261-ACEC-2EB162C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4C6F-5B0D-4783-AEB2-FDD9A3B2AFA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5B256-055E-4222-B78D-AE3CB3D9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FAEE8-3B49-4862-900C-A9F8126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F8681-7D15-4717-9F49-FBBCD4A6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8D69-998D-48F9-AE48-E42528DE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F2277-BCAC-4A4D-A8D8-BD523F85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7EFCE-9758-47F0-AA80-330E9BE4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CF74F-EDE3-40E6-8336-DFB0B0DB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C34DC-0F13-4196-9A8A-D356C02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9D22C-3C98-4B2C-84BB-85313B94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512FE-E4B8-4C15-B32E-7F2CAAB6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471D-84B9-450E-9934-0836131BECD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2A097-63AD-44CC-A2EA-929C0AD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C06D-0792-417A-B547-57C2D4B6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9B212-E058-45B6-BEC1-9AEB8B0B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3311D-A466-4A82-BB4B-BC059693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06F59-561F-4860-9A8F-69AC26D3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A913C-081F-4557-B5EE-BE2631A3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C4CAE-E7EC-47D7-91BD-EF2378E6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AF381-3DD4-46C4-AB65-0240BA69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90D2C-4A7A-4A6C-91B8-75D37381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E1BE9-9071-4BCD-BA52-685F7FF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0EDE8-8AE9-440A-B3F7-5B64AE0A20F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8730F-065B-4000-9922-BD37A289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54318-32E7-43C1-910F-073A4363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3E0BC-EFC4-45F5-9CD6-8F76792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9DEC2-A0F1-4653-9149-5EB39344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78BFE-90E7-4F6C-B4FE-971D4E9B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BE186-7A94-4F61-A6D7-A697C761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99D92-FF71-43DD-8FEC-50CACB3E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B9F4B-8543-4CB8-A799-49540B50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B2C6F-DE25-4C90-B521-A3919787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A96DD-BDC3-4223-B9C8-0B688350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1AD6-3BC2-4A52-AF4D-C2F0E04EA9D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712B5-603F-4933-9B22-AB456AF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C8BE0-092D-44F7-A356-5CCB20AB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0876D-7DAA-4AAF-95BA-C11C0D25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E22DD-9013-452B-A73B-A97F1776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EFB10-5A17-40C1-874C-D8FEB57F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9C6AC-D1ED-4B48-846A-8E3005E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EB996-FF94-461E-AF51-8B924DDE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E8766-56E0-4DEA-BA2F-46B371AF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F69FF-8EFB-485C-94D1-2F921EF1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C0E69-6A4E-4A94-B910-6B747B50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3663-ED7F-4705-9FAC-AFEB073F17D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8E8A9-EB64-40F7-9DB0-D4F63747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4E8CD-E9D4-45F4-90FD-43232AA3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D2C31-A8E1-4904-B973-D665A220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DE926-C89E-43F4-9960-25183C84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55ABB-5BF6-479F-A1FB-9F5299D8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4AD9C-8427-406C-949E-2704CF94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BA94C-787B-430B-9C1A-523D3E98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3287B-16FF-415C-B1C6-1C1CB14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2D2C8-F042-4FE4-B6A7-EC66AC4F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A20E5-BE97-438E-AC2D-00BAF050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7C44-CC44-46B1-BDC4-BACE10912D4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FCD8E-607B-4FC7-9F45-456BAB32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40F2D-55F8-410D-B851-EEBF831D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53FA3-65A7-4C84-8AB5-5932989C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05794-F31B-4C54-90ED-E3F6CB99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38C04-2D88-47DE-9610-23D60272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A10BB-4890-433A-BF8D-E6F2A600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77532-4EB7-4E12-91D8-FECACE85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A99F3-EEB4-4BEA-9F07-234B968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C4D4E-A8EC-4783-B3EA-934BE44A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0C267-7A32-4FC6-BF37-43D5CEC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0ED8-D81A-4BEE-8BA2-8644DBB137D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0CD02-0744-498E-ADA4-9667A1F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3AFF3-6D81-4698-B9E8-2FB6FF0E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FA063-C59D-4A1E-805E-3FF658A9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EC2DB-AD1B-4B40-B581-41AC32E4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F01A0-DA7A-4794-AE14-B2AD5001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99FEB-5599-4BDE-B34E-98DB5480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5A1EB-AC0F-4D99-82A1-DCC256D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51B67-3C5A-4EE6-B219-CDC9ED69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E8F5A-8CF8-4B76-B725-BB31BBA7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1747A-D7DE-4E2F-9603-4624349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1C15-C556-47AB-B21B-D1E951527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B1D6-EA24-4CBB-BFC2-AD99DB5923C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5565D-D69D-4E75-92DC-829C2B36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79AC0-919D-44F2-82F7-4001E262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9CEB8-2C1F-41D3-80CA-5EECC702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5C249-E8D3-43D8-A73C-AF430070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7C426-6AF1-4380-87DA-8922195D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9517B-F4B6-4537-9A1F-0AA16E48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91419-264E-40D0-8449-409D63D1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3AF71-83DA-4412-9768-9D9A39DA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21D25-CAD8-42EC-9936-D660254B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A3B43-6F67-4AEA-BEE9-FA0641BD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B9DD-D3CD-4CD4-ACA9-AB16FBB7C97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5F169-5E7F-45B1-854A-3D6F26B9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C216D-D97B-4ECB-9972-43745A8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83A64-4F0B-4B2E-99D4-64A37BA0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8E2D2-62F2-4B40-B8D7-D24179FB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841DC-E0F0-4D0F-9229-57AE660B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7B516-07BB-4AFD-B6A8-33825703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82415-85F3-468A-B9B8-0E871AF6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9E662-2B5B-4591-A4F3-43419C4A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EFC6C-DD4A-4082-BB62-4B8B7634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B4391-AAFC-4DB4-AA7D-F668097B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03A9-907A-4F14-8DA9-312AFE9602C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9C2E3E-ACFE-49F4-83D3-F7A0CF5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557CBF-571B-4ACC-A170-A57A277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09E8F-36A3-4449-B982-273B35EB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45349-066B-4F16-ADAE-12D586C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C11B6-DFC0-4A1A-A0E5-EE211179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E593F-5372-4C6B-BDC3-AB5ACD8F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6284E-3004-437A-889B-EFE5B098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072C6-0C5D-4F28-B7C9-DC47FA7D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361AE-B4D9-4C5E-AB3C-73CE558A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CBCE1D-8799-4AD1-83A1-1F2442ED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CF4A-0F2D-4AFD-B8FD-28AE1E65E0E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282DE-5EBF-4696-A3A8-F4C81D50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04F7D-964F-47A1-81C9-F3879F04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33FE0-E211-4A97-A66A-FEBE176E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C385F-C0E1-4CFE-9DD3-71B43AD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381F1-CA0A-43C9-9A51-54B87A9A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BC17E-B01A-47B1-BB97-593F8DA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CBB8B-165C-41CC-9D8C-326576B7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6F587-887A-40FC-BAA2-F392D207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93A8F-D26F-4DCD-ABE1-CD3FE54E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FC36B-A984-4D7C-8593-A3E46096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32B0-3C67-4497-AED1-7AF56D2FB73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1E8AB-3EBA-47E3-A325-38D2F83B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B4D5CD-067F-4EDF-BB88-9D8EC7B0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6CAC2-56BC-48C7-98B2-E726796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81770-D25A-458C-80AC-CC77871C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71F65-B583-4385-A97D-97D9C784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FE177-0FAD-4791-BC98-EDAACB95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346C9-0178-4533-BD5E-E4B0459E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4AA7C-2D15-474C-BB19-2F1AFEA1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DB17F-4473-43F3-89FA-E09113E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6BBCC-5A37-4EB8-B4BB-6ECA5F22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E63-9C5A-4F4C-A091-5C5A82968EE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A43DB0-19A1-4644-8540-725D856F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D338F4-FEE5-4861-ABA3-9E8AD558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697D6-1E97-4542-8C03-25D38EED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909C3E-9292-42E3-9A1F-03A79103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B5F3E-C330-4D76-B507-B52DF07A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8485C-C1DB-4D80-8104-C7149A58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8015C-1981-4BFB-9557-2A1F317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B332C-EE33-483A-9B0A-8D372D32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A8A60-159D-46AE-B5F4-8AF2FA8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23782-C370-42F1-A12B-AA6387C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046-55A5-4B34-908C-F16089A9E88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37E8F-8063-4F45-89AD-746A9DE6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147D9-1ABA-411F-A855-0AEDD1DD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A29C9-3B4E-41C1-B78F-D6D2DA16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629E26-DBE1-4D84-B9E8-82B0BD12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C2889-BE11-408D-B896-E6EF36F6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3FD52A-3394-43D9-AC6C-62723832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EF03A-1BAB-477C-8AE5-D2335766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97A8D-854E-413E-9EE8-8F3A0D7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89D5D-83BC-47CB-9A34-C46C35B0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9A05B1-95EA-4BCA-A277-19C589A6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55A-C7AB-41E2-80FB-807A76B4B3A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FF317-1F55-4060-BA25-142F8717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490F5-3AD1-40A8-BADC-7E5DA67B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9D4263-6F67-427C-80D3-D8B9F201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ED1A7-971B-4C04-BA39-7E27FEF5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A9E6E-4F3D-4072-954F-230171DA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654AE-511D-472A-B810-F6C23F57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80984-0954-4F92-9BC6-47E22E23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9F3F4A-978C-49CE-AE6E-70A800DD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22A7F-2F7B-448F-854C-A530A8D9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F55169-BF0F-46B4-B20B-2CD1DDA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0A5-8A35-4903-8653-6F59D8F6DC8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EFFEC-0FE8-487D-AF88-A5FFFFF3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5DC40D-1E41-4AD6-AEA8-CE0B79FC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1ED526-10C8-494C-B62C-B9699B6F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9DB99-C4DD-44B6-B3B3-9C13E14C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4D3A8-22E8-429D-816E-20256065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F8A24-FD03-466B-B28B-4FC012AD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D8343-8E76-4310-B258-CBE7B33C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1C315-8D3C-4A8E-A378-F2DF2BCD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C7F874-EA4D-4FD1-AB7C-27DFD24C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EEA96-04FB-4F5B-99C3-8C746531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0FE-D3AA-4D1D-BCB5-7EB4A1606E6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4EF9B-7CEA-421F-B12D-5AB34FE7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3F35D0-281D-4F7C-AF99-4C5FFDF2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E7BA1-E4C0-4D2C-A4C7-2938314E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58933A-A73A-48B3-9BD5-D6FF03C4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F2CD5-5FD6-48B6-889F-1503BF29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F38700-5241-4932-AE3E-116C1D57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73565-7464-4451-A1B7-8FF0272F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A1370-A601-47F3-94C0-13267A17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F1AD57-0E27-4882-8117-B50E5769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10B65-8172-44DC-9A9C-A43D7138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8933-46BF-463A-82F7-4111ADE47E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B04-9B04-4C74-9029-D0323E3D299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EABB7-17A9-4CF3-8066-B9CC82C7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CF2FEB-35B1-442A-BFD5-38D0531B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4F1A3-E2D3-4096-90F8-F6B432DD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F5F697-515E-47A8-97D3-7949DE05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6E6A9-6A5A-4E94-B970-11AD9A4B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F8CB40-E1F0-4C8B-923E-613A7819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3F53D9-5308-4518-9E3E-47D34CC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44231-9C88-422E-940C-CA9AD12E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1E8B14-7C62-4509-81AC-F7699574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4CE041-92F5-4373-9912-A4129C8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D39-11BB-484E-878A-6C1AE3D0504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00B68C-4779-4D34-A0C2-E8400E0C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E4BE52-6276-4696-9322-2D069435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22FDBA-D861-440C-A3ED-400ACCDD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903-8205-4764-97A2-F16E473EAB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E12-70F9-4DFC-9FF2-C048F6ED18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A37-99E9-44BD-98C1-857C5C0328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04F-A68A-4446-A852-B1E77B0E85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FC9-0988-4799-8C00-8187EF7097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6DEA-C4B3-4E18-9224-0BA4E0D2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9BCF-C4DB-47D5-B40C-E92F6D5E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CCFC-4E93-49D0-95C7-08623446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F45E-DBE1-4E90-9ACE-27E837466B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3787-7115-4C5B-A73C-B94B4FCA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CD95-5761-4EDB-8CDB-3739839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4E2E-F67C-4AC4-93F1-2D79AF86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484B-F8BB-463D-98AE-64D97820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0A98-658D-46FE-9092-CEE4E7D0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6963-AFBB-42E3-8FB9-ABAF43B0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96B3-480B-49A7-8AF8-5EAD186B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030A-24D8-4EFC-ACD9-58BDF0B4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E38D-08F3-4733-AA3B-31FB73A1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C521-41AE-4AD8-9027-DBF6A9A2F1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1827-8B18-4BE1-8DFD-89AA47686B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28117-B2A0-4CE2-9D3B-0A00D349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CBB39E-B9FB-4D84-8935-2F240AA8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58235-4434-449D-9D36-DE77BB3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FC47E-D7BF-454C-98FC-B5667D62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FE2A30-99C1-4F4D-B5FA-15CA4A0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94AA9-1C21-4749-A34C-CF3B23C4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16447-C1C9-4EEA-B05B-9C89342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BFC24-C5DE-4CB4-AB2E-6A5D4E6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E82627-199C-4AD6-9458-B86EEC94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A526-78F7-4DDC-8356-40136433D9A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1F726-61D0-49F5-A106-89FF3986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9EB0A-2770-42F2-BDD6-9DCC9E24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EC63C-071A-4645-8C56-00407C42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D171-C1B7-476A-AD71-F5E1ADA56A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5A63-FD96-4FE7-96D7-97422380532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842E-8441-4631-A1FC-FD6686CA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B4B9-20FC-42F0-993B-FA985AF9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3E72C-B3B2-4AFF-B11A-A43F67A5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61F9-AD36-424C-AFBB-2FD130DFFD35}" type="slidenum">
              <a:rPr b="1" lang="nl-NL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88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77FA-BE42-464F-89E4-C2ED566BCF90}" type="datetime2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woensdag 29 juli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CCFD-DD5E-40DB-B822-148FC25681B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4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5C71-23A6-4FAC-AFF0-5D0897F7621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9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8163-46CE-4DF0-87A0-F991A45490E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4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D523-B210-4ECB-84C5-5AC06ECDFAE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9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A9D-FCC6-4243-BA61-8801344EB22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5658-3572-4379-BCD8-AEC916B09D4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441E-52F3-4D46-B110-E3D6612C757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5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CDAB-3011-4813-A960-85D923C7E8A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0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F5B4-968F-4385-AF06-CCEEF19A728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5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CC08-824F-4B5E-B732-494ED86B0BD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B421-A767-418A-B4EA-C8C9169D16C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0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754D-54E1-475A-9BB0-C4BB7B93B72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6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4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5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DF5F-63D6-43DD-9284-0D24FB56265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5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5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5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79C1-6AC6-4E40-A926-4D4408AAB3A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5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5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5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B058-47A2-4DC6-AAC0-D29EA3F9A83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dt" idx="5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 type="ftr" idx="5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 type="sldNum" idx="6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75B8-1CB6-4B81-91DB-85854409360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7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6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6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6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9234-4B47-47C7-AD66-9C284ADC475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2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F917-E650-417A-A2BE-89A8DB9D7B2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AF63-C9AC-47D2-8354-1970D86D8B6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2E73-408F-4615-BAA2-993BCDC4493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0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38FE-73F3-435E-9472-8D1678BE104B}" type="slidenum">
              <a:rPr b="1" lang="nl-NL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9E79-5B76-4F04-9806-ECA6EE704026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F12B-C415-41B5-94B5-8573B47B74FE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1575-54E6-4F09-8D40-82973E626D0F}" type="slidenum">
              <a:rPr b="1" lang="nl-NL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s vanda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kijken opdracht 4a en 4j en opdracht 12 a,b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uitleg Zouten in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ken opdracht 17 t/m 19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og een voorbee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1329" name=""/>
          <p:cNvGraphicFramePr/>
          <p:nvPr/>
        </p:nvGraphicFramePr>
        <p:xfrm>
          <a:off x="0" y="549360"/>
          <a:ext cx="9144000" cy="6342120"/>
        </p:xfrm>
        <a:graphic>
          <a:graphicData uri="http://schemas.openxmlformats.org/drawingml/2006/table">
            <a:tbl>
              <a:tblPr/>
              <a:tblGrid>
                <a:gridCol w="325440"/>
                <a:gridCol w="3854520"/>
                <a:gridCol w="330120"/>
                <a:gridCol w="2154240"/>
                <a:gridCol w="282600"/>
                <a:gridCol w="2197080"/>
              </a:tblGrid>
              <a:tr h="712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utformules ma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oorbeel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 formule van aluminium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er de naam van het zo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am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minium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t de ionen in symbol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symbolen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r>
                        <a:rPr b="1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t de verhouding van de ionen in het zout eronder.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 totale lading moet nul zij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houding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: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5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er de verhoudingsformule. Zet de ionen tussen haakjes.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aantallen in de verhoudingsformule schrijf je rechtson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houdingsformu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l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at het cijfer 1 weg. Kijk of de haakjes nodig zijn. Deze zijn eventueel alleen nodig bij samengestelde io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eenvoudig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r>
                        <a:rPr b="0" lang="nl-NL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akjes kunnen we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rijf de formule zonder ladin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der lading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r>
                        <a:rPr b="0" lang="nl-NL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rebuchet MS"/>
              </a:rPr>
              <a:t>Oplossen van zouten in wat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en vast zout geleidt geen elektrische stroom. Dat komt omdat de geladen deeltjes niet vrij kunnen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er geleidt geen elektrische stroom. Dat komt doordat water uit ongeladen moleculen bestaa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en opgelost zout geleidt wel stroom dit komt omdat de ionen elkaar hebben losgelate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066A-E434-4602-925B-A92ECFCACD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Ionen en zouten: oplosbaarhei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1" name="Text Box 3"/>
          <p:cNvSpPr/>
          <p:nvPr/>
        </p:nvSpPr>
        <p:spPr>
          <a:xfrm>
            <a:off x="228600" y="1752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ssen alle zouten op in water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4"/>
          <p:cNvSpPr/>
          <p:nvPr/>
        </p:nvSpPr>
        <p:spPr>
          <a:xfrm>
            <a:off x="91440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, niet allemaal, maar dat weet je hopelijk al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5"/>
          <p:cNvSpPr/>
          <p:nvPr/>
        </p:nvSpPr>
        <p:spPr>
          <a:xfrm>
            <a:off x="304920" y="3352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weet je of een zout oplost in water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16"/>
          <p:cNvSpPr/>
          <p:nvPr/>
        </p:nvSpPr>
        <p:spPr>
          <a:xfrm>
            <a:off x="914400" y="4191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as Tabel 45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inas tab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verzicht van belangrijkste i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plosbaarheid van zou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7" name="Rectangle 4"/>
          <p:cNvSpPr/>
          <p:nvPr/>
        </p:nvSpPr>
        <p:spPr>
          <a:xfrm>
            <a:off x="466560" y="5734080"/>
            <a:ext cx="83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cc"/>
                </a:solidFill>
                <a:latin typeface="Arial"/>
              </a:rPr>
              <a:t>Een zout heeft totaal een neutrale l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5"/>
          <p:cNvSpPr/>
          <p:nvPr/>
        </p:nvSpPr>
        <p:spPr>
          <a:xfrm>
            <a:off x="161928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 Black"/>
              </a:rPr>
              <a:t>Onderdeel 3: zou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6" descr="binas_oplosbaarheidstabel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0F55-2A07-470E-AD00-E51054E08B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Ionen en zouten: oplosbaarhei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685800" y="1295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werkt Binas Tabel 45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16"/>
          <p:cNvSpPr/>
          <p:nvPr/>
        </p:nvSpPr>
        <p:spPr>
          <a:xfrm>
            <a:off x="762120" y="2057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1: kijk welke ionen je h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17"/>
          <p:cNvSpPr/>
          <p:nvPr/>
        </p:nvSpPr>
        <p:spPr>
          <a:xfrm>
            <a:off x="762120" y="26668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2: kijk bij de combinatie van de ionen wat er staat: 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18"/>
          <p:cNvSpPr/>
          <p:nvPr/>
        </p:nvSpPr>
        <p:spPr>
          <a:xfrm>
            <a:off x="1219320" y="38862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 : lost goed op en geeft geen neer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19"/>
          <p:cNvSpPr/>
          <p:nvPr/>
        </p:nvSpPr>
        <p:spPr>
          <a:xfrm>
            <a:off x="1219320" y="46054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 : lost matig op en geeft een neer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0"/>
          <p:cNvSpPr/>
          <p:nvPr/>
        </p:nvSpPr>
        <p:spPr>
          <a:xfrm>
            <a:off x="1219320" y="534816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 : lost slecht op en geeft een neer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5379-0BF4-4E37-BCAD-D7BBF69817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Ionen en zouten: oplosbaarhei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685800" y="1506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st natriumchloride op in wa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762120" y="3352680"/>
          <a:ext cx="6095880" cy="1752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el 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nl-NL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nl-NL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2" name="Text Box 15"/>
          <p:cNvSpPr/>
          <p:nvPr/>
        </p:nvSpPr>
        <p:spPr>
          <a:xfrm>
            <a:off x="4343400" y="4343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16"/>
          <p:cNvSpPr/>
          <p:nvPr/>
        </p:nvSpPr>
        <p:spPr>
          <a:xfrm>
            <a:off x="762120" y="20574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1: Na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n Cl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17"/>
          <p:cNvSpPr/>
          <p:nvPr/>
        </p:nvSpPr>
        <p:spPr>
          <a:xfrm>
            <a:off x="762120" y="27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2: g </a:t>
            </a:r>
            <a:r>
              <a:rPr b="1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lost goed op en geeft geen neer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18"/>
          <p:cNvSpPr/>
          <p:nvPr/>
        </p:nvSpPr>
        <p:spPr>
          <a:xfrm>
            <a:off x="762120" y="5562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3:NaCl(s)            Na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(aq) + Cl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19"/>
          <p:cNvSpPr/>
          <p:nvPr/>
        </p:nvSpPr>
        <p:spPr>
          <a:xfrm>
            <a:off x="3048480" y="5560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20"/>
          <p:cNvSpPr/>
          <p:nvPr/>
        </p:nvSpPr>
        <p:spPr>
          <a:xfrm>
            <a:off x="3735360" y="55627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49EC-5986-43E1-93DC-D67CEBD551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Ionen en zouten: oplosbaarhei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685800" y="1295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st calciumnitraat op in wa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1" name=""/>
          <p:cNvGraphicFramePr/>
          <p:nvPr/>
        </p:nvGraphicFramePr>
        <p:xfrm>
          <a:off x="762120" y="3352680"/>
          <a:ext cx="6095880" cy="1752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el 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1" lang="nl-NL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nl-NL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1" lang="nl-NL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2" name="Text Box 15"/>
          <p:cNvSpPr/>
          <p:nvPr/>
        </p:nvSpPr>
        <p:spPr>
          <a:xfrm>
            <a:off x="4343400" y="4343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16"/>
          <p:cNvSpPr/>
          <p:nvPr/>
        </p:nvSpPr>
        <p:spPr>
          <a:xfrm>
            <a:off x="762120" y="2057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1: Ca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n NO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nl-NL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17"/>
          <p:cNvSpPr/>
          <p:nvPr/>
        </p:nvSpPr>
        <p:spPr>
          <a:xfrm>
            <a:off x="762120" y="27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2: g </a:t>
            </a:r>
            <a:r>
              <a:rPr b="1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lost goed op en geeft geen neers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8"/>
          <p:cNvSpPr/>
          <p:nvPr/>
        </p:nvSpPr>
        <p:spPr>
          <a:xfrm>
            <a:off x="762120" y="5562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3: Ca(NO3)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19"/>
          <p:cNvSpPr/>
          <p:nvPr/>
        </p:nvSpPr>
        <p:spPr>
          <a:xfrm>
            <a:off x="3053160" y="5560920"/>
            <a:ext cx="7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20"/>
          <p:cNvSpPr/>
          <p:nvPr/>
        </p:nvSpPr>
        <p:spPr>
          <a:xfrm>
            <a:off x="3818880" y="5562720"/>
            <a:ext cx="36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+ 2 NO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(aq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563C-70EB-4DBB-B887-E86D8CB020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Ionen en zouten: oplosbaarhei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0" name="Text Box 6"/>
          <p:cNvSpPr/>
          <p:nvPr/>
        </p:nvSpPr>
        <p:spPr>
          <a:xfrm>
            <a:off x="685800" y="1752480"/>
            <a:ext cx="7162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st magnesiumhydroxide op in water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1" name=""/>
          <p:cNvGraphicFramePr/>
          <p:nvPr/>
        </p:nvGraphicFramePr>
        <p:xfrm>
          <a:off x="604800" y="2836800"/>
          <a:ext cx="6095880" cy="1752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r>
                        <a:rPr b="1" lang="nl-NL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</a:t>
                      </a:r>
                      <a:r>
                        <a:rPr b="1" lang="nl-NL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2" name="Text Box 21"/>
          <p:cNvSpPr/>
          <p:nvPr/>
        </p:nvSpPr>
        <p:spPr>
          <a:xfrm>
            <a:off x="4343400" y="35812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22"/>
          <p:cNvSpPr/>
          <p:nvPr/>
        </p:nvSpPr>
        <p:spPr>
          <a:xfrm>
            <a:off x="5295960" y="4282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 Box 23"/>
          <p:cNvSpPr/>
          <p:nvPr/>
        </p:nvSpPr>
        <p:spPr>
          <a:xfrm>
            <a:off x="3962520" y="472428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lost slecht op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24"/>
          <p:cNvSpPr/>
          <p:nvPr/>
        </p:nvSpPr>
        <p:spPr>
          <a:xfrm>
            <a:off x="971640" y="5611680"/>
            <a:ext cx="480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lost niet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s van zouten opstel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0" y="692280"/>
          <a:ext cx="9144000" cy="6191280"/>
        </p:xfrm>
        <a:graphic>
          <a:graphicData uri="http://schemas.openxmlformats.org/drawingml/2006/table">
            <a:tbl>
              <a:tblPr/>
              <a:tblGrid>
                <a:gridCol w="324000"/>
                <a:gridCol w="3855960"/>
                <a:gridCol w="330120"/>
                <a:gridCol w="2155680"/>
                <a:gridCol w="282600"/>
                <a:gridCol w="2195640"/>
              </a:tblGrid>
              <a:tr h="7016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utformules ma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oorbeel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 formule van magnesiumchlor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er de naam van het zo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am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gnesium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t de ionen in symbol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symbolen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1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r>
                        <a:rPr b="1" lang="nl-NL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t de verhouding van de ionen in het zout eronder.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 totale lading moet nul zij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houding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er de verhoudingsformule. Zet de ionen tussen haakjes.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aantallen in de verhoudingsformule schrijf je rechtson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houdingsformu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g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at het cijfer 1 weg. Kijk of de haakjes nodig zijn. Deze zijn eventueel alleen nodig bij samengestelde ion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eenvoudig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akje bij Mg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an we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rijf de formule zonder ladin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der lading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Cl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29:27Z</dcterms:created>
  <dc:creator>Arjan Helder</dc:creator>
  <dc:description/>
  <dc:language>en-US</dc:language>
  <cp:lastModifiedBy>Lennart Koomen</cp:lastModifiedBy>
  <cp:lastPrinted>2015-02-27T07:18:33Z</cp:lastPrinted>
  <dcterms:modified xsi:type="dcterms:W3CDTF">2017-05-16T07:28:42Z</dcterms:modified>
  <cp:revision>94</cp:revision>
  <dc:subject/>
  <dc:title>Van komma naar getal</dc:title>
</cp:coreProperties>
</file>