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dt" idx="7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ftr" idx="7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6"/>
          <p:cNvSpPr>
            <a:spLocks noGrp="1"/>
          </p:cNvSpPr>
          <p:nvPr>
            <p:ph type="sldNum" idx="7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C2AF-8408-4894-97C6-B8F71AB48A1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42EE-E437-4707-9A78-5DA03AF863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t plaatje dient om te illustreren hoe e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ut is opgebouwd en hoe die ionen dan gerangschikt zijn. Dit is overigens bij veel zouten op een andere manier. Het begrip ionrooster moet je ke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95FB-10CA-4602-833B-96C018510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4C24-8B49-4593-BCD5-67DEB1190B1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9B08-097A-40B1-B897-C7378227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B9359-9C3A-42CD-B332-8DECC96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0B12D-908F-4ED0-BD1F-829E8339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DE34-E8B7-46FA-82E1-09879FD1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C8EA8-7A4D-47C1-89E6-7660D8EA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E137D-2434-4615-9D5D-9876AB30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06745-AB07-415D-9512-9499ECBE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4FE9E-3127-4E40-A9F6-339DFA2C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0EE7D-0DEB-4484-BC2E-3162479F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237D6-C007-4619-BE09-FA0BA480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0142-E31A-4005-889C-A7A558239E9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4C4B0-6B08-4FDD-AA13-E3AAE0B5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17F58-CB60-4D91-9908-9EDA1D80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6CB89-82E1-4CD5-83EA-72F9E7AD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EF505-2250-491D-8AF4-EB7CAA38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298E3-8818-4C74-A37F-451246D2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1C8D0-BF45-4C77-85D8-4398A5AB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68A46-E7BE-42CF-BE32-9450F3ED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050E6-BA02-4AE0-9745-362149C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B79D-3067-4509-B822-35609EFD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E768C-9BC3-48CC-BD34-F656A496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1013-991B-4BD4-8BD0-1A4B50258FF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B2E70-5B9E-4D56-A76B-09F262C3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D65FB-A807-48FC-B0C6-E75021C4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CE7E6-665A-4096-B1B3-4C1CCDDA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D886C-33FF-4895-B153-FF0BFA51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228EA-EF3B-4E3B-ADD8-F071106F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27CB9-6E0C-4862-8E9F-E0AF6F77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EAB28-EF4A-4992-8DB5-3FCB9EBC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99F59-5AB6-48B3-8B3B-AA71E397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EB68C-21A2-4C28-8A90-1C02F88C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2D33-8249-41C0-8862-EEC7A065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0E1C-B442-4C34-B9EE-277A410B543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6CD56-AA3C-4DF8-B183-C46A9B60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0E670-8798-45A1-A1D0-24E30063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9CDBE-954C-42E5-AC15-3B11297F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0B707-5EC6-45D8-AA25-CD365A6A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45F9A-8DD7-4E95-988F-F1EFAA54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2753E-5DB7-42A7-879F-07C87F24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67011-D138-44A5-A459-71B83F6E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DF78A-CD43-4547-A9E7-451977ED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68E0A-962C-4188-BE0F-F3BE5784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10F7F-816D-4F4B-86D4-5E1749C8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A600-3848-4741-A754-549E4B84CA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EA4C2-4EBE-49C1-B231-7ECE514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D9CEF-2583-45AD-8706-5FB2AFF1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00FA8-5A10-46D5-ACC9-7A965A94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5B0F-F9F9-49E2-8C6D-7E49FF5E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7EB06-5284-4C9B-84C5-9FE891B6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F6F90-5F97-4822-A3A1-E5C33D6C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0F646-19D6-4B8E-8832-2AD2928A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DCC4C-7B2F-4618-A914-1C090D73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7B803-7742-4611-A472-A053045D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38837-BF99-4E76-9BD1-948B0E78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2FE6-87E0-4979-84B5-1A72809CAB2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4D19A-3FCE-48AE-8E01-C679DE31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38346-54C8-49EA-AA60-47CC4773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0AB31-04E5-46B9-9862-8007AFF9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97796-E721-4B96-AF45-0658052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3FC34-C6D5-4D0C-9A90-73A93D80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710AD-8470-4C31-8317-6C19C2F2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8DE0F-5105-41EB-93E6-4ABEB444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38A53-EC7E-42C3-8E36-10480E7D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4B17C-CC4B-489F-AB91-53A6DC57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ED3CC-E070-4D28-AFFF-09629478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CDD8-7515-4068-AF86-EA5949E57B7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2B9AB-0035-4402-9CD9-79988292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D6BB5-105C-438D-A6DE-20326504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71BF4-E5FD-455A-9962-38D18037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31AE7-E88E-4404-975D-DC867141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2F568-F76C-4FF5-A46F-44644186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43370-2568-4AAF-8BB0-5A292D0B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53247-7E7D-4416-91DF-DF226A4A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5876F-DFA0-49A0-B411-EE95A035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8D6BB-B624-425B-ADC6-ECC0FA9D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C6ACE-1765-4440-996F-07F88EBD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371D-8DC2-431C-8329-AF07E99A740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795FC-3F15-4737-9384-77C72562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5D82C-8E4A-46FA-8898-2F986A0E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C1617-E58D-416C-B494-227DDAF9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94B93-C891-4871-B1DA-FE46A451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6681B-5390-4855-A16F-E588EABE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85A7F-0BA2-41C1-9D5E-1E99DBF9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A4ECD-034A-4DA1-A6CC-DE266F8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117B5-6DE9-42E2-910A-B7CD89F6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53E50-5A28-45DD-AD11-5B079FAB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EBAD9-ED6C-40AC-BA7B-75BEFBD5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81F7-4581-4AAF-B849-F7041FE528F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37BEF-8E2E-4C68-8EB8-60FAEC01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A5AEB-E256-4688-AF58-BA9777C6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8ABCE-247F-4811-AB44-44A6A3CA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2164B-224F-43AE-9F41-74856C0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F9469-EBE6-4B3F-AE4B-D8B65B6D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34111-BA1C-4DD7-A56B-CDE18FF6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89BAF-91DB-4EDE-B7B4-A912F7BE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2A823-1C21-42A9-BB59-85401831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47CA8-D4BE-4E03-8C2A-DE40CD4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8AC72-C087-4D80-840B-2D9EC49D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8E99-F70F-4191-B833-B59C026FA51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BB2B0-9625-42E1-AFB3-3DFC5369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67AB0-5328-436E-9FBF-41358A44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A1349-B937-4DA2-A0AA-7BDD31DF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EAF6E-516F-4924-BBC2-DDE5DC56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5DFFD-33E0-4758-B995-51D93176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BE0A4-CEC3-400C-9E4A-E45D4CF0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E5174-D988-44DB-A16E-8375938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DAA9A-06C9-4E8F-AFC4-FABB1AE4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85B9E-DDAC-4988-B317-3D3E284D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E5A63-6690-4695-8045-98F0F5A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C02E-6E1F-458F-AE27-A53E6557C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D4955-CCAC-47A4-A772-A6CAFA5278F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46DAC-8D59-4D3B-9613-E088AE05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E2454-258E-4FD7-BA52-45D70C41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F6B46-4CDF-4FFE-804F-01C3CE55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04CD2-6756-4FF8-9F82-CA20E3BA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081F1-72F9-4451-AD71-36A2B3D1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154BA-0F8D-4812-867D-0722F597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8C165-2D7E-4235-A750-81D04A62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0EEC6-DCFD-4EA3-BC59-963DB916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0D89D-A55D-4CEF-A572-F0340634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0B3D6-3A7F-41C6-987A-EE4DF21F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ED65-E24E-4B70-A8AB-04F4669B1FE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00B44-2D39-4CA9-807A-8FBB93FC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C1C19-0F3D-4E4F-9E55-4F8BBB5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F893D-A235-4E51-B00E-4EE0A0BF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2CE1A-84B4-415D-B516-1D54AABD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9DBA0-F6AD-4BF0-AC56-0A90E3AF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D42FF-54E1-4571-8B97-179B6990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40BFA-6188-4F5B-99E2-86890952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21C01-ADAF-4DBF-8BB7-0CAF6D1E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121CF-AAA0-4DC9-A807-947CB67F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20D1B-F080-48FB-B2D7-6407F8AF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65C0-45F5-4331-A18D-79C22AD96F0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535A7-9210-406F-9C07-D91E4B4D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3CAE73-7539-4F7C-A690-82F9BEF9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323FB-A584-4E5C-8CF1-63C99B4F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6C72A5-0E25-48DA-A26B-261D02A1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D4419-7976-45C8-B272-7A366200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E378B-5156-466A-AA43-493F59F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A7368-A333-4F13-A6D2-F59816EC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ED6EF-DF1A-4031-860B-FC5DDCA8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1C48E-DAF7-4EB5-9BBF-3831CEFC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0B203-8441-4181-97F5-5D996A14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3EF0-BD9C-4D56-9241-479ED519AD5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5013A7-BB19-4F52-952D-FBDF4FA6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34CC3-48CD-4E82-BD7D-92661D73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E0A56-56EB-478B-920F-1E399193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029C8-EDFC-435E-A1F7-1EED25F3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999C3-5F6C-463C-9212-07754103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0B58CC-461C-46E8-AB2F-E0AB26A5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C0F2C-67D1-4762-9B6C-4474CD64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F258C-4E6E-4E3C-8174-CACCB5B7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F17D6A-E599-4C85-BB27-C1CC8EF2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9B4046-F618-40FD-8853-7435FBC3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CA86-542B-49A2-8E13-61AA4D31617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1A334-341F-4730-8621-C4C88E4A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6C0FD-2FD7-4099-B7CF-1975EB9D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C47F2-18CC-413F-B014-17A6DE84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50B23-E09C-489B-B262-F13C8085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601E4-5745-4FB0-AA59-F386A714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D1CF6-72EA-487A-8816-81BB0EF7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3E14E-ECB6-4EBE-AF28-8D96E448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7AC1F-B271-4EA6-98F9-1097A7BE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41ECE-9861-488A-9A8D-A71B46F5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6B7E9-1E7B-463C-AC0C-08F1CEA7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C4B-69AD-4D43-8441-8AFE5D0A633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16217-D8B2-4C26-AE34-E94142B1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5AEB3-6C9B-44AD-9A42-DE7C89E9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8DD892-34F9-4055-9118-15EBE326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16078-EF47-4ED3-8DBA-6A2DF15F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5099D-0581-4821-8C6B-2E1EA88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854EF9-07B9-4D7A-9069-D6D26A7B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BAEC8-DF1A-4B37-AA56-94A78A9C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47F03-570E-4F8A-A011-3E3D36A3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BE7069-9019-4AA5-AAE8-968F8AFB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D59685-6753-45D8-B7D9-6B0D2BE5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9A7-0BA9-49B6-9D23-965B8FC3D67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4D3584-4F62-4F69-AFDA-72E3DF2D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C16A2-AF43-46C0-A3DD-95AA05D4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06512-30E4-4AA3-B70B-E8C4291B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CE89D-BB94-4230-9491-ACF16255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A6879-2808-4DAA-B406-C03C03B5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1EDED2-D35E-4DE4-8A90-121D690D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B85B03-606D-4A66-B817-BB634B8D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F2556-296D-41F4-B282-AAD492B8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8F6C2B-48CB-4922-A2ED-8577E713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F7BAA-1CE1-434B-B015-9D51CB84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D5B-DE47-40B5-BB78-6C129496A81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57EB1-4BD7-4B2D-928D-D5E06EE9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3A45A1-04CD-4352-B327-5CA25C3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E4423-4BC8-4A82-A1B5-72AA1B04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2D70D0-1F8E-40E4-B008-49B51904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79F35-2F15-4CBE-8286-7BA13379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2C202-804E-4BE7-9B58-EC02989F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7719AF-CFCF-476A-9941-E0097264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8AE047-0885-4488-8669-02EE3107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88AF2D-F42C-48F7-89D0-D68E5741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8808EE-C0AB-47A9-98CD-B906B0E1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6A2-1BF8-40E1-91EE-46A2DB37B18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8B1F1-DDFE-44BE-ADA1-F013BFDE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3B36D1-DE86-4F6C-AF6E-7755ECF6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504C5-FEE1-4188-B45C-75B9836F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3E124-D4A5-4286-A882-D94E8BB1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896A10-C42B-462F-A7C9-41D2C1D3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2DCE8B-8E93-4093-8B83-B47B7B8F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18CAC-B1BB-4CF1-B749-876AA831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C6761-022D-4ED1-A6C7-6BA43342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B20BF3-701C-4A0C-88F6-9B3D7A31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7AD53D-C031-44F0-A0DF-F35E0E33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5DC-1686-43E5-A01D-804C64EEE52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A14C0F-3A78-4AA0-80FC-96F6E3EB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4E7FE-9276-4F3E-8CF3-B924598D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130AC-08CB-4304-86B1-07A37285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75ABA-7640-453D-83B7-6237709F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8FA732-4A18-41CF-A3B0-FFDE15E5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24C82-EC35-4872-A258-3126B5BF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FDAA84-ED41-4EF2-86D5-FB440DA9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DF43CF-883B-4EC6-8641-D9B672F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DE40CD-3EEA-40BE-A94D-D22D4FE9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080F5F-37B7-40D6-A9FD-DCFF0D4B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D976-EEB6-467B-835E-5707815CFE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7BF-19D5-4126-BFBC-AF7037FA021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8BB42-4F71-4EF3-8C37-211580A7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C30FEC-5BE9-4A27-89BD-B5F89CBB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49B3EC-B468-4FBC-9C30-E28B24E4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9FFC9F-671C-4505-8A78-451E7C45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E9D21E-9A2F-4F72-B7F6-ECED06A4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6D8DF1-F5B4-4B96-8A00-4C0C16FE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D829DA-C49B-4B32-A123-2FCC65E8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FD1590-35D9-4E1B-9557-A424068C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0CB66B-EE29-4280-A071-7EE56DAA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D3242A-5748-4714-8B05-49773F65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F9A-D4D4-43ED-846E-F7BF3E0EE33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387600-76F2-4E94-BEB7-056D7B63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335489-5E67-4D29-8F1D-256603BC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2774C6-1297-4207-8720-4FCA2F09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22B20A-A66F-47FC-BD98-191CF016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77B0E6-E84B-4E2B-8DEC-439E4280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D9F86A-53CD-48EA-B7BF-0BD7E3AC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33CF3E-E180-46D2-AD11-248DD2A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29266-34A2-47F5-8F60-78F7A6D3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1723C1-B793-4D29-AF0E-0FF1B4E5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489906-0563-4B27-8760-9D73A0BF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404-927F-4768-A69A-44C61C8F5C3C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174F86-5E7C-4C06-BB79-CA567A17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6FB758-DCD9-49D0-9F81-22EA518E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0292D1-E5F5-494B-9549-07273F71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081A58-9AA9-4118-A24C-AA1A5BB8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EBFE4C-45EB-41D5-96B4-3481749D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323-AD9C-4019-A7FD-E4411CF6DC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B51-74DF-4690-BDF7-DE7954375C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29C-7F4A-4632-8755-B1556CBE22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280-478B-4675-94F4-ED5EC1958A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7A45-ED23-4C5C-9B40-9E93E5B9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E40E-0F3B-4FF3-A052-F9E8E6C3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F65F-B324-4BA8-BD96-12340D73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7B97-EA15-46A7-BD6D-331FCFC093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6A0C-6A61-4E79-8025-615EFD98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15AA-3D56-4897-A16E-A47D131B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A996-FFA7-4241-AF64-62608B3B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0DE8-C7BD-454B-80C4-E81BD94B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102B-ADA4-465E-8F78-CCE691E7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A516-0BBD-4973-A5A9-A8FB204B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F64C-2801-4E8A-80B9-7B34F670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9797-47C6-4E54-8E4A-595BCE21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847B-43ED-4CAB-878F-937913BF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E777-DCB0-4CCE-BB19-3D7D7F4980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E18B-3C2E-46D8-9316-EF5DBA3006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DBFE1-3F7A-4A14-ADCC-C530B7B4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F9A57-C16B-41FD-AF13-40848E2C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60CC7-012B-448A-8D10-C572DBAD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C916BC-0C46-466D-A9A1-4BD47BDA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0B17F7-1226-49F3-AD4E-4C237FB1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15661-1180-4BD1-BCCD-E3354B1D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7C680-5334-4CA2-B7A3-765E605C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0A58CE-680C-4EF0-BC58-463AB422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756678-AB14-4807-9B84-F3B4A138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9E3E-965B-48C5-9E93-3C0E84BE57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279A5-1808-4C9E-A5B5-CDB6D0C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C62FBF-594A-422B-AA01-6AF2F702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EA600-FDA6-4BCE-849E-42EDDEAC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DA80-543C-4225-9D1A-48D948482B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15C7-ABEB-46D9-830A-63566305F9E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F5DCF-2F56-405A-BCBB-821F00EF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4B3B3-815D-4A91-B9B1-0AE18826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CDED5-0E67-45DB-AD15-15D0EC9D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9D5C-ECDF-457D-9616-E627EE9A5BDD}" type="slidenum">
              <a:rPr b="1" lang="nl-NL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88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9DB5-F09E-4242-B1D9-EF33D7EADA73}" type="datetime2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woensdag 29 juli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6DF0-A60E-48DC-838E-E2ADC4C1B93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4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B2C1-CBE8-4AEB-AC62-EF054B231AE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9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F920-72AA-43A1-BE9F-A5F7E629751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4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007A-7A51-461D-B08B-D377895AFBA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9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2EC5-B55C-4172-82C4-14DA7B9D9D4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0B25-327E-4518-ADCD-33FB70B4995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965E-18A4-4849-86CD-6D5A5BF3290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5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0A7A-32B0-4B2C-AB8F-17B03F20302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0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C5E3-3B90-4CAA-9B11-EE2362EC7FA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5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4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4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CB09-1B6F-43F9-AB06-B128CB6F1E6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5116-BC68-4625-BC92-B83ADD918D2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0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D41A-53D5-482B-AEA1-3B5175A8E15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6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4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5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5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02F4-D540-4FF7-A591-9713CED373D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1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5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5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5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C814-6BCC-425B-9923-2C592F592D5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5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5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5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39DE-8E0A-4FE5-9885-1B0A434B0E8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 type="dt" idx="5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 type="ftr" idx="5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 type="sldNum" idx="6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4BDC-F3D4-4BFC-9B0D-B76B59F93B5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7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6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6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6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918F-CFEF-40EE-9A14-8E7C59F2011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2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5C0A-CB0B-453E-838F-8B30C731DB7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7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6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ftr" idx="6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 type="sldNum" idx="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7AA6-B15A-44C6-8703-F217054B3F5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4111-6384-4F01-A605-EA1607462914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F8EF-8151-4987-A50D-9AB1E14CC93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0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1AFA-577C-4A89-B6EB-B9BD64FF7279}" type="slidenum">
              <a:rPr b="1" lang="nl-NL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2BDA-A134-4456-9D8B-1FE43F705EEB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7808-94CF-4189-A2A9-20BB5E09FAC9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7D0A-BE7A-4E73-BCBF-F6D10193B423}" type="slidenum">
              <a:rPr b="1" lang="nl-NL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hooltv.nl/video/ionbinding-plus-min-plus-min-plus-min-plus-min-levert-een-stevig-geheel/#q=zouten" TargetMode="External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Les vandaa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rhaling zouten en uitdelen b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uitleg verhoudingsformu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ken opdracht 2c en 2g, 3c en 3g, 4a en 4j en opdracht 9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leg paragraaf 4.3 Hoe ontstaat een zou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ken opdracht 12 a,b blz 89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Trebuchet MS"/>
                <a:hlinkClick r:id="rId1"/>
              </a:rPr>
              <a:t>http://www.schooltv.nl/video/ionbinding-plus-min-plus-min-plus-min-plus-min-levert-een-stevig-geheel/#q=zou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Formules van zouten opstel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1337" name=""/>
          <p:cNvGraphicFramePr/>
          <p:nvPr/>
        </p:nvGraphicFramePr>
        <p:xfrm>
          <a:off x="0" y="692280"/>
          <a:ext cx="9144000" cy="6191280"/>
        </p:xfrm>
        <a:graphic>
          <a:graphicData uri="http://schemas.openxmlformats.org/drawingml/2006/table">
            <a:tbl>
              <a:tblPr/>
              <a:tblGrid>
                <a:gridCol w="324000"/>
                <a:gridCol w="3855960"/>
                <a:gridCol w="330120"/>
                <a:gridCol w="2155680"/>
                <a:gridCol w="282600"/>
                <a:gridCol w="2195640"/>
              </a:tblGrid>
              <a:tr h="7016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utformules ma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oorbeel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 formule van magnesiumchlor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er de naam van het zou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am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gnesium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8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t de ionen in symbol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symbolen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r>
                        <a:rPr b="1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r>
                        <a:rPr b="1" lang="nl-NL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t de verhouding van de ionen in het zout eronder.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 totale lading moet nul zij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houding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er de verhoudingsformule. Zet de ionen tussen haakjes.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aantallen in de verhoudingsformule schrijf je rechtsond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houdingsformu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g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at het cijfer 1 weg. Kijk of de haakjes nodig zijn. Deze zijn eventueel alleen nodig bij samengestelde ion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eenvoudig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akje bij Mg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an we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rijf de formule zonder ladin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der lading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Cl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Nog een voorbee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1339" name=""/>
          <p:cNvGraphicFramePr/>
          <p:nvPr/>
        </p:nvGraphicFramePr>
        <p:xfrm>
          <a:off x="0" y="549360"/>
          <a:ext cx="9144000" cy="6342120"/>
        </p:xfrm>
        <a:graphic>
          <a:graphicData uri="http://schemas.openxmlformats.org/drawingml/2006/table">
            <a:tbl>
              <a:tblPr/>
              <a:tblGrid>
                <a:gridCol w="325440"/>
                <a:gridCol w="3854520"/>
                <a:gridCol w="330120"/>
                <a:gridCol w="2154240"/>
                <a:gridCol w="282600"/>
                <a:gridCol w="2197080"/>
              </a:tblGrid>
              <a:tr h="712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utformules ma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oorbeeld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 formule van aluminium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er de naam van het zou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am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minium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t de ionen in symbol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symbolen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r>
                        <a:rPr b="1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t de verhouding van de ionen in het zout eronder.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 totale lading moet nul zij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houding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: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5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er de verhoudingsformule. Zet de ionen tussen haakjes.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aantallen in de verhoudingsformule schrijf je rechtsond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houdingsformu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l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at het cijfer 1 weg. Kijk of de haakjes nodig zijn. Deze zijn eventueel alleen nodig bij samengestelde io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eenvoudig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r>
                        <a:rPr b="0" lang="nl-NL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akjes kunnen we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hrijf de formule zonder ladin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onder lading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24000"/>
                          <a:tab algn="l" pos="43164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r>
                        <a:rPr b="0" lang="nl-NL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nl-NL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eukenzou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Bekendste zou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Natriumchlorid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Bestaat uit natriumdeeltjes die we natriumionen noemen en chloordeeltjes die we chloorionen noemen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-305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onen zijn gerangschikt in een ionrooster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42" name="Picture 6" descr="ionroosterNaCl"/>
          <p:cNvPicPr/>
          <p:nvPr/>
        </p:nvPicPr>
        <p:blipFill>
          <a:blip r:embed="rId1"/>
          <a:stretch/>
        </p:blipFill>
        <p:spPr>
          <a:xfrm>
            <a:off x="5003640" y="1989000"/>
            <a:ext cx="3691080" cy="4104000"/>
          </a:xfrm>
          <a:prstGeom prst="rect">
            <a:avLst/>
          </a:prstGeom>
          <a:ln w="0">
            <a:noFill/>
          </a:ln>
        </p:spPr>
      </p:pic>
      <p:sp>
        <p:nvSpPr>
          <p:cNvPr id="1343" name="Text Box 8"/>
          <p:cNvSpPr/>
          <p:nvPr/>
        </p:nvSpPr>
        <p:spPr>
          <a:xfrm>
            <a:off x="161928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 Black"/>
              </a:rPr>
              <a:t>Onderdeel 3: zou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uten bestaan ui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en metaal en een niet-met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trium en Chlo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Natrium staat steeds 1 elektron af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Chloor neemt steeds 1 elektron op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r ontstaat Natriumchloride (keukenzou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onrooster en ionbind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eder positief natrium ion is omgeven door 6 chloor ionen en anderso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de aantrekkingskracht tussen positieve en negatieve ionen blijven de ionen bij elk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</a:rPr>
              <a:t>ion bind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347" name="Picture 8" descr="Picture 11.png"/>
          <p:cNvPicPr/>
          <p:nvPr/>
        </p:nvPicPr>
        <p:blipFill>
          <a:blip r:embed="rId1"/>
          <a:stretch/>
        </p:blipFill>
        <p:spPr>
          <a:xfrm>
            <a:off x="4800600" y="3886200"/>
            <a:ext cx="39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9:29:27Z</dcterms:created>
  <dc:creator>Arjan Helder</dc:creator>
  <dc:description/>
  <dc:language>en-US</dc:language>
  <cp:lastModifiedBy>Lennart Koomen</cp:lastModifiedBy>
  <cp:lastPrinted>2015-02-27T07:18:33Z</cp:lastPrinted>
  <dcterms:modified xsi:type="dcterms:W3CDTF">2017-05-11T14:22:36Z</dcterms:modified>
  <cp:revision>89</cp:revision>
  <dc:subject/>
  <dc:title>Van komma naar getal</dc:title>
</cp:coreProperties>
</file>