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C15-562C-4710-94BE-CEBFCD7C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04-B0B0-4465-A16A-352F030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D67-F6FB-4F1E-BB54-F12E1E55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A95-06D4-4671-BC33-781328E4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22B-77A2-477E-9869-84AEAE9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1CA-AAFF-4319-8664-78A54B8D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671-711B-400D-A707-0F811A0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76E-FDEC-4E1C-B048-ED74D222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449-1BFE-4631-99BF-A181064F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765-12FF-4CD6-A4CD-5740D62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BB0-3204-4701-8578-50C7F63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CD3-16EE-486E-9E09-28531A8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27C81-8909-4F62-A621-77DC127E613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98895-CC1B-414D-9038-55E5A9EF83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38320" y="469440"/>
            <a:ext cx="925956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een dag weet je het… </a:t>
            </a:r>
            <a:br>
              <a:rPr sz="32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5000" spc="-1" strike="noStrike">
                <a:solidFill>
                  <a:srgbClr val="000000"/>
                </a:solidFill>
                <a:latin typeface="Calibri"/>
              </a:rPr>
              <a:t>Je wordt visgids!</a:t>
            </a:r>
            <a:br>
              <a:rPr sz="6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69520" y="5552640"/>
            <a:ext cx="767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898989"/>
                </a:solidFill>
                <a:latin typeface="Calibri"/>
              </a:rPr>
              <a:t>Introductie van het vak Visg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Afbeelding 4" descr="jesper.jpg"/>
          <p:cNvPicPr/>
          <p:nvPr/>
        </p:nvPicPr>
        <p:blipFill>
          <a:blip r:embed="rId1"/>
          <a:stretch/>
        </p:blipFill>
        <p:spPr>
          <a:xfrm>
            <a:off x="1422360" y="1687680"/>
            <a:ext cx="5986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igenschappen goede visg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315108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antgericht en soc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 de hengel laten li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lpvaar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dernem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erci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Afbeelding 3" descr="goede visgids.jpg"/>
          <p:cNvPicPr/>
          <p:nvPr/>
        </p:nvPicPr>
        <p:blipFill>
          <a:blip r:embed="rId1"/>
          <a:stretch/>
        </p:blipFill>
        <p:spPr>
          <a:xfrm>
            <a:off x="3394080" y="1417680"/>
            <a:ext cx="59342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0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ck achte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734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jouw beeld van het gidsvak verand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valt je het meeste o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 wil er nu nog stééds geen gids word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lgende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37960" y="1417320"/>
            <a:ext cx="3495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zakelijke visg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Afbeelding 3" descr="Eurobiljetten voor vulling.JPG"/>
          <p:cNvPicPr/>
          <p:nvPr/>
        </p:nvPicPr>
        <p:blipFill>
          <a:blip r:embed="rId1"/>
          <a:stretch/>
        </p:blipFill>
        <p:spPr>
          <a:xfrm>
            <a:off x="993600" y="2171880"/>
            <a:ext cx="67629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gaan we doen vandaag?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357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verzicht vier colleg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Check voora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istorie van het gidsv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Categorieë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pties in Nederl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Kan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edreig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it is een goede gi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Check achtera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lgende wee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3"/>
          <p:cNvSpPr/>
          <p:nvPr/>
        </p:nvSpPr>
        <p:spPr>
          <a:xfrm>
            <a:off x="7537320" y="37195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4" descr="wat gaan we doen vandaag.jpg"/>
          <p:cNvPicPr/>
          <p:nvPr/>
        </p:nvPicPr>
        <p:blipFill>
          <a:blip r:embed="rId1"/>
          <a:stretch/>
        </p:blipFill>
        <p:spPr>
          <a:xfrm>
            <a:off x="4035600" y="1600200"/>
            <a:ext cx="51084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2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colle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31212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ntroductie van het vak Visg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akelijk sportviss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idsen in de praktij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ediatrai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4" descr="dames.gif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12" descr="dame.jpg"/>
          <p:cNvPicPr/>
          <p:nvPr/>
        </p:nvPicPr>
        <p:blipFill>
          <a:blip r:embed="rId2"/>
          <a:stretch/>
        </p:blipFill>
        <p:spPr>
          <a:xfrm>
            <a:off x="3578400" y="76320"/>
            <a:ext cx="5565600" cy="64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ck voo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35701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ie wil er visgids word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ie heeft er wel eens een visgids ingehuu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mag een dagje vissen kosten volgens jo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maakt een goede visgi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ragen tot nu to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visgids.jpg"/>
          <p:cNvPicPr/>
          <p:nvPr/>
        </p:nvPicPr>
        <p:blipFill>
          <a:blip r:embed="rId1"/>
          <a:stretch/>
        </p:blipFill>
        <p:spPr>
          <a:xfrm>
            <a:off x="4027320" y="2013120"/>
            <a:ext cx="51166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istorie van het gidsv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een visgi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 in Nederland, eeuwen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rest van de wer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vontuur te koop? Jazek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aag maar aan Hemmingw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oniers in Nederland: Gio Scal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an Verbruggen en Mark Zitv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llie als eerste prof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Afbeelding 3" descr="hemeningway.jpg"/>
          <p:cNvPicPr/>
          <p:nvPr/>
        </p:nvPicPr>
        <p:blipFill>
          <a:blip r:embed="rId1"/>
          <a:stretch/>
        </p:blipFill>
        <p:spPr>
          <a:xfrm>
            <a:off x="6486480" y="2506680"/>
            <a:ext cx="2316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5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tegorieë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411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assieke zalm- en forelgids (Engeland en V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idsen in de tropen (zo rond de evena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oofvissen vanaf de kant (beperkte mogelijkhede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oofvissen vanuit de boot (en nu wordt het interessan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Afbeelding 3" descr="vliegvissen.jpg"/>
          <p:cNvPicPr/>
          <p:nvPr/>
        </p:nvPicPr>
        <p:blipFill>
          <a:blip r:embed="rId1"/>
          <a:stretch/>
        </p:blipFill>
        <p:spPr>
          <a:xfrm>
            <a:off x="6842160" y="1417680"/>
            <a:ext cx="2152440" cy="161460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4" descr="marlijn.jpg"/>
          <p:cNvPicPr/>
          <p:nvPr/>
        </p:nvPicPr>
        <p:blipFill>
          <a:blip r:embed="rId2"/>
          <a:stretch/>
        </p:blipFill>
        <p:spPr>
          <a:xfrm>
            <a:off x="4359240" y="1730520"/>
            <a:ext cx="2621160" cy="2450880"/>
          </a:xfrm>
          <a:prstGeom prst="rect">
            <a:avLst/>
          </a:prstGeom>
          <a:ln w="0">
            <a:noFill/>
          </a:ln>
        </p:spPr>
      </p:pic>
      <p:pic>
        <p:nvPicPr>
          <p:cNvPr id="62" name="Afbeelding 5" descr="jan eggers.jpg"/>
          <p:cNvPicPr/>
          <p:nvPr/>
        </p:nvPicPr>
        <p:blipFill>
          <a:blip r:embed="rId3"/>
          <a:stretch/>
        </p:blipFill>
        <p:spPr>
          <a:xfrm>
            <a:off x="7145280" y="3475080"/>
            <a:ext cx="174312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6" descr="snoekbaars.jpg"/>
          <p:cNvPicPr/>
          <p:nvPr/>
        </p:nvPicPr>
        <p:blipFill>
          <a:blip r:embed="rId4"/>
          <a:stretch/>
        </p:blipFill>
        <p:spPr>
          <a:xfrm>
            <a:off x="4359240" y="4390920"/>
            <a:ext cx="30067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5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ties in Neder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5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provincie zonder interessant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grote meren: vooral snoekba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grote rivieren: snoekbaars, snoek, baars en sinds tien jaar ook roofble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ul zelf de overige wateren maar 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thumbs-up11.jpg"/>
          <p:cNvPicPr/>
          <p:nvPr/>
        </p:nvPicPr>
        <p:blipFill>
          <a:blip r:embed="rId1"/>
          <a:stretch/>
        </p:blipFill>
        <p:spPr>
          <a:xfrm>
            <a:off x="4516560" y="-109440"/>
            <a:ext cx="462744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90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00320"/>
            <a:ext cx="39052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huren visgids wordt steeds norm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Quality time steeds belangrij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rtvissen steeds stoe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Afbeelding 4" descr="vissen is stoer 2.jpg"/>
          <p:cNvPicPr/>
          <p:nvPr/>
        </p:nvPicPr>
        <p:blipFill>
          <a:blip r:embed="rId1"/>
          <a:stretch/>
        </p:blipFill>
        <p:spPr>
          <a:xfrm>
            <a:off x="436248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48080" y="274320"/>
            <a:ext cx="343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dreig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248440" y="160020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lscholver en Actief Biologisch Beheer (AB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litieke beslissingen zonder kennis van zaken (PvdD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kill aan visgid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Afbeelding 3" descr="449px-Marianne_Thieme.jpg"/>
          <p:cNvPicPr/>
          <p:nvPr/>
        </p:nvPicPr>
        <p:blipFill>
          <a:blip r:embed="rId1"/>
          <a:stretch/>
        </p:blipFill>
        <p:spPr>
          <a:xfrm>
            <a:off x="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20:14:55Z</dcterms:created>
  <dc:creator>Juul Steyn</dc:creator>
  <dc:description/>
  <dc:language>en-US</dc:language>
  <cp:lastModifiedBy>Wim Zweep</cp:lastModifiedBy>
  <dcterms:modified xsi:type="dcterms:W3CDTF">2012-12-10T13:40:04Z</dcterms:modified>
  <cp:revision>7</cp:revision>
  <dc:subject/>
  <dc:title>Op een dag weet je het…</dc:title>
</cp:coreProperties>
</file>