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E72-C967-49C5-A0A8-2E76599E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E4E-60D9-4E43-80ED-3CF4A006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0E9-74E8-4565-B9FC-4708AE37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5B0-A192-4925-93E8-CD6AB599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40AF-10AB-4C92-85C5-69382FCB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ACA5-F2B3-4C79-8B23-6BC9ADE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DE42-B8D0-4F75-AA52-68FED21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4B87-5BD6-4428-9F06-57CC4A3B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DDA-4B27-4A84-AE04-7CBB9572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94F-1AFA-4226-A2D2-943E391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6F55-A74C-4DBD-8A3D-961CBB6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BFB-E367-4C90-816E-A66CEAA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9EEB-D37D-4029-97D7-DD3E9E4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43D1-102A-44C8-BE85-2953D41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041-9DD4-4FCA-B31F-2095A94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D98B-045C-4956-A8CF-6B636FED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8063-5A15-4E15-9735-FBB9C2EC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85C-9CC7-46D6-9A11-BF749348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86F-27F6-49AA-B468-3D973C03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C4A-FD34-4537-9218-03ED589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1ED-ABBC-4DA2-BCC8-5633668F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E73-2687-40A5-A779-2A72CAC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7FE-DC6B-4980-A8E2-1587650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87B-5CBA-49FC-9E32-9329622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C44-34F7-416F-BC0A-A573D534F8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8BBC-7421-445E-8C52-654D17BE71C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Communicatie</a:t>
            </a:r>
            <a:br>
              <a:rPr sz="3600"/>
            </a:br>
            <a:br>
              <a:rPr sz="36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Opletten, meedoen en meedenken!</a:t>
            </a: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ccesvol zijn is een keuze!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Roelof wil graag dat jullie succesvol zijn…</a:t>
            </a: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Hij was ook jong </a:t>
            </a:r>
            <a:r>
              <a:rPr b="1" lang="nl-NL" sz="2400" spc="-1" strike="noStrike">
                <a:solidFill>
                  <a:srgbClr val="ffffb7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afbeelding"/>
          <p:cNvPicPr/>
          <p:nvPr/>
        </p:nvPicPr>
        <p:blipFill>
          <a:blip r:embed="rId1"/>
          <a:stretch/>
        </p:blipFill>
        <p:spPr>
          <a:xfrm>
            <a:off x="539640" y="4149720"/>
            <a:ext cx="258444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3419640" y="3933720"/>
            <a:ext cx="5473440" cy="19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s &amp; Na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ortvisserij &amp; Waterbeh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Goed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Goede en doelgericht mondelinge communicatie zijn drie zaken noodzakelij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actief luister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vragen stellen 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samenvat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17780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Actief luist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209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tiviteiten ondernemen om na te gaan of d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je wilde zeggen ook zo overgekomen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je hoorde, datgene was wat de ander bedoelde over te bre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lk misverstand is opgehelderd voordat het gesprek verder g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http://www.gertjanschop.com/sitebuildercontent/sitebuilderfiles/actiefluist.jpeg"/>
          <p:cNvPicPr/>
          <p:nvPr/>
        </p:nvPicPr>
        <p:blipFill>
          <a:blip r:embed="rId1"/>
          <a:stretch/>
        </p:blipFill>
        <p:spPr>
          <a:xfrm>
            <a:off x="611280" y="3578400"/>
            <a:ext cx="7834320" cy="32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Vragen stel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37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rende luistervaardigheid, hierdoor concrete informatie, dus goed beeld van de situat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ak overgeslagen, door haast of men al denkt te weten waar het om gaat. Hierdoor soms verkeerde beslissingen genomen of praat men langs elkaar h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gen stellen blijkt moeilijk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r zijn een aantal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orten vra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en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sloten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ggestieve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s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http://cdniphone.i-culture.nl/wp-content/uploads/2011/02/goeievraag.jpg"/>
          <p:cNvPicPr/>
          <p:nvPr/>
        </p:nvPicPr>
        <p:blipFill>
          <a:blip r:embed="rId1"/>
          <a:stretch/>
        </p:blipFill>
        <p:spPr>
          <a:xfrm>
            <a:off x="6227640" y="3429000"/>
            <a:ext cx="207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b7"/>
                </a:solidFill>
                <a:latin typeface="Arial Black"/>
              </a:rPr>
              <a:t>Goede vragen stellen en doorvragen        voor de juiste informatie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0" t="0" r="0" b="74263"/>
          <a:stretch/>
        </p:blipFill>
        <p:spPr>
          <a:xfrm>
            <a:off x="1258920" y="1197000"/>
            <a:ext cx="487692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rcRect l="0" t="74523" r="0" b="0"/>
          <a:stretch/>
        </p:blipFill>
        <p:spPr>
          <a:xfrm>
            <a:off x="1258920" y="5504040"/>
            <a:ext cx="4876920" cy="1353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rcRect l="0" t="48778" r="0" b="25485"/>
          <a:stretch/>
        </p:blipFill>
        <p:spPr>
          <a:xfrm>
            <a:off x="1258920" y="4076640"/>
            <a:ext cx="4876920" cy="136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rcRect l="0" t="24385" r="0" b="49879"/>
          <a:stretch/>
        </p:blipFill>
        <p:spPr>
          <a:xfrm>
            <a:off x="1258920" y="2637000"/>
            <a:ext cx="487692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kstvak 6"/>
          <p:cNvSpPr/>
          <p:nvPr/>
        </p:nvSpPr>
        <p:spPr>
          <a:xfrm>
            <a:off x="6588000" y="234936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600" spc="-1" strike="noStrike">
                <a:solidFill>
                  <a:srgbClr val="ffffff"/>
                </a:solidFill>
                <a:latin typeface="Arial"/>
              </a:rPr>
              <a:t>Komt mijn verhaal wel o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Samenvatt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772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ens of na het vragen ste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atten van de vele informatie, hier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palen of je het goed hebt begrep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ander ziet dat je goed hebt geluister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e dwingt jezelf eerst te luisteren en te begrijpen, voordat je reage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ens gesprek samenvatten, is stimulans voor de ander om verder te praten en brengt rust, hierna evt. zelf vraag stellen. Is een sturende luistervaardig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ok gebruiken om gesprek te beëindigen, je trekt na de samenvatting een conclus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b7"/>
                </a:solidFill>
                <a:latin typeface="Arial Black"/>
              </a:rPr>
              <a:t>Voor- en nadelen van mondelinge   en schriftelijk communicati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905120"/>
          <a:ext cx="8521560" cy="4668840"/>
        </p:xfrm>
        <a:graphic>
          <a:graphicData uri="http://schemas.openxmlformats.org/drawingml/2006/table">
            <a:tbl>
              <a:tblPr/>
              <a:tblGrid>
                <a:gridCol w="4260600"/>
                <a:gridCol w="4260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elinge communica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riftelijke communica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eilijker voor te bereiden en bewa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kkelijker voor te bereiden en bewa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s niet zo geschikt voor overdracht van veel feitelijke inform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s geschikter voor overdracht van veel feitelijke informati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kkelijk te ondersteunen met non-verbale 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eilijker te ondersteunen met non-verbale 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ost meestal meer tij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ost meestal minder tij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estal meer impact door persoonlijke karak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estal minder impact door persoonlijke karak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tvanger kan moment van ontvangen moeilijker zelf kiez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tvanger kan moment  van ontvangen makkelijker zelf kiez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iedt gemakkelijker mogelijkheden voor tweerichtingsverke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iedt moeilijker mogelijkheden voor tweerichtingsverke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n tijdens de ontvangst worden bijgestuu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n tijdens ontvangst niet worden bijgestuu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leiner bereik,ongeschikt voor massa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roter bereik, geschikt voor massa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eeft minder bewijskrac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eeft meer bewijskrac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ichtlijnen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341000"/>
            <a:ext cx="8893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OC richtlijnen vo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chrijven van een versl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houden van een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houden van een enquê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lefoneren en baliegespr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epassen 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en, projecten, essay, beheerpla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xterne communicatie (bijv. voorlich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1"/>
          <p:cNvPicPr/>
          <p:nvPr/>
        </p:nvPicPr>
        <p:blipFill>
          <a:blip r:embed="rId1"/>
          <a:stretch/>
        </p:blipFill>
        <p:spPr>
          <a:xfrm>
            <a:off x="6300720" y="1341360"/>
            <a:ext cx="2759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Communicatie </a:t>
            </a:r>
            <a:r>
              <a:rPr b="1" lang="nl-NL" sz="3200" spc="-1" strike="noStrike">
                <a:solidFill>
                  <a:srgbClr val="ffffb7"/>
                </a:solidFill>
                <a:latin typeface="Arial Black"/>
              </a:rPr>
              <a:t>(les 1a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69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baal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ondeling,praten,luisteren)-&gt; voorstelrond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ftelijk (op papier/ digitaal; beeld of tek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n-verbaal (houding, gelaatsuitdruk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effect;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lichaamstaal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klank/ too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inhoud/ taa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nemen met onze zintuige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ren / luisteren, kijken, voel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uiken en proev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http://static5.depositphotos.com/1037760/481/i/950/depositphotos_4817911-Manager-relaxing-outdoor.jpg"/>
          <p:cNvPicPr/>
          <p:nvPr/>
        </p:nvPicPr>
        <p:blipFill>
          <a:blip r:embed="rId1"/>
          <a:stretch/>
        </p:blipFill>
        <p:spPr>
          <a:xfrm>
            <a:off x="6659640" y="3141720"/>
            <a:ext cx="2158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arnem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71689" b="143"/>
          <a:stretch/>
        </p:blipFill>
        <p:spPr>
          <a:xfrm>
            <a:off x="1042920" y="3789360"/>
            <a:ext cx="2089080" cy="1727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21708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Welke lijn is langer, A of 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Welke figuur of figuren neem je waar?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kstvak 4"/>
          <p:cNvSpPr/>
          <p:nvPr/>
        </p:nvSpPr>
        <p:spPr>
          <a:xfrm>
            <a:off x="1258920" y="5589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nekdote; De lijn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rcRect l="41277" t="0" r="0" b="0"/>
          <a:stretch/>
        </p:blipFill>
        <p:spPr>
          <a:xfrm>
            <a:off x="3708360" y="3860640"/>
            <a:ext cx="43038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Communicatie sche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42472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Zender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Doe eens normaal, man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Ontv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ffect,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r 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 rot="5400000">
            <a:off x="1689120" y="3065400"/>
            <a:ext cx="652320" cy="649440"/>
          </a:xfrm>
          <a:custGeom>
            <a:avLst/>
            <a:gdLst>
              <a:gd name="textAreaLeft" fmla="*/ 0 w 652320"/>
              <a:gd name="textAreaRight" fmla="*/ 559080 w 652320"/>
              <a:gd name="textAreaTop" fmla="*/ 40680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5057" y="0"/>
                </a:moveTo>
                <a:lnTo>
                  <a:pt x="8513" y="7200"/>
                </a:lnTo>
                <a:lnTo>
                  <a:pt x="11599" y="7200"/>
                </a:lnTo>
                <a:lnTo>
                  <a:pt x="11599" y="13532"/>
                </a:lnTo>
                <a:lnTo>
                  <a:pt x="0" y="13532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057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 rot="5400000">
            <a:off x="4680000" y="389736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948360" y="4941720"/>
            <a:ext cx="486000" cy="719280"/>
          </a:xfrm>
          <a:prstGeom prst="downArrow">
            <a:avLst>
              <a:gd name="adj1" fmla="val 50000"/>
              <a:gd name="adj2" fmla="val 37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Medium / v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388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lefoon, mob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mpu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rief, offe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x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rant, vakb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levisi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adi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708360" y="206064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isen hieraan zij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trekkelijk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oegankelijk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uidelij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veau 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recthe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volgens AOC richtlijn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http://www.websitevoorzzp.nl/wp-content/gallery/webpics/website_offerte_aanvragen.png"/>
          <p:cNvPicPr/>
          <p:nvPr/>
        </p:nvPicPr>
        <p:blipFill>
          <a:blip r:embed="rId1"/>
          <a:srcRect l="0" t="-7748" r="0" b="7780"/>
          <a:stretch/>
        </p:blipFill>
        <p:spPr>
          <a:xfrm>
            <a:off x="6875640" y="208764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bal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63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bale communicatie is meestal bew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aak met voorbereiding, dus nagedacht o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waarom iets wordt gezeg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wat er gezegd gaat word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hoe het gezegd gaat w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http://3.bp.blogspot.com/-003fRlu3QN4/TcmuH-MoEPI/AAAAAAAAADA/pjKz0uToFSw/s1600/non-verbale-communicatie-lichaamstaal.jpg"/>
          <p:cNvPicPr/>
          <p:nvPr/>
        </p:nvPicPr>
        <p:blipFill>
          <a:blip r:embed="rId1"/>
          <a:stretch/>
        </p:blipFill>
        <p:spPr>
          <a:xfrm>
            <a:off x="6084720" y="1916280"/>
            <a:ext cx="2908440" cy="2900160"/>
          </a:xfrm>
          <a:prstGeom prst="rect">
            <a:avLst/>
          </a:prstGeom>
          <a:ln w="0">
            <a:noFill/>
          </a:ln>
        </p:spPr>
      </p:pic>
      <p:sp>
        <p:nvSpPr>
          <p:cNvPr id="121" name="Tekstvak 4"/>
          <p:cNvSpPr/>
          <p:nvPr/>
        </p:nvSpPr>
        <p:spPr>
          <a:xfrm>
            <a:off x="6516720" y="515772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n wat is dit voor vor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n-verbal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95280" y="1413000"/>
            <a:ext cx="8497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Non-verbale communicatie vaak onbewust, herkennen van non-verbale signalen helpt 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ware bedoeling van de gespreks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tner te onderkenn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bedoeling van je boodschap op 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prekspartner over te dra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gnalen; lichaamshouding, stem verheffen,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ichtsuitdrukkingen, geeuwen, m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werp spelen, handen in de za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b7"/>
                </a:solidFill>
                <a:latin typeface="Arial Black"/>
              </a:rPr>
              <a:t>Vormen van non-verbaal gedra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13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erkvloer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856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ormeel en informeel / intern en ext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ticaal, horizontaal en diagona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lfde ‘taal’ spreken, goede kennis van vakjargon en vakgebied, dial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makkelijker; elkaar kennen en soms aan een half woord geno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stiger bij complexere zaken, zoals; werkoverleg, maken van nieuwe afspraken, overleg over functio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4:27:48Z</dcterms:created>
  <dc:creator>koezen</dc:creator>
  <dc:description/>
  <dc:language>en-US</dc:language>
  <cp:lastModifiedBy>Wim Zweep</cp:lastModifiedBy>
  <cp:lastPrinted>2015-08-24T07:01:07Z</cp:lastPrinted>
  <dcterms:modified xsi:type="dcterms:W3CDTF">2017-02-01T11:29:26Z</dcterms:modified>
  <cp:revision>357</cp:revision>
  <dc:subject/>
  <dc:title>OMGAAN MET LASTIGE MENSEN:</dc:title>
</cp:coreProperties>
</file>