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E257-0EB7-413A-A502-A6B4B243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278F-75DF-45DA-9C9F-AC090B1B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B9C2-743D-4F48-96DA-5E14256BC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E14F-DB35-40C0-B8D1-76BB5FC6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6D33-F0B8-49DC-9241-2D452DE50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2DCE-E8E8-4A99-97A6-1E4238FA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819E-6057-4693-B5FB-1DF7DB3F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DAAA-3B50-4A9E-B522-D71741F3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9925-E9F3-4521-9A05-A15B59CE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2F31-1345-4B54-947C-79B553BC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BC2E-D7E3-4426-9FC5-8DE1D514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A87D-1415-4D33-9C07-F1447685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8D7D-01E0-4706-85D2-0BF0BA7F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5214-357E-4B26-A5D3-B69962E6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5081-DA08-4513-8A3B-16E7895B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0823-8989-4526-ACE3-FF225928E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3A96-62FB-40C1-95B6-9BB604C34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9415-CC94-451A-96EF-2A365B52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91C5-5F92-451A-9E89-1666743C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F9AC-3451-4C73-A60B-D901C707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28DE-F35C-40E3-8033-DC671B1D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FB86-1A93-4BA3-A59E-F1205B00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7D77-496F-420E-A4F3-AAAF3A02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5FF9-3946-4D81-93AB-EEACB49C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118F-B170-44B4-81A6-DF9E00CFC38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13BC-7CC6-4769-82AD-32F9298F604B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33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b7"/>
                </a:solidFill>
                <a:latin typeface="Arial Black"/>
              </a:rPr>
              <a:t>Communicatie</a:t>
            </a:r>
            <a:br>
              <a:rPr sz="3600"/>
            </a:br>
            <a:br>
              <a:rPr sz="3600"/>
            </a:b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Opletten, meedoen en meedenken!</a:t>
            </a:r>
            <a:br>
              <a:rPr sz="2400"/>
            </a:b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Succesvol zijn is een keuze!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Roelof wil graag dat jullie succesvol zijn…</a:t>
            </a:r>
            <a:br>
              <a:rPr sz="2400"/>
            </a:b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Hij was ook jong </a:t>
            </a:r>
            <a:r>
              <a:rPr b="1" lang="nl-NL" sz="2400" spc="-1" strike="noStrike">
                <a:solidFill>
                  <a:srgbClr val="ffffb7"/>
                </a:solidFill>
                <a:latin typeface="Wingdings"/>
                <a:ea typeface="Wingdings"/>
              </a:rPr>
              <a:t>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4" descr="afbeelding"/>
          <p:cNvPicPr/>
          <p:nvPr/>
        </p:nvPicPr>
        <p:blipFill>
          <a:blip r:embed="rId1"/>
          <a:stretch/>
        </p:blipFill>
        <p:spPr>
          <a:xfrm>
            <a:off x="539640" y="4149720"/>
            <a:ext cx="2584440" cy="1943280"/>
          </a:xfrm>
          <a:prstGeom prst="rect">
            <a:avLst/>
          </a:prstGeom>
          <a:ln w="0">
            <a:noFill/>
          </a:ln>
        </p:spPr>
      </p:pic>
      <p:sp>
        <p:nvSpPr>
          <p:cNvPr id="100" name="Tekstvak 2"/>
          <p:cNvSpPr/>
          <p:nvPr/>
        </p:nvSpPr>
        <p:spPr>
          <a:xfrm>
            <a:off x="3419640" y="3933720"/>
            <a:ext cx="5473440" cy="19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os &amp; Natu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portvisserij &amp; Waterbehe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Goede communicati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8377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Goede en doelgericht mondelinge communicatie zijn drie zaken noodzakelijk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- actief luistere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- vragen stellen e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- samenvatte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6012000" y="3213000"/>
            <a:ext cx="177804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b7"/>
                </a:solidFill>
                <a:latin typeface="Arial Black"/>
              </a:rPr>
              <a:t>Actief luister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209080" cy="48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ctiviteiten ondernemen om na te gaan of da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t je wilde zeggen ook zo overgekomen i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t je hoorde, datgene was wat de ander bedoelde over te brenge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lk misverstand is opgehelderd voordat het gesprek verder ga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http://www.gertjanschop.com/sitebuildercontent/sitebuilderfiles/actiefluist.jpeg"/>
          <p:cNvPicPr/>
          <p:nvPr/>
        </p:nvPicPr>
        <p:blipFill>
          <a:blip r:embed="rId1"/>
          <a:stretch/>
        </p:blipFill>
        <p:spPr>
          <a:xfrm>
            <a:off x="611280" y="3578400"/>
            <a:ext cx="7834320" cy="32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b7"/>
                </a:solidFill>
                <a:latin typeface="Arial Black"/>
              </a:rPr>
              <a:t>Vragen stell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640" y="1267920"/>
            <a:ext cx="87375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urende luistervaardigheid, hierdoor concrete informatie, dus goed beeld van de situati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aak overgeslagen, door haast of men al denkt te weten waar het om gaat. Hierdoor soms verkeerde beslissingen genomen of praat men langs elkaar he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ragen stellen blijkt moeilijk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r zijn een aantal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oorten vrage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en v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sloten v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uggestieve v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dragsv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5" descr="http://cdniphone.i-culture.nl/wp-content/uploads/2011/02/goeievraag.jpg"/>
          <p:cNvPicPr/>
          <p:nvPr/>
        </p:nvPicPr>
        <p:blipFill>
          <a:blip r:embed="rId1"/>
          <a:stretch/>
        </p:blipFill>
        <p:spPr>
          <a:xfrm>
            <a:off x="6227640" y="3429000"/>
            <a:ext cx="207324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88423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b7"/>
                </a:solidFill>
                <a:latin typeface="Arial Black"/>
              </a:rPr>
              <a:t>Goede vragen stellen en doorvragen        voor de juiste informatie</a:t>
            </a:r>
            <a:r>
              <a:rPr b="1" lang="nl-NL" sz="2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rcRect l="0" t="0" r="0" b="74263"/>
          <a:stretch/>
        </p:blipFill>
        <p:spPr>
          <a:xfrm>
            <a:off x="1258920" y="1197000"/>
            <a:ext cx="4876920" cy="1368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2"/>
          <a:srcRect l="0" t="74523" r="0" b="0"/>
          <a:stretch/>
        </p:blipFill>
        <p:spPr>
          <a:xfrm>
            <a:off x="1258920" y="5504040"/>
            <a:ext cx="4876920" cy="1353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3"/>
          <a:srcRect l="0" t="48778" r="0" b="25485"/>
          <a:stretch/>
        </p:blipFill>
        <p:spPr>
          <a:xfrm>
            <a:off x="1258920" y="4076640"/>
            <a:ext cx="4876920" cy="1368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4"/>
          <a:srcRect l="0" t="24385" r="0" b="49879"/>
          <a:stretch/>
        </p:blipFill>
        <p:spPr>
          <a:xfrm>
            <a:off x="1258920" y="2637000"/>
            <a:ext cx="4876920" cy="1368360"/>
          </a:xfrm>
          <a:prstGeom prst="rect">
            <a:avLst/>
          </a:prstGeom>
          <a:ln w="0">
            <a:noFill/>
          </a:ln>
        </p:spPr>
      </p:pic>
      <p:sp>
        <p:nvSpPr>
          <p:cNvPr id="142" name="Tekstvak 6"/>
          <p:cNvSpPr/>
          <p:nvPr/>
        </p:nvSpPr>
        <p:spPr>
          <a:xfrm>
            <a:off x="6588000" y="2349360"/>
            <a:ext cx="180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600" spc="-1" strike="noStrike">
                <a:solidFill>
                  <a:srgbClr val="ffffff"/>
                </a:solidFill>
                <a:latin typeface="Arial"/>
              </a:rPr>
              <a:t>Komt mijn verhaal wel ov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b7"/>
                </a:solidFill>
                <a:latin typeface="Arial Black"/>
              </a:rPr>
              <a:t>Samenvatt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772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ijdens of na het vragen stell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amenvatten van de vele informatie, hierdo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palen of je het goed hebt begrepe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 ander ziet dat je goed hebt geluister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je dwingt jezelf eerst te luisteren en te begrijpen, voordat je reagee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ijdens gesprek samenvatten, is stimulans voor de ander om verder te praten en brengt rust, hierna evt. zelf vraag stellen. Is een sturende luistervaardighe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ok gebruiken om gesprek te beëindigen, je trekt na de samenvatting een conclusi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b7"/>
                </a:solidFill>
                <a:latin typeface="Arial Black"/>
              </a:rPr>
              <a:t>Voor- en nadelen van mondelinge   en schriftelijk communicatie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905120"/>
          <a:ext cx="8521560" cy="4668840"/>
        </p:xfrm>
        <a:graphic>
          <a:graphicData uri="http://schemas.openxmlformats.org/drawingml/2006/table">
            <a:tbl>
              <a:tblPr/>
              <a:tblGrid>
                <a:gridCol w="4260600"/>
                <a:gridCol w="426096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delinge communicat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riftelijke communicat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oeilijker voor te bereiden en bewar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akkelijker voor te bereiden en bewar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Is niet zo geschikt voor overdracht van veel feitelijke informati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Is geschikter voor overdracht van veel feitelijke informati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akkelijk te ondersteunen met non-verbale communicati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oeilijker te ondersteunen met non-verbale communicati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Kost meestal meer tij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Kost meestal minder tij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eestal meer impact door persoonlijke karak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eestal minder impact door persoonlijke karak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Ontvanger kan moment van ontvangen moeilijker zelf kiez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Ontvanger kan moment  van ontvangen makkelijker zelf kiez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Biedt gemakkelijker mogelijkheden voor tweerichtingsverke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Biedt moeilijker mogelijkheden voor tweerichtingsverke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Kan tijdens de ontvangst worden bijgestuur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Kan tijdens ontvangst niet worden bijgestuur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Kleiner bereik,ongeschikt voor massacommunicati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Groter bereik, geschikt voor massacommunicati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Heeft minder bewijskrac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Heeft meer bewijskrac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Richtlijnen communicati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560" y="1341000"/>
            <a:ext cx="88930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-26856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OC richtlijnen voo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t schrijven van een versla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t houden van een int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t houden van een enquê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elefoneren en baliegesprek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oepassen i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pdrachten, projecten, essay, beheerpla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xterne communicatie (bijv. voorlicht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2" descr="1"/>
          <p:cNvPicPr/>
          <p:nvPr/>
        </p:nvPicPr>
        <p:blipFill>
          <a:blip r:embed="rId1"/>
          <a:stretch/>
        </p:blipFill>
        <p:spPr>
          <a:xfrm>
            <a:off x="6300720" y="1341360"/>
            <a:ext cx="27590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Communicatie </a:t>
            </a:r>
            <a:r>
              <a:rPr b="1" lang="nl-NL" sz="3200" spc="-1" strike="noStrike">
                <a:solidFill>
                  <a:srgbClr val="ffffb7"/>
                </a:solidFill>
                <a:latin typeface="Arial Black"/>
              </a:rPr>
              <a:t>(les 1a)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56944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baal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mondeling,praten,luisteren)-&gt; voorstelrond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chriftelijk (op papier/ digitaal; beeld of tek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on-verbaal (houding, gelaatsuitdrukk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-&gt; effect;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- lichaamstaal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- klank/ toon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25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- inhoud/ taal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arnemen met onze zintuigen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ren / luisteren, kijken, voele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uiken en proev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7" descr="http://static5.depositphotos.com/1037760/481/i/950/depositphotos_4817911-Manager-relaxing-outdoor.jpg"/>
          <p:cNvPicPr/>
          <p:nvPr/>
        </p:nvPicPr>
        <p:blipFill>
          <a:blip r:embed="rId1"/>
          <a:stretch/>
        </p:blipFill>
        <p:spPr>
          <a:xfrm>
            <a:off x="6659640" y="3141720"/>
            <a:ext cx="215892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Waarnemen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rcRect l="0" t="0" r="71689" b="143"/>
          <a:stretch/>
        </p:blipFill>
        <p:spPr>
          <a:xfrm>
            <a:off x="1042920" y="3789360"/>
            <a:ext cx="2089080" cy="17272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324000" y="2170800"/>
            <a:ext cx="84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ff"/>
                </a:solidFill>
                <a:latin typeface="Arial"/>
              </a:rPr>
              <a:t>Welke lijn is langer, A of B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ff"/>
                </a:solidFill>
                <a:latin typeface="Arial"/>
              </a:rPr>
              <a:t>Welke figuur of figuren neem je waar?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kstvak 4"/>
          <p:cNvSpPr/>
          <p:nvPr/>
        </p:nvSpPr>
        <p:spPr>
          <a:xfrm>
            <a:off x="1258920" y="558972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nekdote; De lijn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2"/>
          <a:srcRect l="41277" t="0" r="0" b="0"/>
          <a:stretch/>
        </p:blipFill>
        <p:spPr>
          <a:xfrm>
            <a:off x="3708360" y="3860640"/>
            <a:ext cx="430380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Communicatie schem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424720" cy="45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Zender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Doe eens normaal, man!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Ontva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Effect,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aar wa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 rot="5400000">
            <a:off x="1689120" y="3065400"/>
            <a:ext cx="652320" cy="649440"/>
          </a:xfrm>
          <a:custGeom>
            <a:avLst/>
            <a:gdLst>
              <a:gd name="textAreaLeft" fmla="*/ 0 w 652320"/>
              <a:gd name="textAreaRight" fmla="*/ 559080 w 652320"/>
              <a:gd name="textAreaTop" fmla="*/ 40680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15057" y="0"/>
                </a:moveTo>
                <a:lnTo>
                  <a:pt x="8513" y="7200"/>
                </a:lnTo>
                <a:lnTo>
                  <a:pt x="11599" y="7200"/>
                </a:lnTo>
                <a:lnTo>
                  <a:pt x="11599" y="13532"/>
                </a:lnTo>
                <a:lnTo>
                  <a:pt x="0" y="13532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057" y="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3"/>
          <p:cNvSpPr/>
          <p:nvPr/>
        </p:nvSpPr>
        <p:spPr>
          <a:xfrm rot="5400000">
            <a:off x="4680000" y="3897360"/>
            <a:ext cx="1008000" cy="792000"/>
          </a:xfrm>
          <a:custGeom>
            <a:avLst/>
            <a:gdLst>
              <a:gd name="textAreaLeft" fmla="*/ 0 w 1008000"/>
              <a:gd name="textAreaRight" fmla="*/ 864000 w 1008000"/>
              <a:gd name="textAreaTop" fmla="*/ 52812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6948360" y="4941720"/>
            <a:ext cx="486000" cy="719280"/>
          </a:xfrm>
          <a:prstGeom prst="downArrow">
            <a:avLst>
              <a:gd name="adj1" fmla="val 50000"/>
              <a:gd name="adj2" fmla="val 37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Medium / vor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1904760"/>
            <a:ext cx="3889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elefoon, mobi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mputer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Brief, offe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Fax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Krant, vakbl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elevisi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Radio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708360" y="2060640"/>
            <a:ext cx="504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isen hieraan zij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antrekkelijkhei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oegankelijkhei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uidelijk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Niveau 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rrecthei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-&gt; volgens AOC richtlijn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6" descr="http://www.websitevoorzzp.nl/wp-content/gallery/webpics/website_offerte_aanvragen.png"/>
          <p:cNvPicPr/>
          <p:nvPr/>
        </p:nvPicPr>
        <p:blipFill>
          <a:blip r:embed="rId1"/>
          <a:srcRect l="0" t="-7748" r="0" b="7780"/>
          <a:stretch/>
        </p:blipFill>
        <p:spPr>
          <a:xfrm>
            <a:off x="6875640" y="2087640"/>
            <a:ext cx="238104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Verbale communicati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904760"/>
            <a:ext cx="6337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bale communicatie is meestal bewu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aak met voorbereiding, dus nagedacht ov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- waarom iets wordt gezeg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- wat er gezegd gaat worde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- hoe het gezegd gaat wor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http://3.bp.blogspot.com/-003fRlu3QN4/TcmuH-MoEPI/AAAAAAAAADA/pjKz0uToFSw/s1600/non-verbale-communicatie-lichaamstaal.jpg"/>
          <p:cNvPicPr/>
          <p:nvPr/>
        </p:nvPicPr>
        <p:blipFill>
          <a:blip r:embed="rId1"/>
          <a:stretch/>
        </p:blipFill>
        <p:spPr>
          <a:xfrm>
            <a:off x="6084720" y="1916280"/>
            <a:ext cx="2908440" cy="2900160"/>
          </a:xfrm>
          <a:prstGeom prst="rect">
            <a:avLst/>
          </a:prstGeom>
          <a:ln w="0">
            <a:noFill/>
          </a:ln>
        </p:spPr>
      </p:pic>
      <p:sp>
        <p:nvSpPr>
          <p:cNvPr id="121" name="Tekstvak 4"/>
          <p:cNvSpPr/>
          <p:nvPr/>
        </p:nvSpPr>
        <p:spPr>
          <a:xfrm>
            <a:off x="6516720" y="515772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n wat is dit voor vor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Non-verbale communicati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95280" y="1413000"/>
            <a:ext cx="849780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-&gt; Non-verbale communicatie vaak onbewust, herkennen van non-verbale signalen helpt j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ware bedoeling van de gespreks-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artner te onderkenne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bedoeling van je boodschap op j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sprekspartner over te dra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ignalen; lichaamshouding, stem verheffen,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zichtsuitdrukkingen, geeuwen, m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werp spelen, handen in de zak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000" spc="-1" strike="noStrike">
                <a:solidFill>
                  <a:srgbClr val="ffffb7"/>
                </a:solidFill>
                <a:latin typeface="Arial Black"/>
              </a:rPr>
              <a:t>Vormen van non-verbaal gedrag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541332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71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Werkvloer communicati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8567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formeel en informeel / intern en exter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ticaal, horizontaal en diagona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zelfde ‘taal’ spreken, goede kennis van vakjargon en vakgebied, dial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oms makkelijker; elkaar kennen en soms aan een half woord genoe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lastiger bij complexere zaken, zoals; werkoverleg, maken van nieuwe afspraken, overleg over functionere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2T14:27:48Z</dcterms:created>
  <dc:creator>koezen</dc:creator>
  <dc:description/>
  <dc:language>en-US</dc:language>
  <cp:lastModifiedBy>Wim Zweep</cp:lastModifiedBy>
  <cp:lastPrinted>2015-08-24T07:01:07Z</cp:lastPrinted>
  <dcterms:modified xsi:type="dcterms:W3CDTF">2017-02-01T11:29:26Z</dcterms:modified>
  <cp:revision>357</cp:revision>
  <dc:subject/>
  <dc:title>OMGAAN MET LASTIGE MENSEN:</dc:title>
</cp:coreProperties>
</file>