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2281-FCAD-48B2-AC4F-BF8B34DDA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5718-A381-4A68-AE93-55AA73250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DAF7-5E2D-4954-B579-1FCE88CEC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FA0C-74BE-42D4-BFE7-67F7D05D8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98E67-DF13-43FD-8D65-E9A56FD35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59D1C-65BF-4524-8F66-3CEF7B666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C261E-44F6-4856-8B60-BA586A80B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B5A00-D538-4640-A2F6-74FE576D0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56036-C502-4E71-909C-8938F3A07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943E1-AF91-4C98-AA03-4106A26D0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9E492-4377-4494-AC60-CA7033848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6E02-2D83-4778-9BE7-E440BBADB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AFF42-9B92-4FC7-889E-D623E1A51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76AED-154F-4DD6-87E0-037D08A2B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E5916-F543-4519-A555-14022D19A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F63C9-DA59-47DE-93A8-20688E6AE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7EC71-5A7B-4AA2-A0DA-AC6F9AF81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C2FD-0963-4F3A-A8FD-B386C667F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A61B-2E81-4F5D-B21E-64B2702A6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77CA-8E7F-4E6E-8C85-16E0BB193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5F2B-3AB7-470E-BA8D-561868E38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475A-4889-4127-9016-26CC2F4FE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AD2F-009E-4422-A515-1FAAD278D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EC61-6341-45A2-BBCB-BBAEBC678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4063F-800E-4DF6-B60B-68218FEACC7C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419B4-4055-4474-A7E0-085963B5613C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33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b7"/>
                </a:solidFill>
                <a:latin typeface="Arial Black"/>
              </a:rPr>
              <a:t>Vergaderen,</a:t>
            </a:r>
            <a:br>
              <a:rPr sz="3600"/>
            </a:br>
            <a:r>
              <a:rPr b="1" lang="nl-NL" sz="3600" spc="-1" strike="noStrike">
                <a:solidFill>
                  <a:srgbClr val="ffffb7"/>
                </a:solidFill>
                <a:latin typeface="Arial Black"/>
              </a:rPr>
              <a:t>vergadertechnieken,</a:t>
            </a:r>
            <a:br>
              <a:rPr sz="3600"/>
            </a:br>
            <a:r>
              <a:rPr b="1" lang="nl-NL" sz="3600" spc="-1" strike="noStrike">
                <a:solidFill>
                  <a:srgbClr val="ffffb7"/>
                </a:solidFill>
                <a:latin typeface="Arial Black"/>
              </a:rPr>
              <a:t>overleggen</a:t>
            </a:r>
            <a:br>
              <a:rPr sz="1100"/>
            </a:br>
            <a:br>
              <a:rPr sz="1100"/>
            </a:br>
            <a:br>
              <a:rPr sz="1100"/>
            </a:br>
            <a:br>
              <a:rPr sz="2400"/>
            </a:br>
            <a:br>
              <a:rPr sz="2400"/>
            </a:b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99" name="Picture 4" descr="afbeelding"/>
          <p:cNvPicPr/>
          <p:nvPr/>
        </p:nvPicPr>
        <p:blipFill>
          <a:blip r:embed="rId1"/>
          <a:stretch/>
        </p:blipFill>
        <p:spPr>
          <a:xfrm>
            <a:off x="539640" y="4149720"/>
            <a:ext cx="2584440" cy="1943280"/>
          </a:xfrm>
          <a:prstGeom prst="rect">
            <a:avLst/>
          </a:prstGeom>
          <a:ln w="0">
            <a:noFill/>
          </a:ln>
        </p:spPr>
      </p:pic>
      <p:sp>
        <p:nvSpPr>
          <p:cNvPr id="100" name="Tekstvak 2"/>
          <p:cNvSpPr/>
          <p:nvPr/>
        </p:nvSpPr>
        <p:spPr>
          <a:xfrm>
            <a:off x="3419640" y="3933720"/>
            <a:ext cx="5473440" cy="19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MB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os &amp; Natu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Sportvisserij &amp; Waterbehe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Afbeelding 1" descr=""/>
          <p:cNvPicPr/>
          <p:nvPr/>
        </p:nvPicPr>
        <p:blipFill>
          <a:blip r:embed="rId2"/>
          <a:stretch/>
        </p:blipFill>
        <p:spPr>
          <a:xfrm>
            <a:off x="179280" y="115920"/>
            <a:ext cx="1979640" cy="72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05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b7"/>
                </a:solidFill>
                <a:latin typeface="Arial Black"/>
              </a:rPr>
              <a:t>Vergadere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54194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Diverse overleg structuren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eel en informe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pland of ni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schillende typen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&gt; voorlich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&gt; overle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&gt; inspraa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&gt; medezeggenscha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&gt; vergadere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1028" descr="PE01561_"/>
          <p:cNvPicPr/>
          <p:nvPr/>
        </p:nvPicPr>
        <p:blipFill>
          <a:blip r:embed="rId1"/>
          <a:stretch/>
        </p:blipFill>
        <p:spPr>
          <a:xfrm>
            <a:off x="5651640" y="1217520"/>
            <a:ext cx="2882880" cy="19130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http://www.demienskip.nl/upload/cached/9992e993cd4b8f01d981f3a464f22ac6.jpg"/>
          <p:cNvPicPr/>
          <p:nvPr/>
        </p:nvPicPr>
        <p:blipFill>
          <a:blip r:embed="rId2"/>
          <a:stretch/>
        </p:blipFill>
        <p:spPr>
          <a:xfrm>
            <a:off x="4859280" y="3284640"/>
            <a:ext cx="38098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244080"/>
            <a:ext cx="8663040" cy="105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b7"/>
                </a:solidFill>
                <a:latin typeface="Arial Black"/>
              </a:rPr>
              <a:t>Formeel vergadere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406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Onder vergaderen verstaan w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Wingdings 2"/>
                <a:ea typeface="Wingdings 2"/>
              </a:rPr>
              <a:t></a:t>
            </a:r>
            <a:r>
              <a:rPr b="0" lang="nl-NL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het bij elkaar komen, in bepaalde ruimte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Wingdings 2"/>
                <a:ea typeface="Wingdings 2"/>
              </a:rPr>
              <a:t></a:t>
            </a:r>
            <a:r>
              <a:rPr b="0" lang="nl-NL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met een bepaald doel(en)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Wingdings 2"/>
                <a:ea typeface="Wingdings 2"/>
              </a:rPr>
              <a:t></a:t>
            </a:r>
            <a:r>
              <a:rPr b="0" lang="nl-NL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die in vastgestelde tijd (de vergadertijd) 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worden gerealiseerd, duur bepalen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Duur; http://www.youtube.com/watch?v=MXCgO6em4kQ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Locatie; http://www.youtube.com/watch?v=Di73RiN16r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-&gt; verzamelnaam van formeel groepsoverle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b7"/>
                </a:solidFill>
                <a:latin typeface="Arial Black"/>
              </a:rPr>
              <a:t>Vergadere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78920" y="1197000"/>
            <a:ext cx="8666280" cy="48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Daarbij moet een voorgeschreven vorm worden gehandhaafd, dit blijkt o.a. uit agenda en uitnodiging.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Doelen; informatie uitwisselen, brainstormen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(ideeën opdoen/ uitwisselen), afstemming, taakverdeling, probleemoplossend en         besluiten nemen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Denk aan; Werkoverleg, studiebijeenkomst, feestcommissie, OR, directie en M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-&gt; Welke vergadersoorten ken jij nog meer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-&gt; Welke komen op jouw werk of privé voor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5" descr="http://users.skynet.be/masala/Afbeeldingen/feest%20champagne.jpg"/>
          <p:cNvPicPr/>
          <p:nvPr/>
        </p:nvPicPr>
        <p:blipFill>
          <a:blip r:embed="rId1"/>
          <a:stretch/>
        </p:blipFill>
        <p:spPr>
          <a:xfrm>
            <a:off x="7380360" y="3284640"/>
            <a:ext cx="1366920" cy="17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b7"/>
                </a:solidFill>
                <a:latin typeface="Arial Black"/>
              </a:rPr>
              <a:t>Opbouw van vergadering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50920" y="1904760"/>
            <a:ext cx="66247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  <a:ea typeface="Arial"/>
              </a:rPr>
              <a:t>ope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  <a:ea typeface="Arial"/>
              </a:rPr>
              <a:t>agenda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vaststell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  <a:ea typeface="Arial"/>
              </a:rPr>
              <a:t>verslag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  <a:ea typeface="Arial"/>
              </a:rPr>
              <a:t>of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  <a:ea typeface="Arial"/>
              </a:rPr>
              <a:t>notulen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  <a:ea typeface="Arial"/>
              </a:rPr>
              <a:t>besprek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  <a:ea typeface="Arial"/>
              </a:rPr>
              <a:t>ingekomen/ uitgegane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  <a:ea typeface="Arial"/>
              </a:rPr>
              <a:t>stukk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  <a:ea typeface="Arial"/>
              </a:rPr>
              <a:t>mededeling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behandelen ‘eigenlijke’ agendapunt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w.v.t.t.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  <a:ea typeface="Arial"/>
              </a:rPr>
              <a:t>rondvraa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luiting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5" descr="http://1.bp.blogspot.com/__W0mkVm5lIo/Sg2LhW3MSyI/AAAAAAAAAB4/pDfyWO9keOw/s400/notulen.jpg"/>
          <p:cNvPicPr/>
          <p:nvPr/>
        </p:nvPicPr>
        <p:blipFill>
          <a:blip r:embed="rId1"/>
          <a:stretch/>
        </p:blipFill>
        <p:spPr>
          <a:xfrm>
            <a:off x="5580000" y="1628640"/>
            <a:ext cx="3441600" cy="26258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http://hamradio.nikhef.nl/afdeling/woerden/art/img/1329577141-1.jpg"/>
          <p:cNvPicPr/>
          <p:nvPr/>
        </p:nvPicPr>
        <p:blipFill>
          <a:blip r:embed="rId2"/>
          <a:stretch/>
        </p:blipFill>
        <p:spPr>
          <a:xfrm>
            <a:off x="6745320" y="4437000"/>
            <a:ext cx="2266920" cy="22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b7"/>
                </a:solidFill>
                <a:latin typeface="Arial Black"/>
              </a:rPr>
              <a:t>Betrokken persone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646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Voorzit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Notu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Vergaderleden / doelgroep / deelnem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Bepaal de rol die betrokken personen in dienen te nemen en welke taken hebben zij? (taakomschrijving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-&gt; ieder dient zicht te houden aan een aantal regels om de vergadering zo goed mogelijk te laten  verlopen! (reglement van ord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-&gt; 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vergaderstress; http://www.youtube.com/watch?v=buiq_mMjhQ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2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7" dur="2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2" dur="2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7" dur="20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2" dur="20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7" dur="20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b7"/>
                </a:solidFill>
                <a:latin typeface="Arial Black"/>
              </a:rPr>
              <a:t>Reglement van or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5406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29480" indent="-4294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zich goed voorbereidt op zijn/ haar vergadertaken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9480" indent="-4294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e leiding van de voorzitter accepteer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9480" indent="-4294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zich correct, respectvol en positief opstelt tijdens de vergaderingen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9480" indent="-4294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en actief en positief aandeel levert aan de groepsactiviteiten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9480" indent="-4294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optimaal de gestelde doelen nastreef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9480" indent="-4294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goede afspraken maakt en die op tijd nakom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9480" indent="-4294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kritiek durft te geven en kritiek kan ontvangen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9480" indent="-4294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openstaat voor denkbeelden van anderen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9480" indent="-4294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vriendelijk, beleefd, respectvol en coöperatief i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9480" indent="-4294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ij problemen oplossingen zoek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9480" indent="-4294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zegt wat hij doet en doet wat hij ze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9480" indent="-4294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ijdens de vergadering niet meer zegt dan nodig i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b7"/>
                </a:solidFill>
                <a:latin typeface="Arial Black"/>
              </a:rPr>
              <a:t>Effectief vergadere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8920" y="1294920"/>
            <a:ext cx="8666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Vergader ergernissen; 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http://www.youtube.com/view_play_list?p=A67A8953E30A4DB4&amp;search_query=vergader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Efficiënt vergaderen; 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http://www.youtube.com/watch?v=Kc389mdD64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Communicatie in dial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Lesdagopdracht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volgen van vergadering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op werk, project of privé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Rectangle 1029"/>
          <p:cNvSpPr/>
          <p:nvPr/>
        </p:nvSpPr>
        <p:spPr>
          <a:xfrm>
            <a:off x="2771640" y="22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1028" descr=""/>
          <p:cNvPicPr/>
          <p:nvPr/>
        </p:nvPicPr>
        <p:blipFill>
          <a:blip r:embed="rId1"/>
          <a:stretch/>
        </p:blipFill>
        <p:spPr>
          <a:xfrm>
            <a:off x="5076720" y="3610080"/>
            <a:ext cx="3976920" cy="27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240" y="244440"/>
            <a:ext cx="86137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b7"/>
                </a:solidFill>
                <a:latin typeface="Arial Black"/>
              </a:rPr>
              <a:t>Schriftelijke producten</a:t>
            </a:r>
            <a:br>
              <a:rPr sz="4000"/>
            </a:br>
            <a:r>
              <a:rPr b="1" lang="nl-NL" sz="2800" spc="-1" strike="noStrike">
                <a:solidFill>
                  <a:srgbClr val="ffffb7"/>
                </a:solidFill>
                <a:latin typeface="Arial Black"/>
              </a:rPr>
              <a:t>uit de vergadering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904760"/>
            <a:ext cx="86169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Uitnodigingsbrie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Agen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Notul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Actielij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esluitenlij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Archiefstukk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2933640" y="162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4" descr=""/>
          <p:cNvPicPr/>
          <p:nvPr/>
        </p:nvPicPr>
        <p:blipFill>
          <a:blip r:embed="rId1"/>
          <a:stretch/>
        </p:blipFill>
        <p:spPr>
          <a:xfrm>
            <a:off x="4952880" y="1828800"/>
            <a:ext cx="32767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6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1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6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1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6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1" dur="5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2T14:27:48Z</dcterms:created>
  <dc:creator>koezen</dc:creator>
  <dc:description/>
  <dc:language>en-US</dc:language>
  <cp:lastModifiedBy>Wim Zweep</cp:lastModifiedBy>
  <cp:lastPrinted>2015-08-24T07:01:07Z</cp:lastPrinted>
  <dcterms:modified xsi:type="dcterms:W3CDTF">2017-02-01T12:18:42Z</dcterms:modified>
  <cp:revision>358</cp:revision>
  <dc:subject/>
  <dc:title>OMGAAN MET LASTIGE MENSEN:</dc:title>
</cp:coreProperties>
</file>