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C53-96DC-44E0-AAC8-A96AF529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3FB8-85EC-48D1-9B00-33DE5056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62FD-F048-4098-BD77-9E71F440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E7AD-ED0D-4B08-855B-715FECA9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4400-7802-48CD-949C-03DEA5BE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AF9D-251D-4D1B-A148-CFFA370B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206F-A77E-4970-A409-9B480917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3547-C894-438C-86BE-D98028FE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E752-F76F-4C2A-9B0C-0CF1EC62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E99D-7E3E-4A68-BA78-D7B69D83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E506-4BD8-4A45-9A50-C093DED6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A2FF-B1A5-42E2-9A03-A5313B54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38AF-BA85-4320-B636-BEF04BF3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E953-FD66-48CE-9217-3805C61D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8C90-38BB-4F92-B046-984551BD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65E8-6C10-46C2-B75F-D86F76A6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050E-9C61-493F-ADD0-D2656973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E889-F506-47C7-BD93-314A1E81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90A6-2226-4E66-BFAE-D7365FD5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E2CE-9BC2-43E2-B955-3246BB7E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0AA-9137-49F8-B342-2369204F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49A-C5B4-430B-8F6D-2115C428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A6D5-6427-4001-A35B-39F5CB61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03E-A04C-4A48-9AA5-A811532B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4F20-726A-4A4C-90D0-29ADD09BBC3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068C-2828-47A3-B049-B642BF8F8B8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b7"/>
                </a:solidFill>
                <a:latin typeface="Arial Black"/>
              </a:rPr>
              <a:t>Vergaderen,</a:t>
            </a:r>
            <a:br>
              <a:rPr sz="3600"/>
            </a:br>
            <a:r>
              <a:rPr b="1" lang="nl-NL" sz="3600" spc="-1" strike="noStrike">
                <a:solidFill>
                  <a:srgbClr val="ffffb7"/>
                </a:solidFill>
                <a:latin typeface="Arial Black"/>
              </a:rPr>
              <a:t>vergadertechnieken,</a:t>
            </a:r>
            <a:br>
              <a:rPr sz="3600"/>
            </a:br>
            <a:r>
              <a:rPr b="1" lang="nl-NL" sz="3600" spc="-1" strike="noStrike">
                <a:solidFill>
                  <a:srgbClr val="ffffb7"/>
                </a:solidFill>
                <a:latin typeface="Arial Black"/>
              </a:rPr>
              <a:t>overleggen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2400"/>
            </a:br>
            <a:br>
              <a:rPr sz="24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4" descr="afbeelding"/>
          <p:cNvPicPr/>
          <p:nvPr/>
        </p:nvPicPr>
        <p:blipFill>
          <a:blip r:embed="rId1"/>
          <a:stretch/>
        </p:blipFill>
        <p:spPr>
          <a:xfrm>
            <a:off x="539640" y="4149720"/>
            <a:ext cx="2584440" cy="1943280"/>
          </a:xfrm>
          <a:prstGeom prst="rect">
            <a:avLst/>
          </a:prstGeom>
          <a:ln w="0">
            <a:noFill/>
          </a:ln>
        </p:spPr>
      </p:pic>
      <p:sp>
        <p:nvSpPr>
          <p:cNvPr id="100" name="Tekstvak 2"/>
          <p:cNvSpPr/>
          <p:nvPr/>
        </p:nvSpPr>
        <p:spPr>
          <a:xfrm>
            <a:off x="3419640" y="3933720"/>
            <a:ext cx="5473440" cy="19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s &amp; Natu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portvisserij &amp; Waterbehe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Afbeelding 1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97964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Vergad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541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iverse overleg structure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eel en informe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pland of n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chillende type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&gt; voorlic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&gt; overl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&gt; inspra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&gt; medezeggensch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&gt; vergader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028" descr="PE01561_"/>
          <p:cNvPicPr/>
          <p:nvPr/>
        </p:nvPicPr>
        <p:blipFill>
          <a:blip r:embed="rId1"/>
          <a:stretch/>
        </p:blipFill>
        <p:spPr>
          <a:xfrm>
            <a:off x="5651640" y="1217520"/>
            <a:ext cx="2882880" cy="1913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http://www.demienskip.nl/upload/cached/9992e993cd4b8f01d981f3a464f22ac6.jpg"/>
          <p:cNvPicPr/>
          <p:nvPr/>
        </p:nvPicPr>
        <p:blipFill>
          <a:blip r:embed="rId2"/>
          <a:stretch/>
        </p:blipFill>
        <p:spPr>
          <a:xfrm>
            <a:off x="4859280" y="3284640"/>
            <a:ext cx="3809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44080"/>
            <a:ext cx="866304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Formeel vergad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40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nder vergaderen verstaan w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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t bij elkaar komen, in bepaalde ruimt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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et een bepaald doel(en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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ie in vastgestelde tijd (de vergadertijd)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worden gerealiseerd, duur bepale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ur; http://www.youtube.com/watch?v=MXCgO6em4k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ocatie; http://www.youtube.com/watch?v=Di73RiN16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&gt; verzamelnaam van formeel groepsoverl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Vergad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8920" y="1197000"/>
            <a:ext cx="86662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arbij moet een voorgeschreven vorm worden gehandhaafd, dit blijkt o.a. uit agenda en uitnodiging.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oelen; informatie uitwisselen, brainstormen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ideeën opdoen/ uitwisselen), afstemming, taakverdeling, probleemoplossend en         besluiten ne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nk aan; Werkoverleg, studiebijeenkomst, feestcommissie, OR, directie en M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-&gt; Welke vergadersoorten ken jij nog me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-&gt; Welke komen op jouw werk of privé vo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http://users.skynet.be/masala/Afbeeldingen/feest%20champagne.jpg"/>
          <p:cNvPicPr/>
          <p:nvPr/>
        </p:nvPicPr>
        <p:blipFill>
          <a:blip r:embed="rId1"/>
          <a:stretch/>
        </p:blipFill>
        <p:spPr>
          <a:xfrm>
            <a:off x="7380360" y="3284640"/>
            <a:ext cx="13669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Opbouw van vergader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6624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op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agenda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vaststel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verslag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of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notulen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bespre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ingekomen/ uitgegan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stuk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mededeli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ehandelen ‘eigenlijke’ agendapun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.v.t.t.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rondvra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iting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http://1.bp.blogspot.com/__W0mkVm5lIo/Sg2LhW3MSyI/AAAAAAAAAB4/pDfyWO9keOw/s400/notulen.jpg"/>
          <p:cNvPicPr/>
          <p:nvPr/>
        </p:nvPicPr>
        <p:blipFill>
          <a:blip r:embed="rId1"/>
          <a:stretch/>
        </p:blipFill>
        <p:spPr>
          <a:xfrm>
            <a:off x="5580000" y="1628640"/>
            <a:ext cx="3441600" cy="2625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http://hamradio.nikhef.nl/afdeling/woerden/art/img/1329577141-1.jpg"/>
          <p:cNvPicPr/>
          <p:nvPr/>
        </p:nvPicPr>
        <p:blipFill>
          <a:blip r:embed="rId2"/>
          <a:stretch/>
        </p:blipFill>
        <p:spPr>
          <a:xfrm>
            <a:off x="6745320" y="443700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Betrokken person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6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zi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otu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ergaderleden / doelgroep / deelne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paal de rol die betrokken personen in dienen te nemen en welke taken hebben zij? (taakomschrijv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-&gt; ieder dient zicht te houden aan een aantal regels om de vergadering zo goed mogelijk te laten  verlopen! (reglement van or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-&gt;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gaderstress; http://www.youtube.com/watch?v=buiq_mMjhQ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Reglement van or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ich goed voorbereidt op zijn/ haar vergadertak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 leiding van de voorzitter accepteer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ich correct, respectvol en positief opstelt tijdens de vergadering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en actief en positief aandeel levert aan de groepsactiviteit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ptimaal de gestelde doelen nastreef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oede afspraken maakt en die op tijd nakom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ritiek durft te geven en kritiek kan ontvang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penstaat voor denkbeelden van ander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riendelijk, beleefd, respectvol en coöperatief 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ij problemen oplossingen zoek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egt wat hij doet en doet wat hij ze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jdens de vergadering niet meer zegt dan nodig 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Effectief vergad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8920" y="1294920"/>
            <a:ext cx="8666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gader ergernissen;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http://www.youtube.com/view_play_list?p=A67A8953E30A4DB4&amp;search_query=vergad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fficiënt vergaderen;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http://www.youtube.com/watch?v=Kc389mdD64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mmunicatie in dia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esdagopdrach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lgen van vergadering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p werk, project of priv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029"/>
          <p:cNvSpPr/>
          <p:nvPr/>
        </p:nvSpPr>
        <p:spPr>
          <a:xfrm>
            <a:off x="277164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028" descr=""/>
          <p:cNvPicPr/>
          <p:nvPr/>
        </p:nvPicPr>
        <p:blipFill>
          <a:blip r:embed="rId1"/>
          <a:stretch/>
        </p:blipFill>
        <p:spPr>
          <a:xfrm>
            <a:off x="5076720" y="3610080"/>
            <a:ext cx="397692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Arial Black"/>
              </a:rPr>
              <a:t>Schriftelijke producten</a:t>
            </a:r>
            <a:br>
              <a:rPr sz="4000"/>
            </a:br>
            <a:r>
              <a:rPr b="1" lang="nl-NL" sz="2800" spc="-1" strike="noStrike">
                <a:solidFill>
                  <a:srgbClr val="ffffb7"/>
                </a:solidFill>
                <a:latin typeface="Arial Black"/>
              </a:rPr>
              <a:t>uit de vergadering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6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Uitnodigingsbr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tu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ctielij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luitenlij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rchiefstu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93364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76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14:27:48Z</dcterms:created>
  <dc:creator>koezen</dc:creator>
  <dc:description/>
  <dc:language>en-US</dc:language>
  <cp:lastModifiedBy>Wim Zweep</cp:lastModifiedBy>
  <cp:lastPrinted>2015-08-24T07:01:07Z</cp:lastPrinted>
  <dcterms:modified xsi:type="dcterms:W3CDTF">2017-02-01T12:18:42Z</dcterms:modified>
  <cp:revision>358</cp:revision>
  <dc:subject/>
  <dc:title>OMGAAN MET LASTIGE MENSEN:</dc:title>
</cp:coreProperties>
</file>