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48F-F7F5-463A-B57E-094E789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638-E848-4EAC-8C00-5680B245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851-EE81-4ABF-8A5E-2069FF62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EE0-D869-45B9-AA69-25EC1C91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6C4A-7359-48B4-A9BD-690CBBC7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7A1-292F-4FE2-8008-39A0F2C5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9D9-8868-4B06-AA81-02AB4C7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4F9-4224-4B28-9026-33404172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B82-8D3B-43FB-A00E-BF898749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80B4-67AF-4B87-8F3A-2D4CBC4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7F8-380B-42CA-BBEC-F4A5B25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8A8-6F44-42F8-8A1C-82DC812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CB2-A17E-4265-B85A-7A6A253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ECF-8647-4779-A3AB-F8F043CA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ED5-9834-4439-8EC1-E6074ACA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421-52F0-454E-AB4D-F724F925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F91-3B51-497C-90C2-3F5CA71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F74-6185-4873-B795-173BD9A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97E-E41C-4978-9227-EF5A837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D5F-4D4F-4778-8A43-6CE3B1B8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DC3-A1C0-4A4B-9002-28BF148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709-4453-4E2F-916A-7A017B6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5BC-D483-4EC6-B704-5FDFD8D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7EF-48AC-4456-B59C-CF2D613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1FB-2E72-4E73-B783-10BAA79EE7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B60-BDCA-4F7F-A942-23D08F43323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Communicatie</a:t>
            </a:r>
            <a:br>
              <a:rPr sz="3600"/>
            </a:br>
            <a:br>
              <a:rPr sz="36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Opletten, meedoen en meedenken!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ccesvol zijn is een keuze!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Roelof wil graag dat jullie succesvol zijn…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Hij was ook jong </a:t>
            </a:r>
            <a:r>
              <a:rPr b="1" lang="nl-NL" sz="2400" spc="-1" strike="noStrike">
                <a:solidFill>
                  <a:srgbClr val="ffffb7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afbeelding"/>
          <p:cNvPicPr/>
          <p:nvPr/>
        </p:nvPicPr>
        <p:blipFill>
          <a:blip r:embed="rId1"/>
          <a:stretch/>
        </p:blipFill>
        <p:spPr>
          <a:xfrm>
            <a:off x="539640" y="4149720"/>
            <a:ext cx="258444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3419640" y="3933720"/>
            <a:ext cx="547344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s &amp; Na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ortvisserij &amp; Waterbeh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Goed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Goede en doelgericht mondelinge communicatie zijn drie zaken noodzakelij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actief luister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vragen stellen 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samenvat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17780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Actief luist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209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tiviteiten ondernemen om na te gaan of d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wilde zeggen ook zo overgekomen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hoorde, datgene was wat de ander bedoelde over te bre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lk misverstand is opgehelderd voordat het gesprek verder g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http://www.gertjanschop.com/sitebuildercontent/sitebuilderfiles/actiefluist.jpeg"/>
          <p:cNvPicPr/>
          <p:nvPr/>
        </p:nvPicPr>
        <p:blipFill>
          <a:blip r:embed="rId1"/>
          <a:stretch/>
        </p:blipFill>
        <p:spPr>
          <a:xfrm>
            <a:off x="611280" y="3578400"/>
            <a:ext cx="783432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Vragen stel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37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rende luistervaardigheid, hierdoor concrete informatie, dus goed beeld van de situat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ak overgeslagen, door haast of men al denkt te weten waar het om gaat. Hierdoor soms verkeerde beslissingen genomen of praat men langs elkaar h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gen stellen blijkt moeilijk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r zijn een aantal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orten vra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slot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ggestieve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s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http://cdniphone.i-culture.nl/wp-content/uploads/2011/02/goeievraag.jpg"/>
          <p:cNvPicPr/>
          <p:nvPr/>
        </p:nvPicPr>
        <p:blipFill>
          <a:blip r:embed="rId1"/>
          <a:stretch/>
        </p:blipFill>
        <p:spPr>
          <a:xfrm>
            <a:off x="6227640" y="3429000"/>
            <a:ext cx="207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b7"/>
                </a:solidFill>
                <a:latin typeface="Arial Black"/>
              </a:rPr>
              <a:t>Goede vragen stellen en doorvragen        voor de juiste informatie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0" t="0" r="0" b="74263"/>
          <a:stretch/>
        </p:blipFill>
        <p:spPr>
          <a:xfrm>
            <a:off x="1258920" y="119700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rcRect l="0" t="74523" r="0" b="0"/>
          <a:stretch/>
        </p:blipFill>
        <p:spPr>
          <a:xfrm>
            <a:off x="1258920" y="5504040"/>
            <a:ext cx="4876920" cy="1353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rcRect l="0" t="48778" r="0" b="25485"/>
          <a:stretch/>
        </p:blipFill>
        <p:spPr>
          <a:xfrm>
            <a:off x="1258920" y="407664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rcRect l="0" t="24385" r="0" b="49879"/>
          <a:stretch/>
        </p:blipFill>
        <p:spPr>
          <a:xfrm>
            <a:off x="1258920" y="2637000"/>
            <a:ext cx="487692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kstvak 6"/>
          <p:cNvSpPr/>
          <p:nvPr/>
        </p:nvSpPr>
        <p:spPr>
          <a:xfrm>
            <a:off x="6588000" y="234936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600" spc="-1" strike="noStrike">
                <a:solidFill>
                  <a:srgbClr val="ffffff"/>
                </a:solidFill>
                <a:latin typeface="Arial"/>
              </a:rPr>
              <a:t>Komt mijn verhaal wel o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Samenvatt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772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of na het vragen ste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atten van de vele informatie, hier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palen of je het goed hebt begrep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ander ziet dat je goed hebt geluister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e dwingt jezelf eerst te luisteren en te begrijpen, voordat je reage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gesprek samenvatten, is stimulans voor de ander om verder te praten en brengt rust, hierna evt. zelf vraag stellen. Is een sturende luistervaardig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gebruiken om gesprek te beëindigen, je trekt na de samenvatting een conclus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Voor- en nadelen van mondelinge   en schriftelijk communicati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905120"/>
          <a:ext cx="8521560" cy="4668840"/>
        </p:xfrm>
        <a:graphic>
          <a:graphicData uri="http://schemas.openxmlformats.org/drawingml/2006/table">
            <a:tbl>
              <a:tblPr/>
              <a:tblGrid>
                <a:gridCol w="4260600"/>
                <a:gridCol w="4260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eling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riftelijk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niet zo geschikt voor overdracht van veel feitelijke inform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geschikter voor overdracht van veel feitelijke informati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e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ind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e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ind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van ontvangen moei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 van ontvangen makke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gemakke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moei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de ontvangs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ontvangst nie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leiner bereik,on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roter bereik, 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ind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e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ichtlijnen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341000"/>
            <a:ext cx="8893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OC richtlijnen vo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chrijven van een vers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enquê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lefoneren en baliegespr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epassen 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en, projecten, essay, beheerpla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xterne communicatie (bijv. voorlich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1"/>
          <p:cNvPicPr/>
          <p:nvPr/>
        </p:nvPicPr>
        <p:blipFill>
          <a:blip r:embed="rId1"/>
          <a:stretch/>
        </p:blipFill>
        <p:spPr>
          <a:xfrm>
            <a:off x="6300720" y="1341360"/>
            <a:ext cx="2759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</a:t>
            </a: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(les 1a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al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ondeling,praten,luisteren)-&gt; voorstelrond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ftelijk (op papier/ digitaal; beeld of tek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n-verbaal (houding, gelaatsuitdruk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effect;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lichaamstaal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klank/ too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inhoud/ taa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nemen met onze zintuig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ren / luisteren, kijken, voel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uiken en proe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http://static5.depositphotos.com/1037760/481/i/950/depositphotos_4817911-Manager-relaxing-outdoor.jpg"/>
          <p:cNvPicPr/>
          <p:nvPr/>
        </p:nvPicPr>
        <p:blipFill>
          <a:blip r:embed="rId1"/>
          <a:stretch/>
        </p:blipFill>
        <p:spPr>
          <a:xfrm>
            <a:off x="6659640" y="3141720"/>
            <a:ext cx="2158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arnem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71689" b="143"/>
          <a:stretch/>
        </p:blipFill>
        <p:spPr>
          <a:xfrm>
            <a:off x="1042920" y="3789360"/>
            <a:ext cx="2089080" cy="1727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21708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lijn is langer, A of 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figuur of figuren neem je waar?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kstvak 4"/>
          <p:cNvSpPr/>
          <p:nvPr/>
        </p:nvSpPr>
        <p:spPr>
          <a:xfrm>
            <a:off x="1258920" y="5589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nekdote; De lijn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rcRect l="41277" t="0" r="0" b="0"/>
          <a:stretch/>
        </p:blipFill>
        <p:spPr>
          <a:xfrm>
            <a:off x="3708360" y="3860640"/>
            <a:ext cx="43038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sche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42472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Zender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Doe eens normaal, man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Ontv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ffect,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r 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 rot="5400000">
            <a:off x="1689120" y="3065400"/>
            <a:ext cx="652320" cy="649440"/>
          </a:xfrm>
          <a:custGeom>
            <a:avLst/>
            <a:gdLst>
              <a:gd name="textAreaLeft" fmla="*/ 0 w 652320"/>
              <a:gd name="textAreaRight" fmla="*/ 559080 w 652320"/>
              <a:gd name="textAreaTop" fmla="*/ 40680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5057" y="0"/>
                </a:moveTo>
                <a:lnTo>
                  <a:pt x="8513" y="7200"/>
                </a:lnTo>
                <a:lnTo>
                  <a:pt x="11599" y="7200"/>
                </a:lnTo>
                <a:lnTo>
                  <a:pt x="11599" y="13532"/>
                </a:lnTo>
                <a:lnTo>
                  <a:pt x="0" y="13532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057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 rot="5400000">
            <a:off x="4680000" y="389736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948360" y="4941720"/>
            <a:ext cx="486000" cy="719280"/>
          </a:xfrm>
          <a:prstGeom prst="downArrow">
            <a:avLst>
              <a:gd name="adj1" fmla="val 50000"/>
              <a:gd name="adj2" fmla="val 37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Medium / v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88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foon, mob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mpu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rief, off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x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rant, vakb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visi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adi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708360" y="206064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isen hieraan zij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trek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egan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uidelij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veau 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recthe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volgens AOC richtlijn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http://www.websitevoorzzp.nl/wp-content/gallery/webpics/website_offerte_aanvragen.png"/>
          <p:cNvPicPr/>
          <p:nvPr/>
        </p:nvPicPr>
        <p:blipFill>
          <a:blip r:embed="rId1"/>
          <a:srcRect l="0" t="-7748" r="0" b="7780"/>
          <a:stretch/>
        </p:blipFill>
        <p:spPr>
          <a:xfrm>
            <a:off x="6875640" y="208764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63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le communicatie is meestal bew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aak met voorbereiding, dus nagedacht o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arom iets wordt gezeg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t er gezegd gaat word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hoe het gezegd gaat w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http://3.bp.blogspot.com/-003fRlu3QN4/TcmuH-MoEPI/AAAAAAAAADA/pjKz0uToFSw/s1600/non-verbale-communicatie-lichaamstaal.jpg"/>
          <p:cNvPicPr/>
          <p:nvPr/>
        </p:nvPicPr>
        <p:blipFill>
          <a:blip r:embed="rId1"/>
          <a:stretch/>
        </p:blipFill>
        <p:spPr>
          <a:xfrm>
            <a:off x="6084720" y="1916280"/>
            <a:ext cx="2908440" cy="2900160"/>
          </a:xfrm>
          <a:prstGeom prst="rect">
            <a:avLst/>
          </a:prstGeom>
          <a:ln w="0">
            <a:noFill/>
          </a:ln>
        </p:spPr>
      </p:pic>
      <p:sp>
        <p:nvSpPr>
          <p:cNvPr id="121" name="Tekstvak 4"/>
          <p:cNvSpPr/>
          <p:nvPr/>
        </p:nvSpPr>
        <p:spPr>
          <a:xfrm>
            <a:off x="6516720" y="515772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n wat is dit voor vor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n-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1413000"/>
            <a:ext cx="8497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Non-verbale communicatie vaak onbewust, herkennen van non-verbale signalen helpt 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ware bedoeling van de gespreks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tner te onderkenn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bedoeling van je boodschap op 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prekspartner over te dra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gnalen; lichaamshouding, stem verheffen,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ichtsuitdrukkingen, geeuwen, m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werp spelen, handen in de za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b7"/>
                </a:solidFill>
                <a:latin typeface="Arial Black"/>
              </a:rPr>
              <a:t>Vormen van non-verbaal gedra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13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erkvloer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856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ormeel en informeel / intern en ex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ticaal, horizontaal en diagona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lfde ‘taal’ spreken, goede kennis van vakjargon en vakgebied, dial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makkelijker; elkaar kennen en soms aan een half woord geno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stiger bij complexere zaken, zoals; werkoverleg, maken van nieuwe afspraken, overleg over functio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27:48Z</dcterms:created>
  <dc:creator>koezen</dc:creator>
  <dc:description/>
  <dc:language>en-US</dc:language>
  <cp:lastModifiedBy>Wim Zweep</cp:lastModifiedBy>
  <cp:lastPrinted>2015-08-24T07:01:07Z</cp:lastPrinted>
  <dcterms:modified xsi:type="dcterms:W3CDTF">2017-02-01T11:29:26Z</dcterms:modified>
  <cp:revision>357</cp:revision>
  <dc:subject/>
  <dc:title>OMGAAN MET LASTIGE MENSEN:</dc:title>
</cp:coreProperties>
</file>