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937-837E-4CCF-9FB7-E4330B89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CF8-ED48-472E-B27F-1DDB4157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8BE-79BC-4E0F-9FAE-46DD52F0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52F-22FB-4AB9-B3A2-E2D07F46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E97-CBF4-4CBA-987F-B3D268D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B83-EC2D-4435-8337-10A673D1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6A4-7428-4B2E-A365-09FC6E87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9C3-4AE3-45AB-972D-FFFB295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E76-A867-440D-A6D7-B3C12B2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CE7-B59F-4059-A018-46BC02A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5C1-1274-4E0B-9356-D615027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6E6-EDC6-4160-9337-41A5F02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33BC-F566-49E7-9DF5-6E50496107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Tijdelijke aanduiding voor inhoud 2054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43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k mag niks meer (!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Gedragscode Stadswerk / VHG of FF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Jaarrond flora- en faunawetp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rtificer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onsgebon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 van aanpak/ che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sacties conform plan/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ne zorgplic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algemeen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werking specifiek zorgvuldig handel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.a. bij gedragscodes Natuurbeheer en zorgvuldig Bosbeheer wordt gewerkt met een checkli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 plan van 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alleen verplicht bij gedrags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dswerk/ VHG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in te zetten medewerk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analy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DSC0222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ewerker (minimaal 1 / ploe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ulling geven aan zorgvuldig handelen, dit betreft o.a. kennis van werktechnie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levante informatie over flora en fauna terug kunnen koppelen naar de uitvoerder of andere leidinggeve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 vervol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kund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zichter / uitvoe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leverde info over flora en fauna kunnen interpreteren (o.a. controle check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en risicomanag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istreren en terugkoppeling relevante gegev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telt voor Sportvisseri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woord: Dit hangt van de plek a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je moet eerst informeren onder welke gedragscode het gebied va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lgens probeer je informatie te krijgen over soorten-inventarisat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moet jezelf inventaris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moet voor aanvang werkzaamheden altijd een quickscan uitvo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Water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Watersch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achtige vegetaties op bermen, dijken en schouwpa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vers en nat profi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gaande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ke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ard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der aparte paragraaf voor nieuwe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Stadswerk/ V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chtlijnen per beheercategorie (VHG/ Stadswer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gazon of verharding als ondergro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boombegroeiingen met ondergroe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truweel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tige sierbegroei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ex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dige begroeiingen met jaarlijks intensief onderhou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begroeiingen en overgangen lan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a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heercategorieën Natuur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1341000"/>
            <a:ext cx="777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Begrazen van natuurterre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Omzagen en afzetten van houtige beplan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Plaggen, chopperen, maaien en strooisel veg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randen van he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Beheer van weidevogelgra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Beheer van bijzondere gras- en hooil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 Maaien van rie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8. Schonen en baggeren van poelen en waterl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 Akkerwerkzaam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. Onderhoud van gebouwen en bouw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sregels zijn te vinden in de H.2.1 e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bititat-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8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water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visserij kennen we viswatertypes: d.w.z. dat we aan de hand van de vormgeving van de waterkolom en de aanwezige vegetatie een inschatting kunnen maken over de aanwezige soor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gelijke kenmerken zijn er ook voor andere diersoorten, zoals amfibieën, zoogdieren en voge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Zogenoemde expert judgemen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inschatting kunnen geven of beschermde flora/fauna op locatie aanwe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kal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kalend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gemeente amsterdam- opgaande begroeiingen)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overzicht van de perioden en voorwaarden zie onderstaand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e soor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an       feb      mrt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r     mei     jun     jul      aug     sep     okt     nov     dec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lan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+   +   +   +   +   +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edvogel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zomerverblij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winterverblij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   x    x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+   +   +   + 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x   x   x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khoor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x    x   x   x   x    x   x 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ingsla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 +  +   +   +    +   +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maatregelen nodig wel Algemene zorgplicht van toepa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 = Activiteit uitvoeren onder voorwaar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 = Activiteit niet uitvoer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pril 2002 in werking getr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ortenbescherming, instandhouding biodivers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plic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Voorkomen van natuursc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 Beperken van natuurschade bij werkzaamh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 Ongedaan maken van schade (compens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grijpende Werkzaamheden uitvoer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oud rekening met (beschermde) flora/fa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arti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tikelen Flora &amp; fauna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t.2: Algemene zorgplich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chermende maatregelen nemen en nadelige handelingen achterwege la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rbodsbepalingen, bijv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en (beschermde) planten te plukken, verzamelen, af te snijden, te vernielen, te beschadigen, te ontwortelen of op enigerlei andere wijze van hun groeiplaats te verwijd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s verboden (beschermde) dieren te doden, te verwonden, te vangen, te bemachtigen of met het oog daarop op te spo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.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: 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zicht beschermde status flora en fauna van Nederl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beschermd (m.n. flora, uitgezonderd beschermde soor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d (m.n. fau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 en niet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schaars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zeldzame / specifieke of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! Niet alleen soorten zijn beschermd, ook voor de habitat gelden beschermende maatreg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kan bijv. m.b.t. Rode lijst-soorten aanvullende maatregel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ragscodes zijn ontwikkeld om de spelregels rond de flora &amp; faunawet duidelijker te m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erdere gedragscodes, o.a. waterschap, natuurbeheer, bosbeheer, recreatie, groene ruimte, prorail, enz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e hierover kun je vinden op de site van het ministerie van EL&amp;I. Ook de tekst van de verschillende gedragscodes is hier te vin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: bestendig beheer Groene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: Gedragsco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tendig beheer Gr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maaien van een berm, dijk of schouwpad in een bepaalde peri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ssnoei in een 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maaien van een sloot / slootoever onder voorwaa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SC01263"/>
          <p:cNvPicPr/>
          <p:nvPr/>
        </p:nvPicPr>
        <p:blipFill>
          <a:blip r:embed="rId1"/>
          <a:stretch/>
        </p:blipFill>
        <p:spPr>
          <a:xfrm>
            <a:off x="4788000" y="2075040"/>
            <a:ext cx="389880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t beste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2679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niet bestendig beh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orming van heestervak naar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beplanting in een kruidachtige veget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pen van een boombeplan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ger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mpen van een slo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!Vaak alleen met ontheffing. Mag sowieso geen nadelig effect voor beschermde soorten optred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DSC02025"/>
          <p:cNvPicPr/>
          <p:nvPr/>
        </p:nvPicPr>
        <p:blipFill>
          <a:blip r:embed="rId1"/>
          <a:stretch/>
        </p:blipFill>
        <p:spPr>
          <a:xfrm>
            <a:off x="457200" y="2347920"/>
            <a:ext cx="38275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certificering van Stadswerk / VHG, op basis van de gedragscode, worden de volgende niveaus onderschei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1: medewerker / meewerkend voor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2: opzichter / uitvoer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veau 3: werkvoorbereider / bedrijfslei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: kwaliteitsborg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 gedragscode: Taak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gever : Gemeente / Waterschap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eringsdocument met kaartmateria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 m.b.t. aanwezigheid bijzondere soor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plan, werkplan of best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itoring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LNV afhandelen van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ak opdrachtn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nemer: eigen dienst, aannem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oonbare deskundigheid m.b.t. flora en fauna in relatie met behe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en gedragsco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info opdrachtg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tellen plan van aanp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pportage en evalua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lering calamitei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13:11Z</dcterms:created>
  <dc:creator>Koezen</dc:creator>
  <dc:description/>
  <dc:language>en-US</dc:language>
  <cp:lastModifiedBy>Wim Zweep</cp:lastModifiedBy>
  <cp:lastPrinted>2014-09-16T12:57:47Z</cp:lastPrinted>
  <dcterms:modified xsi:type="dcterms:W3CDTF">2016-11-15T11:39:44Z</dcterms:modified>
  <cp:revision>17</cp:revision>
  <dc:subject/>
  <dc:title>Flora- en faunawet (1)</dc:title>
</cp:coreProperties>
</file>