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E99-60C5-450C-B098-2732023F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C72-94C8-44A7-8BDA-CD46823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992-DA9D-44E0-9136-FB9A516E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899-5806-43D4-A81D-8338AE6E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EF4-FFC9-4245-901C-B64663B1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BD4-CCD0-431F-A9BB-CB26147D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E1B-8923-48F0-8253-532882D0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D53-8870-4975-A318-C37A9C73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4A8-81D7-4148-8B32-B090EC3E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871-8AD0-4359-B7E6-D91F266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8EA-FB49-4BC9-B7D7-32794FD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85E-D416-43BF-BB4C-994DFCE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5B1-E3E8-4A6E-B5D2-748A0D80E6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Tijdelijke aanduiding voor inhoud 2054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43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k mag niks meer (!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Gedragscode Stadswerk / VHG of FF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Jaarrond flora- en faunawetp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rtificering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onsgebon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 van aanpak/ check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sacties conform plan/ best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algemene zorgplic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algemeen zorgvuldig handel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specifiek zorgvuldig handel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bij gedragscodes Natuurbeheer en zorgvuldig Bosbeheer wordt gewerkt met een checkli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 plan van 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alleen verplicht bij gedrags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dswerk/ VHG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in te zetten medewerk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analy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manag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DSC0222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kund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ewerker (minimaal 1 / ploe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ulling geven aan zorgvuldig handelen, dit betreft o.a. kennis van werktechnie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levante informatie over flora en fauna terug kunnen koppelen naar de uitvoerder of andere leidinggeve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 vervol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kund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zichter / uitvoe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leverde info over flora en fauna kunnen interpreteren (o.a. controle check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en risicomanag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streren en terugkoppeling relevante gegev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telt voor Sportvisseri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woord: Dit hangt van de plek a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je moet eerst informeren onder welke gedragscode het gebied va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lgens probeer je informatie te krijgen over soorten-inventarisat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moet jezelf inventaris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moet voor aanvang werkzaamheden altijd een quickscan uitvo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Water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chtlijnen per beheercategorie (Watersch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achtige vegetaties op bermen, dijken en schouwpa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vers en nat profi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gaande 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ker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ard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der aparte paragraaf voor nieuwe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Stadswerk/ V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chtlijnen per beheercategorie (VHG/ Stadswer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boombegroeiingen met gazon of verharding als ondergro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boombegroeiingen met ondergro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struweelbegroei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sierbegroei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ige begroeiingen met jaarlijks extensief onderhou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ige begroeiingen met jaarlijks intensief onderhou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begroeiingen en overgangen lan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a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heercategorieën Natuur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1341000"/>
            <a:ext cx="7775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Begrazen van natuurterre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Omzagen en afzetten van houtige beplan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Plaggen, chopperen, maaien en strooisel vegen van he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randen van he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Beheer van weidevogelgra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Beheer van bijzondere gras- en hooil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 Maaien van rie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8. Schonen en baggeren van poelen en waterl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 Akkerwerkzaam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. Onderhoud van gebouwen en bouw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sregels zijn te vinden in de H.2.1 en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bititat-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84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water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visserij kennen we viswatertypes: d.w.z. dat we aan de hand van de vormgeving van de waterkolom en de aanwezige vegetatie een inschatting kunnen maken over de aanwezige soor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gelijke kenmerken zijn er ook voor andere diersoorten, zoals amfibieën, zoogdieren en voge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Zogenoemde expert judgemen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inschatting kunnen geven of beschermde flora/fauna op locatie aanwe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kal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kalende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gemeente amsterdam- opgaande begroeiingen)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overzicht van de perioden en voorwaarden zie onderstaand sch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e soor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an       feb      mrt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r     mei     jun     jul      aug     sep     okt     nov     dec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lan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+   +   +   +   +   +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edvogel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zomerverblij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winterverblij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x    x    x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+   +   +   + 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x   x   x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khoor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x    x   x   x   x    x   x 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ingsla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 +  +   +   +    +   +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maatregelen nodig wel Algemene zorgplicht van toepa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 = Activiteit uitvoeren onder voorwaar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 = Activiteit niet uitvoer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pril 2002 in werking getr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ortenbescherming, instandhouding biodivers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plich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Voorkomen van natuursc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 Beperken van natuurschade bij werkzaamh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 Ongedaan maken van schade (compens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grijpende Werkzaamheden uitvoer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oud rekening met (beschermde) flora/fa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kele artik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tikelen Flora &amp; fauna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t.2: Algemene zorgplich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chermende maatregelen nemen en nadelige handelingen achterwege la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rbodsbepalingen, bijv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en (beschermde) planten te plukken, verzamelen, af te snijden, te vernielen, te beschadigen, te ontwortelen of op enigerlei andere wijze van hun groeiplaats te verwijd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s verboden (beschermde) dieren te doden, te verwonden, te vangen, te bemachtigen of met het oog daarop op te spo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., enz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: 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zicht beschermde status flora en fauna van Nederl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beschermd (m.n. flora, uitgezonderd beschermde soor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d (m.n. fau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1: algemene soorten en niet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2: schaars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3: zeldzame / specifieke of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! Niet alleen soorten zijn beschermd, ook voor de habitat gelden beschermende maatreg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 kan bijv. m.b.t. Rode lijst-soorten aanvullende maatregel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ragscodes zijn ontwikkeld om de spelregels rond de flora &amp; faunawet duidelijker te ma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erdere gedragscodes, o.a. waterschap, natuurbeheer, bosbeheer, recreatie, groene ruimte, prorail, enz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tie hierover kun je vinden op de site van het ministerie van EL&amp;I. Ook de tekst van de verschillende gedragscodes is hier te vin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: bestendig beheer Groene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: Gedragsco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tendig beheer Gr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maaien van een berm, dijk of schouwpad in een bepaalde peri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ssnoei in een 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maaien van een sloot / slootoever onder voorwaa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SC01263"/>
          <p:cNvPicPr/>
          <p:nvPr/>
        </p:nvPicPr>
        <p:blipFill>
          <a:blip r:embed="rId1"/>
          <a:stretch/>
        </p:blipFill>
        <p:spPr>
          <a:xfrm>
            <a:off x="4788000" y="2075040"/>
            <a:ext cx="389880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t besten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26792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niet bestendig beh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orming van heestervak naar kruidachtige veget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beplanting in een kruidachtige veget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pen van een boom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ger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mpen van een sloo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!Vaak alleen met ontheffing. Mag sowieso geen nadelig effect voor beschermde soorten optrede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DSC02025"/>
          <p:cNvPicPr/>
          <p:nvPr/>
        </p:nvPicPr>
        <p:blipFill>
          <a:blip r:embed="rId1"/>
          <a:stretch/>
        </p:blipFill>
        <p:spPr>
          <a:xfrm>
            <a:off x="457200" y="2347920"/>
            <a:ext cx="38275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certificering van Stadswerk / VHG, op basis van de gedragscode, worden de volgende niveaus onderschei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1: medewerker / meewerkend voorm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2: opzichter / uitvoer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3: werkvoorbereider / bedrijfslei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: kwaliteitsborg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 gedragscode: Taakver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gever : Gemeente / Waterschap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eringsdocument met kaartmateria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 m.b.t. aanwezigheid bijzondere soor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plan, werkplan of best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itoring en evalua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LNV afhandelen van calamitei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ak opdrachtn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nemer: eigen dienst, aannem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oonbare deskundigheid m.b.t. flora en fauna in relatie met behe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en gedragsco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info opdrachtg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tellen plan van aanp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pportage en evalua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gnalering calamitei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13:11Z</dcterms:created>
  <dc:creator>Koezen</dc:creator>
  <dc:description/>
  <dc:language>en-US</dc:language>
  <cp:lastModifiedBy>Wim Zweep</cp:lastModifiedBy>
  <cp:lastPrinted>2014-09-16T12:57:47Z</cp:lastPrinted>
  <dcterms:modified xsi:type="dcterms:W3CDTF">2016-11-15T11:39:44Z</dcterms:modified>
  <cp:revision>17</cp:revision>
  <dc:subject/>
  <dc:title>Flora- en faunawet (1)</dc:title>
</cp:coreProperties>
</file>