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wmf" ContentType="image/x-wmf"/>
  <Override PartName="/ppt/media/image14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D42-B8DE-43E5-BD9B-5C539AF6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5C3-8CA8-4D98-8D2B-F3F8C463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B92-E8BD-415B-9D1E-88EE9E0E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F17-E936-4312-986A-A9AE1E4F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F3A-EB8D-446D-A21E-EC37A6BE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D1B-1AFC-44BE-864C-FB663DE5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CDF-AF19-4735-91E6-7AA1C615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E31-38B1-4310-95B5-95191159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633-45C5-4053-B3E9-138BE926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34D-4ED8-4D72-93FA-B0A97B02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F42-E918-487F-8AF1-D7AA8A57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7D7-EC34-49CE-AF44-02B6F3A0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9E68-39B6-40D9-88F2-3BD12FAE13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71_1_klein"/>
          <p:cNvPicPr/>
          <p:nvPr/>
        </p:nvPicPr>
        <p:blipFill>
          <a:blip r:embed="rId1"/>
          <a:stretch/>
        </p:blipFill>
        <p:spPr>
          <a:xfrm>
            <a:off x="684360" y="2997360"/>
            <a:ext cx="2600280" cy="2541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F-FS310-d001_p"/>
          <p:cNvPicPr/>
          <p:nvPr/>
        </p:nvPicPr>
        <p:blipFill>
          <a:blip r:embed="rId2"/>
          <a:stretch/>
        </p:blipFill>
        <p:spPr>
          <a:xfrm>
            <a:off x="6732720" y="2349360"/>
            <a:ext cx="1360440" cy="3237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1258920" y="21337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 baseline="-25000">
                <a:solidFill>
                  <a:srgbClr val="000000"/>
                </a:solidFill>
                <a:latin typeface="Tahoma"/>
              </a:rPr>
              <a:t>De bosmaaier</a:t>
            </a:r>
            <a:endParaRPr b="1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Afbeelding 6" descr="zone_college_logo_CMYK.jpg"/>
          <p:cNvPicPr/>
          <p:nvPr/>
        </p:nvPicPr>
        <p:blipFill>
          <a:blip r:embed="rId3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De bosmaaier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elke onderdelen zijn aan de bosmaaier 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onderscheid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achine- op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e gemotoriseerde zeis of bosmaaier heeft 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weetakt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 Wat wil dit zeggen, een tweetaktmo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sklaar maken en onderh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rand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bruik mengsmering of tweetaktbenzine 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voeging van tweetaktol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houding 1 : 40 – 50, octaangehalte 90 R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wil de verhouding 1 : 40 – 50 zegg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klaar maken en onderhoud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4978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bruik Aspen/Motomix- benzine of gelijkwaardige benz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md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Zijn al kant-en-kla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etere verbra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ezitten minder schadelijke stoff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nder schadelijke uitlaatga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nbeperkt houdba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Nadeel, duurder.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aar medewerkers ziek thuis met bijv. hoofdpijn kost meer geld!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sklaar maken en onderhoud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lgemene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uchtfil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vetniveau in het tandwielhu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e a.v- rub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koelsyste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startersko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“waarom zou het luchtfilter op een zomerse dag eer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schoongemaakt moeten worden dan op aan natte dag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sklaar maken en onderhoud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onderhoud_rubbers-adsl.wmv" descr=""/>
          <p:cNvPicPr/>
          <p:nvPr/>
        </p:nvPicPr>
        <p:blipFill>
          <a:blip r:embed="rId1"/>
          <a:stretch/>
        </p:blipFill>
        <p:spPr>
          <a:xfrm>
            <a:off x="450720" y="177336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99" name="Tekstvak 5"/>
          <p:cNvSpPr/>
          <p:nvPr/>
        </p:nvSpPr>
        <p:spPr>
          <a:xfrm>
            <a:off x="4427640" y="3473280"/>
            <a:ext cx="44654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troleren van AV-rubb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ahoma"/>
              </a:rPr>
              <a:t>Bij slijtage van de AV-rubbers, trilling vermeerder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kstvak 6"/>
          <p:cNvSpPr/>
          <p:nvPr/>
        </p:nvSpPr>
        <p:spPr>
          <a:xfrm>
            <a:off x="4427640" y="1773360"/>
            <a:ext cx="446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baseline="-25000">
                <a:solidFill>
                  <a:srgbClr val="000000"/>
                </a:solidFill>
                <a:latin typeface="Tahoma"/>
              </a:rPr>
              <a:t>Koelsyste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000000"/>
                </a:solidFill>
                <a:latin typeface="Tahoma"/>
              </a:rPr>
              <a:t>-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Tahoma"/>
              </a:rPr>
              <a:t>Reinigen van koelribben met persluch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000000"/>
                </a:solidFill>
                <a:latin typeface="Tahoma"/>
              </a:rPr>
              <a:t>- Bij extreme vuilheid reinigen met schone benz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Afbeelding 6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sklaar maken en onderhoud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kstvak 6"/>
          <p:cNvSpPr/>
          <p:nvPr/>
        </p:nvSpPr>
        <p:spPr>
          <a:xfrm>
            <a:off x="1692360" y="4724280"/>
            <a:ext cx="5688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ontrole startkoo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ahoma"/>
              </a:rPr>
              <a:t>Bij rafels vroegtijdig vervangen. voorkomt problemen in het vel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onderhoud_starterkoord-adsl.wmv" descr=""/>
          <p:cNvPicPr/>
          <p:nvPr/>
        </p:nvPicPr>
        <p:blipFill>
          <a:blip r:embed="rId1"/>
          <a:stretch/>
        </p:blipFill>
        <p:spPr>
          <a:xfrm>
            <a:off x="2505240" y="1557360"/>
            <a:ext cx="4224240" cy="316692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5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sklaar maken en onderh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e draden in de draadkop kan op 3 mani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lengd worden n.l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utomat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alf of semi- automat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andmatig verle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is het nadeel van het handmat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erlengen van de draden in de draadkop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Draagst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10" descr="scan0001"/>
          <p:cNvPicPr/>
          <p:nvPr/>
        </p:nvPicPr>
        <p:blipFill>
          <a:blip r:embed="rId1"/>
          <a:stretch/>
        </p:blipFill>
        <p:spPr>
          <a:xfrm>
            <a:off x="755640" y="1700280"/>
            <a:ext cx="3622680" cy="47545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4643280" y="1916280"/>
            <a:ext cx="424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ugzak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uderband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verse ma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Comfortabel zit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oed afstell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oede gewichtsverdel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Afbeelding 5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eiligheid / ergo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403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ahoma"/>
              </a:rPr>
              <a:t>Afstellen van het draaggarnituu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ahoma"/>
              </a:rPr>
              <a:t>Heupslab op rechtheup han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ahoma"/>
              </a:rPr>
              <a:t>Borstkoppelsysteem midden op de bo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ahoma"/>
              </a:rPr>
              <a:t>De ophanghaak naar beneden trekken en de lenderiem strak aantrekken zodat een gelijke verdeling van het gewicht over de schouders plaatsvind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draagstel_afstellen-adsl.wmv" descr=""/>
          <p:cNvPicPr/>
          <p:nvPr/>
        </p:nvPicPr>
        <p:blipFill>
          <a:blip r:embed="rId1"/>
          <a:stretch/>
        </p:blipFill>
        <p:spPr>
          <a:xfrm>
            <a:off x="4349880" y="177336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116" name="Afbeelding 5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osmaaier worden gebruikt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ijmaaien rondom obstak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fmaaien van grassen, kruiden en lichte, houtige gewassen langs water of tussen beplanti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fzagen van lichte, houtige gewassen</a:t>
            </a:r>
            <a:r>
              <a:rPr b="0" lang="nl-NL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RBO- wet of de ARBeidsOmstandighedenw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arbij het gaat om Veiligheid, Gezondheid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elzijn (VG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zamenlijke verantwoordelijkheid va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erkgevers en werknem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wil dit zeggen, een gezamenlij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erantwoordelijkheid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713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werken met de bosmaaier is lichamelijk zw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en schadelijk voor de gezondheid kunn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e werkhou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rilling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Lawa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Uitlaatga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wordt bedoelt met de werkplek?’’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’Wat is de veilige afstand tussen de bedienings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met een werkende bosmaaier en een derde. En waarom moet een veilige afstand worden aangehouden?’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lle machines na 1995 moeten CE- gemarkee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zij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t wil zeggen dat de fabrikant zich garant ste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oor een aantal belangrijke veiligheidseis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ntwerpen en produceren van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Noem minimaal 4 belangrij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eiligheidseisen waaraan een bosmaaier mo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oldo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E_keurmerk_LED_Verlichting"/>
          <p:cNvPicPr/>
          <p:nvPr/>
        </p:nvPicPr>
        <p:blipFill>
          <a:blip r:embed="rId1"/>
          <a:stretch/>
        </p:blipFill>
        <p:spPr>
          <a:xfrm>
            <a:off x="7236000" y="1052640"/>
            <a:ext cx="100944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5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edrijfssto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270828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elangrijke storingen bij de bosmaai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er/rubberr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er/rubberbre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Koordbre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Het werken met de bosmaa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art de bosmaaier altijd op 3,00 meter afstand van de pl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ar je getankt hebt of gereedschap aanwezig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arom moet je minimaal 3,00 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afstand hanter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bruik de choke- klep als de motor niet hee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elopen of enige tijd heeft stilgesta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is de functie van de choke- klep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Het werken met de bosmaa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erken met dra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e uiteinden van de draden moeten het gewas eraf sla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aai van rechts naar links, draai zo-min-mogelijk met je r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erk tegen de richting van het verkeer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aai zodanig dat maaisel en kleine voorwerpen naar een gewenste richting worden geslinge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zou er gebeuren als je teveel gewas in 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maaibeweging zou meenemen? Op welke wijze moet je 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probleem oploss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is het op wiersen of ruggen maai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Het werken met de bosmaa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erken met het slag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e scherpe punten van het slagmes snijden of hakken het gewas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aai met korte en voorwaartse bewegi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aluds uitmaaien van beneden naar boven. Bramen van beneden naar boven afmaaien om het gewas te verklep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Vraag:’’Wat is het klepelen van het gewa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ahoma"/>
              </a:rPr>
              <a:t>bramen?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900000" y="1268280"/>
            <a:ext cx="7775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baseline="-25000">
                <a:solidFill>
                  <a:srgbClr val="000000"/>
                </a:solidFill>
                <a:latin typeface="Tahoma"/>
              </a:rPr>
              <a:t>Bedrijfsklaarmake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baseline="-25000">
                <a:solidFill>
                  <a:srgbClr val="000000"/>
                </a:solidFill>
                <a:latin typeface="Tahoma"/>
              </a:rPr>
              <a:t>-</a:t>
            </a: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Ombouwen van machine naar gewenst maaigarnituu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-Luchtfilter schoonmake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-Vet in kop controlere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-Afstellen draagstel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Afbeelding 3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61128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De bouw v.d. bosmaai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5" descr="scan0001"/>
          <p:cNvPicPr/>
          <p:nvPr/>
        </p:nvPicPr>
        <p:blipFill>
          <a:blip r:embed="rId1"/>
          <a:stretch/>
        </p:blipFill>
        <p:spPr>
          <a:xfrm>
            <a:off x="1547640" y="1627200"/>
            <a:ext cx="6193080" cy="4713120"/>
          </a:xfrm>
          <a:prstGeom prst="rect">
            <a:avLst/>
          </a:prstGeom>
          <a:ln w="0">
            <a:noFill/>
          </a:ln>
        </p:spPr>
      </p:pic>
      <p:pic>
        <p:nvPicPr>
          <p:cNvPr id="51" name="Afbeelding 4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Bijzonderheden bosmaai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076720" y="1557360"/>
            <a:ext cx="395928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otor: 2-tak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aaiboom: aandrijfa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tuurboom: gebogen/rech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phangoog: bala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Draagstel: tui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Tandwielhuis: vast/instelba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arnituur: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draad/slagmes/zaagbl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eschermkap: div. model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6" descr="scan0001"/>
          <p:cNvPicPr/>
          <p:nvPr/>
        </p:nvPicPr>
        <p:blipFill>
          <a:blip r:embed="rId1"/>
          <a:stretch/>
        </p:blipFill>
        <p:spPr>
          <a:xfrm>
            <a:off x="1979640" y="3059280"/>
            <a:ext cx="3311640" cy="3528720"/>
          </a:xfrm>
          <a:prstGeom prst="rect">
            <a:avLst/>
          </a:prstGeom>
          <a:ln w="0">
            <a:noFill/>
          </a:ln>
        </p:spPr>
      </p:pic>
      <p:pic>
        <p:nvPicPr>
          <p:cNvPr id="55" name="2Takt animatie.mpg" descr=""/>
          <p:cNvPicPr/>
          <p:nvPr/>
        </p:nvPicPr>
        <p:blipFill>
          <a:blip r:embed="rId2"/>
          <a:stretch/>
        </p:blipFill>
        <p:spPr>
          <a:xfrm>
            <a:off x="395280" y="1473120"/>
            <a:ext cx="2314440" cy="282744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6" descr="zone_college_logo_CMYK.jpg"/>
          <p:cNvPicPr/>
          <p:nvPr/>
        </p:nvPicPr>
        <p:blipFill>
          <a:blip r:embed="rId3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Garnituu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5" descr="scan0001"/>
          <p:cNvPicPr/>
          <p:nvPr/>
        </p:nvPicPr>
        <p:blipFill>
          <a:blip r:embed="rId1"/>
          <a:stretch/>
        </p:blipFill>
        <p:spPr>
          <a:xfrm>
            <a:off x="324000" y="1484280"/>
            <a:ext cx="8208720" cy="4876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684360" y="1989000"/>
            <a:ext cx="1439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Afbeelding 5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Gebruik garnituu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619280" y="1989000"/>
            <a:ext cx="654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raad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oor gras + licht onkruid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lagmes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oor riet, bramen, heide,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odembedekkers,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nkruiden, houtige gewassen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Zaagblad: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oor houtige beplanting to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12 cm doorsned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Afbeelding 4" descr="zone_college_logo_CMYK.jpg"/>
          <p:cNvPicPr/>
          <p:nvPr/>
        </p:nvPicPr>
        <p:blipFill>
          <a:blip r:embed="rId1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OREGON Maaikop - Bump&amp;Cut/Tap&amp;Go/half-automatisch"/>
          <p:cNvPicPr/>
          <p:nvPr/>
        </p:nvPicPr>
        <p:blipFill>
          <a:blip r:embed="rId1"/>
          <a:stretch/>
        </p:blipFill>
        <p:spPr>
          <a:xfrm>
            <a:off x="0" y="1484280"/>
            <a:ext cx="2481120" cy="1935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4143240" y="139680"/>
            <a:ext cx="16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Draadkop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826920" y="3213000"/>
            <a:ext cx="23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baseline="-25000">
                <a:solidFill>
                  <a:srgbClr val="000000"/>
                </a:solidFill>
                <a:latin typeface="Tahoma"/>
              </a:rPr>
              <a:t>Maaiko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FS maaibeeld vertraagd.mpg" descr=""/>
          <p:cNvPicPr/>
          <p:nvPr/>
        </p:nvPicPr>
        <p:blipFill>
          <a:blip r:embed="rId2"/>
          <a:stretch/>
        </p:blipFill>
        <p:spPr>
          <a:xfrm>
            <a:off x="3184560" y="1773360"/>
            <a:ext cx="5137200" cy="4201920"/>
          </a:xfrm>
          <a:prstGeom prst="rect">
            <a:avLst/>
          </a:prstGeom>
          <a:ln w="0">
            <a:noFill/>
          </a:ln>
        </p:spPr>
      </p:pic>
      <p:pic>
        <p:nvPicPr>
          <p:cNvPr id="68" name="Afbeelding 6" descr="zone_college_logo_CMYK.jpg"/>
          <p:cNvPicPr/>
          <p:nvPr/>
        </p:nvPicPr>
        <p:blipFill>
          <a:blip r:embed="rId3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39640" y="1341360"/>
            <a:ext cx="81360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baseline="-25000">
                <a:solidFill>
                  <a:srgbClr val="000000"/>
                </a:solidFill>
                <a:latin typeface="Tahoma"/>
              </a:rPr>
              <a:t>Het afmaaien van grassen, kruiden en lichte, houtige gewassen langs water of tussen beplantingen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 rot="19143600">
            <a:off x="-43920" y="3481200"/>
            <a:ext cx="4017960" cy="2182680"/>
          </a:xfrm>
          <a:prstGeom prst="rect">
            <a:avLst/>
          </a:prstGeom>
          <a:ln w="0">
            <a:noFill/>
          </a:ln>
        </p:spPr>
      </p:pic>
      <p:pic>
        <p:nvPicPr>
          <p:cNvPr id="71" name="FS maaien met driekhoeksmes vertraagd.mpg" descr=""/>
          <p:cNvPicPr/>
          <p:nvPr/>
        </p:nvPicPr>
        <p:blipFill>
          <a:blip r:embed="rId2"/>
          <a:stretch/>
        </p:blipFill>
        <p:spPr>
          <a:xfrm>
            <a:off x="4211640" y="2519280"/>
            <a:ext cx="4608360" cy="377208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5" descr="zone_college_logo_CMYK.jpg"/>
          <p:cNvPicPr/>
          <p:nvPr/>
        </p:nvPicPr>
        <p:blipFill>
          <a:blip r:embed="rId3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Persoonlijke bescherm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851280" y="2781360"/>
            <a:ext cx="4316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ehoorbescherm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og-/gelaatsbescherm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andschoen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eenbescherm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etbescherm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8" descr="Kleding-2"/>
          <p:cNvPicPr/>
          <p:nvPr/>
        </p:nvPicPr>
        <p:blipFill>
          <a:blip r:embed="rId1"/>
          <a:stretch/>
        </p:blipFill>
        <p:spPr>
          <a:xfrm>
            <a:off x="1042920" y="1557360"/>
            <a:ext cx="2255760" cy="4816440"/>
          </a:xfrm>
          <a:prstGeom prst="rect">
            <a:avLst/>
          </a:prstGeom>
          <a:ln w="0">
            <a:noFill/>
          </a:ln>
        </p:spPr>
      </p:pic>
      <p:sp>
        <p:nvSpPr>
          <p:cNvPr id="76" name="Line 9"/>
          <p:cNvSpPr/>
          <p:nvPr/>
        </p:nvSpPr>
        <p:spPr>
          <a:xfrm flipH="1" flipV="1">
            <a:off x="2484360" y="227628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Line 10"/>
          <p:cNvSpPr/>
          <p:nvPr/>
        </p:nvSpPr>
        <p:spPr>
          <a:xfrm flipH="1" flipV="1">
            <a:off x="2410920" y="1844640"/>
            <a:ext cx="151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2700360" y="364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Line 12"/>
          <p:cNvSpPr/>
          <p:nvPr/>
        </p:nvSpPr>
        <p:spPr>
          <a:xfrm flipH="1">
            <a:off x="2842920" y="393372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Line 13"/>
          <p:cNvSpPr/>
          <p:nvPr/>
        </p:nvSpPr>
        <p:spPr>
          <a:xfrm flipH="1">
            <a:off x="2987640" y="4292640"/>
            <a:ext cx="93672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Afbeelding 10" descr="zone_college_logo_CMYK.jpg"/>
          <p:cNvPicPr/>
          <p:nvPr/>
        </p:nvPicPr>
        <p:blipFill>
          <a:blip r:embed="rId2"/>
          <a:stretch/>
        </p:blipFill>
        <p:spPr>
          <a:xfrm>
            <a:off x="7066080" y="241200"/>
            <a:ext cx="16491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2:39:46Z</dcterms:created>
  <dc:creator>Bakkenes</dc:creator>
  <dc:description/>
  <dc:language>en-US</dc:language>
  <cp:lastModifiedBy>Jasper Smit</cp:lastModifiedBy>
  <dcterms:modified xsi:type="dcterms:W3CDTF">2021-11-16T11:45:21Z</dcterms:modified>
  <cp:revision>39</cp:revision>
  <dc:subject/>
  <dc:title>Dia 1</dc:title>
</cp:coreProperties>
</file>