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986-E429-4EA9-A128-9EC48EEA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8B0-A8FD-4469-9163-853DA917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65A97-8C5E-4028-9B1C-2054EC85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1334D-52D5-426D-A627-8D2B4F3C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160AE-E2EB-4FA2-AE43-F54240CC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847E4-6971-41ED-840A-63D594C0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84467-0C81-47D4-9AB2-F09DDC7C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A9BCE-6937-4476-9560-A0697E8A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8D171-1810-4792-B78C-97286629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49875-50E6-4678-93ED-A1B4F76B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26FF4-BADF-4A02-BD21-AF05D0F6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8C59B-5AD3-41C7-AB89-191A261C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5B9-9B2F-4F6C-B9AC-E7C320EE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21116-B946-44B8-94B3-ABB8751E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248DC-6E3D-4063-A946-FBB5EA5A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109D0-9B3C-4D44-A71D-9F9E1B9E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3F979-E330-4F2F-9E98-54D2348C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D12DC-6178-405D-9259-4DA75F00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C61CB-60F5-46EA-A967-2FE18BE5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24822-5BD8-46EA-976B-0BB2870F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8FF61-AF97-49B3-AB47-C5DEA938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CC7D2-D2A2-4108-AFAA-468FE6EE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E1117-9604-44A0-AC76-5017FDAF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FE8-CE96-432A-8700-7ED0EF5F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12F0A-C243-4BC1-A3A8-D746416A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594E2-991E-4EBE-A857-1C24B141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3EEC0-628E-4D75-A9C0-66E49DBE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294F7-9596-479A-A319-F167C58B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79F5B-E0DD-422E-B3C1-939B0217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F45A6-18D7-4D2F-8541-C94F72BF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E8D35-E46F-4CAC-B6DC-C9971259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F97E5-CCB2-4DC6-8EC4-3BB58B3F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59962-5517-4F7B-A1E2-9B51EDB5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D6167-2D4B-4525-ADA8-7154875B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A6B5-DBEA-4ABA-A9F8-9089F848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8CEA8-AA82-4ADA-89CB-DC347360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807A3-2FA1-42B7-8C10-FAA9E55D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718B0-3B8C-44A9-B08B-AF0B5584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96713-254B-49FE-A2D6-8436861D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DF49E-7C18-471A-9AD2-E24CC5D8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A6BF9-A604-41D9-AEA5-E398CAAB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9B91C-790D-4813-A9FE-828BB24E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5F618-C57C-4449-A27F-040C4CD0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6B33A-8A51-4CEA-8A33-E17FF8F3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038E7-AD73-45F6-9054-4A33D0BE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3529-2FFD-4866-9F3D-3E73B6F0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CFB9C-05AE-4598-9242-1BD388CD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B1ABB-5935-4EDC-B94C-6EAC5883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D1036-8897-4937-B3D7-A5BC3C93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9BFCB-4D9B-45EC-9D7B-32690586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82F49-D751-4653-A252-714AD2BC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D9C71-9236-4E45-BC11-BC60A0E6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92FA2-FAF0-4283-940A-F8298B72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ABC20-F080-4C70-83DB-5A51342B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919EC-739C-4DE8-9482-69489CDD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64EEF-DA47-440B-8859-4EC59C71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2B68-6666-423E-968D-68365771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91FC8-5B3F-433A-A6C6-4E893B59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AFD15-B3FA-4351-B8EC-EB3C1A2E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5655F-0758-4CC0-B452-4CAE14F1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F5EC1-13BA-4286-9D6C-1F559B24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BF580F-A53E-4538-9F3F-D3DF07A8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3F7B3-2094-407D-991A-B022D6FD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E59AD-56BB-409F-9B7F-D82D635F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C444F-91B2-4C99-BFDB-623AAFCB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24DBAB-6E52-4A39-BFD9-4BB30D83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770FC4-3FFD-4310-A5EB-D1FDB474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DB3E-B4F5-4B03-941D-D0351E6F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D2A75-864B-4832-88DA-ED575272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67D4D-BD07-498C-8FFB-AA739A30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984054-79B9-463B-8471-8DD0A396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19F06-918E-404D-B274-77025445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D9FCE6-C89D-4B06-8642-D52A3B66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49A0A-17EA-4828-88B2-178CA781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E99DF-F2E9-4069-B95B-E8DD819B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772179-E06F-484A-8673-E1E00490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405AF3-873D-4B29-9099-C2D7E2CA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2FE8-7B9C-4600-B079-B8A0CFEB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89EB-FA75-47CC-89DA-0B76401F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5F62-C9CB-4FF3-8FBC-F88B4963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948-BE5B-479C-B6A5-8430344C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6C01-0F96-4D6B-A6B4-857F2D5E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1B0F-222E-43FC-B1CF-44698E56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8E05-7A0D-47D1-BF0A-35E7E3D0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02D5-0F2B-4834-91CE-E913B830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3565-F818-4B40-97A1-B693889E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E23A4-39C9-4D00-83F9-E1F2054E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0F895-BD42-44EE-B801-7A83C9C2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BCAC9-14BD-4F74-B3FF-2A14E17A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8DAD6-CBF6-445E-9AFD-6B4D011D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4011E-4FF2-4E04-A8ED-93312503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73B-CA07-4D45-ACEA-E1AA70E0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366D7-EA94-4C86-8FC6-515A21E7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034BA-1644-49CC-8413-F0066D9C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A3F19-FEF8-4C2A-8E8B-55D267CA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D2512-370A-46E2-9B6E-B71709E0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0C541-A532-4C26-B2E3-F20F0206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6FA4A-54FC-46AF-9505-5A3C8FD8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C8EA8-C4DA-48B6-8E82-712DE889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2E239-054B-474B-86E9-7E367F7F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A4F65-EE1F-44C1-AA71-2363F7B1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40EFD-D7AB-47AE-8139-52593792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0B84-1DDF-4B9A-B0B1-159DAA5E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B67CD-6DD0-4000-A223-B7DDC2DF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F28F3-4347-4C85-974F-B5CE6D82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BA3AB-A9EE-45DD-9BB0-6DA6E8F7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D0BD2-5BD2-40D3-AB75-70DCCACF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C3A6E-E0B0-45ED-ABFE-AE0BCF71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D9440-C462-490A-AD61-BAF768F6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001FC-83F0-4FD4-92B8-2F5732BE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5FD0B-1B8F-43FC-93A8-10F53A09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13F59-FC79-4880-8F64-4453DCD9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B992B-B06A-4B48-B890-161CC67D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839-473D-4FC3-A108-BC35FAC4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4B97F-753E-4E63-9294-C85073AF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AD9E9-EA6E-4A81-A00F-9742BE16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2AA3F-0B59-4444-813D-768AA448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A559F-6A89-4697-BDB5-89B2A3C5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825C1-091D-4B5E-94B5-7F12ECCE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66242-F0A1-4065-96EF-962711FF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734C2-754D-4367-BCB7-988FBA62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29572-F180-4883-A865-7EEFEEBA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24215-804A-4640-B14B-B2CEA1A1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DF441-8413-49D7-BC01-031B9B16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478-7516-46CF-8174-F92CE919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85740-278C-44C1-B7A7-9102A9B3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A1448-A836-492F-A409-F88A76D0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4B722-659D-4C70-BF82-6E6CB580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3CBD8-12C0-45CF-8E1F-6CFFA46D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9760A-052E-4201-B100-35A1A112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6D1ED-9EB5-4FC5-9837-469415A3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B34A4-0113-4865-B8A3-73C980BE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CB0DF-6941-42E7-BFF0-6140D7F8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90421-4F9A-4573-9298-AD6904BE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87F94-85E0-43F0-BC1E-45E3AD94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D4F-A1C4-4DB3-8D50-9A479CFA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30968-5B8E-4773-A41E-83914471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01B3E-8039-4849-87C1-410308CC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83EA2-B66D-4A8F-8909-F0152ADC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F881F-8CCF-43D8-8FC1-546A26F0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E7A42-75AD-4918-872C-3C7B3278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F0B16-C5E9-485C-AA9C-6F5ADF73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2D8AC-ED24-42D2-8891-3EA0FAD7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69EC1-4C79-4782-864C-6C5F18B9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1F9D3-F6C4-4913-A523-5485503B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57089-D28C-4CE2-B2D3-3F677010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9F0-F032-4366-9B47-3CAE13C4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30E08-1FFD-46EF-8253-05534DE2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D5FD9-4467-49AF-A016-796BE665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6100D-C5F4-432D-9287-FC186A32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25689-1F64-4793-B8CC-8B5CA989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73C21-87D4-4094-8FBE-00BAFB16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66344-F80D-48EF-829A-DE8D2759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2689A-C4E7-4962-856C-19493E42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C996D-59C0-4697-91E0-C3022325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059D7-4430-4631-AAC7-D8F3A13C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0269E-9BBF-43CC-B59C-EC96BD80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819-3863-4CCB-BFE1-7199E9C5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AAD58-695E-4C5C-816B-28D653A5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65824-0464-4EE9-A85A-A9489BA3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2EE54-71A1-4A79-941A-52789B39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D89E4-7857-4A9D-932C-63D6B064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814C0-64AA-4F47-9D49-86AA7844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6FDFB-9461-41CE-8212-332D63E5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535F9-E390-4C48-A43B-33A4741F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BF503-235A-4C23-B8B0-D79EFCAD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97934-BE32-4A86-AE9F-83588C61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BB344-6563-4230-B040-FC6DFD7F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7ADC-5802-43B4-AF6D-DBA08DAF878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9AFA-FE28-42D6-A879-C02E821782A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27C5-4749-4F9B-B48E-140D501A5B1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79BE-B244-4FEE-8244-463F972D2D8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8058-D305-409A-92CC-5C6EA25AA62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E2C1-1BBF-474F-8421-DA51FF295EF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B1BE-5B75-4F2F-84A0-A08036587E3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714D-5386-4A84-967D-FFDCA1A75F8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8BAC-70B6-42FC-9C06-BD2D3BD9ABE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E532-46FD-4A64-992F-CD9A61470DC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F694-8951-47DE-A7DA-7B4052A8A14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3FFB-4F8E-423A-8B43-BBD82476B4F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ABC6-1FEE-419A-B2B1-60DB0C6C778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4A71-82CE-4DC9-A131-E1616D543F9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lora- en fauna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Tijdelijke aanduiding voor inhoud 2054"/>
          <p:cNvGrpSpPr/>
          <p:nvPr/>
        </p:nvGrpSpPr>
        <p:grpSpPr>
          <a:xfrm>
            <a:off x="2463480" y="1899000"/>
            <a:ext cx="4144320" cy="3552840"/>
            <a:chOff x="2463480" y="1899000"/>
            <a:chExt cx="4144320" cy="3552840"/>
          </a:xfrm>
        </p:grpSpPr>
        <p:sp>
          <p:nvSpPr>
            <p:cNvPr id="576" name="_s1028"/>
            <p:cNvSpPr/>
            <p:nvPr/>
          </p:nvSpPr>
          <p:spPr>
            <a:xfrm>
              <a:off x="3263400" y="1899000"/>
              <a:ext cx="2544480" cy="2493360"/>
            </a:xfrm>
            <a:custGeom>
              <a:avLst/>
              <a:gdLst>
                <a:gd name="textAreaLeft" fmla="*/ 0 w 2544480"/>
                <a:gd name="textAreaRight" fmla="*/ 2544840 w 2544480"/>
                <a:gd name="textAreaTop" fmla="*/ 0 h 2493360"/>
                <a:gd name="textAreaBottom" fmla="*/ 2493720 h 249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_s1029"/>
            <p:cNvSpPr/>
            <p:nvPr/>
          </p:nvSpPr>
          <p:spPr>
            <a:xfrm rot="7200000">
              <a:off x="3635640" y="2463840"/>
              <a:ext cx="2493360" cy="2544480"/>
            </a:xfrm>
            <a:custGeom>
              <a:avLst/>
              <a:gdLst>
                <a:gd name="textAreaLeft" fmla="*/ 0 w 2493360"/>
                <a:gd name="textAreaRight" fmla="*/ 2493720 w 2493360"/>
                <a:gd name="textAreaTop" fmla="*/ 0 h 2544480"/>
                <a:gd name="textAreaBottom" fmla="*/ 2544840 h 254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_s1030"/>
            <p:cNvSpPr/>
            <p:nvPr/>
          </p:nvSpPr>
          <p:spPr>
            <a:xfrm rot="14400000">
              <a:off x="2941560" y="2463840"/>
              <a:ext cx="2493360" cy="2544120"/>
            </a:xfrm>
            <a:custGeom>
              <a:avLst/>
              <a:gdLst>
                <a:gd name="textAreaLeft" fmla="*/ 0 w 2493360"/>
                <a:gd name="textAreaRight" fmla="*/ 2493720 w 2493360"/>
                <a:gd name="textAreaTop" fmla="*/ 0 h 2544120"/>
                <a:gd name="textAreaBottom" fmla="*/ 2544480 h 25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_s1031"/>
            <p:cNvSpPr/>
            <p:nvPr/>
          </p:nvSpPr>
          <p:spPr>
            <a:xfrm>
              <a:off x="5232600" y="2354760"/>
              <a:ext cx="10198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k mag niks meer (!?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_s1032"/>
            <p:cNvSpPr/>
            <p:nvPr/>
          </p:nvSpPr>
          <p:spPr>
            <a:xfrm>
              <a:off x="4027680" y="4406400"/>
              <a:ext cx="10202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Gedragscode Stadswerk / VHG of FF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Arial"/>
                </a:rPr>
                <a:t>Jaarrond flora- en faunawetpro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_s1033"/>
            <p:cNvSpPr/>
            <p:nvPr/>
          </p:nvSpPr>
          <p:spPr>
            <a:xfrm>
              <a:off x="2816640" y="2356200"/>
              <a:ext cx="10202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ertificering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rsoonsgebond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Afbeelding 1" descr=""/>
          <p:cNvPicPr/>
          <p:nvPr/>
        </p:nvPicPr>
        <p:blipFill>
          <a:blip r:embed="rId1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  <p:pic>
        <p:nvPicPr>
          <p:cNvPr id="583" name="Afbeelding 2" descr=""/>
          <p:cNvPicPr/>
          <p:nvPr/>
        </p:nvPicPr>
        <p:blipFill>
          <a:blip r:embed="rId2"/>
          <a:stretch/>
        </p:blipFill>
        <p:spPr>
          <a:xfrm>
            <a:off x="3835440" y="6299280"/>
            <a:ext cx="140184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 van aanpak/ check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42920" y="22251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 van aanp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houdsacties conform plan/ best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werking algemene zorgplic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werking algemeen zorgvuldig han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werking specifiek zorgvuldig han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.a. bij gedragscodes Natuurbeheer en zorgvuldig Bosbeheer wordt gewerkt met een checkli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Afbeelding 1" descr=""/>
          <p:cNvPicPr/>
          <p:nvPr/>
        </p:nvPicPr>
        <p:blipFill>
          <a:blip r:embed="rId1"/>
          <a:stretch/>
        </p:blipFill>
        <p:spPr>
          <a:xfrm>
            <a:off x="7451640" y="312840"/>
            <a:ext cx="1408320" cy="311040"/>
          </a:xfrm>
          <a:prstGeom prst="rect">
            <a:avLst/>
          </a:prstGeom>
          <a:ln w="0">
            <a:noFill/>
          </a:ln>
        </p:spPr>
      </p:pic>
      <p:pic>
        <p:nvPicPr>
          <p:cNvPr id="621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-3240" y="981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houd plan van aanp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150920" y="2117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n van aanp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alleen verplicht bij gedrags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dswerk/ VHG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heid in te zetten medewerk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 analy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manag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9" descr="DSC02225"/>
          <p:cNvPicPr/>
          <p:nvPr/>
        </p:nvPicPr>
        <p:blipFill>
          <a:blip r:embed="rId1"/>
          <a:stretch/>
        </p:blipFill>
        <p:spPr>
          <a:xfrm>
            <a:off x="5189400" y="2492280"/>
            <a:ext cx="3648240" cy="2737080"/>
          </a:xfrm>
          <a:prstGeom prst="rect">
            <a:avLst/>
          </a:prstGeom>
          <a:ln w="0">
            <a:noFill/>
          </a:ln>
        </p:spPr>
      </p:pic>
      <p:pic>
        <p:nvPicPr>
          <p:cNvPr id="625" name="Afbeelding 1" descr=""/>
          <p:cNvPicPr/>
          <p:nvPr/>
        </p:nvPicPr>
        <p:blipFill>
          <a:blip r:embed="rId2"/>
          <a:stretch/>
        </p:blipFill>
        <p:spPr>
          <a:xfrm>
            <a:off x="7380360" y="244440"/>
            <a:ext cx="1407960" cy="311040"/>
          </a:xfrm>
          <a:prstGeom prst="rect">
            <a:avLst/>
          </a:prstGeom>
          <a:ln w="0">
            <a:noFill/>
          </a:ln>
        </p:spPr>
      </p:pic>
      <p:pic>
        <p:nvPicPr>
          <p:cNvPr id="626" name="Afbeelding 2" descr=""/>
          <p:cNvPicPr/>
          <p:nvPr/>
        </p:nvPicPr>
        <p:blipFill>
          <a:blip r:embed="rId3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87280" y="106524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skund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87280" y="2367000"/>
            <a:ext cx="715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heid: Medewerker (minimaal 1 / ploe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rkennen van beschermde flora en fauna en hun vaste rust- en verblijfplaa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vulling geven aan zorgvuldig handelen, dit betreft o.a. kennis van werktechnie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evante informatie over flora en fauna terug kunnen koppelen naar de uitvoerder of andere leidinggeven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Afbeelding 1" descr=""/>
          <p:cNvPicPr/>
          <p:nvPr/>
        </p:nvPicPr>
        <p:blipFill>
          <a:blip r:embed="rId1"/>
          <a:stretch/>
        </p:blipFill>
        <p:spPr>
          <a:xfrm>
            <a:off x="7451640" y="247680"/>
            <a:ext cx="1408320" cy="311040"/>
          </a:xfrm>
          <a:prstGeom prst="rect">
            <a:avLst/>
          </a:prstGeom>
          <a:ln w="0">
            <a:noFill/>
          </a:ln>
        </p:spPr>
      </p:pic>
      <p:pic>
        <p:nvPicPr>
          <p:cNvPr id="630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8920" y="13413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skundigheid vervol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8560" y="249228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heid: Opzichter / uitvoer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rkennen van beschermde flora en fauna en hun vaste rust- en verblijfplaa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leverde info over flora en fauna kunnen interpreteren (o.a. controle checkli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en risicomanag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reren en terugkoppeling relevante gegeve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Afbeelding 1" descr=""/>
          <p:cNvPicPr/>
          <p:nvPr/>
        </p:nvPicPr>
        <p:blipFill>
          <a:blip r:embed="rId1"/>
          <a:stretch/>
        </p:blipFill>
        <p:spPr>
          <a:xfrm>
            <a:off x="7380360" y="235080"/>
            <a:ext cx="1407960" cy="311040"/>
          </a:xfrm>
          <a:prstGeom prst="rect">
            <a:avLst/>
          </a:prstGeom>
          <a:ln w="0">
            <a:noFill/>
          </a:ln>
        </p:spPr>
      </p:pic>
      <p:pic>
        <p:nvPicPr>
          <p:cNvPr id="634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9920" y="982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telt voor Sportvisserij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1269720" y="2277720"/>
            <a:ext cx="71499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woord: Dit hangt van de plek af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s je moet eerst informeren onder welke gedragscode het gebied va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volgens probeer je informatie te krijgen over soorten-inventarisa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entueel moet jezelf inventarise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e moet voor aanvang werkzaamheden altijd een quickscan uitvoe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Afbeelding 1" descr=""/>
          <p:cNvPicPr/>
          <p:nvPr/>
        </p:nvPicPr>
        <p:blipFill>
          <a:blip r:embed="rId1"/>
          <a:stretch/>
        </p:blipFill>
        <p:spPr>
          <a:xfrm>
            <a:off x="7380360" y="249120"/>
            <a:ext cx="1407960" cy="309600"/>
          </a:xfrm>
          <a:prstGeom prst="rect">
            <a:avLst/>
          </a:prstGeom>
          <a:ln w="0">
            <a:noFill/>
          </a:ln>
        </p:spPr>
      </p:pic>
      <p:pic>
        <p:nvPicPr>
          <p:cNvPr id="638" name="Afbeelding 3" descr=""/>
          <p:cNvPicPr/>
          <p:nvPr/>
        </p:nvPicPr>
        <p:blipFill>
          <a:blip r:embed="rId2"/>
          <a:stretch/>
        </p:blipFill>
        <p:spPr>
          <a:xfrm>
            <a:off x="144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16000" y="125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chtlijnen Water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7280" y="2405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chtlijnen per beheercategorie (Waterscha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uidachtige vegetaties op bermen, dijken en schouwpa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evers en nat profi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gaande beplan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erke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hard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der aparte paragraaf voor nieuwe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Afbeelding 1" descr=""/>
          <p:cNvPicPr/>
          <p:nvPr/>
        </p:nvPicPr>
        <p:blipFill>
          <a:blip r:embed="rId1"/>
          <a:stretch/>
        </p:blipFill>
        <p:spPr>
          <a:xfrm>
            <a:off x="7451640" y="225360"/>
            <a:ext cx="1408320" cy="311040"/>
          </a:xfrm>
          <a:prstGeom prst="rect">
            <a:avLst/>
          </a:prstGeom>
          <a:ln w="0">
            <a:noFill/>
          </a:ln>
        </p:spPr>
      </p:pic>
      <p:pic>
        <p:nvPicPr>
          <p:cNvPr id="642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chtlijnen Stadswerk/ VH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4292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chtlijnen per beheercategorie (VHG/ Stadswer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tige boombegroeiingen met gazon of verharding als ondergro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tige boombegroeiingen met ondergroe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tige struweelbegroei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tige sierbegroei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uidige begroeiingen met jaarlijks extensief onderhou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uidige begroeiingen met jaarlijks intensief onderhou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erbegroeiingen en overgangen land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at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Afbeelding 1" descr=""/>
          <p:cNvPicPr/>
          <p:nvPr/>
        </p:nvPicPr>
        <p:blipFill>
          <a:blip r:embed="rId1"/>
          <a:stretch/>
        </p:blipFill>
        <p:spPr>
          <a:xfrm>
            <a:off x="7451640" y="192240"/>
            <a:ext cx="1408320" cy="311040"/>
          </a:xfrm>
          <a:prstGeom prst="rect">
            <a:avLst/>
          </a:prstGeom>
          <a:ln w="0">
            <a:noFill/>
          </a:ln>
        </p:spPr>
      </p:pic>
      <p:pic>
        <p:nvPicPr>
          <p:cNvPr id="646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73160" y="112500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Beheercategorieën Natuurbeh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258560" y="2349000"/>
            <a:ext cx="777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Begrazen van natuurterre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Omzagen en afzetten van houtige beplan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 Plaggen, chopperen, maaien en strooisel vegen van he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Branden van he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Beheer van weidevogelgra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Beheer van bijzondere gras- en hooil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. Maaien van riet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8. Schonen en baggeren van poelen en waterl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9. Akker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. Onderhoud van gebouwen en bouw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dragsregels zijn te vinden in de H.2.1 en 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Afbeelding 1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408320" cy="311400"/>
          </a:xfrm>
          <a:prstGeom prst="rect">
            <a:avLst/>
          </a:prstGeom>
          <a:ln w="0">
            <a:noFill/>
          </a:ln>
        </p:spPr>
      </p:pic>
      <p:pic>
        <p:nvPicPr>
          <p:cNvPr id="650" name="Afbeelding 2" descr=""/>
          <p:cNvPicPr/>
          <p:nvPr/>
        </p:nvPicPr>
        <p:blipFill>
          <a:blip r:embed="rId2"/>
          <a:stretch/>
        </p:blipFill>
        <p:spPr>
          <a:xfrm>
            <a:off x="144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58920" y="112500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bitat-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402920" y="2161800"/>
            <a:ext cx="7224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iswater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de visserij kennen we viswatertypes: d.w.z. dat we aan de hand van de vormgeving van de waterkolom en de aanwezige vegetatie een inschatting kunnen maken over de aanwezige soor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ortgelijke kenmerken zijn er ook voor andere diersoorten, zoals amfibieën, zoogdieren en voge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Zogenoemde expert judgem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; inschatting kunnen geven of beschermde flora/fauna op locatie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Afbeelding 1" descr=""/>
          <p:cNvPicPr/>
          <p:nvPr/>
        </p:nvPicPr>
        <p:blipFill>
          <a:blip r:embed="rId1"/>
          <a:stretch/>
        </p:blipFill>
        <p:spPr>
          <a:xfrm>
            <a:off x="7451640" y="227160"/>
            <a:ext cx="1408320" cy="309240"/>
          </a:xfrm>
          <a:prstGeom prst="rect">
            <a:avLst/>
          </a:prstGeom>
          <a:ln w="0">
            <a:noFill/>
          </a:ln>
        </p:spPr>
      </p:pic>
      <p:pic>
        <p:nvPicPr>
          <p:cNvPr id="654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3477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kal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925200" y="1326960"/>
            <a:ext cx="8218440" cy="5182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uurkalende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gemeente amsterdam- opgaande begroeiingen)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overzicht van de perioden en voorwaarden zie onderstaand sch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e soor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jan       feb      mrt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r     mei     jun     jul      aug     sep     okt     nov     dec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lant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+   +   +   +   +   +   +   + 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roedvogels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x   x   x   x    x   x    +   + 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leermuizen zomerverblijf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x   x   x   x    x   x    +   +   +   +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leermuizen winterverblij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x    x    x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+   +   +   +    +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x   x   x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khoor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x    x   x   x   x    x   x    +   +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Ringslang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+    +    +  +   +   +    +   +   +   +  + 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maatregelen nodig wel Algemene zorgplicht van toepas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+ = Activiteit uitvoeren onder voorwaard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X = Activiteit niet uitvoer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Afbeelding 1" descr=""/>
          <p:cNvPicPr/>
          <p:nvPr/>
        </p:nvPicPr>
        <p:blipFill>
          <a:blip r:embed="rId1"/>
          <a:stretch/>
        </p:blipFill>
        <p:spPr>
          <a:xfrm>
            <a:off x="7524720" y="177840"/>
            <a:ext cx="1408320" cy="311040"/>
          </a:xfrm>
          <a:prstGeom prst="rect">
            <a:avLst/>
          </a:prstGeom>
          <a:ln w="0">
            <a:noFill/>
          </a:ln>
        </p:spPr>
      </p:pic>
      <p:pic>
        <p:nvPicPr>
          <p:cNvPr id="658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1042920" y="225432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ril 2002 in werking getr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ortenbescherming, instandhouding biodivers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plic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 Voorkomen van natuursch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 Beperken van natuurschade bij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 Ongedaan maken van schade (compens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grijpende Werkzaamheden uitvo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Houd rekening met (beschermde) flora/fa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42920" y="848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lora- en fauna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Afbeelding 1" descr=""/>
          <p:cNvPicPr/>
          <p:nvPr/>
        </p:nvPicPr>
        <p:blipFill>
          <a:blip r:embed="rId1"/>
          <a:stretch/>
        </p:blipFill>
        <p:spPr>
          <a:xfrm>
            <a:off x="7451640" y="274680"/>
            <a:ext cx="1403280" cy="311040"/>
          </a:xfrm>
          <a:prstGeom prst="rect">
            <a:avLst/>
          </a:prstGeom>
          <a:ln w="0">
            <a:noFill/>
          </a:ln>
        </p:spPr>
      </p:pic>
      <p:pic>
        <p:nvPicPr>
          <p:cNvPr id="587" name="Afbeelding 4" descr=""/>
          <p:cNvPicPr/>
          <p:nvPr/>
        </p:nvPicPr>
        <p:blipFill>
          <a:blip r:embed="rId2"/>
          <a:stretch/>
        </p:blipFill>
        <p:spPr>
          <a:xfrm>
            <a:off x="0" y="-1440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8366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nkele artik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05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tikelen Flora &amp; faunaw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t.2: Algemene zorgplicht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chermende maatregelen nemen en nadelige handelingen achterwege la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verbodsbepalingen, bijv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boden (beschermde) planten te plukken, verzamelen, af te snijden, te vernielen, te beschadigen, te ontwortelen of op enigerlei andere wijze van hun groeiplaats te verwijde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is verboden (beschermde) dieren te doden, te verwonden, te vangen, te bemachtigen of met het oog daarop op te spo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z., enz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Afbeelding 1" descr=""/>
          <p:cNvPicPr/>
          <p:nvPr/>
        </p:nvPicPr>
        <p:blipFill>
          <a:blip r:embed="rId1"/>
          <a:stretch/>
        </p:blipFill>
        <p:spPr>
          <a:xfrm>
            <a:off x="7524720" y="177840"/>
            <a:ext cx="1408320" cy="311040"/>
          </a:xfrm>
          <a:prstGeom prst="rect">
            <a:avLst/>
          </a:prstGeom>
          <a:ln w="0">
            <a:noFill/>
          </a:ln>
        </p:spPr>
      </p:pic>
      <p:pic>
        <p:nvPicPr>
          <p:cNvPr id="662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2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houd: Flora- en fauna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34544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zicht beschermde status flora en fauna van Nederla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schermd (m.n. flora, uitgezonderd beschermde soorte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(m.n. fau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1: algemene soorten en niet bedreigde soor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2: schaarse soor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bel 3: zeldzame / specifieke of bedreigde soor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! Niet alleen soorten zijn beschermd, ook voor de habitat gelden beschermende maatreg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gever kan bijv. m.b.t. Rode lijst-soorten aanvullende maatregelen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Afbeelding 1" descr=""/>
          <p:cNvPicPr/>
          <p:nvPr/>
        </p:nvPicPr>
        <p:blipFill>
          <a:blip r:embed="rId1"/>
          <a:stretch/>
        </p:blipFill>
        <p:spPr>
          <a:xfrm>
            <a:off x="7451640" y="274680"/>
            <a:ext cx="1403280" cy="311040"/>
          </a:xfrm>
          <a:prstGeom prst="rect">
            <a:avLst/>
          </a:prstGeom>
          <a:ln w="0">
            <a:noFill/>
          </a:ln>
        </p:spPr>
      </p:pic>
      <p:pic>
        <p:nvPicPr>
          <p:cNvPr id="591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71640" y="112500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079640" y="2349000"/>
            <a:ext cx="7775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dragscodes zijn ontwikkeld om de spelregels rond de flora &amp; faunawet duidelijker te mak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zijn meerdere gedragscodes, o.a. waterschap, natuurbeheer, bosbeheer, recreatie, groene ruimte, prorail, enz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formatie hierover kun je vinden op de site van het ministerie van EL&amp;I. Ook de tekst van de verschillende gedragscodes is hier te vin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Afbeelding 1" descr=""/>
          <p:cNvPicPr/>
          <p:nvPr/>
        </p:nvPicPr>
        <p:blipFill>
          <a:blip r:embed="rId1"/>
          <a:stretch/>
        </p:blipFill>
        <p:spPr>
          <a:xfrm>
            <a:off x="7451640" y="208080"/>
            <a:ext cx="1403280" cy="311040"/>
          </a:xfrm>
          <a:prstGeom prst="rect">
            <a:avLst/>
          </a:prstGeom>
          <a:ln w="0">
            <a:noFill/>
          </a:ln>
        </p:spPr>
      </p:pic>
      <p:pic>
        <p:nvPicPr>
          <p:cNvPr id="595" name="Afbeelding 3" descr=""/>
          <p:cNvPicPr/>
          <p:nvPr/>
        </p:nvPicPr>
        <p:blipFill>
          <a:blip r:embed="rId2"/>
          <a:stretch/>
        </p:blipFill>
        <p:spPr>
          <a:xfrm>
            <a:off x="0" y="-792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code: bestendig beheer Groene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403280" y="2735280"/>
            <a:ext cx="4681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Gedragscod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tendig beheer Gr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aarlijks maaien van een berm, dijk of schouwpad in een bepaalde peri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geleidingssnoei in een beplan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maaien van een sloot / slootoever onder voorwaar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6" descr="DSC01263"/>
          <p:cNvPicPr/>
          <p:nvPr/>
        </p:nvPicPr>
        <p:blipFill>
          <a:blip r:embed="rId1"/>
          <a:stretch/>
        </p:blipFill>
        <p:spPr>
          <a:xfrm>
            <a:off x="6165720" y="2992320"/>
            <a:ext cx="2694240" cy="2097360"/>
          </a:xfrm>
          <a:prstGeom prst="rect">
            <a:avLst/>
          </a:prstGeom>
          <a:ln w="0">
            <a:noFill/>
          </a:ln>
        </p:spPr>
      </p:pic>
      <p:pic>
        <p:nvPicPr>
          <p:cNvPr id="599" name="Afbeelding 2" descr=""/>
          <p:cNvPicPr/>
          <p:nvPr/>
        </p:nvPicPr>
        <p:blipFill>
          <a:blip r:embed="rId2"/>
          <a:stretch/>
        </p:blipFill>
        <p:spPr>
          <a:xfrm>
            <a:off x="7451640" y="233280"/>
            <a:ext cx="1408320" cy="311400"/>
          </a:xfrm>
          <a:prstGeom prst="rect">
            <a:avLst/>
          </a:prstGeom>
          <a:ln w="0">
            <a:noFill/>
          </a:ln>
        </p:spPr>
      </p:pic>
      <p:pic>
        <p:nvPicPr>
          <p:cNvPr id="600" name="Afbeelding 3" descr=""/>
          <p:cNvPicPr/>
          <p:nvPr/>
        </p:nvPicPr>
        <p:blipFill>
          <a:blip r:embed="rId3"/>
          <a:stretch/>
        </p:blipFill>
        <p:spPr>
          <a:xfrm>
            <a:off x="792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853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t bestend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42920" y="1968120"/>
            <a:ext cx="4402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 niet bestendig behe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vorming van heestervak naar kruidachtige veget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brengen beplanting in een kruidachtige veget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ppen van een boombeplan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agge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mpen van een sloo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ak alleen met ontheffing. Mag sowieso geen nadelig effect voor beschermde soorten optreden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9" descr="DSC02025"/>
          <p:cNvPicPr/>
          <p:nvPr/>
        </p:nvPicPr>
        <p:blipFill>
          <a:blip r:embed="rId1"/>
          <a:stretch/>
        </p:blipFill>
        <p:spPr>
          <a:xfrm>
            <a:off x="5691240" y="256536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604" name="Afbeelding 1" descr=""/>
          <p:cNvPicPr/>
          <p:nvPr/>
        </p:nvPicPr>
        <p:blipFill>
          <a:blip r:embed="rId2"/>
          <a:stretch/>
        </p:blipFill>
        <p:spPr>
          <a:xfrm>
            <a:off x="7451640" y="277920"/>
            <a:ext cx="1408320" cy="311040"/>
          </a:xfrm>
          <a:prstGeom prst="rect">
            <a:avLst/>
          </a:prstGeom>
          <a:ln w="0">
            <a:noFill/>
          </a:ln>
        </p:spPr>
      </p:pic>
      <p:pic>
        <p:nvPicPr>
          <p:cNvPr id="605" name="Afbeelding 2" descr=""/>
          <p:cNvPicPr/>
          <p:nvPr/>
        </p:nvPicPr>
        <p:blipFill>
          <a:blip r:embed="rId3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16000" y="1142640"/>
            <a:ext cx="446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rtific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22200" y="2276640"/>
            <a:ext cx="69343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de certificering van Stadswerk / VHG, op basis van de gedragscode, worden de volgende niveaus onderschei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veau 1: medewerker / meewerkend voorm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veau 2: opzichter / uitvoerd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veau 3: werkvoorbereider / bedrijfsleid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el: kwaliteitsborg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Afbeelding 1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408320" cy="311040"/>
          </a:xfrm>
          <a:prstGeom prst="rect">
            <a:avLst/>
          </a:prstGeom>
          <a:ln w="0">
            <a:noFill/>
          </a:ln>
        </p:spPr>
      </p:pic>
      <p:pic>
        <p:nvPicPr>
          <p:cNvPr id="609" name="Afbeelding 2" descr=""/>
          <p:cNvPicPr/>
          <p:nvPr/>
        </p:nvPicPr>
        <p:blipFill>
          <a:blip r:embed="rId2"/>
          <a:stretch/>
        </p:blipFill>
        <p:spPr>
          <a:xfrm>
            <a:off x="0" y="-2052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16000" y="1268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n gedragscode: Taakver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1456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gever : Gemeente / Watersch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neringsdocument met kaartmateria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fo m.b.t. aanwezigheid bijzondere soor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plan, werkplan of best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itoring en evalu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LNV afhandelen van calamitei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Afbeelding 1" descr=""/>
          <p:cNvPicPr/>
          <p:nvPr/>
        </p:nvPicPr>
        <p:blipFill>
          <a:blip r:embed="rId1"/>
          <a:stretch/>
        </p:blipFill>
        <p:spPr>
          <a:xfrm>
            <a:off x="7380360" y="291960"/>
            <a:ext cx="1407960" cy="311400"/>
          </a:xfrm>
          <a:prstGeom prst="rect">
            <a:avLst/>
          </a:prstGeom>
          <a:ln w="0">
            <a:noFill/>
          </a:ln>
        </p:spPr>
      </p:pic>
      <p:pic>
        <p:nvPicPr>
          <p:cNvPr id="613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42920" y="105264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ak opdrachtne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12536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nemer: eigen dienst, aanne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oonbare deskundigheid m.b.t. flora en fauna in relatie met behe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passen gedragsc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info opdrachtgev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stellen plan van aanp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pportage en evalu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gnalering calamitei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Afbeelding 1" descr=""/>
          <p:cNvPicPr/>
          <p:nvPr/>
        </p:nvPicPr>
        <p:blipFill>
          <a:blip r:embed="rId1"/>
          <a:stretch/>
        </p:blipFill>
        <p:spPr>
          <a:xfrm>
            <a:off x="7396200" y="290520"/>
            <a:ext cx="1407960" cy="311040"/>
          </a:xfrm>
          <a:prstGeom prst="rect">
            <a:avLst/>
          </a:prstGeom>
          <a:ln w="0">
            <a:noFill/>
          </a:ln>
        </p:spPr>
      </p:pic>
      <p:pic>
        <p:nvPicPr>
          <p:cNvPr id="617" name="Afbeelding 2" descr=""/>
          <p:cNvPicPr/>
          <p:nvPr/>
        </p:nvPicPr>
        <p:blipFill>
          <a:blip r:embed="rId2"/>
          <a:stretch/>
        </p:blipFill>
        <p:spPr>
          <a:xfrm>
            <a:off x="0" y="0"/>
            <a:ext cx="64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4:13:11Z</dcterms:created>
  <dc:creator>Koezen</dc:creator>
  <dc:description/>
  <dc:language>en-US</dc:language>
  <cp:lastModifiedBy>Jasper Smit</cp:lastModifiedBy>
  <cp:lastPrinted>2014-09-16T12:57:47Z</cp:lastPrinted>
  <dcterms:modified xsi:type="dcterms:W3CDTF">2022-09-27T11:16:14Z</dcterms:modified>
  <cp:revision>26</cp:revision>
  <dc:subject/>
  <dc:title>Flora- en faunawet (1)</dc:title>
</cp:coreProperties>
</file>