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209E-1887-4CA0-A0FB-DB91E202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C080-9B4D-4E8B-B044-1B9D77EC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9261A-4335-4BDE-97C7-45BAA9AB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09A4A-94B8-4023-BF5D-3EC4D967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7B85C-818E-452C-9D03-56B6B2F8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E5221B-E6F1-4B87-9C04-4F6F465E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2C014-110C-4578-901E-CC086F94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3F2E4-67C9-46DF-9F00-081A00E9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61213A-48DF-4780-8427-B494BB6F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F31E22-4E5A-4624-93BF-AC21FC7B4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1474F-7025-4F08-9134-A97E3E4D0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1FD38-635C-4376-B980-890B8154B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781E-4AE3-4B15-B5F9-BBBFDE6E2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E2DFF5-5E7A-421E-A888-C17A80FD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3D3B6F-19C2-4733-A3DF-F4D1E90B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5C84D7-5A24-4F69-97EE-E72C4C92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57326F-277B-4202-B5DC-472E1E01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B9A2C9-CCC0-4232-9D30-B141BD3C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30F8E8-0AD5-4B38-A372-59FDFDA0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59AD9D-D687-488C-A5C0-D2931810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F41B5-0C39-4E4D-9B2D-A241F0CC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EDF65-7BE9-4B54-BFBB-E1532DF6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47578A-677B-46E6-ACAF-DDBB4518E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E210-D003-46D6-913C-42E839BE4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6D27C7-F178-4D69-97F4-DE38B928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530C4-5AA0-4A27-9FEA-ACB9DB42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8DFD1-2E54-41A7-9073-D35B8B34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02461-BD26-4C93-A16F-37D1A7ED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9B2E0-8387-4AE7-A937-EA87FF4F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8AA7C-98B1-4160-BE2B-DFB85FFD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AC334-5563-496D-9081-5DD305C6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FEF25-B81E-4E0A-A3E8-9681B8CE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D9D28-569A-48FA-B25C-40DE6A07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ACBA2-C60E-475C-ACB7-DEB7070A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4D06-C229-4A03-B256-E0BD4006A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E12EA-543D-44F1-AA81-730A3392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EF1FF-073D-4B8C-B4FF-F9BF7D265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D69DB-BB76-4896-B635-83F70B972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6F746-772C-49DE-BC64-6CFFE0202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D62B79-B408-47E2-A38A-D1410000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CB433D-88E2-46EB-8548-49B1A676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688455-A9D7-419A-9622-11BD837C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EF7331-B572-4C52-AA17-EF95C600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85722D-2DFE-43DA-807B-0F009025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F57FF7-8203-4383-BF1C-59B5BCC1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B65F-71AF-496D-9A5D-8309C6AE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D86F10-DEFE-4CF7-BE12-AB44DAA6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FFEDBC-BD96-4DB4-8450-289AD4F3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0AC2E2-D4EF-45AF-8737-9FC34DF4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BF64FF-7D4C-4891-8086-B077CF76D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9981B4-F57A-4E10-B0B0-0B0519BB2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0E8E86-0D78-468E-8F54-B24F9C6B0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71CC04-8BA8-483B-9A90-CFBA66F1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A60BE1-CB9E-46CF-95B4-D57862C1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D7FE86-1DBA-4F8D-AF62-6B1B487A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27E30A-5AB8-427B-B4ED-85F8BB18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68EE-3BB0-4D4B-8715-B3D330C5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355E93-19FC-4B1D-8142-C731D82A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C5940E-F6C3-4AC8-B725-AA23A81B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E2B8F3-734F-49A9-8097-DE23219F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8E6475-76B0-4C8C-9CC0-5B9F1754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501731-BA68-4E94-9C57-C37FB207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F076D6-C193-4198-B869-F7F6AAB68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1FC769-0424-448B-A875-5D92E31DB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2C5FF7-7F60-410A-ABEA-7DC4A6E74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F6705F-91AA-4190-B19A-1D3C9304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653E93-EFEB-47D1-B4BE-1582C1DE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ADD0-60FD-4919-BA79-1CF20F8B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9F8936-B694-46AE-9435-EF9A9757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44DCBB-9F42-4933-ABC3-17DBA4DA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7D91A4-5ED2-4699-8039-E4047C16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7BBA4E-DB8E-4743-B953-CC917A9B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4D1C11-4132-46E5-B6B1-FBDDB287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921741-A07F-49F9-9B7B-53E1F741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6239B5-525E-492D-B3B8-F56F9033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09CCC4-4784-4275-8D2A-F70F836E2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549F2A-3285-43B7-98BE-92FB25B8F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0D6F-BA26-41D3-998D-8E2FEBCD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408B-0D7A-454F-8968-3FC6C14A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AE45-E9CB-4FB3-A09C-20CE0370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2F48-28FB-4928-A70D-55C5D96B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FE79-096A-4FC1-A6D2-13C0F025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60B7-EC75-405B-ABF0-478D3181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E481-8933-4101-82C4-59E26E6C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8933-BCA4-4226-8ED0-C6C8965C9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14A0-A945-44CD-9E17-A9DBCE9D6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50761-6E39-4B9F-A94B-62CFC3668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8EEDF-FE19-4A96-9429-1FE094AD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A4B6A-98BF-4CA4-809C-08F747C5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18440-8100-4E65-887E-0793E1AC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E0A00-E551-47A3-AA8B-EDECCAC3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D3E5-286B-469D-9437-0B9EC521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2E9CA-C380-4839-8E07-C2CCF630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30B80-BB16-4206-9650-492AF555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EA830-E81B-4698-8CC2-86DBF561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D624E-9572-4835-967D-A106D782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07EAB-B272-499C-99A5-7F7574E6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D48A8-AF4F-4B1A-991E-BD4FD4EA4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31CCC-6659-4025-B656-EA2B96A07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519C9-0AA6-4AC4-8C76-FB569F329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DF8AE-CE0C-4AD5-BD90-C108B730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81A13-5E90-4010-A8C2-D8AE4CB6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3718-BB7E-41A7-9798-DE1AE9C2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97AEF-31FE-4C32-941D-7CBB9F98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B3987-8642-4231-ADE0-D04594B9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EA979-CFCC-42C7-BFF2-F945AE63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E8380-1C08-4D7A-A406-F47B9896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E66D1-9872-4F5D-BEF0-2E3542C6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5475C-2C07-469E-82A1-A0CC2E32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2785E-5AE6-4041-9209-537D2003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64789-AE22-4D7E-B945-8F5CBCF66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FC1B0-E097-45EE-AB33-EB886399D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A625A-8688-4996-8EE6-754409EF9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3A04-8FBC-43CD-97CC-B7F63C9C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87429-EB9B-472B-8A84-124B3F1F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2AD42-7DC1-48EA-996A-28BC8352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706CD-0007-4FE8-B420-A1DC8090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B9CCA-199B-40E7-8AE2-6D2A0872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CBC63-3C5D-4801-ADE2-7056CEF8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D6FF9-FCA4-4A7D-AF14-018E205E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0A889-8587-412A-A87F-3E59158C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95DB6-78DE-4AE7-B41D-572140C0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AE7DB-0879-462F-B1D2-6B057BD0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1E00C-CE32-4A7E-9A33-6BF82FC5F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CC36-D360-4E05-B717-632D92F7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2139F-FE3A-4E24-8962-D3700D7DF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66820-855B-42BC-A288-04EF2BE8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A7A32-9754-4BE6-A268-99D794E2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4EB75-69AC-4A99-A073-F0B8A46F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56869-EB9F-4A96-B8B8-5ADFFA7E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D7C73-7091-4CC6-BF92-0483C314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A3342-4A93-40BE-BAFA-4E08B682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63732-378B-47A5-8097-F7A84F12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0B55B-D740-4E2E-B452-4357DD90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11381-D40A-4800-9B06-C94408C1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9E4F-6960-4DDE-8F48-F642724F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B5EA3-DC78-48F3-B79D-75B3B155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75911-A420-4C6C-A957-583C62E11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4F4C0-2D03-4A1B-8BAF-1E94BF12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DE623-DDB7-47C3-BCAA-D3F6BC6EB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9669D-674E-4034-9105-3C03A736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CD692-141E-48C9-8204-336D92F0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34629-0AFE-40F9-B835-B9376288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F16BF-2A65-460C-846D-E77A28D7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E55A5-22F2-44E7-8CE6-6E9E89FC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42362-0959-4856-B06A-846C39B4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B68C-E9E9-4DB8-8EA3-11255D79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20851-8DE7-4063-BAFE-355ED7A4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BD01C-A21D-4643-8760-539B6E89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5D6CC-6D1C-4994-B7C2-09C20409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67383-29CB-49C2-AF1C-6DF69796C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6AB90-15A0-461B-9C3C-FAA64997B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4D3C6-3CEA-4F19-8578-123CEBE04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DBD8D-34B6-46CF-92CD-1D115021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AA482-2EFF-44DE-A07F-949F1246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411BD-4994-4D91-853C-7CB97D81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BE27E-B363-407F-B7D1-96579363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B5E5-B091-416B-ABDF-9C95E17C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942B9-B2EF-4E84-B600-A03E214E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9F764-DB98-494D-9ABC-6D4F302F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FA90B-BF18-4B79-86ED-BD079397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01E89-C86D-4DC0-8169-813AE13A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DBF2C-1DAC-4543-86B0-5F2406D2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FD4E8-298A-404C-9DBD-A59CB33EB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FE2E9-05AD-450C-87B3-AAA490F85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86914-EAE3-4378-85E7-20B5A0CE3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585F3-FA45-48BE-90CA-3E5FBD4E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BCB6F-B29B-41DC-8646-BBF613F6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E606-4C30-4987-BE07-BBCDDD6BC8C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5D91-7BC2-46D2-9755-6E361BAB3C7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3E52-4C91-4103-B7E9-22AD408DCAB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CBE7-C21C-4627-875E-20DA43F48A4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12AD-EBD7-48B7-BC61-C58617EBDFA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BEB3-37C7-4A18-A50F-9A6714CC735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ABFC-F617-4510-9C46-185F94B8304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E4E0-1DC9-4C07-8FF2-82F288FA113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4E67-D783-40B7-9F32-EB14C5EA46B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F62F-570E-45F5-939D-F60F7F40ECD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ABDF-978D-4BCF-978E-F2B919B6096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C92A-11AC-4F7D-BEF9-6F4951DC2D9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8819-31FB-44AD-99A3-91D454894A0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8977-7F21-4669-9F46-0AD890B0F97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lora- en fauna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Tijdelijke aanduiding voor inhoud 2054"/>
          <p:cNvGrpSpPr/>
          <p:nvPr/>
        </p:nvGrpSpPr>
        <p:grpSpPr>
          <a:xfrm>
            <a:off x="2463480" y="1899000"/>
            <a:ext cx="4144320" cy="3552840"/>
            <a:chOff x="2463480" y="1899000"/>
            <a:chExt cx="4144320" cy="3552840"/>
          </a:xfrm>
        </p:grpSpPr>
        <p:sp>
          <p:nvSpPr>
            <p:cNvPr id="576" name="_s1028"/>
            <p:cNvSpPr/>
            <p:nvPr/>
          </p:nvSpPr>
          <p:spPr>
            <a:xfrm>
              <a:off x="3263400" y="1899000"/>
              <a:ext cx="2544480" cy="2493360"/>
            </a:xfrm>
            <a:custGeom>
              <a:avLst/>
              <a:gdLst>
                <a:gd name="textAreaLeft" fmla="*/ 0 w 2544480"/>
                <a:gd name="textAreaRight" fmla="*/ 2544840 w 2544480"/>
                <a:gd name="textAreaTop" fmla="*/ 0 h 2493360"/>
                <a:gd name="textAreaBottom" fmla="*/ 2493720 h 249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_s1029"/>
            <p:cNvSpPr/>
            <p:nvPr/>
          </p:nvSpPr>
          <p:spPr>
            <a:xfrm rot="7200000">
              <a:off x="3635640" y="2463840"/>
              <a:ext cx="2493360" cy="2544480"/>
            </a:xfrm>
            <a:custGeom>
              <a:avLst/>
              <a:gdLst>
                <a:gd name="textAreaLeft" fmla="*/ 0 w 2493360"/>
                <a:gd name="textAreaRight" fmla="*/ 2493720 w 2493360"/>
                <a:gd name="textAreaTop" fmla="*/ 0 h 2544480"/>
                <a:gd name="textAreaBottom" fmla="*/ 2544840 h 254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_s1030"/>
            <p:cNvSpPr/>
            <p:nvPr/>
          </p:nvSpPr>
          <p:spPr>
            <a:xfrm rot="14400000">
              <a:off x="2941560" y="2463840"/>
              <a:ext cx="2493360" cy="2544120"/>
            </a:xfrm>
            <a:custGeom>
              <a:avLst/>
              <a:gdLst>
                <a:gd name="textAreaLeft" fmla="*/ 0 w 2493360"/>
                <a:gd name="textAreaRight" fmla="*/ 2493720 w 2493360"/>
                <a:gd name="textAreaTop" fmla="*/ 0 h 2544120"/>
                <a:gd name="textAreaBottom" fmla="*/ 2544480 h 254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_s1031"/>
            <p:cNvSpPr/>
            <p:nvPr/>
          </p:nvSpPr>
          <p:spPr>
            <a:xfrm>
              <a:off x="5232600" y="2354760"/>
              <a:ext cx="101988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k mag niks meer (!?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_s1032"/>
            <p:cNvSpPr/>
            <p:nvPr/>
          </p:nvSpPr>
          <p:spPr>
            <a:xfrm>
              <a:off x="4027680" y="4406400"/>
              <a:ext cx="1020240" cy="10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Arial"/>
                </a:rPr>
                <a:t>Gedragscode Stadswerk / VHG of FFW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Arial"/>
                </a:rPr>
                <a:t>Jaarrond flora- en faunawetproo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_s1033"/>
            <p:cNvSpPr/>
            <p:nvPr/>
          </p:nvSpPr>
          <p:spPr>
            <a:xfrm>
              <a:off x="2816640" y="2356200"/>
              <a:ext cx="1020240" cy="10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ertificering </a:t>
              </a: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ersoonsgebond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2" name="Afbeelding 1" descr=""/>
          <p:cNvPicPr/>
          <p:nvPr/>
        </p:nvPicPr>
        <p:blipFill>
          <a:blip r:embed="rId1"/>
          <a:stretch/>
        </p:blipFill>
        <p:spPr>
          <a:xfrm>
            <a:off x="0" y="0"/>
            <a:ext cx="646200" cy="6858000"/>
          </a:xfrm>
          <a:prstGeom prst="rect">
            <a:avLst/>
          </a:prstGeom>
          <a:ln w="0">
            <a:noFill/>
          </a:ln>
        </p:spPr>
      </p:pic>
      <p:pic>
        <p:nvPicPr>
          <p:cNvPr id="583" name="Afbeelding 2" descr=""/>
          <p:cNvPicPr/>
          <p:nvPr/>
        </p:nvPicPr>
        <p:blipFill>
          <a:blip r:embed="rId2"/>
          <a:stretch/>
        </p:blipFill>
        <p:spPr>
          <a:xfrm>
            <a:off x="3835440" y="6299280"/>
            <a:ext cx="1401840" cy="3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50920" y="112500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lan van aanpak/ check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042920" y="22251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n van aanpa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derhoudsacties conform plan/ beste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werking algemene zorgplich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werking algemeen zorgvuldig hand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werking specifiek zorgvuldig hand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.a. bij gedragscodes Natuurbeheer en zorgvuldig Bosbeheer wordt gewerkt met een checklis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Afbeelding 1" descr=""/>
          <p:cNvPicPr/>
          <p:nvPr/>
        </p:nvPicPr>
        <p:blipFill>
          <a:blip r:embed="rId1"/>
          <a:stretch/>
        </p:blipFill>
        <p:spPr>
          <a:xfrm>
            <a:off x="7451640" y="312840"/>
            <a:ext cx="1408320" cy="311040"/>
          </a:xfrm>
          <a:prstGeom prst="rect">
            <a:avLst/>
          </a:prstGeom>
          <a:ln w="0">
            <a:noFill/>
          </a:ln>
        </p:spPr>
      </p:pic>
      <p:pic>
        <p:nvPicPr>
          <p:cNvPr id="621" name="Afbeelding 2" descr=""/>
          <p:cNvPicPr/>
          <p:nvPr/>
        </p:nvPicPr>
        <p:blipFill>
          <a:blip r:embed="rId2"/>
          <a:stretch/>
        </p:blipFill>
        <p:spPr>
          <a:xfrm>
            <a:off x="0" y="0"/>
            <a:ext cx="64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6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-3240" y="981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houd plan van aanp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150920" y="2117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lan van aanp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alleen verplicht bij gedrags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dswerk/ VHG)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skundigheid in te zetten medewerk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 analy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manageme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r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9" descr="DSC02225"/>
          <p:cNvPicPr/>
          <p:nvPr/>
        </p:nvPicPr>
        <p:blipFill>
          <a:blip r:embed="rId1"/>
          <a:stretch/>
        </p:blipFill>
        <p:spPr>
          <a:xfrm>
            <a:off x="5189400" y="2492280"/>
            <a:ext cx="3648240" cy="2737080"/>
          </a:xfrm>
          <a:prstGeom prst="rect">
            <a:avLst/>
          </a:prstGeom>
          <a:ln w="0">
            <a:noFill/>
          </a:ln>
        </p:spPr>
      </p:pic>
      <p:pic>
        <p:nvPicPr>
          <p:cNvPr id="625" name="Afbeelding 1" descr=""/>
          <p:cNvPicPr/>
          <p:nvPr/>
        </p:nvPicPr>
        <p:blipFill>
          <a:blip r:embed="rId2"/>
          <a:stretch/>
        </p:blipFill>
        <p:spPr>
          <a:xfrm>
            <a:off x="7380360" y="244440"/>
            <a:ext cx="1407960" cy="311040"/>
          </a:xfrm>
          <a:prstGeom prst="rect">
            <a:avLst/>
          </a:prstGeom>
          <a:ln w="0">
            <a:noFill/>
          </a:ln>
        </p:spPr>
      </p:pic>
      <p:pic>
        <p:nvPicPr>
          <p:cNvPr id="626" name="Afbeelding 2" descr=""/>
          <p:cNvPicPr/>
          <p:nvPr/>
        </p:nvPicPr>
        <p:blipFill>
          <a:blip r:embed="rId3"/>
          <a:stretch/>
        </p:blipFill>
        <p:spPr>
          <a:xfrm>
            <a:off x="0" y="0"/>
            <a:ext cx="64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6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87280" y="106524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skundig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187280" y="2367000"/>
            <a:ext cx="715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skundigheid: Medewerker (minimaal 1 / ploeg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rkennen van beschermde flora en fauna en hun vaste rust- en verblijfplaa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vulling geven aan zorgvuldig handelen, dit betreft o.a. kennis van werktechniek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evante informatie over flora en fauna terug kunnen koppelen naar de uitvoerder of andere leidinggeven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Afbeelding 1" descr=""/>
          <p:cNvPicPr/>
          <p:nvPr/>
        </p:nvPicPr>
        <p:blipFill>
          <a:blip r:embed="rId1"/>
          <a:stretch/>
        </p:blipFill>
        <p:spPr>
          <a:xfrm>
            <a:off x="7451640" y="247680"/>
            <a:ext cx="1408320" cy="311040"/>
          </a:xfrm>
          <a:prstGeom prst="rect">
            <a:avLst/>
          </a:prstGeom>
          <a:ln w="0">
            <a:noFill/>
          </a:ln>
        </p:spPr>
      </p:pic>
      <p:pic>
        <p:nvPicPr>
          <p:cNvPr id="630" name="Afbeelding 2" descr=""/>
          <p:cNvPicPr/>
          <p:nvPr/>
        </p:nvPicPr>
        <p:blipFill>
          <a:blip r:embed="rId2"/>
          <a:stretch/>
        </p:blipFill>
        <p:spPr>
          <a:xfrm>
            <a:off x="0" y="0"/>
            <a:ext cx="64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58920" y="13413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skundigheid vervol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58560" y="2492280"/>
            <a:ext cx="66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skundigheid: Opzichter / uitvoer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rkennen van beschermde flora en fauna en hun vaste rust- en verblijfplaa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geleverde info over flora en fauna kunnen interpreteren (o.a. controle checkli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voeren risicomanageme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reren en terugkoppeling relevante gegeven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Afbeelding 1" descr=""/>
          <p:cNvPicPr/>
          <p:nvPr/>
        </p:nvPicPr>
        <p:blipFill>
          <a:blip r:embed="rId1"/>
          <a:stretch/>
        </p:blipFill>
        <p:spPr>
          <a:xfrm>
            <a:off x="7380360" y="235080"/>
            <a:ext cx="1407960" cy="311040"/>
          </a:xfrm>
          <a:prstGeom prst="rect">
            <a:avLst/>
          </a:prstGeom>
          <a:ln w="0">
            <a:noFill/>
          </a:ln>
        </p:spPr>
      </p:pic>
      <p:pic>
        <p:nvPicPr>
          <p:cNvPr id="634" name="Afbeelding 2" descr=""/>
          <p:cNvPicPr/>
          <p:nvPr/>
        </p:nvPicPr>
        <p:blipFill>
          <a:blip r:embed="rId2"/>
          <a:stretch/>
        </p:blipFill>
        <p:spPr>
          <a:xfrm>
            <a:off x="0" y="0"/>
            <a:ext cx="64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69920" y="982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 telt voor Sportvisserij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1269720" y="2277720"/>
            <a:ext cx="71499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twoord: Dit hangt van de plek af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us je moet eerst informeren onder welke gedragscode het gebied va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volgens probeer je informatie te krijgen over soorten-inventarisat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ventueel moet jezelf inventariser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Je moet voor aanvang werkzaamheden altijd een quickscan uitvoer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Afbeelding 1" descr=""/>
          <p:cNvPicPr/>
          <p:nvPr/>
        </p:nvPicPr>
        <p:blipFill>
          <a:blip r:embed="rId1"/>
          <a:stretch/>
        </p:blipFill>
        <p:spPr>
          <a:xfrm>
            <a:off x="7380360" y="249120"/>
            <a:ext cx="1407960" cy="309600"/>
          </a:xfrm>
          <a:prstGeom prst="rect">
            <a:avLst/>
          </a:prstGeom>
          <a:ln w="0">
            <a:noFill/>
          </a:ln>
        </p:spPr>
      </p:pic>
      <p:pic>
        <p:nvPicPr>
          <p:cNvPr id="638" name="Afbeelding 3" descr=""/>
          <p:cNvPicPr/>
          <p:nvPr/>
        </p:nvPicPr>
        <p:blipFill>
          <a:blip r:embed="rId2"/>
          <a:stretch/>
        </p:blipFill>
        <p:spPr>
          <a:xfrm>
            <a:off x="1440" y="0"/>
            <a:ext cx="64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16000" y="125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chtlijnen Water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187280" y="2405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chtlijnen per beheercategorie (Waterschap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ruidachtige vegetaties op bermen, dijken en schouwpa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evers en nat profie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gaande beplant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erker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hardin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der aparte paragraaf voor nieuwe 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Afbeelding 1" descr=""/>
          <p:cNvPicPr/>
          <p:nvPr/>
        </p:nvPicPr>
        <p:blipFill>
          <a:blip r:embed="rId1"/>
          <a:stretch/>
        </p:blipFill>
        <p:spPr>
          <a:xfrm>
            <a:off x="7451640" y="225360"/>
            <a:ext cx="1408320" cy="311040"/>
          </a:xfrm>
          <a:prstGeom prst="rect">
            <a:avLst/>
          </a:prstGeom>
          <a:ln w="0">
            <a:noFill/>
          </a:ln>
        </p:spPr>
      </p:pic>
      <p:pic>
        <p:nvPicPr>
          <p:cNvPr id="642" name="Afbeelding 2" descr=""/>
          <p:cNvPicPr/>
          <p:nvPr/>
        </p:nvPicPr>
        <p:blipFill>
          <a:blip r:embed="rId2"/>
          <a:stretch/>
        </p:blipFill>
        <p:spPr>
          <a:xfrm>
            <a:off x="0" y="0"/>
            <a:ext cx="64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42920" y="13413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chtlijnen Stadswerk/ VH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04292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chtlijnen per beheercategorie (VHG/ Stadswerk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tige boombegroeiingen met gazon of verharding als ondergro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tige boombegroeiingen met ondergroe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tige struweelbegroeiin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tige sierbegroeiin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ruidige begroeiingen met jaarlijks extensief onderhou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ruidige begroeiingen met jaarlijks intensief onderhou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erbegroeiingen en overgangen land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wat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Afbeelding 1" descr=""/>
          <p:cNvPicPr/>
          <p:nvPr/>
        </p:nvPicPr>
        <p:blipFill>
          <a:blip r:embed="rId1"/>
          <a:stretch/>
        </p:blipFill>
        <p:spPr>
          <a:xfrm>
            <a:off x="7451640" y="192240"/>
            <a:ext cx="1408320" cy="311040"/>
          </a:xfrm>
          <a:prstGeom prst="rect">
            <a:avLst/>
          </a:prstGeom>
          <a:ln w="0">
            <a:noFill/>
          </a:ln>
        </p:spPr>
      </p:pic>
      <p:pic>
        <p:nvPicPr>
          <p:cNvPr id="646" name="Afbeelding 2" descr=""/>
          <p:cNvPicPr/>
          <p:nvPr/>
        </p:nvPicPr>
        <p:blipFill>
          <a:blip r:embed="rId2"/>
          <a:stretch/>
        </p:blipFill>
        <p:spPr>
          <a:xfrm>
            <a:off x="0" y="0"/>
            <a:ext cx="64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073160" y="112500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Beheercategorieën Natuurbehe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1258560" y="2349000"/>
            <a:ext cx="777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. Begrazen van natuurterrei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. Omzagen en afzetten van houtige beplant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. Plaggen, chopperen, maaien en strooisel vegen van he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4. Branden van he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5. Beheer van weidevogelgras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6. Beheer van bijzondere gras- en hooila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7. Maaien van riet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8. Schonen en baggeren van poelen en waterl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9. Akker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0. Onderhoud van gebouwen en bouw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dragsregels zijn te vinden in de H.2.1 en 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Afbeelding 1" descr=""/>
          <p:cNvPicPr/>
          <p:nvPr/>
        </p:nvPicPr>
        <p:blipFill>
          <a:blip r:embed="rId1"/>
          <a:stretch/>
        </p:blipFill>
        <p:spPr>
          <a:xfrm>
            <a:off x="7451640" y="260280"/>
            <a:ext cx="1408320" cy="311400"/>
          </a:xfrm>
          <a:prstGeom prst="rect">
            <a:avLst/>
          </a:prstGeom>
          <a:ln w="0">
            <a:noFill/>
          </a:ln>
        </p:spPr>
      </p:pic>
      <p:pic>
        <p:nvPicPr>
          <p:cNvPr id="650" name="Afbeelding 2" descr=""/>
          <p:cNvPicPr/>
          <p:nvPr/>
        </p:nvPicPr>
        <p:blipFill>
          <a:blip r:embed="rId2"/>
          <a:stretch/>
        </p:blipFill>
        <p:spPr>
          <a:xfrm>
            <a:off x="1440" y="0"/>
            <a:ext cx="64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258920" y="112500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bitat-inform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1402920" y="2161800"/>
            <a:ext cx="72248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iswater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de visserij kennen we viswatertypes: d.w.z. dat we aan de hand van de vormgeving van de waterkolom en de aanwezige vegetatie een inschatting kunnen maken over de aanwezige soor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ortgelijke kenmerken zijn er ook voor andere diersoorten, zoals amfibieën, zoogdieren en voge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Zogenoemde expert judgemen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; inschatting kunnen geven of beschermde flora/fauna op locatie aanwez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Afbeelding 1" descr=""/>
          <p:cNvPicPr/>
          <p:nvPr/>
        </p:nvPicPr>
        <p:blipFill>
          <a:blip r:embed="rId1"/>
          <a:stretch/>
        </p:blipFill>
        <p:spPr>
          <a:xfrm>
            <a:off x="7451640" y="227160"/>
            <a:ext cx="1408320" cy="309240"/>
          </a:xfrm>
          <a:prstGeom prst="rect">
            <a:avLst/>
          </a:prstGeom>
          <a:ln w="0">
            <a:noFill/>
          </a:ln>
        </p:spPr>
      </p:pic>
      <p:pic>
        <p:nvPicPr>
          <p:cNvPr id="654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64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400" y="3477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tuurkal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925200" y="1326960"/>
            <a:ext cx="8218440" cy="51829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uurkalender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gemeente amsterdam- opgaande begroeiingen):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overzicht van de perioden en voorwaarden zie onderstaand sche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e soorte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jan       feb      mrt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pr     mei     jun     jul      aug     sep     okt     nov     dec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lant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+    +   +   +   +   +   +   +   +   +   +  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roedvogels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+    +   x   x   x   x    x   x    +   +   +  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leermuizen zomerverblijf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+    +   x   x   x   x    x   x    +   +   +   +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leermuizen winterverblijf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x    x    x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+   +   +   +   +    +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x   x   x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ekhoor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+    x    x   x   x   x    x   x    +   +  +  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ingslang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+    +    +  +   +   +    +   +   +   +  +  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maatregelen nodig wel Algemene zorgplicht van toepas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+ = Activiteit uitvoeren onder voorwaard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X = Activiteit niet uitvoer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Afbeelding 1" descr=""/>
          <p:cNvPicPr/>
          <p:nvPr/>
        </p:nvPicPr>
        <p:blipFill>
          <a:blip r:embed="rId1"/>
          <a:stretch/>
        </p:blipFill>
        <p:spPr>
          <a:xfrm>
            <a:off x="7524720" y="177840"/>
            <a:ext cx="1408320" cy="311040"/>
          </a:xfrm>
          <a:prstGeom prst="rect">
            <a:avLst/>
          </a:prstGeom>
          <a:ln w="0">
            <a:noFill/>
          </a:ln>
        </p:spPr>
      </p:pic>
      <p:pic>
        <p:nvPicPr>
          <p:cNvPr id="658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64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6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6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6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6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6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6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6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6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6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6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6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1042920" y="225432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ril 2002 in werking getr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ortenbescherming, instandhouding biodivers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plic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 Voorkomen van natuursch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 Beperken van natuurschade bij 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 Ongedaan maken van schade (compense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grijpende Werkzaamheden uitvoe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Houd rekening met (beschermde) flora/fa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042920" y="848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lora- en fauna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Afbeelding 1" descr=""/>
          <p:cNvPicPr/>
          <p:nvPr/>
        </p:nvPicPr>
        <p:blipFill>
          <a:blip r:embed="rId1"/>
          <a:stretch/>
        </p:blipFill>
        <p:spPr>
          <a:xfrm>
            <a:off x="7451640" y="274680"/>
            <a:ext cx="1403280" cy="311040"/>
          </a:xfrm>
          <a:prstGeom prst="rect">
            <a:avLst/>
          </a:prstGeom>
          <a:ln w="0">
            <a:noFill/>
          </a:ln>
        </p:spPr>
      </p:pic>
      <p:pic>
        <p:nvPicPr>
          <p:cNvPr id="587" name="Afbeelding 4" descr=""/>
          <p:cNvPicPr/>
          <p:nvPr/>
        </p:nvPicPr>
        <p:blipFill>
          <a:blip r:embed="rId2"/>
          <a:stretch/>
        </p:blipFill>
        <p:spPr>
          <a:xfrm>
            <a:off x="0" y="-14400"/>
            <a:ext cx="64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14400" y="83664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nkele artik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042560" y="1988640"/>
            <a:ext cx="7705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tikelen Flora &amp; faunaw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t.2: Algemene zorgplicht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beschermende maatregelen nemen en nadelige handelingen achterwege la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gemene verbodsbepalingen, bijv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boden (beschermde) planten te plukken, verzamelen, af te snijden, te vernielen, te beschadigen, te ontwortelen of op enigerlei andere wijze van hun groeiplaats te verwijder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is verboden (beschermde) dieren te doden, te verwonden, te vangen, te bemachtigen of met het oog daarop op te spor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nz., enz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Afbeelding 1" descr=""/>
          <p:cNvPicPr/>
          <p:nvPr/>
        </p:nvPicPr>
        <p:blipFill>
          <a:blip r:embed="rId1"/>
          <a:stretch/>
        </p:blipFill>
        <p:spPr>
          <a:xfrm>
            <a:off x="7524720" y="177840"/>
            <a:ext cx="1408320" cy="311040"/>
          </a:xfrm>
          <a:prstGeom prst="rect">
            <a:avLst/>
          </a:prstGeom>
          <a:ln w="0">
            <a:noFill/>
          </a:ln>
        </p:spPr>
      </p:pic>
      <p:pic>
        <p:nvPicPr>
          <p:cNvPr id="662" name="Afbeelding 2" descr=""/>
          <p:cNvPicPr/>
          <p:nvPr/>
        </p:nvPicPr>
        <p:blipFill>
          <a:blip r:embed="rId2"/>
          <a:stretch/>
        </p:blipFill>
        <p:spPr>
          <a:xfrm>
            <a:off x="0" y="0"/>
            <a:ext cx="64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2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houd: Flora- en fauna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7345440" cy="46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verzicht beschermde status flora en fauna van Nederla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beschermd (m.n. flora, uitgezonderd beschermde soorte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d (m.n. fau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abel 1: algemene soorten en niet bedreigde soor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abel 2: schaarse soor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abel 3: zeldzame / specifieke of bedreigde soor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g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! Niet alleen soorten zijn beschermd, ook voor de habitat gelden beschermende maatrege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drachtgever kan bijv. m.b.t. Rode lijst-soorten aanvullende maatregelen stel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Afbeelding 1" descr=""/>
          <p:cNvPicPr/>
          <p:nvPr/>
        </p:nvPicPr>
        <p:blipFill>
          <a:blip r:embed="rId1"/>
          <a:stretch/>
        </p:blipFill>
        <p:spPr>
          <a:xfrm>
            <a:off x="7451640" y="274680"/>
            <a:ext cx="1403280" cy="311040"/>
          </a:xfrm>
          <a:prstGeom prst="rect">
            <a:avLst/>
          </a:prstGeom>
          <a:ln w="0">
            <a:noFill/>
          </a:ln>
        </p:spPr>
      </p:pic>
      <p:pic>
        <p:nvPicPr>
          <p:cNvPr id="591" name="Afbeelding 2" descr=""/>
          <p:cNvPicPr/>
          <p:nvPr/>
        </p:nvPicPr>
        <p:blipFill>
          <a:blip r:embed="rId2"/>
          <a:stretch/>
        </p:blipFill>
        <p:spPr>
          <a:xfrm>
            <a:off x="0" y="0"/>
            <a:ext cx="64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5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71640" y="112500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drags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079640" y="2349000"/>
            <a:ext cx="7775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dragscodes zijn ontwikkeld om de spelregels rond de flora &amp; faunawet duidelijker te mak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 zijn meerdere gedragscodes, o.a. waterschap, natuurbeheer, bosbeheer, recreatie, groene ruimte, prorail, enz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formatie hierover kun je vinden op de site van het ministerie van EL&amp;I. Ook de tekst van de verschillende gedragscodes is hier te vin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Afbeelding 1" descr=""/>
          <p:cNvPicPr/>
          <p:nvPr/>
        </p:nvPicPr>
        <p:blipFill>
          <a:blip r:embed="rId1"/>
          <a:stretch/>
        </p:blipFill>
        <p:spPr>
          <a:xfrm>
            <a:off x="7451640" y="208080"/>
            <a:ext cx="1403280" cy="311040"/>
          </a:xfrm>
          <a:prstGeom prst="rect">
            <a:avLst/>
          </a:prstGeom>
          <a:ln w="0">
            <a:noFill/>
          </a:ln>
        </p:spPr>
      </p:pic>
      <p:pic>
        <p:nvPicPr>
          <p:cNvPr id="595" name="Afbeelding 3" descr=""/>
          <p:cNvPicPr/>
          <p:nvPr/>
        </p:nvPicPr>
        <p:blipFill>
          <a:blip r:embed="rId2"/>
          <a:stretch/>
        </p:blipFill>
        <p:spPr>
          <a:xfrm>
            <a:off x="0" y="-7920"/>
            <a:ext cx="64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dragscode: bestendig beheer Groene Ruim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403280" y="2735280"/>
            <a:ext cx="468144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eld: Gedragscode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bestendig beheer Gro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eld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Jaarlijks maaien van een berm, dijk of schouwpad in een bepaalde perio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geleidingssnoei in een beplant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maaien van een sloot / slootoever onder voorwaar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6" descr="DSC01263"/>
          <p:cNvPicPr/>
          <p:nvPr/>
        </p:nvPicPr>
        <p:blipFill>
          <a:blip r:embed="rId1"/>
          <a:stretch/>
        </p:blipFill>
        <p:spPr>
          <a:xfrm>
            <a:off x="6165720" y="2992320"/>
            <a:ext cx="2694240" cy="2097360"/>
          </a:xfrm>
          <a:prstGeom prst="rect">
            <a:avLst/>
          </a:prstGeom>
          <a:ln w="0">
            <a:noFill/>
          </a:ln>
        </p:spPr>
      </p:pic>
      <p:pic>
        <p:nvPicPr>
          <p:cNvPr id="599" name="Afbeelding 2" descr=""/>
          <p:cNvPicPr/>
          <p:nvPr/>
        </p:nvPicPr>
        <p:blipFill>
          <a:blip r:embed="rId2"/>
          <a:stretch/>
        </p:blipFill>
        <p:spPr>
          <a:xfrm>
            <a:off x="7451640" y="233280"/>
            <a:ext cx="1408320" cy="311400"/>
          </a:xfrm>
          <a:prstGeom prst="rect">
            <a:avLst/>
          </a:prstGeom>
          <a:ln w="0">
            <a:noFill/>
          </a:ln>
        </p:spPr>
      </p:pic>
      <p:pic>
        <p:nvPicPr>
          <p:cNvPr id="600" name="Afbeelding 3" descr=""/>
          <p:cNvPicPr/>
          <p:nvPr/>
        </p:nvPicPr>
        <p:blipFill>
          <a:blip r:embed="rId3"/>
          <a:stretch/>
        </p:blipFill>
        <p:spPr>
          <a:xfrm>
            <a:off x="7920" y="0"/>
            <a:ext cx="64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14400" y="853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iet bestend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42920" y="1968120"/>
            <a:ext cx="4402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elden niet bestendig behe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mvorming van heestervak naar kruidachtige veget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brengen beplanting in een kruidachtige veget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appen van een boombeplant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agger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mpen van een sloo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ak alleen met ontheffing. Mag sowieso geen nadelig effect voor beschermde soorten optreden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9" descr="DSC02025"/>
          <p:cNvPicPr/>
          <p:nvPr/>
        </p:nvPicPr>
        <p:blipFill>
          <a:blip r:embed="rId1"/>
          <a:stretch/>
        </p:blipFill>
        <p:spPr>
          <a:xfrm>
            <a:off x="5691240" y="256536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604" name="Afbeelding 1" descr=""/>
          <p:cNvPicPr/>
          <p:nvPr/>
        </p:nvPicPr>
        <p:blipFill>
          <a:blip r:embed="rId2"/>
          <a:stretch/>
        </p:blipFill>
        <p:spPr>
          <a:xfrm>
            <a:off x="7451640" y="277920"/>
            <a:ext cx="1408320" cy="311040"/>
          </a:xfrm>
          <a:prstGeom prst="rect">
            <a:avLst/>
          </a:prstGeom>
          <a:ln w="0">
            <a:noFill/>
          </a:ln>
        </p:spPr>
      </p:pic>
      <p:pic>
        <p:nvPicPr>
          <p:cNvPr id="605" name="Afbeelding 2" descr=""/>
          <p:cNvPicPr/>
          <p:nvPr/>
        </p:nvPicPr>
        <p:blipFill>
          <a:blip r:embed="rId3"/>
          <a:stretch/>
        </p:blipFill>
        <p:spPr>
          <a:xfrm>
            <a:off x="0" y="0"/>
            <a:ext cx="64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" dur="5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" dur="500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" dur="500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4" dur="500"/>
                                        <p:tgtEl>
                                          <p:spTgt spid="6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16000" y="1142640"/>
            <a:ext cx="446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ertific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222200" y="2276640"/>
            <a:ext cx="69343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de certificering van Stadswerk / VHG, op basis van de gedragscode, worden de volgende niveaus onderscheid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veau 1: medewerker / meewerkend voorm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veau 2: opzichter / uitvoerd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veau 3: werkvoorbereider / bedrijfsleid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el: kwaliteitsborg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Afbeelding 1" descr=""/>
          <p:cNvPicPr/>
          <p:nvPr/>
        </p:nvPicPr>
        <p:blipFill>
          <a:blip r:embed="rId1"/>
          <a:stretch/>
        </p:blipFill>
        <p:spPr>
          <a:xfrm>
            <a:off x="7451640" y="189000"/>
            <a:ext cx="1408320" cy="311040"/>
          </a:xfrm>
          <a:prstGeom prst="rect">
            <a:avLst/>
          </a:prstGeom>
          <a:ln w="0">
            <a:noFill/>
          </a:ln>
        </p:spPr>
      </p:pic>
      <p:pic>
        <p:nvPicPr>
          <p:cNvPr id="609" name="Afbeelding 2" descr=""/>
          <p:cNvPicPr/>
          <p:nvPr/>
        </p:nvPicPr>
        <p:blipFill>
          <a:blip r:embed="rId2"/>
          <a:stretch/>
        </p:blipFill>
        <p:spPr>
          <a:xfrm>
            <a:off x="0" y="-20520"/>
            <a:ext cx="6462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116000" y="1268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n gedragscode: Taakver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114560" y="247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drachtgever : Gemeente / Watersch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neringsdocument met kaartmateria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fo m.b.t. aanwezigheid bijzondere soor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heerplan, werkplan of beste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itoring en evalu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LNV afhandelen van calamitei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Afbeelding 1" descr=""/>
          <p:cNvPicPr/>
          <p:nvPr/>
        </p:nvPicPr>
        <p:blipFill>
          <a:blip r:embed="rId1"/>
          <a:stretch/>
        </p:blipFill>
        <p:spPr>
          <a:xfrm>
            <a:off x="7380360" y="291960"/>
            <a:ext cx="1407960" cy="311400"/>
          </a:xfrm>
          <a:prstGeom prst="rect">
            <a:avLst/>
          </a:prstGeom>
          <a:ln w="0">
            <a:noFill/>
          </a:ln>
        </p:spPr>
      </p:pic>
      <p:pic>
        <p:nvPicPr>
          <p:cNvPr id="613" name="Afbeelding 2" descr=""/>
          <p:cNvPicPr/>
          <p:nvPr/>
        </p:nvPicPr>
        <p:blipFill>
          <a:blip r:embed="rId2"/>
          <a:stretch/>
        </p:blipFill>
        <p:spPr>
          <a:xfrm>
            <a:off x="0" y="0"/>
            <a:ext cx="64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6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6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42920" y="105264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aak opdrachtne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125360" y="220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drachtnemer: eigen dienst, aanne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toonbare deskundigheid m.b.t. flora en fauna in relatie met behe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passen gedragsco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 info opdrachtgev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stellen plan van aanp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apportage en evalu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gnalering calamitei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Afbeelding 1" descr=""/>
          <p:cNvPicPr/>
          <p:nvPr/>
        </p:nvPicPr>
        <p:blipFill>
          <a:blip r:embed="rId1"/>
          <a:stretch/>
        </p:blipFill>
        <p:spPr>
          <a:xfrm>
            <a:off x="7396200" y="290520"/>
            <a:ext cx="1407960" cy="311040"/>
          </a:xfrm>
          <a:prstGeom prst="rect">
            <a:avLst/>
          </a:prstGeom>
          <a:ln w="0">
            <a:noFill/>
          </a:ln>
        </p:spPr>
      </p:pic>
      <p:pic>
        <p:nvPicPr>
          <p:cNvPr id="617" name="Afbeelding 2" descr=""/>
          <p:cNvPicPr/>
          <p:nvPr/>
        </p:nvPicPr>
        <p:blipFill>
          <a:blip r:embed="rId2"/>
          <a:stretch/>
        </p:blipFill>
        <p:spPr>
          <a:xfrm>
            <a:off x="0" y="0"/>
            <a:ext cx="64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6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4:13:11Z</dcterms:created>
  <dc:creator>Koezen</dc:creator>
  <dc:description/>
  <dc:language>en-US</dc:language>
  <cp:lastModifiedBy>Jasper Smit</cp:lastModifiedBy>
  <cp:lastPrinted>2014-09-16T12:57:47Z</cp:lastPrinted>
  <dcterms:modified xsi:type="dcterms:W3CDTF">2022-09-27T11:16:14Z</dcterms:modified>
  <cp:revision>26</cp:revision>
  <dc:subject/>
  <dc:title>Flora- en faunawet (1)</dc:title>
</cp:coreProperties>
</file>