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889-F176-4651-9FB6-A9C1ADBF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769-5A68-49E6-84FC-30F9CD6C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D76-9828-4D0C-ACE0-F905C9E9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D93-DC7C-4D3E-A866-6EE855E1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6AF-9D5B-4847-97EB-337B4122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D34-2DA8-4B07-A283-3BF2C93A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7F8-7730-401E-8909-5E869925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D256-17BA-40BF-9046-A61F7428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137-6742-4BA5-A3BE-6622848B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EE1-385E-4524-A24A-F00C3719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805-61EE-4543-924A-814ACB70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E39-6D8A-4A00-B3A5-E5FEE3A8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1615-7C39-486A-B311-ABF000E24E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file://upload.wikimedia.org/wikipedia/commons/4/4e/HerbertClarkHoover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jd van wereldoorl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graaf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Verenigde Staten (de economische wereldcri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farm5.static.flickr.com/3217/3058063621_cd488ba765.jpg"/>
          <p:cNvPicPr/>
          <p:nvPr/>
        </p:nvPicPr>
        <p:blipFill>
          <a:blip r:embed="rId1"/>
          <a:stretch/>
        </p:blipFill>
        <p:spPr>
          <a:xfrm>
            <a:off x="395280" y="423720"/>
            <a:ext cx="4105440" cy="560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bbc.co.uk/blogs/thereporters/stephanieflanders/depression.jpg"/>
          <p:cNvPicPr/>
          <p:nvPr/>
        </p:nvPicPr>
        <p:blipFill>
          <a:blip r:embed="rId2"/>
          <a:stretch/>
        </p:blipFill>
        <p:spPr>
          <a:xfrm>
            <a:off x="4500720" y="692280"/>
            <a:ext cx="4643280" cy="3225600"/>
          </a:xfrm>
          <a:prstGeom prst="rect">
            <a:avLst/>
          </a:prstGeom>
          <a:ln w="0">
            <a:noFill/>
          </a:ln>
        </p:spPr>
      </p:pic>
      <p:sp>
        <p:nvSpPr>
          <p:cNvPr id="88" name="Golf 3"/>
          <p:cNvSpPr/>
          <p:nvPr/>
        </p:nvSpPr>
        <p:spPr>
          <a:xfrm>
            <a:off x="5148360" y="5084640"/>
            <a:ext cx="2952720" cy="1130400"/>
          </a:xfrm>
          <a:custGeom>
            <a:avLst/>
            <a:gdLst>
              <a:gd name="textAreaLeft" fmla="*/ 0 w 2952720"/>
              <a:gd name="textAreaRight" fmla="*/ 2953080 w 2952720"/>
              <a:gd name="textAreaTop" fmla="*/ 282600 h 1130400"/>
              <a:gd name="textAreaBottom" fmla="*/ 8478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Zeer grote armo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op een rijtj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konden schulden niet bet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ken ging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rouwen ging weg bij consument en prod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ssaontsla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tiek op (federale) politiek: zij doen te weini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Rechte verbindingslijn met pijl 6"/>
          <p:cNvCxnSpPr/>
          <p:nvPr/>
        </p:nvCxnSpPr>
        <p:spPr>
          <a:xfrm>
            <a:off x="2484000" y="2133720"/>
            <a:ext cx="1080" cy="358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2" name="Rechte verbindingslijn met pijl 7"/>
          <p:cNvCxnSpPr/>
          <p:nvPr/>
        </p:nvCxnSpPr>
        <p:spPr>
          <a:xfrm>
            <a:off x="2484000" y="299700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3" name="Rechte verbindingslijn met pijl 8"/>
          <p:cNvCxnSpPr/>
          <p:nvPr/>
        </p:nvCxnSpPr>
        <p:spPr>
          <a:xfrm>
            <a:off x="2484000" y="3933360"/>
            <a:ext cx="108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4" name="Rechte verbindingslijn met pijl 13"/>
          <p:cNvCxnSpPr/>
          <p:nvPr/>
        </p:nvCxnSpPr>
        <p:spPr>
          <a:xfrm>
            <a:off x="2484000" y="472392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5" name="Picture 6" descr="http://morganp11.files.wordpress.com/2011/05/gnh-1.jpg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454720"/>
          </a:xfrm>
          <a:prstGeom prst="rect">
            <a:avLst/>
          </a:prstGeom>
          <a:ln w="0">
            <a:noFill/>
          </a:ln>
        </p:spPr>
      </p:pic>
      <p:sp>
        <p:nvSpPr>
          <p:cNvPr id="96" name="PIJL-LINKS 9"/>
          <p:cNvSpPr/>
          <p:nvPr/>
        </p:nvSpPr>
        <p:spPr>
          <a:xfrm rot="20392200">
            <a:off x="4449600" y="1461600"/>
            <a:ext cx="731880" cy="3603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merikaans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wordt wereld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1930 – 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% werklozen in 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7.3 % werklozen in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entoen.nu/beeld/iconen/37.jpg"/>
          <p:cNvPicPr/>
          <p:nvPr/>
        </p:nvPicPr>
        <p:blipFill>
          <a:blip r:embed="rId2"/>
          <a:stretch/>
        </p:blipFill>
        <p:spPr>
          <a:xfrm>
            <a:off x="324000" y="1484280"/>
            <a:ext cx="38541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eed de regering van de V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2: dieptepunt van de beurs (laagste ko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doet niet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liberaal denken, geen overheidsbemoeieni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: Franklin D. Roosevelt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ew Deal-politie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gaat z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de econ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oe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ranklin Delano Roosevelt"/>
          <p:cNvPicPr/>
          <p:nvPr/>
        </p:nvPicPr>
        <p:blipFill>
          <a:blip r:embed="rId1"/>
          <a:stretch/>
        </p:blipFill>
        <p:spPr>
          <a:xfrm>
            <a:off x="5724360" y="4057560"/>
            <a:ext cx="23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voteview.com/images/Real_Per_Capita_Income_1920-1970.jpg"/>
          <p:cNvPicPr/>
          <p:nvPr/>
        </p:nvPicPr>
        <p:blipFill>
          <a:blip r:embed="rId1"/>
          <a:stretch/>
        </p:blipFill>
        <p:spPr>
          <a:xfrm>
            <a:off x="1332000" y="333360"/>
            <a:ext cx="6248160" cy="6237360"/>
          </a:xfrm>
          <a:prstGeom prst="rect">
            <a:avLst/>
          </a:prstGeom>
          <a:ln w="0">
            <a:noFill/>
          </a:ln>
        </p:spPr>
      </p:pic>
      <p:sp>
        <p:nvSpPr>
          <p:cNvPr id="107" name="Ovaal 4"/>
          <p:cNvSpPr/>
          <p:nvPr/>
        </p:nvSpPr>
        <p:spPr>
          <a:xfrm>
            <a:off x="3780000" y="2349360"/>
            <a:ext cx="863280" cy="251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hthoekige toelichting 5"/>
          <p:cNvSpPr/>
          <p:nvPr/>
        </p:nvSpPr>
        <p:spPr>
          <a:xfrm>
            <a:off x="4788000" y="1125360"/>
            <a:ext cx="1512720" cy="1151280"/>
          </a:xfrm>
          <a:prstGeom prst="wedgeRectCallout">
            <a:avLst>
              <a:gd name="adj1" fmla="val -74101"/>
              <a:gd name="adj2" fmla="val 6722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W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en Hoe: New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voor banken en indus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overleg i.p.v. helemaal vrije concur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lozen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keringen voor werkl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afspraken voor arbeider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inimumloon en maximum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ucces Amerikaanse 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eal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breken van de Tweede Wereldoorlog (wapenproducti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een enorme economische ‘impuls’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pens produceren (arbeiders een baan) + wapens verko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onomie jaren ‘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II afgelo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keren terug naar V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penfabrie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consumptiefabri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ouwen baan opzeg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laats maken voor m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gaan in nieuwe industrie en bouw werken (i.v.m. babyboo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S = een kapitalistische consumptiemaatschappi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open en verkopen van (consumptie) producten werd heel belangrij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onsumption"/>
          <p:cNvPicPr/>
          <p:nvPr/>
        </p:nvPicPr>
        <p:blipFill>
          <a:blip r:embed="rId1"/>
          <a:stretch/>
        </p:blipFill>
        <p:spPr>
          <a:xfrm>
            <a:off x="2556000" y="2781360"/>
            <a:ext cx="3779640" cy="3779640"/>
          </a:xfrm>
          <a:prstGeom prst="rect">
            <a:avLst/>
          </a:prstGeom>
          <a:ln w="0">
            <a:noFill/>
          </a:ln>
        </p:spPr>
      </p:pic>
      <p:sp>
        <p:nvSpPr>
          <p:cNvPr id="118" name="Rechthoek 4"/>
          <p:cNvSpPr/>
          <p:nvPr/>
        </p:nvSpPr>
        <p:spPr>
          <a:xfrm>
            <a:off x="6372360" y="6165720"/>
            <a:ext cx="277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youtube.com/watch?v=uAC3EFK88a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5"/>
          <p:cNvSpPr/>
          <p:nvPr/>
        </p:nvSpPr>
        <p:spPr>
          <a:xfrm>
            <a:off x="108000" y="6165720"/>
            <a:ext cx="32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youtube.com/watch?v=QP39Q8vgbm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d aspec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risis van het wereld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pkomst van politiek-maatschappelijke stromingen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liber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icoon Tijd van wereldoorlogen"/>
          <p:cNvPicPr/>
          <p:nvPr/>
        </p:nvPicPr>
        <p:blipFill>
          <a:blip r:embed="rId1"/>
          <a:stretch/>
        </p:blipFill>
        <p:spPr>
          <a:xfrm>
            <a:off x="5580000" y="3087720"/>
            <a:ext cx="2667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Waarom kon de VS uitgroeien tot de grootste economie van de wereld?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bezit veel grondsto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olking had veel te besteden (hoge l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uitvindingen (elektriciteit als energiebron, lopende b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nde houding v/d bevo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OVENAL: KAPITALISME / VRIJE MARKTECONOMIE zorgt voor ongekende groe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www.animaatjes.nl/plaatjes/g/graan/animaatjes-graan-07606.jpg"/>
          <p:cNvPicPr/>
          <p:nvPr/>
        </p:nvPicPr>
        <p:blipFill>
          <a:blip r:embed="rId1"/>
          <a:stretch/>
        </p:blipFill>
        <p:spPr>
          <a:xfrm>
            <a:off x="2556000" y="1125360"/>
            <a:ext cx="6438600" cy="431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www.livetradingnews.com/wp-content/uploads/oil350_4ba237f9bf22e.jpg"/>
          <p:cNvPicPr/>
          <p:nvPr/>
        </p:nvPicPr>
        <p:blipFill>
          <a:blip r:embed="rId2"/>
          <a:stretch/>
        </p:blipFill>
        <p:spPr>
          <a:xfrm>
            <a:off x="4572000" y="1125360"/>
            <a:ext cx="4103640" cy="4092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posterous.com/getfile/files.posterous.com/jalam1001/vAkpEoEajcHiylxpkgpdehtfqltvEssJsEfprImisJfaHEnxuCicblFnqmna/media_httpmastersofphotographycomimagesfullbourkewhitebwlivingjpg_opobabzhiylnzkv.jpg.scaled1000.jpg"/>
          <p:cNvPicPr/>
          <p:nvPr/>
        </p:nvPicPr>
        <p:blipFill>
          <a:blip r:embed="rId3"/>
          <a:stretch/>
        </p:blipFill>
        <p:spPr>
          <a:xfrm>
            <a:off x="2771640" y="9079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://www.k12.hi.us/~kealaint/projects/Spring09Projects/period2/images/how%20to%20use%20electricity.jpg"/>
          <p:cNvPicPr/>
          <p:nvPr/>
        </p:nvPicPr>
        <p:blipFill>
          <a:blip r:embed="rId4"/>
          <a:stretch/>
        </p:blipFill>
        <p:spPr>
          <a:xfrm>
            <a:off x="2914560" y="1052640"/>
            <a:ext cx="6229440" cy="446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://www.wanttoknow.nl/wp-content/uploads/Ford-lopende-band.jpg"/>
          <p:cNvPicPr/>
          <p:nvPr/>
        </p:nvPicPr>
        <p:blipFill>
          <a:blip r:embed="rId5"/>
          <a:stretch/>
        </p:blipFill>
        <p:spPr>
          <a:xfrm>
            <a:off x="2556000" y="1413000"/>
            <a:ext cx="6351480" cy="397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://www.verhalenvanvroeger.nl/photos/normalsize/116.jpg"/>
          <p:cNvPicPr/>
          <p:nvPr/>
        </p:nvPicPr>
        <p:blipFill>
          <a:blip r:embed="rId6"/>
          <a:stretch/>
        </p:blipFill>
        <p:spPr>
          <a:xfrm>
            <a:off x="2916360" y="1341360"/>
            <a:ext cx="5688000" cy="423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http://mankel.free.fr/AmericanDream/images/American_Dream_02.jpg"/>
          <p:cNvPicPr/>
          <p:nvPr/>
        </p:nvPicPr>
        <p:blipFill>
          <a:blip r:embed="rId7"/>
          <a:stretch/>
        </p:blipFill>
        <p:spPr>
          <a:xfrm>
            <a:off x="3203640" y="981000"/>
            <a:ext cx="47530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7600" y="2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ont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verproductie i.v.m. wegvallen van de afzetmarkt in Europ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kopen van (geleend) geld: consumenten lev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ven hun st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maken met geleend g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leine afzetmarkt (alleen V.S. zel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nen heel veel geld uit aan consumenten en 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controle op financiële mogelijkheden van producenten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proep aan de bevolking: ga aandelen kopen! (dit werd dus massaal gedaan met weer… geleend ge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 – Consumenten – Producenten – Banken – Politici hadden één ding gemeen: EEN GROOT VERTROUWEN IN DE AMERIKAANS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static.howstuffworks.com/gif/desertification-1.jpg"/>
          <p:cNvPicPr/>
          <p:nvPr/>
        </p:nvPicPr>
        <p:blipFill>
          <a:blip r:embed="rId1"/>
          <a:stretch/>
        </p:blipFill>
        <p:spPr>
          <a:xfrm>
            <a:off x="3635280" y="1197000"/>
            <a:ext cx="4867200" cy="364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jimhilvertbruce.com/wp-content/uploads/2011/06/1920-1929-ford-trucks-4.jpg"/>
          <p:cNvPicPr/>
          <p:nvPr/>
        </p:nvPicPr>
        <p:blipFill>
          <a:blip r:embed="rId2"/>
          <a:stretch/>
        </p:blipFill>
        <p:spPr>
          <a:xfrm>
            <a:off x="4067280" y="333360"/>
            <a:ext cx="3809880" cy="621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4.bp.blogspot.com/-qsRsb67wJIs/TbYSHeZjfEI/AAAAAAAAACs/ajiLV1qEIhQ/s1600/Assembly+Line.jpg"/>
          <p:cNvPicPr/>
          <p:nvPr/>
        </p:nvPicPr>
        <p:blipFill>
          <a:blip r:embed="rId3"/>
          <a:stretch/>
        </p:blipFill>
        <p:spPr>
          <a:xfrm>
            <a:off x="3059280" y="1413000"/>
            <a:ext cx="5715000" cy="400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cdn.dipity.com/uploads/events/6217ca896f88214d63e2130440d8e39c_1M.png"/>
          <p:cNvPicPr/>
          <p:nvPr/>
        </p:nvPicPr>
        <p:blipFill>
          <a:blip r:embed="rId4"/>
          <a:stretch/>
        </p:blipFill>
        <p:spPr>
          <a:xfrm>
            <a:off x="2916360" y="1341360"/>
            <a:ext cx="581004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estand:HerbertClarkHoov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549360"/>
            <a:ext cx="4276440" cy="5648400"/>
          </a:xfrm>
          <a:prstGeom prst="rect">
            <a:avLst/>
          </a:prstGeom>
          <a:ln w="0">
            <a:noFill/>
          </a:ln>
        </p:spPr>
      </p:pic>
      <p:sp>
        <p:nvSpPr>
          <p:cNvPr id="62" name="Ovale toelichting 9"/>
          <p:cNvSpPr/>
          <p:nvPr/>
        </p:nvSpPr>
        <p:spPr>
          <a:xfrm>
            <a:off x="6443640" y="1052640"/>
            <a:ext cx="2138400" cy="1081080"/>
          </a:xfrm>
          <a:prstGeom prst="wedgeEllipseCallout">
            <a:avLst>
              <a:gd name="adj1" fmla="val -71736"/>
              <a:gd name="adj2" fmla="val 403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oop aandelen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economie van de 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De Amerikaanse economie was een luchtbel die op knappen stond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kleine afzetm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overprod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og meer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lecht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‘valse’ vertrouwen in d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aandelenverk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it alles zorgde voor het knappen van de economische groe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1"/>
          <p:cNvSpPr/>
          <p:nvPr/>
        </p:nvSpPr>
        <p:spPr>
          <a:xfrm>
            <a:off x="457200" y="593892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schooltv.nl/video/hoe-ontstaat-een-crisis-onze-economie-heeft-een-open-karakter/#q=economische%20cri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 DAN: </a:t>
            </a: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BEURSKRACH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(crash)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4 oktober 192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rash1929_2"/>
          <p:cNvPicPr/>
          <p:nvPr/>
        </p:nvPicPr>
        <p:blipFill>
          <a:blip r:embed="rId1"/>
          <a:stretch/>
        </p:blipFill>
        <p:spPr>
          <a:xfrm>
            <a:off x="539640" y="1628640"/>
            <a:ext cx="7920000" cy="437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www.beurscyclus.nl/IMAGES/wallstreet-29-10-1929.jpeg"/>
          <p:cNvPicPr/>
          <p:nvPr/>
        </p:nvPicPr>
        <p:blipFill>
          <a:blip r:embed="rId2"/>
          <a:stretch/>
        </p:blipFill>
        <p:spPr>
          <a:xfrm>
            <a:off x="2411280" y="836640"/>
            <a:ext cx="410400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6"/>
          <p:cNvSpPr/>
          <p:nvPr/>
        </p:nvSpPr>
        <p:spPr>
          <a:xfrm>
            <a:off x="250920" y="602136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schooltv.nl/video/zwarte-donderdag-het-begin-van-de-crisis-in-de-jaren-dertig/#q=economische%20cri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gevolgen voor d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ankcollapse"/>
          <p:cNvPicPr/>
          <p:nvPr/>
        </p:nvPicPr>
        <p:blipFill>
          <a:blip r:embed="rId1"/>
          <a:stretch/>
        </p:blipFill>
        <p:spPr>
          <a:xfrm>
            <a:off x="184320" y="1898640"/>
            <a:ext cx="4532040" cy="369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breadline"/>
          <p:cNvPicPr/>
          <p:nvPr/>
        </p:nvPicPr>
        <p:blipFill>
          <a:blip r:embed="rId2"/>
          <a:stretch/>
        </p:blipFill>
        <p:spPr>
          <a:xfrm>
            <a:off x="4716360" y="1916280"/>
            <a:ext cx="4262400" cy="3636720"/>
          </a:xfrm>
          <a:prstGeom prst="rect">
            <a:avLst/>
          </a:prstGeom>
          <a:ln w="0">
            <a:noFill/>
          </a:ln>
        </p:spPr>
      </p:pic>
      <p:sp>
        <p:nvSpPr>
          <p:cNvPr id="75" name="Golf 7"/>
          <p:cNvSpPr/>
          <p:nvPr/>
        </p:nvSpPr>
        <p:spPr>
          <a:xfrm>
            <a:off x="826920" y="5300640"/>
            <a:ext cx="3168720" cy="914400"/>
          </a:xfrm>
          <a:custGeom>
            <a:avLst/>
            <a:gdLst>
              <a:gd name="textAreaLeft" fmla="*/ 0 w 3168720"/>
              <a:gd name="textAreaRight" fmla="*/ 3169080 w 3168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ank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Golf 8"/>
          <p:cNvSpPr/>
          <p:nvPr/>
        </p:nvSpPr>
        <p:spPr>
          <a:xfrm>
            <a:off x="5508720" y="5300640"/>
            <a:ext cx="2808360" cy="1058760"/>
          </a:xfrm>
          <a:custGeom>
            <a:avLst/>
            <a:gdLst>
              <a:gd name="textAreaLeft" fmla="*/ 0 w 2808360"/>
              <a:gd name="textAreaRight" fmla="*/ 2808720 w 2808360"/>
              <a:gd name="textAreaTop" fmla="*/ 264600 h 1058760"/>
              <a:gd name="textAreaBottom" fmla="*/ 79416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achten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mentalfloss.com/wp-content/uploads/2008/10/great_depression.jpg"/>
          <p:cNvPicPr/>
          <p:nvPr/>
        </p:nvPicPr>
        <p:blipFill>
          <a:blip r:embed="rId1"/>
          <a:stretch/>
        </p:blipFill>
        <p:spPr>
          <a:xfrm>
            <a:off x="826920" y="836640"/>
            <a:ext cx="7490160" cy="559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3.bp.blogspot.com/_zmmX7cJRCNw/TJbU3Hka01I/AAAAAAAAACs/hRmNRlieqmg/s320/Althea+given+my+dad+a+job.jpg"/>
          <p:cNvPicPr/>
          <p:nvPr/>
        </p:nvPicPr>
        <p:blipFill>
          <a:blip r:embed="rId2"/>
          <a:stretch/>
        </p:blipFill>
        <p:spPr>
          <a:xfrm>
            <a:off x="1476360" y="1052640"/>
            <a:ext cx="6048360" cy="4979880"/>
          </a:xfrm>
          <a:prstGeom prst="rect">
            <a:avLst/>
          </a:prstGeom>
          <a:ln w="0">
            <a:noFill/>
          </a:ln>
        </p:spPr>
      </p:pic>
      <p:sp>
        <p:nvSpPr>
          <p:cNvPr id="81" name="Lijntoelichting 1 5"/>
          <p:cNvSpPr/>
          <p:nvPr/>
        </p:nvSpPr>
        <p:spPr>
          <a:xfrm>
            <a:off x="2843280" y="1052640"/>
            <a:ext cx="4249800" cy="612720"/>
          </a:xfrm>
          <a:prstGeom prst="borderCallout1">
            <a:avLst>
              <a:gd name="adj1" fmla="val 18750"/>
              <a:gd name="adj2" fmla="val -8333"/>
              <a:gd name="adj3" fmla="val 267083"/>
              <a:gd name="adj4" fmla="val 147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icht van de overheid aan 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jntoelichting 2 6"/>
          <p:cNvSpPr/>
          <p:nvPr/>
        </p:nvSpPr>
        <p:spPr>
          <a:xfrm>
            <a:off x="4572000" y="5229360"/>
            <a:ext cx="2448000" cy="1404720"/>
          </a:xfrm>
          <a:prstGeom prst="borderCallout2">
            <a:avLst>
              <a:gd name="adj1" fmla="val 18750"/>
              <a:gd name="adj2" fmla="val -8333"/>
              <a:gd name="adj3" fmla="val 66023"/>
              <a:gd name="adj4" fmla="val 671"/>
              <a:gd name="adj5" fmla="val -69606"/>
              <a:gd name="adj6" fmla="val -23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en sociaal vangnet (uitkeringen enz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ele families komen op straat te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ttp://maragon31.files.wordpress.com/2011/03/arkansas-children.gif"/>
          <p:cNvPicPr/>
          <p:nvPr/>
        </p:nvPicPr>
        <p:blipFill>
          <a:blip r:embed="rId3"/>
          <a:stretch/>
        </p:blipFill>
        <p:spPr>
          <a:xfrm>
            <a:off x="1187280" y="620640"/>
            <a:ext cx="71298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://lh4.ggpht.com/-uNof2uS7Ifc/So8-yFC0DbI/AAAAAAAA5Mo/GGvB4zVDH4g/70712-main_Full.jpg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5453280"/>
          </a:xfrm>
          <a:prstGeom prst="rect">
            <a:avLst/>
          </a:prstGeom>
          <a:ln w="0">
            <a:noFill/>
          </a:ln>
        </p:spPr>
      </p:pic>
      <p:sp>
        <p:nvSpPr>
          <p:cNvPr id="85" name="Golf 5"/>
          <p:cNvSpPr/>
          <p:nvPr/>
        </p:nvSpPr>
        <p:spPr>
          <a:xfrm>
            <a:off x="3059280" y="5589720"/>
            <a:ext cx="3384360" cy="985680"/>
          </a:xfrm>
          <a:custGeom>
            <a:avLst/>
            <a:gdLst>
              <a:gd name="textAreaLeft" fmla="*/ 0 w 3384360"/>
              <a:gd name="textAreaRight" fmla="*/ 3384720 w 3384360"/>
              <a:gd name="textAreaTop" fmla="*/ 246240 h 985680"/>
              <a:gd name="textAreaBottom" fmla="*/ 739440 h 985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rotten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8:37:52Z</dcterms:created>
  <dc:creator>BMS</dc:creator>
  <dc:description/>
  <dc:language>en-US</dc:language>
  <cp:lastModifiedBy>Biemans, KJA (Kristel)</cp:lastModifiedBy>
  <dcterms:modified xsi:type="dcterms:W3CDTF">2015-09-20T17:19:43Z</dcterms:modified>
  <cp:revision>42</cp:revision>
  <dc:subject/>
  <dc:title>Klas 3</dc:title>
</cp:coreProperties>
</file>