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E50-BE70-4E7E-B261-B3E8F431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E41-20AB-4D82-8D39-755F34E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598-F7F1-49B4-B38A-197ACC55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851-579A-47E4-A3E7-F183BEC0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64D-CABD-408F-92B8-1C2BD8B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781-F639-4363-8BAE-5941E58F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B28-8367-4D66-847B-4EFD69E6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C54-3623-47EF-8E58-B41D19A2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4D4-9A33-403D-9541-3104A62E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C45-6BA6-4402-8627-123C707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379-3F3A-4A91-9979-3227C5C8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159-06F6-4B49-8B61-AE58476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0194-68AE-45D8-BEAA-5B9BFDAA4E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file://upload.wikimedia.org/wikipedia/commons/4/4e/HerbertClarkHoov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8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2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5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6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babyboo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  <p:sp>
        <p:nvSpPr>
          <p:cNvPr id="118" name="Rechthoek 4"/>
          <p:cNvSpPr/>
          <p:nvPr/>
        </p:nvSpPr>
        <p:spPr>
          <a:xfrm>
            <a:off x="6372360" y="6165720"/>
            <a:ext cx="277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youtube.com/watch?v=uAC3EFK88a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5"/>
          <p:cNvSpPr/>
          <p:nvPr/>
        </p:nvSpPr>
        <p:spPr>
          <a:xfrm>
            <a:off x="108000" y="616572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youtube.com/watch?v=QP39Q8vgb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pkomst van politiek-maatschappelijke stromingen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liber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(hoge l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(elektriciteit als energiebron, lopend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OVENAL: KAPITALISME / VRIJE MARKTECONOMIE 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www.animaatjes.nl/plaatjes/g/graan/animaatjes-graan-07606.jpg"/>
          <p:cNvPicPr/>
          <p:nvPr/>
        </p:nvPicPr>
        <p:blipFill>
          <a:blip r:embed="rId1"/>
          <a:stretch/>
        </p:blipFill>
        <p:spPr>
          <a:xfrm>
            <a:off x="2556000" y="1125360"/>
            <a:ext cx="6438600" cy="43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livetradingnews.com/wp-content/uploads/oil350_4ba237f9bf22e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03640" cy="409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posterous.com/getfile/files.posterous.com/jalam1001/vAkpEoEajcHiylxpkgpdehtfqltvEssJsEfprImisJfaHEnxuCicblFnqmna/media_httpmastersofphotographycomimagesfullbourkewhitebwlivingjpg_opobabzhiylnzkv.jpg.scaled1000.jpg"/>
          <p:cNvPicPr/>
          <p:nvPr/>
        </p:nvPicPr>
        <p:blipFill>
          <a:blip r:embed="rId3"/>
          <a:stretch/>
        </p:blipFill>
        <p:spPr>
          <a:xfrm>
            <a:off x="2771640" y="9079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www.k12.hi.us/~kealaint/projects/Spring09Projects/period2/images/how%20to%20use%20electricity.jpg"/>
          <p:cNvPicPr/>
          <p:nvPr/>
        </p:nvPicPr>
        <p:blipFill>
          <a:blip r:embed="rId4"/>
          <a:stretch/>
        </p:blipFill>
        <p:spPr>
          <a:xfrm>
            <a:off x="2914560" y="1052640"/>
            <a:ext cx="6229440" cy="446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www.wanttoknow.nl/wp-content/uploads/Ford-lopende-band.jpg"/>
          <p:cNvPicPr/>
          <p:nvPr/>
        </p:nvPicPr>
        <p:blipFill>
          <a:blip r:embed="rId5"/>
          <a:stretch/>
        </p:blipFill>
        <p:spPr>
          <a:xfrm>
            <a:off x="2556000" y="1413000"/>
            <a:ext cx="6351480" cy="39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www.verhalenvanvroeger.nl/photos/normalsize/116.jpg"/>
          <p:cNvPicPr/>
          <p:nvPr/>
        </p:nvPicPr>
        <p:blipFill>
          <a:blip r:embed="rId6"/>
          <a:stretch/>
        </p:blipFill>
        <p:spPr>
          <a:xfrm>
            <a:off x="2916360" y="1341360"/>
            <a:ext cx="5688000" cy="42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mankel.free.fr/AmericanDream/images/American_Dream_02.jpg"/>
          <p:cNvPicPr/>
          <p:nvPr/>
        </p:nvPicPr>
        <p:blipFill>
          <a:blip r:embed="rId7"/>
          <a:stretch/>
        </p:blipFill>
        <p:spPr>
          <a:xfrm>
            <a:off x="3203640" y="981000"/>
            <a:ext cx="4753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76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ont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productie i.v.m. wegvallen van de afzetmarkt in Euro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kopen van (geleend) geld: consumenten lev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hun st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maken met geleend g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eine afzetmarkt (alleen V.S. ze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nen heel veel geld uit aan consumenten en 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controle op financiële mogelijkheden van producenten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roep aan de bevolking: ga aandelen kopen! (dit werd dus massaal gedaan met weer… geleend ge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 – Consumenten – Producenten – Banken – Politici hadden één ding gemeen: EEN GROOT VERTROUWEN IN DE AMERIKAANS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tatic.howstuffworks.com/gif/desertification-1.jpg"/>
          <p:cNvPicPr/>
          <p:nvPr/>
        </p:nvPicPr>
        <p:blipFill>
          <a:blip r:embed="rId1"/>
          <a:stretch/>
        </p:blipFill>
        <p:spPr>
          <a:xfrm>
            <a:off x="3635280" y="1197000"/>
            <a:ext cx="4867200" cy="364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jimhilvertbruce.com/wp-content/uploads/2011/06/1920-1929-ford-trucks-4.jpg"/>
          <p:cNvPicPr/>
          <p:nvPr/>
        </p:nvPicPr>
        <p:blipFill>
          <a:blip r:embed="rId2"/>
          <a:stretch/>
        </p:blipFill>
        <p:spPr>
          <a:xfrm>
            <a:off x="4067280" y="333360"/>
            <a:ext cx="3809880" cy="621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4.bp.blogspot.com/-qsRsb67wJIs/TbYSHeZjfEI/AAAAAAAAACs/ajiLV1qEIhQ/s1600/Assembly+Line.jpg"/>
          <p:cNvPicPr/>
          <p:nvPr/>
        </p:nvPicPr>
        <p:blipFill>
          <a:blip r:embed="rId3"/>
          <a:stretch/>
        </p:blipFill>
        <p:spPr>
          <a:xfrm>
            <a:off x="3059280" y="141300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cdn.dipity.com/uploads/events/6217ca896f88214d63e2130440d8e39c_1M.png"/>
          <p:cNvPicPr/>
          <p:nvPr/>
        </p:nvPicPr>
        <p:blipFill>
          <a:blip r:embed="rId4"/>
          <a:stretch/>
        </p:blipFill>
        <p:spPr>
          <a:xfrm>
            <a:off x="2916360" y="1341360"/>
            <a:ext cx="58100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estand:HerbertClarkHoov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549360"/>
            <a:ext cx="4276440" cy="5648400"/>
          </a:xfrm>
          <a:prstGeom prst="rect">
            <a:avLst/>
          </a:prstGeom>
          <a:ln w="0">
            <a:noFill/>
          </a:ln>
        </p:spPr>
      </p:pic>
      <p:sp>
        <p:nvSpPr>
          <p:cNvPr id="62" name="Ovale toelichting 9"/>
          <p:cNvSpPr/>
          <p:nvPr/>
        </p:nvSpPr>
        <p:spPr>
          <a:xfrm>
            <a:off x="6443640" y="1052640"/>
            <a:ext cx="2138400" cy="1081080"/>
          </a:xfrm>
          <a:prstGeom prst="wedgeEllipseCallout">
            <a:avLst>
              <a:gd name="adj1" fmla="val -71736"/>
              <a:gd name="adj2" fmla="val 403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op aandelen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conomie van d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De Amerikaanse economie was een luchtbel die op knappen ston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kleine afzet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over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og meer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lecht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‘valse’ vertrouwen in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aandelenverk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t alles zorgde voor het knappen van de economische gro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1"/>
          <p:cNvSpPr/>
          <p:nvPr/>
        </p:nvSpPr>
        <p:spPr>
          <a:xfrm>
            <a:off x="457200" y="593892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schooltv.nl/video/hoe-ontstaat-een-crisis-onze-economie-heeft-een-open-karakter/#q=economische%20cri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6"/>
          <p:cNvSpPr/>
          <p:nvPr/>
        </p:nvSpPr>
        <p:spPr>
          <a:xfrm>
            <a:off x="250920" y="6021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schooltv.nl/video/zwarte-donderdag-het-begin-van-de-crisis-in-de-jaren-dertig/#q=economische%20cr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5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1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1187280" y="620640"/>
            <a:ext cx="7129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15-09-20T17:19:43Z</dcterms:modified>
  <cp:revision>42</cp:revision>
  <dc:subject/>
  <dc:title>Klas 3</dc:title>
</cp:coreProperties>
</file>