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1.png" ContentType="image/png"/>
  <Override PartName="/ppt/media/image19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48F-5F66-46F7-9C5D-87B59DE2A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DC3E-68DD-473A-A85C-BF839DF2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82F-DACA-40C2-960E-3EC36C96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5A0-68C2-451C-9968-DC107458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8979-F243-4965-8774-514F4559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627-FD31-4968-BFC7-5EF4E4FF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C2EC-0CB8-45F4-B746-1B6C56F7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891-E036-4981-B986-88177712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62A-3177-48D7-AE13-2A7C4654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3E41-5CE1-433E-8F84-A78686F1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4AD-3320-4A51-B9BB-773CDA7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8DF-6E64-4F7D-A4C9-9F265B55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6F65-157A-4B0B-91BB-47FBB2AF96F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ji9zaYR-5YQ" TargetMode="External"/><Relationship Id="rId3" Type="http://schemas.openxmlformats.org/officeDocument/2006/relationships/hyperlink" Target="http://www.youtube.com/watch?v=ByA1bmvhGto" TargetMode="External"/><Relationship Id="rId4" Type="http://schemas.openxmlformats.org/officeDocument/2006/relationships/hyperlink" Target="http://web.teleblik.kennisnet.nl/tsr/player/vo/fid/1681230" TargetMode="Externa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720" y="333360"/>
            <a:ext cx="188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5977080" cy="5267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00360" y="1052640"/>
            <a:ext cx="24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6 t/m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28A-C9CD-4FA8-8A68-86DB67C4D2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49360"/>
            <a:ext cx="8064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oe kom je weer aan we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liciteren op Vac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erk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met vrienden, famil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itzend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ntrum voor Werk 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komen (CW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279108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E3E-9D76-4247-813D-F4759DD8385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7993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discrim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ht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168720" cy="24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2881080" cy="2382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aar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4960" y="3860640"/>
            <a:ext cx="263376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4000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illustratie: Magda Rijs"/>
          <p:cNvPicPr/>
          <p:nvPr/>
        </p:nvPicPr>
        <p:blipFill>
          <a:blip r:embed="rId5"/>
          <a:stretch/>
        </p:blipFill>
        <p:spPr>
          <a:xfrm>
            <a:off x="5724360" y="3971880"/>
            <a:ext cx="2381400" cy="2886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35280" y="5805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eftijd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1B39-9309-48BB-8862-A23A66FA73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349360"/>
            <a:ext cx="8064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t voordeel dat je ergens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 hebt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e baas wil lage lonen geven (en dus meer winst overhouden. Jij wil veel verdienen: tegengestelde bela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engroep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t op voor de belangen van een bepaalde gro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akbond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en op voor werknemers. Zorgen voor CAO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llectieve arbeidsovereenkomst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fspraken over lonen, vakantiedagen, pensioe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8419" t="0" r="6539" b="0"/>
          <a:stretch/>
        </p:blipFill>
        <p:spPr>
          <a:xfrm>
            <a:off x="5292720" y="404640"/>
            <a:ext cx="359892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9EF-58BC-4ED4-AA4F-BD7C46E198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8FF-1E6D-4022-9F7B-150E9A4741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9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ijstan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als je geen verzekering krijgt, maar ook geen werk hebt of niet kan werken: bijst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4680"/>
            <a:ext cx="8064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e vee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ensen hebben uitkering gekr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43640" y="2492280"/>
            <a:ext cx="178920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CD4-9D5D-4CEA-86AD-5BB531650C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6: De kwaliteit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24000" y="1916280"/>
            <a:ext cx="8064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inhoud: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t voor werk doe je precie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, afwisselend, uitdagend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schillende t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External Image"/>
          <p:cNvPicPr/>
          <p:nvPr/>
        </p:nvPicPr>
        <p:blipFill>
          <a:blip r:embed="rId2"/>
          <a:stretch/>
        </p:blipFill>
        <p:spPr>
          <a:xfrm>
            <a:off x="250920" y="4653000"/>
            <a:ext cx="144144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0" y="5587920"/>
            <a:ext cx="806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e dingen in je arbeidscontra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veel loon, nwerktijden, vrijed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76360" y="4363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erhouding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 gaan de mensen met elkaar om op ‘t wer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e collega’s, aardige baa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je werkhouding goed? Netjes gekleed, kauwg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8000" y="3139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der welke omstandigheden werk i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nen, buiten, zwaar tillen, geestlijk zwaar, gevaarlijk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bowet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taat in waar de werkgevers zich aan moet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3311280" cy="174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xibel contr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en vaste aanstel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roepcontrac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2 jaa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0C3-5845-4D26-8C38-F087DBB0A4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4267080" cy="312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25621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329-B424-47DE-8F14-E6D264A6B1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276640"/>
            <a:ext cx="8064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 die je doet, betaald of onbet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s doen waar je geld (loon) voor krij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263700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kke band plakk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Helpen met k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outing leid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Voetbal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dwe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Kapsa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èc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Metsel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1FD-3477-4BBB-B227-53B3555CFD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37000"/>
            <a:ext cx="806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werken men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m geld te ver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or sociale conta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e krijgt waardering,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euwe dingen leren, jezelf ontwikk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937-A61B-46BA-B31A-359100338E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2637000"/>
            <a:ext cx="80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die staan in een contract, arbeidsovereenkomst, z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veel bruto loon je ontvan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functie je hebt: wat ga je precies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werktijden heb je: flexibel of vast, hoe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l vrije dagen in een ja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592-D364-45EB-9AF8-529B9C33AB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3700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o loon: je loon met nog alles erb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to loon: je loon als belasting en premies era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70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al je geen belasting, heb je geen arbeidscontract, dan werk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heb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en re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0536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Kees verdient 2000 Bruto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 moet dan nog € 250,- aan belasting en premies vanaf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j krijgt dan 1750 euro op zijn rekening gestort.= nettel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9C06-024C-4E47-B1C4-5AD00B5BFA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2: Werk e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1773360"/>
            <a:ext cx="658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ongelijkheid: macht en rijkdom 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us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250920" y="2095560"/>
            <a:ext cx="2592360" cy="4762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A15-BCBB-4F16-915F-0DDED22880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3: Met werk kom je v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349360"/>
            <a:ext cx="84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p de maatschappelijke ladder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816360" cy="313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0" y="3068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407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494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551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5E7-89B1-4683-96E4-4CC54C1C94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uld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eeds meer jongeren maken schul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 en schuld 3.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oorkom Schulden! 2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ulden, een discussie 25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77080" y="3357720"/>
            <a:ext cx="4886280" cy="27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714-F046-46F9-8714-F5CBC0E677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onts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461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tslag mag alleen met een goede re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 staande vo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zegterm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RK"/>
          <p:cNvPicPr/>
          <p:nvPr/>
        </p:nvPicPr>
        <p:blipFill>
          <a:blip r:embed="rId2"/>
          <a:stretch/>
        </p:blipFill>
        <p:spPr>
          <a:xfrm>
            <a:off x="6156360" y="328464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47640" y="2881440"/>
            <a:ext cx="734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gestolen h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dronken bent op je 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werk weigert te d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iemand mishandelt/intimid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640" y="5262480"/>
            <a:ext cx="532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als je zelf ontslag nee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niet goed function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het bedrijf failliet gaat/reorganis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8720" y="266544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EN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68720" y="498960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L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213000"/>
            <a:ext cx="215640" cy="165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5202360"/>
            <a:ext cx="216000" cy="165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CAF-71FF-411B-B624-8037E75029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6T12:30:31Z</dcterms:modified>
  <cp:revision>96</cp:revision>
  <dc:subject/>
  <dc:title>Dia 1</dc:title>
</cp:coreProperties>
</file>