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png" ContentType="image/png"/>
  <Override PartName="/ppt/media/image6.gif" ContentType="image/gif"/>
  <Override PartName="/ppt/media/image8.gif" ContentType="image/gif"/>
  <Override PartName="/ppt/media/image18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6.png" ContentType="image/png"/>
  <Override PartName="/ppt/media/image15.gif" ContentType="image/gif"/>
  <Override PartName="/ppt/media/image14.png" ContentType="image/png"/>
  <Override PartName="/ppt/media/image1.png" ContentType="image/png"/>
  <Override PartName="/ppt/media/image19.gif" ContentType="image/gif"/>
  <Override PartName="/ppt/media/image4.png" ContentType="image/png"/>
  <Override PartName="/ppt/media/image13.jpeg" ContentType="image/jpeg"/>
  <Override PartName="/ppt/media/image10.jpeg" ContentType="image/jpeg"/>
  <Override PartName="/ppt/media/image7.gif" ContentType="image/gi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11AB-5F9B-470E-8556-79A44AA76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A698-24F5-4AF4-BF41-1BF448BA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B663-72E7-4C08-8423-E04C8D480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F4BF-2632-4C8C-9569-C6338CDA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FF57-A311-4B31-9CA8-8AC5A8DA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B2F0-0C6C-4392-97D6-475B3D92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9CAE-51D2-49D1-95B1-E6DCDF48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7257-5526-4525-B180-7503D559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CABC-AA21-4B92-88EC-4D4D32D3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B3E6-F6C5-4849-98C9-F3A68586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2F83-FB91-4E6F-9A67-6CFB294B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0D7F-C7EF-4E01-9170-BA4E0E31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F0C3-FD3A-4167-88C6-B420958E861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ji9zaYR-5YQ" TargetMode="External"/><Relationship Id="rId3" Type="http://schemas.openxmlformats.org/officeDocument/2006/relationships/hyperlink" Target="http://www.youtube.com/watch?v=ByA1bmvhGto" TargetMode="External"/><Relationship Id="rId4" Type="http://schemas.openxmlformats.org/officeDocument/2006/relationships/hyperlink" Target="http://web.teleblik.kennisnet.nl/tsr/player/vo/fid/1681230" TargetMode="External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40720" y="333360"/>
            <a:ext cx="188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00000" y="1052640"/>
            <a:ext cx="5977080" cy="5267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00360" y="1052640"/>
            <a:ext cx="2484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6 t/m 1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A5B1-7838-4BDA-9C23-2084CD95E6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349360"/>
            <a:ext cx="80643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Hoe kom je weer aan we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lliciteren op Vac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twerken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met vrienden, famil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itzendbur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entrum voor Werk en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komen (CW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2791080" cy="357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6CDD-6B80-4852-A118-EF59021941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79930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: discrimin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335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ocht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148360" y="981000"/>
            <a:ext cx="3168720" cy="2484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24000" y="1052640"/>
            <a:ext cx="2881080" cy="2382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8360" y="335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aard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4960" y="3860640"/>
            <a:ext cx="2633760" cy="2808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340000" y="40766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ro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illustratie: Magda Rijs"/>
          <p:cNvPicPr/>
          <p:nvPr/>
        </p:nvPicPr>
        <p:blipFill>
          <a:blip r:embed="rId5"/>
          <a:stretch/>
        </p:blipFill>
        <p:spPr>
          <a:xfrm>
            <a:off x="5724360" y="3971880"/>
            <a:ext cx="2381400" cy="2886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635280" y="5805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eeftijd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CF31-8A24-4C5D-BF27-E1A8D77E9A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1765440" y="33300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349360"/>
            <a:ext cx="806436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elang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et voordeel dat je ergens 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ij hebt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je baas wil lage lonen geven (en dus meer winst overhouden. Jij wil veel verdienen: tegengestelde belang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elangengroep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komt op voor de belangen van een bepaalde groe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akbonden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komen op voor werknemers. Zorgen voor CAO’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ollectieve arbeidsovereenkomst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fspraken over lonen, vakantiedagen, pensioen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8419" t="0" r="6539" b="0"/>
          <a:stretch/>
        </p:blipFill>
        <p:spPr>
          <a:xfrm>
            <a:off x="5292720" y="404640"/>
            <a:ext cx="3598920" cy="250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D349-9A4C-4AD3-ACBF-86468883F3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5: De overheid helpt een han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635280" y="393372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56000" y="227664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2781360"/>
            <a:ext cx="4392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rknemers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278136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olks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3429000"/>
            <a:ext cx="36003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voor iedereen gel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belas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OW: ouderen pensio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KW:Kinderbijs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03640" y="3413160"/>
            <a:ext cx="39592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gelden voor werkne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premies door werknemer én werkg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W: als je werkloos wo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s je ziek wordt. 2 jaar lang 70% van je loon krij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A: als je arbeidsongeschikt word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1773360"/>
            <a:ext cx="8497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zorgingsstaat:overheid helpt de burgers als nodig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0DC7-5A51-4B1D-B664-C11D39EEB6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765440" y="33300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5: De overheid helpt een han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98900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ijstan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: als je geen verzekering krijgt, maar ook geen werk hebt of niet kan werken: bijsta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244680"/>
            <a:ext cx="806436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zorginsstaat = te duu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e veel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mensen hebben uitkering gekre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r komen steeds meer ouderen =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grijz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r komen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ezuinigingen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: minder snel uitkering,minder snel arbeidsongeschikt, strengere regels bij ziekte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timuleren van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werken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bedrijven minder belasting, meer vrouwen in deeltij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443640" y="2492280"/>
            <a:ext cx="1789200" cy="178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38DD-5581-4CD2-ADBC-69B95FBC95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6: De kwaliteit van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324000" y="1916280"/>
            <a:ext cx="806472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inhoud: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at voor werk doe je precies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uk, afwisselend, uitdagend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schillende ta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External Image"/>
          <p:cNvPicPr/>
          <p:nvPr/>
        </p:nvPicPr>
        <p:blipFill>
          <a:blip r:embed="rId2"/>
          <a:stretch/>
        </p:blipFill>
        <p:spPr>
          <a:xfrm>
            <a:off x="250920" y="4653000"/>
            <a:ext cx="1441440" cy="2060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40000" y="5587920"/>
            <a:ext cx="8064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voorwaarden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e dingen in je arbeidscontrac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eveel loon, nwerktijden, vrijed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76360" y="4363920"/>
            <a:ext cx="8064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verhoudingen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e gaan de mensen met elkaar om op ‘t werk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uke collega’s, aardige baas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 je werkhouding goed? Netjes gekleed, kauwg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08000" y="3139920"/>
            <a:ext cx="8064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omstandigheden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der welke omstandigheden werk ik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nen, buiten, zwaar tillen, geestlijk zwaar, gevaarlijk?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bowet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staat in waar de werkgevers zich aan moeten hou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1413000"/>
            <a:ext cx="3311280" cy="1747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lexibel contra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en vaste aanstelling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proepcontract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,2 jaar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FE8A-6A10-43F3-AC43-19A969C85F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cces met le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eb je hoger dan een 8.5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n iets lekker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2349360"/>
            <a:ext cx="8064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340000" y="3500280"/>
            <a:ext cx="4267080" cy="3124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0" y="476280"/>
            <a:ext cx="256212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195D-C176-4C14-8BB6-8B378540C6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2276640"/>
            <a:ext cx="80647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lle activiteiten die je doet, betaald of onbetaa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erk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ts doen waar je geld (loon) voor krij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865160" cy="1865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2637000"/>
            <a:ext cx="806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kke band plakke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Helpen met k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couting leidi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Voetbal tr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andwe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Kapsa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èch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Metsel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593D-EDE6-4BE5-A322-67EA366677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2637000"/>
            <a:ext cx="8064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arom werken mens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m geld te verdi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or sociale contac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e krijgt waardering,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ieuwe dingen leren, jezelf ontwikk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940360" y="1125360"/>
            <a:ext cx="2695680" cy="22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D54E-FD54-4076-BB39-5D0CBC4B36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865160" cy="1865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2637000"/>
            <a:ext cx="80643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voorwaar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spraken die staan in een contract, arbeidsovereenkomst, zo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eveel bruto loon je ontvang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functie je hebt: wat ga je precies do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werktijden heb je: flexibel of vast, hoel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tal vrije dagen in een ja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F357-4986-4921-A5AA-B26FCEA7B1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63700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to loon: je loon met nog alles erbi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to loon: je loon als belasting en premies eraf 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670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aal je geen belasting, heb je geen arbeidscontract, dan werk j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w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heb j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en recht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005360"/>
            <a:ext cx="84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: Kees verdient 2000 Bruto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ar moet dan nog € 250,- aan belasting en premies vanaf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j krijgt dan 1750 euro op zijn rekening gestort.= nettel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867280" y="620640"/>
            <a:ext cx="2695680" cy="22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2B91-AAA7-47B3-8BAA-618D51EDC8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2: Werk en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56000" y="1773360"/>
            <a:ext cx="6588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atschappelijke positi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e plaats die je in de samenleving inneemt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ciale ongelijkheid: macht en rijkdom = niet eerlijk verde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us heeft te maken m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22670" t="0" r="22904" b="0"/>
          <a:stretch/>
        </p:blipFill>
        <p:spPr>
          <a:xfrm>
            <a:off x="250920" y="2095560"/>
            <a:ext cx="2592360" cy="4762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806560" y="515772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anle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hebt: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06560" y="4653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enni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ie je nodig hebt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06560" y="414972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ch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hebt: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06560" y="6093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verdient: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06560" y="5661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kendhei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ie je hebt: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781C-9BE5-4D77-A20D-459A85AB97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3: Met werk kom je ve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349360"/>
            <a:ext cx="849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ijgen op de maatschappelijke ladder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ciale mobi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9640" y="3068640"/>
            <a:ext cx="3816360" cy="3130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0" y="306864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arom stijg je nu makkelijker dan vroeg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56000" y="407664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nger op school (niet werken als k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56000" y="494172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er vervolgopleid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56000" y="551664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iefinanciering: overheid stimuleert l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E922-B6FC-413D-9EAC-96CE3DB7CC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2349360"/>
            <a:ext cx="80643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Schulde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eeds meer jongeren maken schuld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ongeren en schuld 3.5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Voorkom Schulden! 2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chulden, een discussie 25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6877080" y="3357720"/>
            <a:ext cx="4886280" cy="27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8659-E3AC-4DE3-ADC2-FF0CE8A194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77560" y="1197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: onts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946160"/>
            <a:ext cx="8064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ntslag mag alleen met een goede re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p staande vo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pzegterm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WORK"/>
          <p:cNvPicPr/>
          <p:nvPr/>
        </p:nvPicPr>
        <p:blipFill>
          <a:blip r:embed="rId2"/>
          <a:stretch/>
        </p:blipFill>
        <p:spPr>
          <a:xfrm>
            <a:off x="6156360" y="3284640"/>
            <a:ext cx="2987640" cy="2239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47640" y="2881440"/>
            <a:ext cx="7345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gestolen h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dronken bent op je w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werk weigert te do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iemand mishandelt/intimide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7640" y="5262480"/>
            <a:ext cx="5329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als je zelf ontslag nee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niet goed functione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het bedrijf failliet gaat/reorganise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68720" y="2665440"/>
            <a:ext cx="122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EN recht op werkloo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id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itk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68720" y="4989600"/>
            <a:ext cx="122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L recht op werkloo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id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itk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3213000"/>
            <a:ext cx="215640" cy="1656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59280" y="5202360"/>
            <a:ext cx="216000" cy="1655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55DE-CB1E-4BE0-9CB5-2F0F1DE186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cls</cp:lastModifiedBy>
  <dcterms:modified xsi:type="dcterms:W3CDTF">2009-03-16T12:30:31Z</dcterms:modified>
  <cp:revision>96</cp:revision>
  <dc:subject/>
  <dc:title>Dia 1</dc:title>
</cp:coreProperties>
</file>