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5.gif" ContentType="image/gif"/>
  <Override PartName="/ppt/media/image18.png" ContentType="image/png"/>
  <Override PartName="/ppt/media/image22.gif" ContentType="image/gif"/>
  <Override PartName="/ppt/media/image15.png" ContentType="image/png"/>
  <Override PartName="/ppt/media/image20.gif" ContentType="image/gif"/>
  <Override PartName="/ppt/media/image13.png" ContentType="image/png"/>
  <Override PartName="/ppt/media/image17.png" ContentType="image/png"/>
  <Override PartName="/ppt/media/image24.gif" ContentType="image/gif"/>
  <Override PartName="/ppt/media/image16.png" ContentType="image/png"/>
  <Override PartName="/ppt/media/image23.gif" ContentType="image/gif"/>
  <Override PartName="/ppt/media/image21.gif" ContentType="image/gif"/>
  <Override PartName="/ppt/media/image14.png" ContentType="image/png"/>
  <Override PartName="/ppt/media/image19.gif" ContentType="image/gif"/>
  <Override PartName="/ppt/media/image1.png" ContentType="image/png"/>
  <Override PartName="/ppt/media/image2.jpeg" ContentType="image/jpeg"/>
  <Override PartName="/ppt/media/image36.jpeg" ContentType="image/jpeg"/>
  <Override PartName="/ppt/media/image30.jpeg" ContentType="image/jpeg"/>
  <Override PartName="/ppt/media/image12.gif" ContentType="image/gif"/>
  <Override PartName="/ppt/media/image32.png" ContentType="image/png"/>
  <Override PartName="/ppt/media/image28.jpeg" ContentType="image/jpeg"/>
  <Override PartName="/ppt/media/image37.png" ContentType="image/png"/>
  <Override PartName="/ppt/media/image34.jpeg" ContentType="image/jpeg"/>
  <Override PartName="/ppt/media/image44.gif" ContentType="image/gif"/>
  <Override PartName="/ppt/media/image39.gif" ContentType="image/gif"/>
  <Override PartName="/ppt/media/image40.png" ContentType="image/png"/>
  <Override PartName="/ppt/media/image9.jpeg" ContentType="image/jpeg"/>
  <Override PartName="/ppt/media/image31.jpeg" ContentType="image/jpeg"/>
  <Override PartName="/ppt/media/image41.png" ContentType="image/png"/>
  <Override PartName="/ppt/media/image43.gif" ContentType="image/gif"/>
  <Override PartName="/ppt/media/image46.png" ContentType="image/png"/>
  <Override PartName="/ppt/media/image45.png" ContentType="image/png"/>
  <Override PartName="/ppt/media/image42.gif" ContentType="image/gif"/>
  <Override PartName="/ppt/media/image10.png" ContentType="image/png"/>
  <Override PartName="/ppt/media/image27.jpeg" ContentType="image/jpeg"/>
  <Override PartName="/ppt/media/image38.png" ContentType="image/png"/>
  <Override PartName="/ppt/media/image8.png" ContentType="image/png"/>
  <Override PartName="/ppt/media/image7.jpeg" ContentType="image/jpeg"/>
  <Override PartName="/ppt/media/image35.gif" ContentType="image/gif"/>
  <Override PartName="/ppt/media/image5.gif" ContentType="image/gif"/>
  <Override PartName="/ppt/media/image11.gif" ContentType="image/gif"/>
  <Override PartName="/ppt/media/image6.gif" ContentType="image/gif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828F-A030-40A1-BBAF-81DF111A5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954D-5313-45F1-AE36-9253D0F6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644D-398B-4E49-A842-2BA6D1004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D193-0DFF-4A59-9D90-D2901B558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46BE-0F42-444E-B2CB-1EF4C555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3B87-7BD7-48E1-A4A5-BB5E7E92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9405-A43C-40C1-BD49-15737623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0DD9-0031-4465-9368-E1A5EE92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B702-40D0-47BF-837C-6D13A1B0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4743-0F78-400D-88E8-8F72DFFE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69F4-77C8-43FC-BCD5-EE1E53F1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71DC-10D0-4515-97FE-3A6FB0A1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FB3C-6198-414A-BC84-DE9CE29B99C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hyperlink" Target="http://www.sodahead.com/united-states/sodahead-slideshow-whos-the-biggest-wall-street-cheat/blog-326933/" TargetMode="External"/><Relationship Id="rId8" Type="http://schemas.openxmlformats.org/officeDocument/2006/relationships/image" Target="../media/image19.gif"/><Relationship Id="rId9" Type="http://schemas.openxmlformats.org/officeDocument/2006/relationships/image" Target="../media/image20.gif"/><Relationship Id="rId10" Type="http://schemas.openxmlformats.org/officeDocument/2006/relationships/image" Target="../media/image21.gi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27.jpe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lipartsalbum.nl/asp/cliparts.asp?Language=NL&amp;AreaCode=NL&amp;LCID=1043&amp;Source=Categories&amp;Subcategories_ID=53&amp;S=afrika" TargetMode="External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http://www.psychologiemagazine.nl/upload/d5c7564b-e25d-4acb-b0aa-fd5737d8a69f_relaties%20rond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187280" y="404640"/>
            <a:ext cx="6121440" cy="6262920"/>
          </a:xfrm>
          <a:prstGeom prst="rect">
            <a:avLst/>
          </a:prstGeom>
          <a:ln w="0">
            <a:noFill/>
          </a:ln>
        </p:spPr>
      </p:pic>
      <p:sp>
        <p:nvSpPr>
          <p:cNvPr id="4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CA15-2927-49A2-82A0-A53DFC5441B8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§ 1: Met elkaar omga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1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§ 2: Verliefd, verloofd, getrouwd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1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§ 3: Als de relatie stukloop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1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§ 4: Samen of alleen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1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§ -: Soms loopt het ander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1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7"/>
          <p:cNvSpPr/>
          <p:nvPr/>
        </p:nvSpPr>
        <p:spPr>
          <a:xfrm>
            <a:off x="1116000" y="6922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ofdstuk: Relaties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2DA5-C7ED-4F42-8905-E9BCC70D0A5C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95280" y="907920"/>
            <a:ext cx="850752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reemdgaan: Wat vind jij dat ma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or jezelf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Voor de partn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itgaan met een a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oenen met een a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rijen met een a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Tekstvak 5"/>
          <p:cNvGrpSpPr/>
          <p:nvPr/>
        </p:nvGrpSpPr>
        <p:grpSpPr>
          <a:xfrm>
            <a:off x="378000" y="3840120"/>
            <a:ext cx="2116080" cy="493920"/>
            <a:chOff x="378000" y="3840120"/>
            <a:chExt cx="2116080" cy="493920"/>
          </a:xfrm>
        </p:grpSpPr>
        <p:pic>
          <p:nvPicPr>
            <p:cNvPr id="90" name="Tekstvak 5" descr=""/>
            <p:cNvPicPr/>
            <p:nvPr/>
          </p:nvPicPr>
          <p:blipFill>
            <a:blip r:embed="rId1"/>
            <a:stretch/>
          </p:blipFill>
          <p:spPr>
            <a:xfrm>
              <a:off x="378000" y="3840120"/>
              <a:ext cx="2116080" cy="4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395280" y="3860640"/>
              <a:ext cx="20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91,1%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Tekstvak 7"/>
          <p:cNvGrpSpPr/>
          <p:nvPr/>
        </p:nvGrpSpPr>
        <p:grpSpPr>
          <a:xfrm>
            <a:off x="1311120" y="4419720"/>
            <a:ext cx="1182960" cy="493560"/>
            <a:chOff x="1311120" y="4419720"/>
            <a:chExt cx="1182960" cy="493560"/>
          </a:xfrm>
        </p:grpSpPr>
        <p:pic>
          <p:nvPicPr>
            <p:cNvPr id="93" name="Tekstvak 7" descr=""/>
            <p:cNvPicPr/>
            <p:nvPr/>
          </p:nvPicPr>
          <p:blipFill>
            <a:blip r:embed="rId2"/>
            <a:stretch/>
          </p:blipFill>
          <p:spPr>
            <a:xfrm>
              <a:off x="1311120" y="4419720"/>
              <a:ext cx="118296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1332000" y="443700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39,8%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Tekstvak 8"/>
          <p:cNvGrpSpPr/>
          <p:nvPr/>
        </p:nvGrpSpPr>
        <p:grpSpPr>
          <a:xfrm>
            <a:off x="1603440" y="4992840"/>
            <a:ext cx="890640" cy="433080"/>
            <a:chOff x="1603440" y="4992840"/>
            <a:chExt cx="890640" cy="433080"/>
          </a:xfrm>
        </p:grpSpPr>
        <p:pic>
          <p:nvPicPr>
            <p:cNvPr id="96" name="Tekstvak 8" descr=""/>
            <p:cNvPicPr/>
            <p:nvPr/>
          </p:nvPicPr>
          <p:blipFill>
            <a:blip r:embed="rId3"/>
            <a:stretch/>
          </p:blipFill>
          <p:spPr>
            <a:xfrm>
              <a:off x="1603440" y="4992840"/>
              <a:ext cx="890640" cy="4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619280" y="5013360"/>
              <a:ext cx="8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17 %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Tekstvak 9"/>
          <p:cNvGrpSpPr/>
          <p:nvPr/>
        </p:nvGrpSpPr>
        <p:grpSpPr>
          <a:xfrm>
            <a:off x="6784920" y="5065560"/>
            <a:ext cx="609480" cy="401760"/>
            <a:chOff x="6784920" y="5065560"/>
            <a:chExt cx="609480" cy="401760"/>
          </a:xfrm>
        </p:grpSpPr>
        <p:pic>
          <p:nvPicPr>
            <p:cNvPr id="99" name="Tekstvak 9" descr=""/>
            <p:cNvPicPr/>
            <p:nvPr/>
          </p:nvPicPr>
          <p:blipFill>
            <a:blip r:embed="rId4"/>
            <a:stretch/>
          </p:blipFill>
          <p:spPr>
            <a:xfrm>
              <a:off x="6784920" y="5065560"/>
              <a:ext cx="60948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6804000" y="5084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1%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Tekstvak 10"/>
          <p:cNvGrpSpPr/>
          <p:nvPr/>
        </p:nvGrpSpPr>
        <p:grpSpPr>
          <a:xfrm>
            <a:off x="6784920" y="4492800"/>
            <a:ext cx="822240" cy="396720"/>
            <a:chOff x="6784920" y="4492800"/>
            <a:chExt cx="822240" cy="396720"/>
          </a:xfrm>
        </p:grpSpPr>
        <p:pic>
          <p:nvPicPr>
            <p:cNvPr id="102" name="Tekstvak 10" descr=""/>
            <p:cNvPicPr/>
            <p:nvPr/>
          </p:nvPicPr>
          <p:blipFill>
            <a:blip r:embed="rId5"/>
            <a:stretch/>
          </p:blipFill>
          <p:spPr>
            <a:xfrm>
              <a:off x="6784920" y="4492800"/>
              <a:ext cx="8222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6804000" y="45086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9 %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Tekstvak 11"/>
          <p:cNvGrpSpPr/>
          <p:nvPr/>
        </p:nvGrpSpPr>
        <p:grpSpPr>
          <a:xfrm>
            <a:off x="6784920" y="3913200"/>
            <a:ext cx="1762200" cy="493560"/>
            <a:chOff x="6784920" y="3913200"/>
            <a:chExt cx="1762200" cy="493560"/>
          </a:xfrm>
        </p:grpSpPr>
        <p:pic>
          <p:nvPicPr>
            <p:cNvPr id="105" name="Tekstvak 11" descr=""/>
            <p:cNvPicPr/>
            <p:nvPr/>
          </p:nvPicPr>
          <p:blipFill>
            <a:blip r:embed="rId6"/>
            <a:stretch/>
          </p:blipFill>
          <p:spPr>
            <a:xfrm>
              <a:off x="6784920" y="3913200"/>
              <a:ext cx="176220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804000" y="393372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62%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Picture 24" descr="http://i223.photobucket.com/albums/dd54/Kylepotvin95/kick.gi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059280" y="1773360"/>
            <a:ext cx="2592360" cy="2125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6" descr="http://i1.glitter-graphics.org/pub/72/72811rmag856ydm.gif"/>
          <p:cNvPicPr/>
          <p:nvPr/>
        </p:nvPicPr>
        <p:blipFill>
          <a:blip r:embed="rId9"/>
          <a:stretch/>
        </p:blipFill>
        <p:spPr>
          <a:xfrm>
            <a:off x="6156360" y="2492280"/>
            <a:ext cx="1655640" cy="1192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8" descr="http://www.jongingestel.nl/fckeditor/editor/images/smiley/msn/hug.gif"/>
          <p:cNvPicPr/>
          <p:nvPr/>
        </p:nvPicPr>
        <p:blipFill>
          <a:blip r:embed="rId10"/>
          <a:stretch/>
        </p:blipFill>
        <p:spPr>
          <a:xfrm>
            <a:off x="539640" y="2565360"/>
            <a:ext cx="22989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B1F1-4080-42C1-82F5-1FBA47755A89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2: Verliefd, verloofd, getrouw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14716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 gelukkigste dag van mijn leven”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ar ook rechten en plicht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 elkaar bijstaan en help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 mee betalen aan huishoudko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 kinderen verzorgen en opvoe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Ouderlijk gezag: wettelijke plicht om je kind op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 voeden en te verzorgen. Tot je 18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ok dingen verbieden (tatoeage, bromm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 Financieel gezag: kosten van een kind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talen. Tot je 21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leuke en gratis Liefde animaties"/>
          <p:cNvPicPr/>
          <p:nvPr/>
        </p:nvPicPr>
        <p:blipFill>
          <a:blip r:embed="rId1"/>
          <a:stretch/>
        </p:blipFill>
        <p:spPr>
          <a:xfrm>
            <a:off x="6407280" y="692280"/>
            <a:ext cx="2736720" cy="30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A5A1-3BE6-4A77-891A-C81385B9BB5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2: Verliefd, verloofd, getrouw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147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nneer mag je trouwen?4 belangrijke eis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 je nog niet getrouwd bent (dus niet met meer dan 1 perso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 moet weten wat je doet (niet dronken, onder dru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erderjarig zijn. (jonger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lleen als het meisje zwanger is + 16/17 jaar + toestemming oud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et trouwen met familie (neef/nicht mag we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leuke en gratis Liefde animaties"/>
          <p:cNvPicPr/>
          <p:nvPr/>
        </p:nvPicPr>
        <p:blipFill>
          <a:blip r:embed="rId1"/>
          <a:stretch/>
        </p:blipFill>
        <p:spPr>
          <a:xfrm>
            <a:off x="7236000" y="4762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leuke en gratis Liefde animaties"/>
          <p:cNvPicPr/>
          <p:nvPr/>
        </p:nvPicPr>
        <p:blipFill>
          <a:blip r:embed="rId2"/>
          <a:stretch/>
        </p:blipFill>
        <p:spPr>
          <a:xfrm>
            <a:off x="7524720" y="3490920"/>
            <a:ext cx="129528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6" descr="leuke en gratis Liefde animaties"/>
          <p:cNvPicPr/>
          <p:nvPr/>
        </p:nvPicPr>
        <p:blipFill>
          <a:blip r:embed="rId1"/>
          <a:stretch/>
        </p:blipFill>
        <p:spPr>
          <a:xfrm>
            <a:off x="684360" y="1413000"/>
            <a:ext cx="1942920" cy="2574720"/>
          </a:xfrm>
          <a:prstGeom prst="rect">
            <a:avLst/>
          </a:prstGeom>
          <a:ln w="0">
            <a:noFill/>
          </a:ln>
        </p:spPr>
      </p:pic>
      <p:sp>
        <p:nvSpPr>
          <p:cNvPr id="12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DB05-E201-4AA5-A582-D7D479D432E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§ 3: Samen of allee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147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gen zij trouw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6443640" y="1628640"/>
            <a:ext cx="2019240" cy="2114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http://t2.gstatic.com/images?q=tbn:soqufzbALk8FeM:http://api.ning.com/files/IQj5U-1bKx6qtLyTeZ8ss1o6tt*GobFuJ6HXoJF6u6aoV2oEsZPMNvmXadHmebSG6VnitchwRNNpw89mpchcLZgJ6aIm6Uw1/banmarriagebig.gif&amp;t=1"/>
          <p:cNvPicPr/>
          <p:nvPr/>
        </p:nvPicPr>
        <p:blipFill>
          <a:blip r:embed="rId3"/>
          <a:stretch/>
        </p:blipFill>
        <p:spPr>
          <a:xfrm>
            <a:off x="611280" y="15573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"/>
          <p:cNvPicPr/>
          <p:nvPr/>
        </p:nvPicPr>
        <p:blipFill>
          <a:blip r:embed="rId4"/>
          <a:stretch/>
        </p:blipFill>
        <p:spPr>
          <a:xfrm>
            <a:off x="468360" y="4321080"/>
            <a:ext cx="2298600" cy="2536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http://www.haarlemsdagblad.nl/multimedia/dynamic/01706/contracorriente_1706051j.jpg"/>
          <p:cNvPicPr/>
          <p:nvPr/>
        </p:nvPicPr>
        <p:blipFill>
          <a:blip r:embed="rId5"/>
          <a:srcRect l="13287" t="1904" r="17317" b="-914"/>
          <a:stretch/>
        </p:blipFill>
        <p:spPr>
          <a:xfrm>
            <a:off x="3348000" y="1628640"/>
            <a:ext cx="2016000" cy="2230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http://t2.gstatic.com/images?q=tbn:-JW2iZH6LHDylM:http://effatha0.punt.nl/upload/Johan_van_Arkel.jpg&amp;t=1"/>
          <p:cNvPicPr/>
          <p:nvPr/>
        </p:nvPicPr>
        <p:blipFill>
          <a:blip r:embed="rId6"/>
          <a:srcRect l="0" t="0" r="40157" b="0"/>
          <a:stretch/>
        </p:blipFill>
        <p:spPr>
          <a:xfrm>
            <a:off x="3203640" y="4437000"/>
            <a:ext cx="2520720" cy="2246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http://estb.msn.com/i/BE/A79E5521BDD84E9BF434F09781D3B2.jpg"/>
          <p:cNvPicPr/>
          <p:nvPr/>
        </p:nvPicPr>
        <p:blipFill>
          <a:blip r:embed="rId7"/>
          <a:srcRect l="22182" t="-315" r="6143" b="61268"/>
          <a:stretch/>
        </p:blipFill>
        <p:spPr>
          <a:xfrm>
            <a:off x="6227640" y="4437000"/>
            <a:ext cx="2732040" cy="2016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http://t2.gstatic.com/images?q=tbn:soqufzbALk8FeM:http://api.ning.com/files/IQj5U-1bKx6qtLyTeZ8ss1o6tt*GobFuJ6HXoJF6u6aoV2oEsZPMNvmXadHmebSG6VnitchwRNNpw89mpchcLZgJ6aIm6Uw1/banmarriagebig.gif&amp;t=1"/>
          <p:cNvPicPr/>
          <p:nvPr/>
        </p:nvPicPr>
        <p:blipFill>
          <a:blip r:embed="rId8"/>
          <a:stretch/>
        </p:blipFill>
        <p:spPr>
          <a:xfrm>
            <a:off x="6372360" y="1628640"/>
            <a:ext cx="2143080" cy="2143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http://t2.gstatic.com/images?q=tbn:soqufzbALk8FeM:http://api.ning.com/files/IQj5U-1bKx6qtLyTeZ8ss1o6tt*GobFuJ6HXoJF6u6aoV2oEsZPMNvmXadHmebSG6VnitchwRNNpw89mpchcLZgJ6aIm6Uw1/banmarriagebig.gif&amp;t=1"/>
          <p:cNvPicPr/>
          <p:nvPr/>
        </p:nvPicPr>
        <p:blipFill>
          <a:blip r:embed="rId9"/>
          <a:stretch/>
        </p:blipFill>
        <p:spPr>
          <a:xfrm>
            <a:off x="3203640" y="422100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§ 2: Verliefd, verloofd, getrouw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ffffff"/>
                </a:solidFill>
                <a:latin typeface="Arial"/>
              </a:rPr>
              <a:t>Emancipati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Vroeger was de vrouw: huisvrouw en moeder, geen stemrecht, geen stud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- Vrouwen niet meer tevreden: ook werken, ook studeren en stemrecht sinds 1919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E3C7-6053-4826-9D61-7765F479955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2050920" y="3860640"/>
            <a:ext cx="39038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7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77A3-06C9-4963-B952-98327234D81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0" y="681120"/>
            <a:ext cx="914400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9703-3F23-4E31-9691-5D79D9279F62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3: Als de relatie stukloo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147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s je ouders gaan schei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ullen ver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imentatie betalen (maandelijks een geldbedr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nderalimentatie: betaalt de ouder die de kinderen niet verzorgt aan de andere ouder tot 21 jaar oud zij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alimentatie: betalen als je inkomen veel hoger is dan die van je ex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mgangsregeling voor de kinderen: ouderlijkgezag bij 1 ou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-ouderschap: kinderen blijven deels bij de ene ouder, deels bij de ander. Ouderlijkgezag verdee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http://www.gelderlander.nl/multimedia/archive/00273/echtscheiding_273568b.jpg"/>
          <p:cNvPicPr/>
          <p:nvPr/>
        </p:nvPicPr>
        <p:blipFill>
          <a:blip r:embed="rId1"/>
          <a:stretch/>
        </p:blipFill>
        <p:spPr>
          <a:xfrm>
            <a:off x="7236000" y="5370480"/>
            <a:ext cx="162072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4F00-DB93-48D9-98F3-241329A747BE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3: Als de relatie stukloo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147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s jullie het niet eens wor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chter bes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ind beslist als hij 12 jaar of ouder i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eindbeslissing is voor de rech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http://www.gelderlander.nl/multimedia/archive/00273/echtscheiding_273568b.jpg"/>
          <p:cNvPicPr/>
          <p:nvPr/>
        </p:nvPicPr>
        <p:blipFill>
          <a:blip r:embed="rId1"/>
          <a:stretch/>
        </p:blipFill>
        <p:spPr>
          <a:xfrm>
            <a:off x="5881680" y="3716280"/>
            <a:ext cx="297504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9E1A-F54E-4965-AD6D-41CD1AB8F6E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3: Als de relatie stukloo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n wie is het ge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rouwen in algehele gemeenschap van goedere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e bezittingen, geld én schulden, van beide partners sa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j scheiding: ieder krijgt 50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welijkse voorwaar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 het moment van trouwen bij een notaris vast leggen wat van wie is. Bij scheiding: je krijgt wat van jou 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kstvak 4"/>
          <p:cNvSpPr/>
          <p:nvPr/>
        </p:nvSpPr>
        <p:spPr>
          <a:xfrm>
            <a:off x="250920" y="3068640"/>
            <a:ext cx="1152360" cy="461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kstvak 5"/>
          <p:cNvSpPr/>
          <p:nvPr/>
        </p:nvSpPr>
        <p:spPr>
          <a:xfrm>
            <a:off x="2484360" y="5373720"/>
            <a:ext cx="1150920" cy="461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kstvak 6"/>
          <p:cNvSpPr/>
          <p:nvPr/>
        </p:nvSpPr>
        <p:spPr>
          <a:xfrm>
            <a:off x="179280" y="5373720"/>
            <a:ext cx="1152720" cy="461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kstvak 7"/>
          <p:cNvSpPr/>
          <p:nvPr/>
        </p:nvSpPr>
        <p:spPr>
          <a:xfrm>
            <a:off x="250920" y="3716280"/>
            <a:ext cx="1152360" cy="461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kstvak 8"/>
          <p:cNvSpPr/>
          <p:nvPr/>
        </p:nvSpPr>
        <p:spPr>
          <a:xfrm>
            <a:off x="2700360" y="3357720"/>
            <a:ext cx="1150920" cy="4600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kstvak 9"/>
          <p:cNvSpPr/>
          <p:nvPr/>
        </p:nvSpPr>
        <p:spPr>
          <a:xfrm>
            <a:off x="179280" y="6093000"/>
            <a:ext cx="1152720" cy="461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kstvak 10"/>
          <p:cNvSpPr/>
          <p:nvPr/>
        </p:nvSpPr>
        <p:spPr>
          <a:xfrm>
            <a:off x="2484360" y="6093000"/>
            <a:ext cx="1150920" cy="461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IJL-RECHTS 11"/>
          <p:cNvSpPr/>
          <p:nvPr/>
        </p:nvSpPr>
        <p:spPr>
          <a:xfrm>
            <a:off x="1547640" y="5516640"/>
            <a:ext cx="863640" cy="216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IJL-RECHTS 12"/>
          <p:cNvSpPr/>
          <p:nvPr/>
        </p:nvSpPr>
        <p:spPr>
          <a:xfrm>
            <a:off x="1547640" y="6237360"/>
            <a:ext cx="863640" cy="216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IJL-RECHTS 13"/>
          <p:cNvSpPr/>
          <p:nvPr/>
        </p:nvSpPr>
        <p:spPr>
          <a:xfrm rot="1484400">
            <a:off x="1391760" y="3252600"/>
            <a:ext cx="1265400" cy="20952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IJL-RECHTS 14"/>
          <p:cNvSpPr/>
          <p:nvPr/>
        </p:nvSpPr>
        <p:spPr>
          <a:xfrm rot="20759400">
            <a:off x="1409760" y="3795480"/>
            <a:ext cx="1266840" cy="209520"/>
          </a:xfrm>
          <a:prstGeom prst="rightArrow">
            <a:avLst>
              <a:gd name="adj1" fmla="val 50000"/>
              <a:gd name="adj2" fmla="val 50079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leuke en gratis Liefde animaties"/>
          <p:cNvPicPr/>
          <p:nvPr/>
        </p:nvPicPr>
        <p:blipFill>
          <a:blip r:embed="rId1"/>
          <a:stretch/>
        </p:blipFill>
        <p:spPr>
          <a:xfrm>
            <a:off x="5867280" y="2852640"/>
            <a:ext cx="21607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6E72-D512-4E30-ACF9-24067177F1BB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814680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arom schei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roeger ni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k keurde het a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iet genoeg welvaart om op jezelf te w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 w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igen financiele middellen/ economisch onafhankel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efde is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standshuwelij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j elkaar blijven voor de kinderen of voor het g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ar niet meer van elkaar hou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http://www.math4all.nl/MathAdoreOpgaven/Images/va-fa15-op5-t1.jpg"/>
          <p:cNvPicPr/>
          <p:nvPr/>
        </p:nvPicPr>
        <p:blipFill>
          <a:blip r:embed="rId1"/>
          <a:srcRect l="0" t="29990" r="34202" b="39497"/>
          <a:stretch/>
        </p:blipFill>
        <p:spPr>
          <a:xfrm>
            <a:off x="1763640" y="4400640"/>
            <a:ext cx="5472360" cy="2457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http://www.maineiac.com/marriage/divorce_settlement_pic.gif"/>
          <p:cNvPicPr/>
          <p:nvPr/>
        </p:nvPicPr>
        <p:blipFill>
          <a:blip r:embed="rId2"/>
          <a:srcRect l="4344" t="6080" r="10209" b="0"/>
          <a:stretch/>
        </p:blipFill>
        <p:spPr>
          <a:xfrm>
            <a:off x="6834240" y="836640"/>
            <a:ext cx="2309760" cy="18144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350D-38BA-4171-B0E8-F0CB7DEACE52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oet bijna nooit iets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écht all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 klein kind ben j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hankelijk van je ou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oefte aan vri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efdes relatie krij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 je werk collega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s je bent als mens:            ……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kstvak 9"/>
          <p:cNvSpPr/>
          <p:nvPr/>
        </p:nvSpPr>
        <p:spPr>
          <a:xfrm>
            <a:off x="5580000" y="5661000"/>
            <a:ext cx="1944720" cy="550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Sociaal!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http://noplacelikehome.punt.nl/upload/friendship_quote_graphic_c2.gif"/>
          <p:cNvPicPr/>
          <p:nvPr/>
        </p:nvPicPr>
        <p:blipFill>
          <a:blip r:embed="rId1"/>
          <a:stretch/>
        </p:blipFill>
        <p:spPr>
          <a:xfrm>
            <a:off x="5580000" y="1413000"/>
            <a:ext cx="298764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783A-EF70-4E80-909C-5C779DC28215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3: Als de relatie stukloo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312560"/>
            <a:ext cx="8424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arom schei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Grafiek 5" descr=""/>
          <p:cNvPicPr/>
          <p:nvPr/>
        </p:nvPicPr>
        <p:blipFill>
          <a:blip r:embed="rId1"/>
          <a:stretch/>
        </p:blipFill>
        <p:spPr>
          <a:xfrm>
            <a:off x="971640" y="1919160"/>
            <a:ext cx="7315200" cy="4938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leuke en gratis Liefde animaties"/>
          <p:cNvPicPr/>
          <p:nvPr/>
        </p:nvPicPr>
        <p:blipFill>
          <a:blip r:embed="rId2"/>
          <a:stretch/>
        </p:blipFill>
        <p:spPr>
          <a:xfrm>
            <a:off x="7164360" y="119700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E74C-85C6-4622-9F94-072404E88FBC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3: Als de relatie stukloo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14716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ar gaan de kinderen wonen na een schei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arom denk je dat dit zo 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Grafiek 4" descr=""/>
          <p:cNvPicPr/>
          <p:nvPr/>
        </p:nvPicPr>
        <p:blipFill>
          <a:blip r:embed="rId1"/>
          <a:stretch/>
        </p:blipFill>
        <p:spPr>
          <a:xfrm>
            <a:off x="519120" y="2327400"/>
            <a:ext cx="4649760" cy="4003560"/>
          </a:xfrm>
          <a:prstGeom prst="rect">
            <a:avLst/>
          </a:prstGeom>
          <a:ln w="0">
            <a:noFill/>
          </a:ln>
        </p:spPr>
      </p:pic>
      <p:pic>
        <p:nvPicPr>
          <p:cNvPr id="176" name="Grafiek 5" descr=""/>
          <p:cNvPicPr/>
          <p:nvPr/>
        </p:nvPicPr>
        <p:blipFill>
          <a:blip r:embed="rId2"/>
          <a:stretch/>
        </p:blipFill>
        <p:spPr>
          <a:xfrm>
            <a:off x="4478400" y="2184480"/>
            <a:ext cx="517824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C094-7A0B-4D75-A626-2735A6E7C06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6770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t denk en voel je als kind na een schei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 Moet ik bij mijn vader of moeder won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12 jaar en ouder beslist samen met rech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jonger dan 1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je kan wel naar de rechter t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 Zal ik weglop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jeughulpverlening kan bemid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ia bureau jeugdzorg naar een pleeggez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naar een wegloop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huis speciaal voor islamitische meisjes of jon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 Wil ik op mezelf won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ot je 18e jaar heb je toestemming no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begeleid-kamer-wonen of kamertrain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oet inkomen hebb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http://www.iqeneq.nl/attachments/Image/boos.gif"/>
          <p:cNvPicPr/>
          <p:nvPr/>
        </p:nvPicPr>
        <p:blipFill>
          <a:blip r:embed="rId1"/>
          <a:stretch/>
        </p:blipFill>
        <p:spPr>
          <a:xfrm>
            <a:off x="6875640" y="1805040"/>
            <a:ext cx="2268360" cy="22669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98F8-24F4-41FC-8E91-38B6D556D8BA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4: Samen of allee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147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e kan je liefdesleven eruit zi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welijk (en gez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t-relatie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ving Apart Together: wel vaste relatie, niet samenw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schei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epsw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et een hele groep in 1 huis w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eenstaande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teeds meer mensen: individualisering. Men is economisch onafhankelij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nwonene + samenlevings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leuke en gratis Liefde animaties"/>
          <p:cNvPicPr/>
          <p:nvPr/>
        </p:nvPicPr>
        <p:blipFill>
          <a:blip r:embed="rId1"/>
          <a:stretch/>
        </p:blipFill>
        <p:spPr>
          <a:xfrm>
            <a:off x="6948360" y="-243000"/>
            <a:ext cx="1800360" cy="27608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leuke en gratis Liefde animaties"/>
          <p:cNvPicPr/>
          <p:nvPr/>
        </p:nvPicPr>
        <p:blipFill>
          <a:blip r:embed="rId2"/>
          <a:stretch/>
        </p:blipFill>
        <p:spPr>
          <a:xfrm>
            <a:off x="0" y="5089680"/>
            <a:ext cx="197964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00A4-49EF-4337-BD73-C4F5F22CDED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4: Samen of allee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zinn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ard gezin: vader, moeder, broer(s) of zus(s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adopte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et je biologische ou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nd binnen een homohuwe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iefou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eegou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en-oudergez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ogde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meestal een bekende, kan ook maatschappelijk werker zij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http://www.smitvernooij.nl/images/BordScheidenopmaat.gif"/>
          <p:cNvPicPr/>
          <p:nvPr/>
        </p:nvPicPr>
        <p:blipFill>
          <a:blip r:embed="rId1"/>
          <a:stretch/>
        </p:blipFill>
        <p:spPr>
          <a:xfrm>
            <a:off x="5364000" y="26370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aal je een 8.5 of hoger…traktat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DB1D-1E50-419D-A887-3D09B8C568A0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http://4.bp.blogspot.com/_Qd3OP89xEQU/Rnj7feykZ3I/AAAAAAAAACE/po8iv7OKfSM/s400/theEnd.gif"/>
          <p:cNvPicPr/>
          <p:nvPr/>
        </p:nvPicPr>
        <p:blipFill>
          <a:blip r:embed="rId1"/>
          <a:stretch/>
        </p:blipFill>
        <p:spPr>
          <a:xfrm>
            <a:off x="1979640" y="1413000"/>
            <a:ext cx="50403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0531-879C-438B-B179-86FE65156E96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ar denk je aan bij het woor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Tekstvak 9"/>
          <p:cNvGrpSpPr/>
          <p:nvPr/>
        </p:nvGrpSpPr>
        <p:grpSpPr>
          <a:xfrm>
            <a:off x="2828880" y="2981160"/>
            <a:ext cx="3121200" cy="584280"/>
            <a:chOff x="2828880" y="2981160"/>
            <a:chExt cx="3121200" cy="584280"/>
          </a:xfrm>
        </p:grpSpPr>
        <p:pic>
          <p:nvPicPr>
            <p:cNvPr id="54" name="Tekstvak 9" descr=""/>
            <p:cNvPicPr/>
            <p:nvPr/>
          </p:nvPicPr>
          <p:blipFill>
            <a:blip r:embed="rId1"/>
            <a:stretch/>
          </p:blipFill>
          <p:spPr>
            <a:xfrm>
              <a:off x="2828880" y="2981160"/>
              <a:ext cx="312120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843280" y="2997360"/>
              <a:ext cx="30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Arial"/>
                </a:rPr>
                <a:t>Relaties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2E70-8A30-4A9A-9365-C7886BEB978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soorten rela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onlijke relat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riendschap en lief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b je met vrienden, familie,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ele rel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en onderlinge verplichtende afspr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woon jezelf 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W.I.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2421000"/>
            <a:ext cx="1758960" cy="244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leuke en gratis Liefde animaties"/>
          <p:cNvPicPr/>
          <p:nvPr/>
        </p:nvPicPr>
        <p:blipFill>
          <a:blip r:embed="rId3"/>
          <a:stretch/>
        </p:blipFill>
        <p:spPr>
          <a:xfrm>
            <a:off x="395280" y="5013360"/>
            <a:ext cx="13716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2C21-D263-4D79-A39F-FC7150A8AF1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soorten rela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kelijke relat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angen of verplicht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b je met leraar, sporttrainer, ba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ele relatie: taken en bevoegd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derlinge verplichtende adspr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voelens minder belangr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een heeft meer macht dan de ander: machtsversch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http://t0.gstatic.com/images?q=tbn:hmFsyCarMEv9SM:b"/>
          <p:cNvPicPr/>
          <p:nvPr/>
        </p:nvPicPr>
        <p:blipFill>
          <a:blip r:embed="rId1"/>
          <a:stretch/>
        </p:blipFill>
        <p:spPr>
          <a:xfrm>
            <a:off x="6516720" y="1125360"/>
            <a:ext cx="20876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0A94-C08B-4E18-8940-A690E0E92649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onlijk- of zakelijke relat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www.kleurplatenwereld.nl/kleurplaten/sporten/voetbal-trainer.gif"/>
          <p:cNvPicPr/>
          <p:nvPr/>
        </p:nvPicPr>
        <p:blipFill>
          <a:blip r:embed="rId1"/>
          <a:stretch/>
        </p:blipFill>
        <p:spPr>
          <a:xfrm>
            <a:off x="250920" y="1844640"/>
            <a:ext cx="2622600" cy="2664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://www.gnoe.nu/wp-content/uploads/2009/05/ouders-van-nu-300x272.jpg"/>
          <p:cNvPicPr/>
          <p:nvPr/>
        </p:nvPicPr>
        <p:blipFill>
          <a:blip r:embed="rId2"/>
          <a:stretch/>
        </p:blipFill>
        <p:spPr>
          <a:xfrm>
            <a:off x="3059280" y="3068640"/>
            <a:ext cx="2857320" cy="2590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http://www.goedemorgenontbijtservice.nl/specialeontbijten/images/secretaresse.gif"/>
          <p:cNvPicPr/>
          <p:nvPr/>
        </p:nvPicPr>
        <p:blipFill>
          <a:blip r:embed="rId3"/>
          <a:srcRect l="6776" t="0" r="7376" b="0"/>
          <a:stretch/>
        </p:blipFill>
        <p:spPr>
          <a:xfrm>
            <a:off x="6156360" y="1700280"/>
            <a:ext cx="2736720" cy="2579760"/>
          </a:xfrm>
          <a:prstGeom prst="rect">
            <a:avLst/>
          </a:prstGeom>
          <a:ln w="0">
            <a:noFill/>
          </a:ln>
        </p:spPr>
      </p:pic>
      <p:sp>
        <p:nvSpPr>
          <p:cNvPr id="71" name="Tekstvak 7"/>
          <p:cNvSpPr/>
          <p:nvPr/>
        </p:nvSpPr>
        <p:spPr>
          <a:xfrm>
            <a:off x="395280" y="4797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Zakelij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kstvak 8"/>
          <p:cNvSpPr/>
          <p:nvPr/>
        </p:nvSpPr>
        <p:spPr>
          <a:xfrm>
            <a:off x="3276720" y="573264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ersoonlij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kstvak 9"/>
          <p:cNvSpPr/>
          <p:nvPr/>
        </p:nvSpPr>
        <p:spPr>
          <a:xfrm>
            <a:off x="6516720" y="443700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Zakelij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87D1-E50A-46C2-B28C-64EF946FF805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sen hebben verwachtingen bij rela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t is spann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liefd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im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ksuele moraal: hoe je over seks den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wel of geen seks voor het huwelij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leuke en gratis Liefde animaties"/>
          <p:cNvPicPr/>
          <p:nvPr/>
        </p:nvPicPr>
        <p:blipFill>
          <a:blip r:embed="rId1"/>
          <a:stretch/>
        </p:blipFill>
        <p:spPr>
          <a:xfrm>
            <a:off x="3419640" y="4869000"/>
            <a:ext cx="158400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eksueel moraal: hoe je over seks den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eks voor het huwel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reemdgaan moet ku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ubbele moraal: andere normen voor jongens dan voor meisj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ongen veel seks: st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eisje veel seks: s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A2E0-85EA-4E8B-B063-C8CE75EE3EF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chtverhouding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eraar kan je straf g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gent kan je laten sto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Je moet naar je ouders luist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Jij moet dan gehoorza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xtreem machtsverschi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over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el leeftijdsverschil (meisje 14, man 40: verbo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43C1-0669-4100-B186-9CA0BB49A4A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dvocaat"/>
          <p:cNvPicPr/>
          <p:nvPr/>
        </p:nvPicPr>
        <p:blipFill>
          <a:blip r:embed="rId1"/>
          <a:stretch/>
        </p:blipFill>
        <p:spPr>
          <a:xfrm>
            <a:off x="6804000" y="1268280"/>
            <a:ext cx="19796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cls</cp:lastModifiedBy>
  <dcterms:modified xsi:type="dcterms:W3CDTF">2012-02-28T16:25:05Z</dcterms:modified>
  <cp:revision>161</cp:revision>
  <dc:subject/>
  <dc:title>Dia 1</dc:title>
</cp:coreProperties>
</file>