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7.png" ContentType="image/png"/>
  <Override PartName="/ppt/media/image4.gif" ContentType="image/gif"/>
  <Override PartName="/ppt/media/image24.gif" ContentType="image/gif"/>
  <Override PartName="/ppt/media/image17.png" ContentType="image/png"/>
  <Override PartName="/ppt/media/image26.png" ContentType="image/png"/>
  <Override PartName="/ppt/media/image3.gif" ContentType="image/gif"/>
  <Override PartName="/ppt/media/image9.png" ContentType="image/png"/>
  <Override PartName="/ppt/media/image13.png" ContentType="image/png"/>
  <Override PartName="/ppt/media/image8.png" ContentType="image/png"/>
  <Override PartName="/ppt/media/image33.png" ContentType="image/png"/>
  <Override PartName="/ppt/media/image10.png" ContentType="image/png"/>
  <Override PartName="/ppt/media/image30.png" ContentType="image/png"/>
  <Override PartName="/ppt/media/image32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36.png" ContentType="image/png"/>
  <Override PartName="/ppt/media/image6.gif" ContentType="image/gif"/>
  <Override PartName="/ppt/media/image29.png" ContentType="image/png"/>
  <Override PartName="/ppt/media/image11.png" ContentType="image/png"/>
  <Override PartName="/ppt/media/image5.gif" ContentType="image/gif"/>
  <Override PartName="/ppt/media/image28.png" ContentType="image/png"/>
  <Override PartName="/ppt/media/image35.gif" ContentType="image/gif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16.png" ContentType="image/png"/>
  <Override PartName="/ppt/media/image2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E858-8D02-4B84-AA97-A24DDF4901F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17AA-0BBE-4BDE-A338-04748F035A3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24A2-E366-47C9-8E96-C166C273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CF9-14D1-4CCD-842B-F923BCC0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9F49-E5C5-47F5-A499-EEA554B0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0583-00F0-40D4-AFC9-BCF3F22D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815-1B88-4876-86CB-63DEB75A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7DBA-EF63-4FCD-B5A0-810F159C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7C25-7CB3-412B-8BA1-5BFBDCB2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B8E8-9FA9-4C06-BA00-03AC1533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2768-81C7-41E8-8DA3-58A893A9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EDC-08F2-4E5C-9810-E855DA36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D84-C6AB-4FA6-B3A4-2441EABB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169B-C8C2-4B4B-B4DD-8D4D1063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428D-F1CB-4178-9373-F27A05BD7C3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443640" y="6165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4AB7-7075-4974-A9DE-DF35490C27A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1636560" y="836640"/>
            <a:ext cx="341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ffffff"/>
                </a:solidFill>
                <a:uFillTx/>
                <a:latin typeface="Arial"/>
              </a:rPr>
              <a:t>Criminalitei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443280" y="2637000"/>
            <a:ext cx="248436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32 tot e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t 1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GIF_boef"/>
          <p:cNvPicPr/>
          <p:nvPr/>
        </p:nvPicPr>
        <p:blipFill>
          <a:blip r:embed="rId1"/>
          <a:stretch/>
        </p:blipFill>
        <p:spPr>
          <a:xfrm>
            <a:off x="1825560" y="2359080"/>
            <a:ext cx="263700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F007-8EE2-41D5-A1FF-B413B5DB40C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1840" cy="237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4572000" y="2060640"/>
            <a:ext cx="4029120" cy="230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4032000" cy="855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3456000" cy="671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EA55-1769-49E4-A54A-DC5FD96A229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032360" cy="230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olice.gif police image by scottametz"/>
          <p:cNvPicPr/>
          <p:nvPr/>
        </p:nvPicPr>
        <p:blipFill>
          <a:blip r:embed="rId2"/>
          <a:stretch/>
        </p:blipFill>
        <p:spPr>
          <a:xfrm>
            <a:off x="4572000" y="2060640"/>
            <a:ext cx="3097080" cy="2322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179280" y="4437000"/>
            <a:ext cx="80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Pieter wordt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opgepakt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door de politie. Hij moet mee naar het bureau. Daar wordt besloten dat hij voor de rechter moet komen. Enkele weken voor de rechtszitting krijgt Pieter een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dagvaarding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. Dat is de oproep om voor de rechter te verschijnen.Pieter moet niet voor de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politierechter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komen (die is alleen bij lichte misdrijven) maar bij de </a:t>
            </a:r>
            <a:r>
              <a:rPr b="1" i="1" lang="nl-NL" sz="2000" spc="-1" strike="noStrike">
                <a:solidFill>
                  <a:srgbClr val="ffffff"/>
                </a:solidFill>
                <a:latin typeface="Arial"/>
              </a:rPr>
              <a:t>meervoudige kamer.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 Deze bestaat uit 3 rechters en is bedoeld voor zware misdrijven zoals moord en mishandeling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75C8-B6AB-45C5-AC99-A7F3DC95D07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3: Opgepakt…en d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24000" y="2349360"/>
            <a:ext cx="8496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ieter is nu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rdacht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politie denkt dat je iets strafbaars hebt gedaan. Een redelijk vermoeden van schul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politie kan een aantal dingen doen om een zaak op te loss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900000" y="4365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Fouill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kleding en lichaam wordt onderzoch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82692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rrest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moet mee naar het politiebureau voor verhoor. (je kan een paar dagen worden vastgehouden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900000" y="558972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uis doorzoek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zoeken naar bewijsmateriaal. Huiszoekingsbevel nodig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4" descr="politie"/>
          <p:cNvPicPr/>
          <p:nvPr/>
        </p:nvPicPr>
        <p:blipFill>
          <a:blip r:embed="rId1"/>
          <a:stretch/>
        </p:blipFill>
        <p:spPr>
          <a:xfrm>
            <a:off x="6804000" y="549360"/>
            <a:ext cx="1494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4B1A-E96C-4BCF-A240-2891B67F105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54100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Opgepakt…en d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4000" y="1916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3 keuzes:</a:t>
            </a:r>
            <a:r>
              <a:rPr b="0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39640" y="4581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rvolg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moet WEL  naar de rechter. De rechter zal beslissen of je schuldig of onschuldig ben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39640" y="3860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chikking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hoeft niet naar de rechter. Je kan een boete betalen of iets dergelijks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042920" y="5373720"/>
            <a:ext cx="748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Vrijspraak: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als de rechter bij vervolging beslist dat je onschuldig ben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ffffff"/>
                </a:solidFill>
                <a:latin typeface="Arial"/>
              </a:rPr>
              <a:t>Schuldig: </a:t>
            </a:r>
            <a:r>
              <a:rPr b="0" i="1" lang="nl-NL" sz="1800" spc="-1" strike="noStrike">
                <a:solidFill>
                  <a:srgbClr val="ffffff"/>
                </a:solidFill>
                <a:latin typeface="Arial"/>
              </a:rPr>
              <a:t>als de rechter bij vervolging beslist dat er genoeg bewijs tegen je is, ben je schuldig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9"/>
          <p:cNvGraphicFramePr/>
          <p:nvPr/>
        </p:nvGraphicFramePr>
        <p:xfrm>
          <a:off x="6516720" y="1125360"/>
          <a:ext cx="2228760" cy="123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1125360"/>
                    <a:ext cx="22287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11"/>
          <p:cNvSpPr/>
          <p:nvPr/>
        </p:nvSpPr>
        <p:spPr>
          <a:xfrm>
            <a:off x="611280" y="2708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eponeren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vJ onderneemt geen stappen.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e hoeft niet naar de rechter. Vaak door onvoldoende bewijs, of als je al ‘genoeg gestraft’ ben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5DE9-63AF-41A1-AC6D-24E36BB3E9C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3: Opgepakt…en d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t gebeurt er met verd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12"/>
          <p:cNvGraphicFramePr/>
          <p:nvPr/>
        </p:nvGraphicFramePr>
        <p:xfrm>
          <a:off x="684360" y="2349360"/>
          <a:ext cx="8001000" cy="354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349360"/>
                    <a:ext cx="8001000" cy="35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6470-7BA8-4BFE-BFEE-B61036348AC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1549440" y="-243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620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rechtbank"/>
          <p:cNvPicPr/>
          <p:nvPr/>
        </p:nvPicPr>
        <p:blipFill>
          <a:blip r:embed="rId1"/>
          <a:srcRect l="0" t="0" r="0" b="32627"/>
          <a:stretch/>
        </p:blipFill>
        <p:spPr>
          <a:xfrm>
            <a:off x="1979640" y="1916280"/>
            <a:ext cx="4802040" cy="4941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3"/>
          <p:cNvSpPr/>
          <p:nvPr/>
        </p:nvSpPr>
        <p:spPr>
          <a:xfrm>
            <a:off x="250920" y="2205000"/>
            <a:ext cx="172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Officier van justitie: </a:t>
            </a:r>
            <a:br>
              <a:rPr sz="1600"/>
            </a:b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wil bewijzen dat de verdachte schuldig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6877080" y="4653000"/>
            <a:ext cx="172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Advocaat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verdedigt de verdachte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6877080" y="3284640"/>
            <a:ext cx="22669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Verdachte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de persoon die verdacht wordt van een misdrijf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6877080" y="1916280"/>
            <a:ext cx="172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Griffier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Noteert alles wat er gezegd word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2771640" y="981000"/>
            <a:ext cx="396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ffffff"/>
                </a:solidFill>
                <a:uFillTx/>
                <a:latin typeface="Arial"/>
              </a:rPr>
              <a:t>Rechter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ffffff"/>
                </a:solidFill>
                <a:latin typeface="Arial"/>
              </a:rPr>
              <a:t>Beslist of de verdachte schuldig is en bepaalt de straf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2627280" y="141300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 flipH="1">
            <a:off x="665928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 flipH="1">
            <a:off x="5292360" y="3284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 flipH="1" flipV="1">
            <a:off x="6443640" y="422100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140328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77C7-4D90-420B-8986-7B97FFF5408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7756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3" descr="RECHTSPRAAK"/>
          <p:cNvPicPr/>
          <p:nvPr/>
        </p:nvPicPr>
        <p:blipFill>
          <a:blip r:embed="rId1"/>
          <a:stretch/>
        </p:blipFill>
        <p:spPr>
          <a:xfrm>
            <a:off x="1908000" y="2276640"/>
            <a:ext cx="5010480" cy="3809880"/>
          </a:xfrm>
          <a:prstGeom prst="rect">
            <a:avLst/>
          </a:prstGeom>
          <a:ln w="0">
            <a:noFill/>
          </a:ln>
        </p:spPr>
      </p:pic>
      <p:sp>
        <p:nvSpPr>
          <p:cNvPr id="156" name="Tekstvak 6"/>
          <p:cNvSpPr/>
          <p:nvPr/>
        </p:nvSpPr>
        <p:spPr>
          <a:xfrm>
            <a:off x="7020000" y="306864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n cassatie gaa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kstvak 7"/>
          <p:cNvSpPr/>
          <p:nvPr/>
        </p:nvSpPr>
        <p:spPr>
          <a:xfrm>
            <a:off x="7020000" y="436572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n hoger beroep gaa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kstvak 8"/>
          <p:cNvSpPr/>
          <p:nvPr/>
        </p:nvSpPr>
        <p:spPr>
          <a:xfrm>
            <a:off x="539640" y="2276640"/>
            <a:ext cx="12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1 hoge ra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kstvak 9"/>
          <p:cNvSpPr/>
          <p:nvPr/>
        </p:nvSpPr>
        <p:spPr>
          <a:xfrm>
            <a:off x="179280" y="3500280"/>
            <a:ext cx="16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5 gerechts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ho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kstvak 10"/>
          <p:cNvSpPr/>
          <p:nvPr/>
        </p:nvSpPr>
        <p:spPr>
          <a:xfrm>
            <a:off x="395280" y="508464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19 recht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ban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6F9B-F7DA-45B9-B8E9-34A6B4FA7F6D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7643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24000" y="2205000"/>
            <a:ext cx="82803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ieter weet precies wat er gaat gebeur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rechter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controleert all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persoonlijke gegeven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naam, geboortedatum, adre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OvJ leest de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anklacht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voor. Daarin staat waarvan Pieter verdacht wordt en wanneer het is gebeur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rechter, de OvJ en de advocaat gaan Pieter nu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ragen stellen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. Bvb of hij wel eens eerder met de politie te maken heeft geh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Een vriend is opgeroepen als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tuige.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Hij moet eerlijk vertellen wat er is gebeurd. Getuiges mogen niet lieg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judge"/>
          <p:cNvPicPr/>
          <p:nvPr/>
        </p:nvPicPr>
        <p:blipFill>
          <a:blip r:embed="rId1"/>
          <a:stretch/>
        </p:blipFill>
        <p:spPr>
          <a:xfrm>
            <a:off x="6804000" y="907920"/>
            <a:ext cx="185724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94A7-F2C2-4F8D-948A-3265A5DD3DC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0" y="2060640"/>
            <a:ext cx="8280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5. De OvJ legt uit waarom hij vindt dat Pieter </a:t>
            </a:r>
            <a:br>
              <a:rPr sz="2400"/>
            </a:b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huldig is en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eist een stra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6. De advocaat neemt het dan op voor Pieter en vraagt om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trafverminde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7. Pieter mag als verdachte zelf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et laatste woord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hebben en spijt betui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8. De rechter spreekt het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onni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uit: Hij veroordeelt Pieter tot 2 maanden voorwaardelijke gevangenisstraf en 120 uur taakstraf. 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oorwaardelijk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betekent dat Pieter voorlopig niet de gevangenis in hoeft, tenzij hij weer zoiets stoms doe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Enter Taylors Solicitors web pages"/>
          <p:cNvPicPr/>
          <p:nvPr/>
        </p:nvPicPr>
        <p:blipFill>
          <a:blip r:embed="rId1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jail"/>
          <p:cNvPicPr/>
          <p:nvPr/>
        </p:nvPicPr>
        <p:blipFill>
          <a:blip r:embed="rId2"/>
          <a:stretch/>
        </p:blipFill>
        <p:spPr>
          <a:xfrm>
            <a:off x="324000" y="765000"/>
            <a:ext cx="14857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C9DA-FFD4-406E-875E-E15DE879587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915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§4: Schuldig of Onschuldi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0" y="1946160"/>
            <a:ext cx="806436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Soorten straffen: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68360" y="3357720"/>
            <a:ext cx="799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Hoofdstraffen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: zoals gevangenisstraf, geldboete, taakstraf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468360" y="386064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Bijkomendestraf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: zoals rijbewijs inleveren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95280" y="4365720"/>
            <a:ext cx="799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- Maatregelen: </a:t>
            </a:r>
            <a:r>
              <a:rPr b="0" i="1" lang="en-US" sz="2300" spc="-1" strike="noStrike">
                <a:solidFill>
                  <a:srgbClr val="ffffff"/>
                </a:solidFill>
                <a:latin typeface="Arial"/>
              </a:rPr>
              <a:t>TBS (ter Beschikking stelling aan de staat), agressietraining, etc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4" descr="police"/>
          <p:cNvPicPr/>
          <p:nvPr/>
        </p:nvPicPr>
        <p:blipFill>
          <a:blip r:embed="rId1"/>
          <a:stretch/>
        </p:blipFill>
        <p:spPr>
          <a:xfrm>
            <a:off x="6659640" y="765000"/>
            <a:ext cx="1333440" cy="1333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2"/>
          <p:cNvSpPr/>
          <p:nvPr/>
        </p:nvSpPr>
        <p:spPr>
          <a:xfrm>
            <a:off x="611280" y="5516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Pieter krijgt van de rechter 2 maanden voorwaardelijk en een taakstraf als hoofdstraf en de maatregel dat hij agressietraining moet vol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32C2-CCB8-4413-ADF5-5E98BC27FC8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: Doen wat niet m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79280" y="1844640"/>
            <a:ext cx="8064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Strafbaar gedrag: 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dat je wetregels overtreed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Criminaliteit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: alle misdrijven die in de wet staa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misdrijf: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overtreding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Vernieling, diefstal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rijden zonder licht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inbraak, verkrachting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door rood rijd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Strafblad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geen strafblad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Gevangenis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hechteni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Medeplichtig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niet medeplichti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Zwaardere straf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minder zware straf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Crimineel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overtreder/ of niet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3" descr="stopPolitie"/>
          <p:cNvPicPr/>
          <p:nvPr/>
        </p:nvPicPr>
        <p:blipFill>
          <a:blip r:embed="rId1"/>
          <a:stretch/>
        </p:blipFill>
        <p:spPr>
          <a:xfrm>
            <a:off x="7308720" y="549360"/>
            <a:ext cx="158436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6A4A-9C61-48DA-8147-3F34593B241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Wat doen we era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234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aarom straffen we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British_police"/>
          <p:cNvPicPr/>
          <p:nvPr/>
        </p:nvPicPr>
        <p:blipFill>
          <a:blip r:embed="rId1"/>
          <a:stretch/>
        </p:blipFill>
        <p:spPr>
          <a:xfrm>
            <a:off x="6804000" y="549360"/>
            <a:ext cx="1371600" cy="13237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2"/>
          <p:cNvSpPr/>
          <p:nvPr/>
        </p:nvSpPr>
        <p:spPr>
          <a:xfrm>
            <a:off x="1311120" y="2800440"/>
            <a:ext cx="448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395280" y="2997360"/>
            <a:ext cx="7920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afschrikking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ensen moeten niet crimineel willen 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Resocialisatie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edrag verbeteren, zodat criminelen terug kunnen in de samenlev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Veiliger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criminelen zitten in de gevangenis, dus is het daarbuiten veiliger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Wraak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lachtoffers en familiedaarvoor wilden vergelding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1399-2D21-4443-A49C-79EB7C8FD1C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50920" y="4076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aak- en leerstraffen: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ternatieve straffen: helpen in de winkel waar je hebt gestolen, dronken iemand aangereden: gehandicapte slachtoffers help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324000" y="2708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trenger straffen: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raffen hoger maken, hogere boetes, langere gevangenisstraf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250920" y="3573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Lik-op-stukbeleid: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ader sneller pakken én bere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250920" y="530064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Preventie:</a:t>
            </a: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voorkomen dat er criminaliteit plaats heeft. Meer politie op straat, meer camera’s bij winkels,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3"/>
          <p:cNvSpPr/>
          <p:nvPr/>
        </p:nvSpPr>
        <p:spPr>
          <a:xfrm>
            <a:off x="250920" y="1341360"/>
            <a:ext cx="7643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5: Wat doen we eraan?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raffen helpt niet voldoende: 4 oploss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78CD-C2B1-40B2-B928-A3ADCBDC41C1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6: Drugs en crimin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0" y="1989000"/>
            <a:ext cx="806436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Pieter was agressief mede door de hoeveelheden drank die hij genomen had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Drugs en drank zijn vaak de oorzaak van misdrijv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0" y="3645000"/>
            <a:ext cx="806436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Opiumwet: 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alle regels over drug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5" descr="drugs"/>
          <p:cNvPicPr/>
          <p:nvPr/>
        </p:nvPicPr>
        <p:blipFill>
          <a:blip r:embed="rId1"/>
          <a:stretch/>
        </p:blipFill>
        <p:spPr>
          <a:xfrm>
            <a:off x="6877080" y="4292640"/>
            <a:ext cx="3333600" cy="3333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No_Drugs_gif"/>
          <p:cNvPicPr/>
          <p:nvPr/>
        </p:nvPicPr>
        <p:blipFill>
          <a:blip r:embed="rId2"/>
          <a:stretch/>
        </p:blipFill>
        <p:spPr>
          <a:xfrm>
            <a:off x="6886440" y="3645000"/>
            <a:ext cx="2257560" cy="16761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6"/>
          <p:cNvSpPr/>
          <p:nvPr/>
        </p:nvSpPr>
        <p:spPr>
          <a:xfrm>
            <a:off x="1494360" y="4076640"/>
            <a:ext cx="39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Softdrug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: hasj, wiet </a:t>
            </a: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EDOOGD NIET LEGAAL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1425600" y="4941720"/>
            <a:ext cx="472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Harddrugs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: heroïne, cocaïne, x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LLEG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35640" y="5877000"/>
            <a:ext cx="685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Gedoogbeleid: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kleine handel en gebruik van sof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ugs wordt met rust gela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D8FC-96BE-447E-A1EB-2060EEEC5A7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6: Drugs en crimin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0" y="1989000"/>
            <a:ext cx="91440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Harddrugs bestrijden door de grote misdaadorganisaties aan te pakken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De politie…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0" y="3429000"/>
            <a:ext cx="80643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Pakt grote handel in soft- en </a:t>
            </a:r>
            <a:br>
              <a:rPr sz="2200"/>
            </a:b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harddrugs hard aa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Laat kleine handel in softdrugs 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met rus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Pakt het gebruik van klein beetje 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soft- of harddrugs niet aa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alcohol"/>
          <p:cNvPicPr/>
          <p:nvPr/>
        </p:nvPicPr>
        <p:blipFill>
          <a:blip r:embed="rId1"/>
          <a:stretch/>
        </p:blipFill>
        <p:spPr>
          <a:xfrm>
            <a:off x="5580000" y="3068640"/>
            <a:ext cx="26240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0EFE-D11E-4C16-BACE-ACDF5AC7818B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6: Drugs en crimin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2205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Buitenland heeft veel kritiek op het 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Nederlandse gedoogbeleid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0" y="3284640"/>
            <a:ext cx="392436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Voordelen gedoogbeleid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Gedogen softdrugs, daardoor minder gebruik harddrugs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Door gedogen verkoop in coffeeshops, minder overlast op straat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Criminaliteit"/>
          <p:cNvPicPr/>
          <p:nvPr/>
        </p:nvPicPr>
        <p:blipFill>
          <a:blip r:embed="rId1"/>
          <a:stretch/>
        </p:blipFill>
        <p:spPr>
          <a:xfrm>
            <a:off x="6443640" y="1700280"/>
            <a:ext cx="1619280" cy="15714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9"/>
          <p:cNvSpPr/>
          <p:nvPr/>
        </p:nvSpPr>
        <p:spPr>
          <a:xfrm>
            <a:off x="4140360" y="3357720"/>
            <a:ext cx="500364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Tegenstanders gedoogbeleid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Kleine stap softdrugs </a:t>
            </a:r>
            <a:r>
              <a:rPr b="0" i="1" lang="nl-NL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 harddrugs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Risico’s aan sofrdrugs: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Minder concentratie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Geestelijk verslaafd aan raken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EFF8-00D1-4F71-8E14-7FA7D6ACE26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"moordvrouwen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b je hoger dan een 8.5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an iets lekk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5" descr="After_the_Criminal"/>
          <p:cNvPicPr/>
          <p:nvPr/>
        </p:nvPicPr>
        <p:blipFill>
          <a:blip r:embed="rId1"/>
          <a:stretch/>
        </p:blipFill>
        <p:spPr>
          <a:xfrm>
            <a:off x="2124000" y="4149720"/>
            <a:ext cx="46576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23A5-EE0C-4EB7-B21E-E86257DBDAE3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: Doen wat niet m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50920" y="1739880"/>
            <a:ext cx="806436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Veelvoorkomendecriminaliteit:</a:t>
            </a: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 misdrijven die relatief vaak voorkomen: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winkeldiefstal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zakkenrollen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voetbal vandalisme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vernieling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Zware criminaliteit: 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verkrachting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moord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roofoverva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ffffff"/>
                </a:solidFill>
                <a:latin typeface="Arial"/>
              </a:rPr>
              <a:t>Verborgen criminaliteit: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belastingfraude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onterechte uitkering</a:t>
            </a:r>
            <a:br>
              <a:rPr sz="2200"/>
            </a:br>
            <a:r>
              <a:rPr b="0" i="1" lang="nl-NL" sz="2200" spc="-1" strike="noStrike">
                <a:solidFill>
                  <a:srgbClr val="ffffff"/>
                </a:solidFill>
                <a:latin typeface="Arial"/>
              </a:rPr>
              <a:t>- internetcriminaliteit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politie"/>
          <p:cNvPicPr/>
          <p:nvPr/>
        </p:nvPicPr>
        <p:blipFill>
          <a:blip r:embed="rId1"/>
          <a:stretch/>
        </p:blipFill>
        <p:spPr>
          <a:xfrm>
            <a:off x="5435640" y="2781360"/>
            <a:ext cx="2238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F436-605E-43DC-A791-F2577297EEB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1: Doen wat niet m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50920" y="2349360"/>
            <a:ext cx="806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ateriele schade: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Criminaliteit kost miljarden euro’s per j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tv die uit je huis gehaald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e fiets die gejat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et-materiele schad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lapeloze nachten omdat er ooit is ingebro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ng zijn op straat, wegens een overv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politie"/>
          <p:cNvPicPr/>
          <p:nvPr/>
        </p:nvPicPr>
        <p:blipFill>
          <a:blip r:embed="rId1"/>
          <a:stretch/>
        </p:blipFill>
        <p:spPr>
          <a:xfrm>
            <a:off x="6012000" y="3500280"/>
            <a:ext cx="2158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1507-2E5A-417C-B2AD-7C69CC1636B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2: Waarom gebeurt h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523880" y="2286000"/>
            <a:ext cx="72392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ersoonlijke kenmerken van een crimineel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: uiterlijk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: Lagere maatschappelijke posi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EL: - vaker door mannen dan door vrouw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slechte opvoeding leidt vaker tot crimineel gedra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Groepsgedrag: als je vrienden het doen..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- Spijbelaars/zonder diplo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annen vaker dan vrouwen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politie"/>
          <p:cNvPicPr/>
          <p:nvPr/>
        </p:nvPicPr>
        <p:blipFill>
          <a:blip r:embed="rId1"/>
          <a:stretch/>
        </p:blipFill>
        <p:spPr>
          <a:xfrm>
            <a:off x="395280" y="3933720"/>
            <a:ext cx="15192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1122-1A9F-475A-885A-ED9739DC68E6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2: Waarom gebeurt h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50920" y="1916280"/>
            <a:ext cx="65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Maatschappelijke oorza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826920" y="3645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In een grote stad gebeurd het vak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900000" y="2637000"/>
            <a:ext cx="63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ociale controle is minder ge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(pakkans is daardoor kleiner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826920" y="22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Normen en waarden zijn minder stre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395280" y="4724280"/>
            <a:ext cx="8280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ffffff"/>
                </a:solidFill>
                <a:latin typeface="Arial"/>
              </a:rPr>
              <a:t>Bindingstheorie van Hirschi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Criminaliteit een combinatie van individuele en maatschappelijke oorzaken. Niemand is alleen meer goed, iedereen kan misdadiger zijn. Ligt aan de bindingen die je hebt: vrienden, band met familie, werk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826920" y="40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Alcohol en drugs gebruik toegenom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7" descr="politie"/>
          <p:cNvPicPr/>
          <p:nvPr/>
        </p:nvPicPr>
        <p:blipFill>
          <a:blip r:embed="rId1"/>
          <a:stretch/>
        </p:blipFill>
        <p:spPr>
          <a:xfrm>
            <a:off x="6732720" y="1557360"/>
            <a:ext cx="12380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145D-A4A7-44BE-9435-9386FB31A0C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0" y="1989000"/>
            <a:ext cx="4032360" cy="22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4156200" cy="223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3"/>
          <a:stretch/>
        </p:blipFill>
        <p:spPr>
          <a:xfrm>
            <a:off x="0" y="4637160"/>
            <a:ext cx="4140360" cy="736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"/>
          <p:cNvPicPr/>
          <p:nvPr/>
        </p:nvPicPr>
        <p:blipFill>
          <a:blip r:embed="rId4"/>
          <a:srcRect l="1705" t="0" r="5168" b="0"/>
          <a:stretch/>
        </p:blipFill>
        <p:spPr>
          <a:xfrm>
            <a:off x="4427640" y="4653000"/>
            <a:ext cx="3960720" cy="565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us van Pieter                              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on: rechtvoorjou.n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74A6-B830-464A-B7E8-5B4B3E68548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032360" cy="237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4103640" cy="2376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EACE-E833-47B3-9240-3AB818BD41A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3640" cy="223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4102200" cy="2305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3816360" cy="1171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4249800" cy="1012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SD1</cp:lastModifiedBy>
  <dcterms:modified xsi:type="dcterms:W3CDTF">2013-07-08T11:43:56Z</dcterms:modified>
  <cp:revision>135</cp:revision>
  <dc:subject/>
  <dc:title>Dia 1</dc:title>
</cp:coreProperties>
</file>