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gif" ContentType="image/gif"/>
  <Override PartName="/ppt/media/image18.png" ContentType="image/png"/>
  <Override PartName="/ppt/media/image22.gif" ContentType="image/gif"/>
  <Override PartName="/ppt/media/image15.png" ContentType="image/png"/>
  <Override PartName="/ppt/media/image20.gif" ContentType="image/gif"/>
  <Override PartName="/ppt/media/image1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36.jpeg" ContentType="image/jpeg"/>
  <Override PartName="/ppt/media/image30.jpeg" ContentType="image/jpeg"/>
  <Override PartName="/ppt/media/image12.gif" ContentType="image/gif"/>
  <Override PartName="/ppt/media/image32.png" ContentType="image/png"/>
  <Override PartName="/ppt/media/image2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39.gif" ContentType="image/gif"/>
  <Override PartName="/ppt/media/image40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43.gif" ContentType="image/gif"/>
  <Override PartName="/ppt/media/image46.png" ContentType="image/png"/>
  <Override PartName="/ppt/media/image45.png" ContentType="image/png"/>
  <Override PartName="/ppt/media/image42.gif" ContentType="image/gif"/>
  <Override PartName="/ppt/media/image10.png" ContentType="image/png"/>
  <Override PartName="/ppt/media/image27.jpeg" ContentType="image/jpeg"/>
  <Override PartName="/ppt/media/image38.png" ContentType="image/png"/>
  <Override PartName="/ppt/media/image8.png" ContentType="image/png"/>
  <Override PartName="/ppt/media/image7.jpeg" ContentType="image/jpeg"/>
  <Override PartName="/ppt/media/image35.gif" ContentType="image/gif"/>
  <Override PartName="/ppt/media/image5.gif" ContentType="image/gif"/>
  <Override PartName="/ppt/media/image11.gif" ContentType="image/gif"/>
  <Override PartName="/ppt/media/image6.gif" ContentType="image/gif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150-83D3-40D7-B7D5-D6D84C2A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1D7-BE56-47C8-ADEB-44609A38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4A4-A9A3-4C73-8143-71F3313E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3D8-534D-402B-91AB-67F8F7F3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B5C-5F92-4CB8-8206-8C11F0F3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53A-E5CE-4FD5-A43D-D8900F57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4DA-13A6-4C20-8A48-AD90A3AB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FC3-1875-4F78-BE52-36ABFFC5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BA8-8EDB-4F0E-86BA-4183E268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1A0-99DF-4777-AD98-2739CC87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BA0-5D5E-47C4-B525-85EA9A42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C37-D006-4FE0-844D-6A955A3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8EAF-5000-49DA-92D4-D9CC7F7D9C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hyperlink" Target="http://www.sodahead.com/united-states/sodahead-slideshow-whos-the-biggest-wall-street-cheat/blog-326933/" TargetMode="External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ipartsalbum.nl/asp/cliparts.asp?Language=NL&amp;AreaCode=NL&amp;LCID=1043&amp;Source=Categories&amp;Subcategories_ID=53&amp;S=afrika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http://www.psychologiemagazine.nl/upload/d5c7564b-e25d-4acb-b0aa-fd5737d8a69f_relaties%20rond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404640"/>
            <a:ext cx="6121440" cy="6262920"/>
          </a:xfrm>
          <a:prstGeom prst="rect">
            <a:avLst/>
          </a:prstGeom>
          <a:ln w="0">
            <a:noFill/>
          </a:ln>
        </p:spPr>
      </p:pic>
      <p:sp>
        <p:nvSpPr>
          <p:cNvPr id="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934C-8636-4687-A8F2-08B3342984E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1: Met elkaar omga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2: Verliefd, verloofd, getrouw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3: Als de relatie stukloop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4: Samen of alleen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-: Soms loopt het ande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1116000" y="69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ofdstuk: Relaties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77F9-E627-4224-8A5D-7FE4ECD3154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907920"/>
            <a:ext cx="85075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emdgaan: Wat vind jij dat m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 jezelf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Voor de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itgaa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n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ij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Tekstvak 5"/>
          <p:cNvGrpSpPr/>
          <p:nvPr/>
        </p:nvGrpSpPr>
        <p:grpSpPr>
          <a:xfrm>
            <a:off x="378000" y="3840120"/>
            <a:ext cx="2116080" cy="493920"/>
            <a:chOff x="378000" y="3840120"/>
            <a:chExt cx="2116080" cy="493920"/>
          </a:xfrm>
        </p:grpSpPr>
        <p:pic>
          <p:nvPicPr>
            <p:cNvPr id="90" name="Tekstvak 5" descr=""/>
            <p:cNvPicPr/>
            <p:nvPr/>
          </p:nvPicPr>
          <p:blipFill>
            <a:blip r:embed="rId1"/>
            <a:stretch/>
          </p:blipFill>
          <p:spPr>
            <a:xfrm>
              <a:off x="378000" y="3840120"/>
              <a:ext cx="21160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280" y="386064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91,1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kstvak 7"/>
          <p:cNvGrpSpPr/>
          <p:nvPr/>
        </p:nvGrpSpPr>
        <p:grpSpPr>
          <a:xfrm>
            <a:off x="1311120" y="4419720"/>
            <a:ext cx="1182960" cy="493560"/>
            <a:chOff x="1311120" y="4419720"/>
            <a:chExt cx="1182960" cy="493560"/>
          </a:xfrm>
        </p:grpSpPr>
        <p:pic>
          <p:nvPicPr>
            <p:cNvPr id="93" name="Tekstvak 7" descr=""/>
            <p:cNvPicPr/>
            <p:nvPr/>
          </p:nvPicPr>
          <p:blipFill>
            <a:blip r:embed="rId2"/>
            <a:stretch/>
          </p:blipFill>
          <p:spPr>
            <a:xfrm>
              <a:off x="1311120" y="4419720"/>
              <a:ext cx="1182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332000" y="44370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39,8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kstvak 8"/>
          <p:cNvGrpSpPr/>
          <p:nvPr/>
        </p:nvGrpSpPr>
        <p:grpSpPr>
          <a:xfrm>
            <a:off x="1603440" y="4992840"/>
            <a:ext cx="890640" cy="433080"/>
            <a:chOff x="1603440" y="4992840"/>
            <a:chExt cx="890640" cy="433080"/>
          </a:xfrm>
        </p:grpSpPr>
        <p:pic>
          <p:nvPicPr>
            <p:cNvPr id="96" name="Tekstvak 8" descr=""/>
            <p:cNvPicPr/>
            <p:nvPr/>
          </p:nvPicPr>
          <p:blipFill>
            <a:blip r:embed="rId3"/>
            <a:stretch/>
          </p:blipFill>
          <p:spPr>
            <a:xfrm>
              <a:off x="1603440" y="4992840"/>
              <a:ext cx="89064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19280" y="50133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17 %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Tekstvak 9"/>
          <p:cNvGrpSpPr/>
          <p:nvPr/>
        </p:nvGrpSpPr>
        <p:grpSpPr>
          <a:xfrm>
            <a:off x="6784920" y="5065560"/>
            <a:ext cx="609480" cy="401760"/>
            <a:chOff x="6784920" y="5065560"/>
            <a:chExt cx="609480" cy="401760"/>
          </a:xfrm>
        </p:grpSpPr>
        <p:pic>
          <p:nvPicPr>
            <p:cNvPr id="99" name="Tekstvak 9" descr=""/>
            <p:cNvPicPr/>
            <p:nvPr/>
          </p:nvPicPr>
          <p:blipFill>
            <a:blip r:embed="rId4"/>
            <a:stretch/>
          </p:blipFill>
          <p:spPr>
            <a:xfrm>
              <a:off x="6784920" y="5065560"/>
              <a:ext cx="609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804000" y="50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Tekstvak 10"/>
          <p:cNvGrpSpPr/>
          <p:nvPr/>
        </p:nvGrpSpPr>
        <p:grpSpPr>
          <a:xfrm>
            <a:off x="6784920" y="4492800"/>
            <a:ext cx="822240" cy="396720"/>
            <a:chOff x="6784920" y="4492800"/>
            <a:chExt cx="822240" cy="396720"/>
          </a:xfrm>
        </p:grpSpPr>
        <p:pic>
          <p:nvPicPr>
            <p:cNvPr id="102" name="Tekstvak 10" descr=""/>
            <p:cNvPicPr/>
            <p:nvPr/>
          </p:nvPicPr>
          <p:blipFill>
            <a:blip r:embed="rId5"/>
            <a:stretch/>
          </p:blipFill>
          <p:spPr>
            <a:xfrm>
              <a:off x="6784920" y="4492800"/>
              <a:ext cx="8222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04000" y="4508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9 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kstvak 11"/>
          <p:cNvGrpSpPr/>
          <p:nvPr/>
        </p:nvGrpSpPr>
        <p:grpSpPr>
          <a:xfrm>
            <a:off x="6784920" y="3913200"/>
            <a:ext cx="1762200" cy="493560"/>
            <a:chOff x="6784920" y="3913200"/>
            <a:chExt cx="1762200" cy="493560"/>
          </a:xfrm>
        </p:grpSpPr>
        <p:pic>
          <p:nvPicPr>
            <p:cNvPr id="105" name="Tekstvak 11" descr=""/>
            <p:cNvPicPr/>
            <p:nvPr/>
          </p:nvPicPr>
          <p:blipFill>
            <a:blip r:embed="rId6"/>
            <a:stretch/>
          </p:blipFill>
          <p:spPr>
            <a:xfrm>
              <a:off x="6784920" y="3913200"/>
              <a:ext cx="17622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04000" y="39337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62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4" descr="http://i223.photobucket.com/albums/dd54/Kylepotvin95/kick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1773360"/>
            <a:ext cx="2592360" cy="2125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http://i1.glitter-graphics.org/pub/72/72811rmag856ydm.gif"/>
          <p:cNvPicPr/>
          <p:nvPr/>
        </p:nvPicPr>
        <p:blipFill>
          <a:blip r:embed="rId9"/>
          <a:stretch/>
        </p:blipFill>
        <p:spPr>
          <a:xfrm>
            <a:off x="6156360" y="2492280"/>
            <a:ext cx="1655640" cy="119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http://www.jongingestel.nl/fckeditor/editor/images/smiley/msn/hug.gif"/>
          <p:cNvPicPr/>
          <p:nvPr/>
        </p:nvPicPr>
        <p:blipFill>
          <a:blip r:embed="rId10"/>
          <a:stretch/>
        </p:blipFill>
        <p:spPr>
          <a:xfrm>
            <a:off x="539640" y="2565360"/>
            <a:ext cx="2298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D971-EB5C-42D1-A9A7-A64EDC3C326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 gelukkigste dag van mijn leven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ar ook rechten en plich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elkaar bijstaan en hel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mee betalen aan huishoudko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kinderen verzorgen en opvoe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Ouderlijk gezag: wettelijke plicht om je kind op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 voeden en te verzorgen. Tot je 18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ok dingen verbieden (tatoeage, bromm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Financieel gezag: kosten van een kind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alen. Tot je 21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407280" y="692280"/>
            <a:ext cx="2736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9B84-028F-4B40-B1A9-B117F4908BE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mag je trouwen?4 belangrijke ei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je nog niet getrouwd bent (dus niet met meer dan 1 perso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moet weten wat je doet (niet dronken, onder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rderjarig zijn. (jong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leen als het meisje zwanger is + 16/17 jaar + toestemming ou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trouwen met familie (neef/nicht mag w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7236000" y="476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7524720" y="3490920"/>
            <a:ext cx="12952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6" descr="leuke en gratis Liefde animaties"/>
          <p:cNvPicPr/>
          <p:nvPr/>
        </p:nvPicPr>
        <p:blipFill>
          <a:blip r:embed="rId1"/>
          <a:stretch/>
        </p:blipFill>
        <p:spPr>
          <a:xfrm>
            <a:off x="684360" y="1413000"/>
            <a:ext cx="1942920" cy="2574720"/>
          </a:xfrm>
          <a:prstGeom prst="rect">
            <a:avLst/>
          </a:prstGeom>
          <a:ln w="0">
            <a:noFill/>
          </a:ln>
        </p:spPr>
      </p:pic>
      <p:sp>
        <p:nvSpPr>
          <p:cNvPr id="1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E998-4812-45D6-9C7C-0BC92DDF5F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 3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en zij trouw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2019240" cy="211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3"/>
          <a:stretch/>
        </p:blipFill>
        <p:spPr>
          <a:xfrm>
            <a:off x="611280" y="1557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4"/>
          <a:stretch/>
        </p:blipFill>
        <p:spPr>
          <a:xfrm>
            <a:off x="468360" y="4321080"/>
            <a:ext cx="2298600" cy="253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www.haarlemsdagblad.nl/multimedia/dynamic/01706/contracorriente_1706051j.jpg"/>
          <p:cNvPicPr/>
          <p:nvPr/>
        </p:nvPicPr>
        <p:blipFill>
          <a:blip r:embed="rId5"/>
          <a:srcRect l="13287" t="1904" r="17317" b="-914"/>
          <a:stretch/>
        </p:blipFill>
        <p:spPr>
          <a:xfrm>
            <a:off x="3348000" y="1628640"/>
            <a:ext cx="2016000" cy="223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t2.gstatic.com/images?q=tbn:-JW2iZH6LHDylM:http://effatha0.punt.nl/upload/Johan_van_Arkel.jpg&amp;t=1"/>
          <p:cNvPicPr/>
          <p:nvPr/>
        </p:nvPicPr>
        <p:blipFill>
          <a:blip r:embed="rId6"/>
          <a:srcRect l="0" t="0" r="40157" b="0"/>
          <a:stretch/>
        </p:blipFill>
        <p:spPr>
          <a:xfrm>
            <a:off x="3203640" y="4437000"/>
            <a:ext cx="2520720" cy="2246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http://estb.msn.com/i/BE/A79E5521BDD84E9BF434F09781D3B2.jpg"/>
          <p:cNvPicPr/>
          <p:nvPr/>
        </p:nvPicPr>
        <p:blipFill>
          <a:blip r:embed="rId7"/>
          <a:srcRect l="22182" t="-315" r="6143" b="61268"/>
          <a:stretch/>
        </p:blipFill>
        <p:spPr>
          <a:xfrm>
            <a:off x="6227640" y="4437000"/>
            <a:ext cx="27320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8"/>
          <a:stretch/>
        </p:blipFill>
        <p:spPr>
          <a:xfrm>
            <a:off x="6372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9"/>
          <a:stretch/>
        </p:blipFill>
        <p:spPr>
          <a:xfrm>
            <a:off x="3203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Emancip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roeger was de vrouw: huisvrouw en moeder, geen stemrecht, geen stud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- Vrouwen niet meer tevreden: ook werken, ook studeren en stemrecht sinds 191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879D-EFEE-4603-8242-C79ADFEFED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3903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607C-DB94-46B3-A8EB-26276D5B65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B84F-29BE-41D4-B131-D3B7CA81879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 je ouders gaan schei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llen v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mentatie betalen (maandelijks een geldbedr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eralimentatie: betaalt de ouder die de kinderen niet verzorgt aan de andere ouder tot 21 jaar ou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alimentatie: betalen als je inkomen veel hoger is dan die van je 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gangsregeling voor de kinderen: ouderlijkgezag bij 1 ou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ouderschap: kinderen blijven deels bij de ene ouder, deels bij de ander. Ouderlijkgezag verde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7236000" y="5370480"/>
            <a:ext cx="1620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3A0D-3E5A-4F19-BD89-96028376230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 jullie het niet eens wor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hter bes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ind beslist als hij 12 jaar of ouder i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eindbeslissing is voor de rech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5881680" y="3716280"/>
            <a:ext cx="29750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1B28-9A82-4814-AC33-E14FE819559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n wie is het g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rouwen in algehele gemeenschap van goeder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 bezittingen, geld én schulden, van beide partners s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j scheiding: ieder krijgt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se 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 het moment van trouwen bij een notaris vast leggen wat van wie is. Bij scheiding: je krijgt wat van jou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vak 4"/>
          <p:cNvSpPr/>
          <p:nvPr/>
        </p:nvSpPr>
        <p:spPr>
          <a:xfrm>
            <a:off x="250920" y="3068640"/>
            <a:ext cx="115236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kstvak 5"/>
          <p:cNvSpPr/>
          <p:nvPr/>
        </p:nvSpPr>
        <p:spPr>
          <a:xfrm>
            <a:off x="2484360" y="5373720"/>
            <a:ext cx="11509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kstvak 6"/>
          <p:cNvSpPr/>
          <p:nvPr/>
        </p:nvSpPr>
        <p:spPr>
          <a:xfrm>
            <a:off x="179280" y="5373720"/>
            <a:ext cx="11527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kstvak 7"/>
          <p:cNvSpPr/>
          <p:nvPr/>
        </p:nvSpPr>
        <p:spPr>
          <a:xfrm>
            <a:off x="250920" y="3716280"/>
            <a:ext cx="115236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8"/>
          <p:cNvSpPr/>
          <p:nvPr/>
        </p:nvSpPr>
        <p:spPr>
          <a:xfrm>
            <a:off x="2700360" y="3357720"/>
            <a:ext cx="1150920" cy="4600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kstvak 9"/>
          <p:cNvSpPr/>
          <p:nvPr/>
        </p:nvSpPr>
        <p:spPr>
          <a:xfrm>
            <a:off x="179280" y="6093000"/>
            <a:ext cx="11527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vak 10"/>
          <p:cNvSpPr/>
          <p:nvPr/>
        </p:nvSpPr>
        <p:spPr>
          <a:xfrm>
            <a:off x="2484360" y="6093000"/>
            <a:ext cx="11509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IJL-RECHTS 11"/>
          <p:cNvSpPr/>
          <p:nvPr/>
        </p:nvSpPr>
        <p:spPr>
          <a:xfrm>
            <a:off x="1547640" y="551664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IJL-RECHTS 12"/>
          <p:cNvSpPr/>
          <p:nvPr/>
        </p:nvSpPr>
        <p:spPr>
          <a:xfrm>
            <a:off x="1547640" y="623736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IJL-RECHTS 13"/>
          <p:cNvSpPr/>
          <p:nvPr/>
        </p:nvSpPr>
        <p:spPr>
          <a:xfrm rot="1484400">
            <a:off x="1391760" y="3252600"/>
            <a:ext cx="1265400" cy="20952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IJL-RECHTS 14"/>
          <p:cNvSpPr/>
          <p:nvPr/>
        </p:nvSpPr>
        <p:spPr>
          <a:xfrm rot="20759400">
            <a:off x="1409760" y="3795480"/>
            <a:ext cx="1266840" cy="209520"/>
          </a:xfrm>
          <a:prstGeom prst="rightArrow">
            <a:avLst>
              <a:gd name="adj1" fmla="val 50000"/>
              <a:gd name="adj2" fmla="val 500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5867280" y="2852640"/>
            <a:ext cx="21607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AAF1-C30A-4730-BE54-8484B83218B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6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oeger ni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k keurde het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genoeg welvaart om op jezelf te w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 w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 financiele middellen/ economisch onafhank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fde i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tandshuwelij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lkaar blijven voor de kinderen of voor het 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ar niet meer van elkaar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www.math4all.nl/MathAdoreOpgaven/Images/va-fa15-op5-t1.jpg"/>
          <p:cNvPicPr/>
          <p:nvPr/>
        </p:nvPicPr>
        <p:blipFill>
          <a:blip r:embed="rId1"/>
          <a:srcRect l="0" t="29990" r="34202" b="39497"/>
          <a:stretch/>
        </p:blipFill>
        <p:spPr>
          <a:xfrm>
            <a:off x="1763640" y="4400640"/>
            <a:ext cx="5472360" cy="245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maineiac.com/marriage/divorce_settlement_pic.gif"/>
          <p:cNvPicPr/>
          <p:nvPr/>
        </p:nvPicPr>
        <p:blipFill>
          <a:blip r:embed="rId2"/>
          <a:srcRect l="4344" t="6080" r="10209" b="0"/>
          <a:stretch/>
        </p:blipFill>
        <p:spPr>
          <a:xfrm>
            <a:off x="6834240" y="836640"/>
            <a:ext cx="2309760" cy="1814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3EEB-120A-405F-AEA4-AC059E9FFCA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oet bijna nooit iet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écht all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 klein kind ben j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hankelijk van je ou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efte aan vri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fdes rela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 je werk colleg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 je bent als mens:            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9"/>
          <p:cNvSpPr/>
          <p:nvPr/>
        </p:nvSpPr>
        <p:spPr>
          <a:xfrm>
            <a:off x="5580000" y="5661000"/>
            <a:ext cx="1944720" cy="55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Sociaal!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http://noplacelikehome.punt.nl/upload/friendship_quote_graphic_c2.gif"/>
          <p:cNvPicPr/>
          <p:nvPr/>
        </p:nvPicPr>
        <p:blipFill>
          <a:blip r:embed="rId1"/>
          <a:stretch/>
        </p:blipFill>
        <p:spPr>
          <a:xfrm>
            <a:off x="5580000" y="1413000"/>
            <a:ext cx="298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8AE1-F051-4F0A-B236-563E8AE2F1F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ek 5" descr=""/>
          <p:cNvPicPr/>
          <p:nvPr/>
        </p:nvPicPr>
        <p:blipFill>
          <a:blip r:embed="rId1"/>
          <a:stretch/>
        </p:blipFill>
        <p:spPr>
          <a:xfrm>
            <a:off x="971640" y="1919160"/>
            <a:ext cx="7315200" cy="493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leuke en gratis Liefde animaties"/>
          <p:cNvPicPr/>
          <p:nvPr/>
        </p:nvPicPr>
        <p:blipFill>
          <a:blip r:embed="rId2"/>
          <a:stretch/>
        </p:blipFill>
        <p:spPr>
          <a:xfrm>
            <a:off x="7164360" y="1197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E827-56A7-419E-AC4F-D2749AC6E1E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 gaan de kinderen wonen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om denk je dat dit zo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ek 4" descr=""/>
          <p:cNvPicPr/>
          <p:nvPr/>
        </p:nvPicPr>
        <p:blipFill>
          <a:blip r:embed="rId1"/>
          <a:stretch/>
        </p:blipFill>
        <p:spPr>
          <a:xfrm>
            <a:off x="519120" y="2327400"/>
            <a:ext cx="4649760" cy="4003560"/>
          </a:xfrm>
          <a:prstGeom prst="rect">
            <a:avLst/>
          </a:prstGeom>
          <a:ln w="0">
            <a:noFill/>
          </a:ln>
        </p:spPr>
      </p:pic>
      <p:pic>
        <p:nvPicPr>
          <p:cNvPr id="176" name="Grafiek 5" descr=""/>
          <p:cNvPicPr/>
          <p:nvPr/>
        </p:nvPicPr>
        <p:blipFill>
          <a:blip r:embed="rId2"/>
          <a:stretch/>
        </p:blipFill>
        <p:spPr>
          <a:xfrm>
            <a:off x="4478400" y="2184480"/>
            <a:ext cx="5178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144A-F2B6-458B-9A38-026A147EFE4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67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 denk en voel je als kind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Moet ik bij mijn vader of moeder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2 jaar en ouder beslist samen met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onger dan 1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e kan wel naar de rechter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Zal ik weglo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eughulpverlening kan be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ia bureau jeugdzorg naar een pleeg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aar een wegloop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huis speciaal voor islamitische meisjes of jon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Wil ik op mezelf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ot je 18e jaar heb je toestemming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egeleid-kamer-wonen of kamertr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et inkomen heb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iqeneq.nl/attachments/Image/boos.gif"/>
          <p:cNvPicPr/>
          <p:nvPr/>
        </p:nvPicPr>
        <p:blipFill>
          <a:blip r:embed="rId1"/>
          <a:stretch/>
        </p:blipFill>
        <p:spPr>
          <a:xfrm>
            <a:off x="6875640" y="1805040"/>
            <a:ext cx="2268360" cy="2266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95FF-8677-416E-B8E4-95CA5008D10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kan je liefdesleven eruit zi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 (en gez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-relati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ving Apart Together: wel vaste relatie, niet samen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ch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psw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t een hele groep in 1 huis 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enstaand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eds meer mensen: individualisering. Men is economisch onafhanke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nwonene + samenlevings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948360" y="-243000"/>
            <a:ext cx="1800360" cy="2760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0" y="5089680"/>
            <a:ext cx="1979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A1B5-E6AB-488C-A041-8620A6A5876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zi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 gezin: vader, moeder, broer(s) of zus(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adop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je biologische 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d binnen een homohuw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ef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eg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-ouder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gd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eestal een bekende, kan ook maatschappelijk werker zij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http://www.smitvernooij.nl/images/BordScheidenopmaat.gif"/>
          <p:cNvPicPr/>
          <p:nvPr/>
        </p:nvPicPr>
        <p:blipFill>
          <a:blip r:embed="rId1"/>
          <a:stretch/>
        </p:blipFill>
        <p:spPr>
          <a:xfrm>
            <a:off x="5364000" y="2637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al je een 8.5 of hoger…trak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4516-B0B3-4399-BD0E-ABE5CA9BA8C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4.bp.blogspot.com/_Qd3OP89xEQU/Rnj7feykZ3I/AAAAAAAAACE/po8iv7OKfSM/s400/theEnd.gif"/>
          <p:cNvPicPr/>
          <p:nvPr/>
        </p:nvPicPr>
        <p:blipFill>
          <a:blip r:embed="rId1"/>
          <a:stretch/>
        </p:blipFill>
        <p:spPr>
          <a:xfrm>
            <a:off x="1979640" y="1413000"/>
            <a:ext cx="5040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649B-FAFA-4EDD-B3C3-C1636DFD6F1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ar denk je aan bij het wo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Tekstvak 9"/>
          <p:cNvGrpSpPr/>
          <p:nvPr/>
        </p:nvGrpSpPr>
        <p:grpSpPr>
          <a:xfrm>
            <a:off x="2828880" y="2981160"/>
            <a:ext cx="3121200" cy="584280"/>
            <a:chOff x="2828880" y="2981160"/>
            <a:chExt cx="3121200" cy="584280"/>
          </a:xfrm>
        </p:grpSpPr>
        <p:pic>
          <p:nvPicPr>
            <p:cNvPr id="54" name="Tekstvak 9" descr=""/>
            <p:cNvPicPr/>
            <p:nvPr/>
          </p:nvPicPr>
          <p:blipFill>
            <a:blip r:embed="rId1"/>
            <a:stretch/>
          </p:blipFill>
          <p:spPr>
            <a:xfrm>
              <a:off x="2828880" y="2981160"/>
              <a:ext cx="31212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43280" y="2997360"/>
              <a:ext cx="30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Arial"/>
                </a:rPr>
                <a:t>Relaties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F52F-4CC8-4E9A-8D37-8C9270AE896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on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endschap en lief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vrienden, familie,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le re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n onderlinge verplichtende af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woon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W.I.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2421000"/>
            <a:ext cx="17589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leuke en gratis Liefde animaties"/>
          <p:cNvPicPr/>
          <p:nvPr/>
        </p:nvPicPr>
        <p:blipFill>
          <a:blip r:embed="rId3"/>
          <a:stretch/>
        </p:blipFill>
        <p:spPr>
          <a:xfrm>
            <a:off x="395280" y="501336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5AC0-BCED-4100-9247-86ABCCE2752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ke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angen of verplicht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leraar, sporttrainer, 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ele relatie: taken en 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erlinge verplichtende ad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voelens minder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een heeft meer macht dan de ander: machtsversch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t0.gstatic.com/images?q=tbn:hmFsyCarMEv9SM:b"/>
          <p:cNvPicPr/>
          <p:nvPr/>
        </p:nvPicPr>
        <p:blipFill>
          <a:blip r:embed="rId1"/>
          <a:stretch/>
        </p:blipFill>
        <p:spPr>
          <a:xfrm>
            <a:off x="6516720" y="1125360"/>
            <a:ext cx="2087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57E3-F1EC-4C76-817A-33F948E1D08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onlijk- of zakelijke rela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kleurplatenwereld.nl/kleurplaten/sporten/voetbal-trainer.gif"/>
          <p:cNvPicPr/>
          <p:nvPr/>
        </p:nvPicPr>
        <p:blipFill>
          <a:blip r:embed="rId1"/>
          <a:stretch/>
        </p:blipFill>
        <p:spPr>
          <a:xfrm>
            <a:off x="250920" y="1844640"/>
            <a:ext cx="262260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gnoe.nu/wp-content/uploads/2009/05/ouders-van-nu-300x272.jpg"/>
          <p:cNvPicPr/>
          <p:nvPr/>
        </p:nvPicPr>
        <p:blipFill>
          <a:blip r:embed="rId2"/>
          <a:stretch/>
        </p:blipFill>
        <p:spPr>
          <a:xfrm>
            <a:off x="3059280" y="3068640"/>
            <a:ext cx="285732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goedemorgenontbijtservice.nl/specialeontbijten/images/secretaresse.gif"/>
          <p:cNvPicPr/>
          <p:nvPr/>
        </p:nvPicPr>
        <p:blipFill>
          <a:blip r:embed="rId3"/>
          <a:srcRect l="6776" t="0" r="7376" b="0"/>
          <a:stretch/>
        </p:blipFill>
        <p:spPr>
          <a:xfrm>
            <a:off x="6156360" y="1700280"/>
            <a:ext cx="2736720" cy="2579760"/>
          </a:xfrm>
          <a:prstGeom prst="rect">
            <a:avLst/>
          </a:prstGeom>
          <a:ln w="0">
            <a:noFill/>
          </a:ln>
        </p:spPr>
      </p:pic>
      <p:sp>
        <p:nvSpPr>
          <p:cNvPr id="71" name="Tekstvak 7"/>
          <p:cNvSpPr/>
          <p:nvPr/>
        </p:nvSpPr>
        <p:spPr>
          <a:xfrm>
            <a:off x="395280" y="47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kstvak 8"/>
          <p:cNvSpPr/>
          <p:nvPr/>
        </p:nvSpPr>
        <p:spPr>
          <a:xfrm>
            <a:off x="3276720" y="573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ersoon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vak 9"/>
          <p:cNvSpPr/>
          <p:nvPr/>
        </p:nvSpPr>
        <p:spPr>
          <a:xfrm>
            <a:off x="6516720" y="443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0021-B349-48E7-991C-40271329E59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sen hebben verwachtingen bij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 is 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lief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im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ksuele moraal: hoe je over seks de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wel of geen seks voor het huwelij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3419640" y="4869000"/>
            <a:ext cx="158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ueel moraal: hoe je over seks de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 voor het huw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eemdgaan moet ku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ubbele moraal: andere normen voor jongens dan voor meisj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ongen veel seks: st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isje veel seks: s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FD13-DA98-4616-9203-4EECDD1DF6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chtverhoudin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raar kan je straf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gent kan je laten sto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Je moet naar je ouders lui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ij moet dan gehoorz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treem machtsverschi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ver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leeftijdsverschil (meisje 14, man 40: verbo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942F-0301-41A8-BD20-39F9562988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dvocaat"/>
          <p:cNvPicPr/>
          <p:nvPr/>
        </p:nvPicPr>
        <p:blipFill>
          <a:blip r:embed="rId1"/>
          <a:stretch/>
        </p:blipFill>
        <p:spPr>
          <a:xfrm>
            <a:off x="6804000" y="1268280"/>
            <a:ext cx="1979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2-02-28T16:25:05Z</dcterms:modified>
  <cp:revision>161</cp:revision>
  <dc:subject/>
  <dc:title>Dia 1</dc:title>
</cp:coreProperties>
</file>