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F0F69-D6B6-44F7-80F7-223EB3ED1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A5E9A-D84F-444E-A925-B3971A7B7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48BC4-B504-4EB6-8B88-1A07FC1EE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A6372-F3C6-48E3-B3FB-C395642BA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6E0A0-8DDB-4B40-99BF-9288C817F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1EDCB-AFE4-426C-B181-3F19D8C41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5014F-A0B3-4CF3-B9CA-FA132E164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A13C5-14F6-43EC-B661-38FB94B35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3CDAC-5F93-4065-BAB7-FED82CC6A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FB5DA-7EBB-4B86-A41B-59574E739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A5990-0667-4C16-BEA5-7F89F035C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7B6D9-096D-4052-9A4A-225F969A2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6284B-8549-4D4B-A052-2D5720D9AFEC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Calibri"/>
              </a:rPr>
              <a:t>Maatschappijle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898989"/>
                </a:solidFill>
                <a:latin typeface="Calibri"/>
              </a:rPr>
              <a:t>Eindexamen v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898989"/>
                </a:solidFill>
                <a:latin typeface="Calibri"/>
              </a:rPr>
              <a:t>Je rondt het af in de 3</a:t>
            </a:r>
            <a:r>
              <a:rPr b="0" lang="nl-NL" sz="3200" spc="-1" strike="noStrike" baseline="30000">
                <a:solidFill>
                  <a:srgbClr val="898989"/>
                </a:solidFill>
                <a:latin typeface="Calibri"/>
              </a:rPr>
              <a:t>e</a:t>
            </a:r>
            <a:r>
              <a:rPr b="0" lang="nl-NL" sz="3200" spc="-1" strike="noStrike">
                <a:solidFill>
                  <a:srgbClr val="898989"/>
                </a:solidFill>
                <a:latin typeface="Calibri"/>
              </a:rPr>
              <a:t> klas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539640" y="980640"/>
            <a:ext cx="8229600" cy="616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Eindexamenvak: Alleen SETs (school examen toetse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Geen schriftelijk centraal exam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7 of hoger gemiddeld: telt mee voor eindexamen als compensati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1 SET herkansbaar in juni 201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nl-NL" sz="4000" spc="-1" strike="noStrike">
                <a:solidFill>
                  <a:srgbClr val="ffffff"/>
                </a:solidFill>
                <a:latin typeface="Calibri"/>
              </a:rPr>
              <a:t>SET: ongeoorloofd afwezig = 1.0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Ziek tijdens set: ouders/verzorgers tekenen briefje nog zelfde dag bij receptie. (geoorloofd afwezig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Niet getekend: ongeoorloofd afwezig =1.0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Krijgt dan datum mee wanneer SET in te halen! Staat ook op jaarplanne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Tandarts, dokter, ortho, etc = geen excuus voor afwezigheid!  Ongeoorloofd afwezig = 1.0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libri"/>
              </a:rPr>
              <a:t>Data inhaal SET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17 of 18 november inhaal se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1 of 2 februari inhaal se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3 of 4 april inhaal se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11 juni inhaal se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Calibri"/>
              </a:rPr>
              <a:t>18 juni HERKANSING SE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Dit jaa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nl-NL" sz="2800" spc="-1" strike="noStrike">
                <a:solidFill>
                  <a:srgbClr val="ffffff"/>
                </a:solidFill>
                <a:latin typeface="Calibri"/>
              </a:rPr>
              <a:t>6 SE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Calibri"/>
              </a:rPr>
              <a:t>4 handelingsdel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Calibri"/>
              </a:rPr>
              <a:t>1 praktische opdrach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Calibri"/>
              </a:rPr>
              <a:t>Op de ELO staat al het huiswerk + set data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libri"/>
              </a:rPr>
              <a:t>Onderwerpen + Data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Politiek </a:t>
            </a: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ED01</a:t>
            </a: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week 17 okt</a:t>
            </a: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15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Massamedia ED02</a:t>
            </a: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week 12 dec</a:t>
            </a: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15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Jongeren ED03</a:t>
            </a: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week 13 feb</a:t>
            </a: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15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Relaties ED04</a:t>
            </a: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week 2 apr</a:t>
            </a: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10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Criminaliteit ED05</a:t>
            </a: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week 14 mei</a:t>
            </a: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15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Multiculti ED06</a:t>
            </a: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week 6 juni</a:t>
            </a: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10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               </a:t>
            </a: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Opschrijven in je agenda!!!!!!!</a:t>
            </a: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Praktische opdracht (ed07)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Telt voor 20% me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NIET herkansba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In twee tall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Werkstuk + Presentati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6840" y="764640"/>
            <a:ext cx="8435880" cy="568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alibri"/>
              </a:rPr>
              <a:t>Handelingsdele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Calibri"/>
              </a:rPr>
              <a:t>4 handelingsdel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Calibri"/>
              </a:rPr>
              <a:t>Onvoldoende, Voldoende of Go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Calibri"/>
              </a:rPr>
              <a:t>Onvoldoende: GEEN Diploma/ taak in de zomervakanti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Calibri"/>
              </a:rPr>
              <a:t>Bestaat uit: huiswerk controle en opdrachten in de le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Calibri"/>
              </a:rPr>
              <a:t>Vóór ieder rapport wordt minstens 1x hw gecheckt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Calibri"/>
              </a:rPr>
              <a:t>Op de elo staat altijd al het huiswerk (ziek = zelf check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0000"/>
                </a:solidFill>
                <a:latin typeface="Calibri"/>
              </a:rPr>
              <a:t>Nb: 20-04 bij ED04 moet 2-4 zijn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1"/>
          <a:srcRect l="11513" t="32716" r="16432" b="24760"/>
          <a:stretch/>
        </p:blipFill>
        <p:spPr>
          <a:xfrm>
            <a:off x="0" y="1341360"/>
            <a:ext cx="9175680" cy="33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9T19:03:26Z</dcterms:created>
  <dc:creator>Floris Hirschfeld</dc:creator>
  <dc:description/>
  <dc:language>en-US</dc:language>
  <cp:lastModifiedBy>Floris Hirschfeld</cp:lastModifiedBy>
  <dcterms:modified xsi:type="dcterms:W3CDTF">2011-08-29T19:35:23Z</dcterms:modified>
  <cp:revision>5</cp:revision>
  <dc:subject/>
  <dc:title>Maatschappijleer</dc:title>
</cp:coreProperties>
</file>