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7.png" ContentType="image/png"/>
  <Override PartName="/ppt/media/image4.gif" ContentType="image/gif"/>
  <Override PartName="/ppt/media/image24.gif" ContentType="image/gif"/>
  <Override PartName="/ppt/media/image17.png" ContentType="image/png"/>
  <Override PartName="/ppt/media/image26.png" ContentType="image/png"/>
  <Override PartName="/ppt/media/image3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gif" ContentType="image/gif"/>
  <Override PartName="/ppt/media/image29.png" ContentType="image/png"/>
  <Override PartName="/ppt/media/image11.png" ContentType="image/png"/>
  <Override PartName="/ppt/media/image5.gif" ContentType="image/gif"/>
  <Override PartName="/ppt/media/image28.png" ContentType="image/png"/>
  <Override PartName="/ppt/media/image35.gif" ContentType="image/gi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8289-DD51-42CE-9913-ADCB1813FD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9A01-167D-46C5-98E4-F6B21E23B3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902-5C96-4AA8-8AE9-C2208208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FA6-F077-4A4F-BAAE-17593D07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BE1-6B2D-4DCD-A6DD-B64F3C3F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7F5-A93E-4EA2-94EA-BA62E1FB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208-AF80-4CC1-B51F-395CEA73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8BB-EBD3-4F66-A2CE-1C75BBFD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C89-21E2-4A95-A723-84C29D1D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8AA-3406-4F59-B2A7-FFE36AA7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253-B971-4217-AC76-29F21EBB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128-FC3B-4DED-B71E-8DE92CD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910-1A91-483F-8BB4-CEE3249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3C7-7DF2-4C07-B7C3-6EF3D38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F909-C494-43C1-BF95-D6EAB419A7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D5C5-0F0A-47C5-A152-C9C897C04A0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636560" y="836640"/>
            <a:ext cx="34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Criminalitei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43280" y="2637000"/>
            <a:ext cx="24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32 tot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GIF_boef"/>
          <p:cNvPicPr/>
          <p:nvPr/>
        </p:nvPicPr>
        <p:blipFill>
          <a:blip r:embed="rId1"/>
          <a:stretch/>
        </p:blipFill>
        <p:spPr>
          <a:xfrm>
            <a:off x="1825560" y="2359080"/>
            <a:ext cx="2637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179-1D0D-4B33-9780-22305ED8F3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C6DA-5093-49AC-A248-33411EB268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3564-CB60-40C7-8E9A-87B3DCB5106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olitie"/>
          <p:cNvPicPr/>
          <p:nvPr/>
        </p:nvPicPr>
        <p:blipFill>
          <a:blip r:embed="rId1"/>
          <a:stretch/>
        </p:blipFill>
        <p:spPr>
          <a:xfrm>
            <a:off x="6804000" y="549360"/>
            <a:ext cx="149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DF33-C1E8-4CD2-83B3-5EAAE91775D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5410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6516720" y="1125360"/>
          <a:ext cx="2228760" cy="12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125360"/>
                    <a:ext cx="22287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3565-F1EA-48B7-AB50-D5C26761A3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 gebeurt er met verd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2"/>
          <p:cNvGraphicFramePr/>
          <p:nvPr/>
        </p:nvGraphicFramePr>
        <p:xfrm>
          <a:off x="684360" y="2349360"/>
          <a:ext cx="8001000" cy="35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800100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5CC-5186-4A77-BEBB-60C318441C3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ADCB-D0CA-45AB-97F1-2396A38CD5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6"/>
          <p:cNvSpPr/>
          <p:nvPr/>
        </p:nvSpPr>
        <p:spPr>
          <a:xfrm>
            <a:off x="7020000" y="306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cassatie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7"/>
          <p:cNvSpPr/>
          <p:nvPr/>
        </p:nvSpPr>
        <p:spPr>
          <a:xfrm>
            <a:off x="7020000" y="43657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hoger beroep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8"/>
          <p:cNvSpPr/>
          <p:nvPr/>
        </p:nvSpPr>
        <p:spPr>
          <a:xfrm>
            <a:off x="539640" y="2276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 hoge ra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vak 9"/>
          <p:cNvSpPr/>
          <p:nvPr/>
        </p:nvSpPr>
        <p:spPr>
          <a:xfrm>
            <a:off x="179280" y="35002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 gerechts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o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vak 10"/>
          <p:cNvSpPr/>
          <p:nvPr/>
        </p:nvSpPr>
        <p:spPr>
          <a:xfrm>
            <a:off x="395280" y="5084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9 recht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E0B-20C9-474B-BD4F-E6BE1939D4B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1809-9357-46C7-9A90-72DE84AA4FD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Enter Taylors Solicitors web pages"/>
          <p:cNvPicPr/>
          <p:nvPr/>
        </p:nvPicPr>
        <p:blipFill>
          <a:blip r:embed="rId1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ail"/>
          <p:cNvPicPr/>
          <p:nvPr/>
        </p:nvPicPr>
        <p:blipFill>
          <a:blip r:embed="rId2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0AD6-E307-43FF-940F-67DCA716B17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07B8-6CBC-490F-BBF0-07F29185791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79280" y="1844640"/>
            <a:ext cx="806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Zwaardere straf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minder zware straf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Criminee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overtreder/ of nie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stopPolitie"/>
          <p:cNvPicPr/>
          <p:nvPr/>
        </p:nvPicPr>
        <p:blipFill>
          <a:blip r:embed="rId1"/>
          <a:stretch/>
        </p:blipFill>
        <p:spPr>
          <a:xfrm>
            <a:off x="7308720" y="549360"/>
            <a:ext cx="158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2917-C4F4-47A0-8A22-9F82DE62024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British_police"/>
          <p:cNvPicPr/>
          <p:nvPr/>
        </p:nvPicPr>
        <p:blipFill>
          <a:blip r:embed="rId1"/>
          <a:stretch/>
        </p:blipFill>
        <p:spPr>
          <a:xfrm>
            <a:off x="6804000" y="5493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299736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fschr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92DB-0AF1-419D-8336-D1CB0DF8DD0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50920" y="1341360"/>
            <a:ext cx="7643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963A-21B5-4B65-B65F-AD219561EB5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1989000"/>
            <a:ext cx="8064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ieter was agressief mede door de hoeveelheden drank die hij genomen had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rugs en drank zijn vaak de oorzaak van misdrijv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3645000"/>
            <a:ext cx="8064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piumwet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alle regels over drug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drugs"/>
          <p:cNvPicPr/>
          <p:nvPr/>
        </p:nvPicPr>
        <p:blipFill>
          <a:blip r:embed="rId1"/>
          <a:stretch/>
        </p:blipFill>
        <p:spPr>
          <a:xfrm>
            <a:off x="6877080" y="4292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No_Drugs_gif"/>
          <p:cNvPicPr/>
          <p:nvPr/>
        </p:nvPicPr>
        <p:blipFill>
          <a:blip r:embed="rId2"/>
          <a:stretch/>
        </p:blipFill>
        <p:spPr>
          <a:xfrm>
            <a:off x="6886440" y="3645000"/>
            <a:ext cx="2257560" cy="1676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1494360" y="4076640"/>
            <a:ext cx="39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oft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asj, wiet </a:t>
            </a: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OOGD NIET LEGAAL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1425600" y="4941720"/>
            <a:ext cx="47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ard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eroïne, cocaïne, x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LLEG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35640" y="5877000"/>
            <a:ext cx="68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doogbeleid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handel en gebruik van sof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ugs wordt met rust gela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15B4-5E6F-4F34-BE24-09ED3287A39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989000"/>
            <a:ext cx="914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bestrijden door de grote misdaadorganisaties aan te pakken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De politie…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0" y="3429000"/>
            <a:ext cx="8064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akt grote handel in soft- en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hard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Laat kleine handel in softdrugs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t rus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akt het gebruik van klein beetje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oft- of harddrugs niet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alcohol"/>
          <p:cNvPicPr/>
          <p:nvPr/>
        </p:nvPicPr>
        <p:blipFill>
          <a:blip r:embed="rId1"/>
          <a:stretch/>
        </p:blipFill>
        <p:spPr>
          <a:xfrm>
            <a:off x="5580000" y="3068640"/>
            <a:ext cx="2624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07D-D4C7-4ABE-963F-E2F499D36FF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0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Buitenland heeft veel kritiek op het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Nederlandse gedoogbelei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3284640"/>
            <a:ext cx="3924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oordelen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dogen softdrugs, daardoor minder gebruik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gedogen verkoop in coffeeshops, minder overlast op straa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riminaliteit"/>
          <p:cNvPicPr/>
          <p:nvPr/>
        </p:nvPicPr>
        <p:blipFill>
          <a:blip r:embed="rId1"/>
          <a:stretch/>
        </p:blipFill>
        <p:spPr>
          <a:xfrm>
            <a:off x="6443640" y="170028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4140360" y="3357720"/>
            <a:ext cx="5003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Tegenstanders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Kleine stap softdrugs </a:t>
            </a:r>
            <a:r>
              <a:rPr b="0" i="1" lang="nl-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Risico’s aan sofrdrugs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inder concentrati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estelijk verslaafd aan raken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5C84-02EC-4BD9-B5A3-83056614FEF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oordvrouwe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4149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A4D-6214-4A34-A426-7B7A63565B3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1739880"/>
            <a:ext cx="8064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elvoorkomendecriminaliteit: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misdrijven die relatief vaak voorkomen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winkeldiefstal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zakkenrollen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oetbal vandalism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vernieling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Zware criminaliteit: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erkracht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moord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oofoverva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rborgen criminaliteit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belastingfraud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onterechte uitker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internetcriminalitei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0105-3F16-4CA6-9E9A-9D679788995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-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olitie"/>
          <p:cNvPicPr/>
          <p:nvPr/>
        </p:nvPicPr>
        <p:blipFill>
          <a:blip r:embed="rId1"/>
          <a:stretch/>
        </p:blipFill>
        <p:spPr>
          <a:xfrm>
            <a:off x="6012000" y="350028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0074-C26D-4921-9654-6C9A6CE6CAB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3880" y="2286000"/>
            <a:ext cx="7239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nnen vaker dan vrouw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F8A5-4CB2-42D7-B9A0-FD58F574CEC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9A01-569A-4968-8347-7371287533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9946-8FFD-49EE-8347-E2D0D80435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4B4-745E-4EAE-B55D-24810EF450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1:43:56Z</dcterms:modified>
  <cp:revision>135</cp:revision>
  <dc:subject/>
  <dc:title>Dia 1</dc:title>
</cp:coreProperties>
</file>