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055B-1A7C-4FA4-8E76-A57C77F740A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AF15-C8E4-4D04-B5A5-8EAE96EA6E2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C8AB-CB79-492C-9BA9-698BF2FB00D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CF8D-48BF-4AF2-9280-DA02E2BF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59FD-22D1-4F7B-BD30-19448998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099-0E6F-4082-AC1C-0CE45929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E3B-3F1E-41CA-88F9-AE23B73D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CD3-9046-42B4-B473-874E76B8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7BDE-C8BB-4D62-AB78-5D33D7C8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DF7-A229-4B4F-A583-84302E22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7DA2-3305-4B7F-9F38-A1424336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09C-93B2-49C9-8305-DFBC82A2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41B-04D2-46B0-A26C-CB454801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F4F-933E-4F88-AC44-4C18EF6F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7872-E24D-4D3B-BCFE-1003F4A3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2E56-1958-4E09-B35A-A475F3A1C6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22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23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24.png"/><Relationship Id="rId26" Type="http://schemas.openxmlformats.org/officeDocument/2006/relationships/image" Target="../media/image24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44364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9EB9-CD14-4017-9071-52CDF03C0F6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ABE7-784A-463C-9EFB-6774F3E0291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huizen naar een ander lan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eren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e gaat dat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slaagd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lam e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endo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838080" y="6858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ofdstuk: Multiculti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multiculti"/>
          <p:cNvPicPr/>
          <p:nvPr/>
        </p:nvPicPr>
        <p:blipFill>
          <a:blip r:embed="rId2"/>
          <a:stretch/>
        </p:blipFill>
        <p:spPr>
          <a:xfrm>
            <a:off x="3995640" y="2637000"/>
            <a:ext cx="48243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8470-2304-4330-84AD-E44B91E651E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3:Integratie geslaag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57200" y="2378160"/>
            <a:ext cx="27050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ijd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inderen van allochtonen integreren makkelijker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105520" y="2590920"/>
            <a:ext cx="2514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erk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or een baan leer je meer mensen kennen, maak je contect, spreek je de taal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90920" y="3429000"/>
            <a:ext cx="2209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aal en opleid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or leerplicht. Met diploma en taalbeheersing meer succ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68360" y="11970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aarom lukt integreren wel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5" descr=""/>
          <p:cNvPicPr/>
          <p:nvPr/>
        </p:nvPicPr>
        <p:blipFill>
          <a:blip r:embed="rId1"/>
          <a:stretch/>
        </p:blipFill>
        <p:spPr>
          <a:xfrm>
            <a:off x="611280" y="4508640"/>
            <a:ext cx="1323720" cy="2084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1763640" cy="1360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"/>
          <p:cNvPicPr/>
          <p:nvPr/>
        </p:nvPicPr>
        <p:blipFill>
          <a:blip r:embed="rId3"/>
          <a:stretch/>
        </p:blipFill>
        <p:spPr>
          <a:xfrm>
            <a:off x="5940360" y="5013360"/>
            <a:ext cx="1368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0640-8294-44C8-9EA9-4D8E33A677A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§4: Islam en christe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7"/>
          <p:cNvGraphicFramePr/>
          <p:nvPr/>
        </p:nvGraphicFramePr>
        <p:xfrm>
          <a:off x="179280" y="907920"/>
          <a:ext cx="8785440" cy="585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878544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2192-DFDF-4398-AAB1-D80400E1C98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4: Islam en christe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la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heilig boek: Kor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feet*: Mohamm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 5 zui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 is geen god behalved Allah en zijn Mohammed is zijn boodscha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5x per dag bidden, gezicht naar Mek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geld geven voor de ar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madan: niet eten en drinken als de zon schij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x in je leven een reis maken naar Mek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800600" y="116532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ristendom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ilig boek: Bijb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feet*: Jezu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0 geboden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 is maar 1 go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en andere goden dien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zomaar God’s naam gebruik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ondag = rustda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er je vader en je moeder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do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emand van wie je houdt niet in de steek lat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stel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lieg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s begeren dat van een ander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0" y="6035760"/>
            <a:ext cx="4800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feet: iemand die een boodschap van een God doorvertelt aan de mens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 rot="19699800">
            <a:off x="3492360" y="1052280"/>
            <a:ext cx="103680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2"/>
          <a:stretch/>
        </p:blipFill>
        <p:spPr>
          <a:xfrm rot="1356000">
            <a:off x="7451640" y="404640"/>
            <a:ext cx="140040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93E3-9159-40BA-8769-494FFC59916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4: Islam en Christe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280" y="116496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r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heilige boek niet letterlijk oppakken, belangrijkste boodschap eruit halen. Mee gaan met de tij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dementalist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lige boek wel degelijk letterlijk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men, het fundament. Kijk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de oorspronkelijk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itgangs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165bananento6"/>
          <p:cNvPicPr/>
          <p:nvPr/>
        </p:nvPicPr>
        <p:blipFill>
          <a:blip r:embed="rId1"/>
          <a:stretch/>
        </p:blipFill>
        <p:spPr>
          <a:xfrm>
            <a:off x="5508720" y="285264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inhoud 2"/>
          <p:cNvSpPr/>
          <p:nvPr/>
        </p:nvSpPr>
        <p:spPr>
          <a:xfrm>
            <a:off x="7000920" y="2428920"/>
            <a:ext cx="2143080" cy="342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uikerfeest: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d al Fit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Na dertig dagen overdag niet gegeten, gedronken, gerookt of gevreeën te hebben wordt de traditionele Ramadan (Vastenmaand) afgesloten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jdelijke aanduiding voor inhoud 2"/>
          <p:cNvSpPr/>
          <p:nvPr/>
        </p:nvSpPr>
        <p:spPr>
          <a:xfrm>
            <a:off x="5072040" y="2428920"/>
            <a:ext cx="2071800" cy="342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Ramadan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Tussen zonsopkomst en zonsondergang wordt er gevast..</a:t>
            </a:r>
            <a:br>
              <a:rPr sz="1500"/>
            </a:b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Het vasten wordt gezien als vorm van zuivering van de ziel en bedanking van Allah voor alles wat hij gegeven heeft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sla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214200" y="2428560"/>
            <a:ext cx="2071440" cy="2214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d-ul-Maul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Geboorte van de profeet.Op deze dag vieren moslims de geboortedag van de profeet Mohammed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C0EA-8664-42E5-B35B-F6AD1E03597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Min 4"/>
          <p:cNvSpPr/>
          <p:nvPr/>
        </p:nvSpPr>
        <p:spPr>
          <a:xfrm>
            <a:off x="-928800" y="1071720"/>
            <a:ext cx="10715760" cy="928440"/>
          </a:xfrm>
          <a:custGeom>
            <a:avLst/>
            <a:gdLst>
              <a:gd name="textAreaLeft" fmla="*/ 1420200 w 10715760"/>
              <a:gd name="textAreaRight" fmla="*/ 9295560 w 10715760"/>
              <a:gd name="textAreaTop" fmla="*/ 354960 h 928440"/>
              <a:gd name="textAreaBottom" fmla="*/ 573480 h 928440"/>
            </a:gdLst>
            <a:ahLst/>
            <a:rect l="textAreaLeft" t="textAreaTop" r="textAreaRight" b="textAreaBottom"/>
            <a:pathLst>
              <a:path w="10715626" h="928687">
                <a:moveTo>
                  <a:pt x="1420356" y="355130"/>
                </a:moveTo>
                <a:lnTo>
                  <a:pt x="9295270" y="355130"/>
                </a:lnTo>
                <a:lnTo>
                  <a:pt x="9295270" y="573557"/>
                </a:lnTo>
                <a:lnTo>
                  <a:pt x="1420356" y="57355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 verbindingslijn 6"/>
          <p:cNvSpPr/>
          <p:nvPr/>
        </p:nvSpPr>
        <p:spPr>
          <a:xfrm>
            <a:off x="100008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inhoud 2"/>
          <p:cNvSpPr/>
          <p:nvPr/>
        </p:nvSpPr>
        <p:spPr>
          <a:xfrm>
            <a:off x="3357720" y="2428920"/>
            <a:ext cx="2071440" cy="2786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fferfeest: Id al Adha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Met het vieren van dit feest herinnert men zich dat Ibrahiem (Abraham) gevraagd werd om zijn zoon Ismaël te offeren aan Allah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jdelijke aanduiding voor inhoud 2"/>
          <p:cNvSpPr/>
          <p:nvPr/>
        </p:nvSpPr>
        <p:spPr>
          <a:xfrm>
            <a:off x="1785960" y="2428920"/>
            <a:ext cx="1785960" cy="2214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Mi’raj: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Hemelreis van de profeet: Mohammed ging vanaf een rots naar de hemel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e verbindingslijn 11"/>
          <p:cNvSpPr/>
          <p:nvPr/>
        </p:nvSpPr>
        <p:spPr>
          <a:xfrm>
            <a:off x="264312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hte verbindingslijn 12"/>
          <p:cNvSpPr/>
          <p:nvPr/>
        </p:nvSpPr>
        <p:spPr>
          <a:xfrm>
            <a:off x="450072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 verbindingslijn 13"/>
          <p:cNvSpPr/>
          <p:nvPr/>
        </p:nvSpPr>
        <p:spPr>
          <a:xfrm>
            <a:off x="621504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 verbindingslijn 14"/>
          <p:cNvSpPr/>
          <p:nvPr/>
        </p:nvSpPr>
        <p:spPr>
          <a:xfrm>
            <a:off x="785808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FD1A-CEB6-418B-AD9C-07AA739BB26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rcRect l="0" t="15625" r="0" b="7229"/>
          <a:stretch/>
        </p:blipFill>
        <p:spPr>
          <a:xfrm>
            <a:off x="-757080" y="1052640"/>
            <a:ext cx="10442520" cy="5400720"/>
          </a:xfrm>
          <a:prstGeom prst="rect">
            <a:avLst/>
          </a:prstGeom>
          <a:ln w="0">
            <a:noFill/>
          </a:ln>
        </p:spPr>
      </p:pic>
      <p:sp>
        <p:nvSpPr>
          <p:cNvPr id="195" name="Tijdelijke aanduiding voor inhoud 2"/>
          <p:cNvSpPr/>
          <p:nvPr/>
        </p:nvSpPr>
        <p:spPr>
          <a:xfrm>
            <a:off x="179280" y="4508640"/>
            <a:ext cx="1514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erstmis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boorte 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istu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jdelijke aanduiding voor inhoud 2"/>
          <p:cNvSpPr/>
          <p:nvPr/>
        </p:nvSpPr>
        <p:spPr>
          <a:xfrm>
            <a:off x="2556000" y="4508640"/>
            <a:ext cx="1655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oedevrijda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Jezus sterf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an het kru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inhoud 2"/>
          <p:cNvSpPr/>
          <p:nvPr/>
        </p:nvSpPr>
        <p:spPr>
          <a:xfrm>
            <a:off x="3635280" y="4508640"/>
            <a:ext cx="18716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sen: 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de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pstanding van Jezu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jdelijke aanduiding voor inhoud 2"/>
          <p:cNvSpPr/>
          <p:nvPr/>
        </p:nvSpPr>
        <p:spPr>
          <a:xfrm>
            <a:off x="6732720" y="4508640"/>
            <a:ext cx="18716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inksteren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finitieve afscheid van jezus: naar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heme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inhoud 2"/>
          <p:cNvSpPr/>
          <p:nvPr/>
        </p:nvSpPr>
        <p:spPr>
          <a:xfrm>
            <a:off x="4788000" y="4437000"/>
            <a:ext cx="2585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Hemelvaart: 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nl-NL" sz="1700" spc="-1" strike="noStrike">
                <a:solidFill>
                  <a:srgbClr val="000000"/>
                </a:solidFill>
                <a:latin typeface="Arial"/>
              </a:rPr>
              <a:t>Veertig dagen </a:t>
            </a:r>
            <a:br>
              <a:rPr sz="1700"/>
            </a:br>
            <a:r>
              <a:rPr b="0" i="1" lang="nl-NL" sz="1700" spc="-1" strike="noStrike">
                <a:solidFill>
                  <a:srgbClr val="000000"/>
                </a:solidFill>
                <a:latin typeface="Arial"/>
              </a:rPr>
              <a:t>na Zijn opstanding voer Jezus op naar de hemel.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jdelijke aanduiding voor inhoud 2"/>
          <p:cNvSpPr/>
          <p:nvPr/>
        </p:nvSpPr>
        <p:spPr>
          <a:xfrm>
            <a:off x="1187280" y="4508640"/>
            <a:ext cx="1514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sten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begint op Aswoensdag. De veertigdagentij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549360"/>
            <a:ext cx="8569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ominante cultuu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 als een cultuur gedragen wordt door een groep die binnen een samenleving overheersend i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ubcultuur -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nneer binnen een groep waarden, normen en andere cultuurkenmerken op bepaalde onderdelen afwijken van de dominante cultuu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ederlandse dominante cultuu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 gelijkwaardigheid, vrijheid, verdraagzaamheid en respect heel belangrijk. Nederlanders staan bekend vanwege hun grote mate van tolerantie : ze accepteren makkelijk andersdenkenden. In de Nederlandse cultuur heerst een ik-cultuur. De nadruk ligt op het individ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257D-7D43-4FDB-A405-20B567B508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E97A-B422-47F0-9586-CDDFE792C7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62643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513C-568B-447E-8EEA-00855BE10D4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igrant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ensen die een land verl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migrant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ensen die een land binnen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wereld_mr"/>
          <p:cNvPicPr/>
          <p:nvPr/>
        </p:nvPicPr>
        <p:blipFill>
          <a:blip r:embed="rId1"/>
          <a:stretch/>
        </p:blipFill>
        <p:spPr>
          <a:xfrm>
            <a:off x="2195640" y="2276640"/>
            <a:ext cx="4314600" cy="28573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9"/>
          <p:cNvSpPr/>
          <p:nvPr/>
        </p:nvSpPr>
        <p:spPr>
          <a:xfrm rot="1271400">
            <a:off x="3168360" y="2498760"/>
            <a:ext cx="1922400" cy="554040"/>
          </a:xfrm>
          <a:custGeom>
            <a:avLst/>
            <a:gdLst>
              <a:gd name="textAreaLeft" fmla="*/ 386280 w 1922400"/>
              <a:gd name="textAreaRight" fmla="*/ 1244160 w 1922400"/>
              <a:gd name="textAreaTop" fmla="*/ 74160 h 554040"/>
              <a:gd name="textAreaBottom" fmla="*/ 4798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84" hR="21600" stAng="10800000" swAng="5400000"/>
                <a:lnTo>
                  <a:pt x="9636" y="0"/>
                </a:lnTo>
                <a:arcTo wR="8684" hR="21600" stAng="-5400000" swAng="3154105"/>
                <a:lnTo>
                  <a:pt x="21216" y="15247"/>
                </a:lnTo>
                <a:lnTo>
                  <a:pt x="17844" y="21600"/>
                </a:lnTo>
                <a:lnTo>
                  <a:pt x="13704" y="15247"/>
                </a:lnTo>
                <a:lnTo>
                  <a:pt x="16984" y="15247"/>
                </a:lnTo>
                <a:arcTo wR="8684" hR="21600" stAng="-2245895" swAng="-3078245"/>
                <a:lnTo>
                  <a:pt x="9160" y="32"/>
                </a:lnTo>
                <a:arcTo wR="8684" hR="21600" stAng="-5475860" swAng="-5324140"/>
                <a:close/>
              </a:path>
              <a:path fill="darkenLess" w="21600" h="21600">
                <a:moveTo>
                  <a:pt x="0" y="21600"/>
                </a:moveTo>
                <a:arcTo wR="8684" hR="21600" stAng="10800000" swAng="5400000"/>
                <a:lnTo>
                  <a:pt x="8684" y="0"/>
                </a:lnTo>
                <a:arcTo wR="8684" hR="21600" stAng="-5400000" swAng="75860"/>
                <a:lnTo>
                  <a:pt x="9160" y="32"/>
                </a:lnTo>
                <a:arcTo wR="8684" hR="21600" stAng="-5475860" swAng="-532414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 rot="10559400">
            <a:off x="2700000" y="3499560"/>
            <a:ext cx="1922400" cy="554040"/>
          </a:xfrm>
          <a:custGeom>
            <a:avLst/>
            <a:gdLst>
              <a:gd name="textAreaLeft" fmla="*/ 386280 w 1922400"/>
              <a:gd name="textAreaRight" fmla="*/ 1244160 w 1922400"/>
              <a:gd name="textAreaTop" fmla="*/ 74160 h 554040"/>
              <a:gd name="textAreaBottom" fmla="*/ 4798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84" hR="21600" stAng="10800000" swAng="5400000"/>
                <a:lnTo>
                  <a:pt x="9636" y="0"/>
                </a:lnTo>
                <a:arcTo wR="8684" hR="21600" stAng="-5400000" swAng="3154105"/>
                <a:lnTo>
                  <a:pt x="21216" y="15247"/>
                </a:lnTo>
                <a:lnTo>
                  <a:pt x="17844" y="21600"/>
                </a:lnTo>
                <a:lnTo>
                  <a:pt x="13704" y="15247"/>
                </a:lnTo>
                <a:lnTo>
                  <a:pt x="16984" y="15247"/>
                </a:lnTo>
                <a:arcTo wR="8684" hR="21600" stAng="-2245895" swAng="-3078245"/>
                <a:lnTo>
                  <a:pt x="9160" y="32"/>
                </a:lnTo>
                <a:arcTo wR="8684" hR="21600" stAng="-5475860" swAng="-5324140"/>
                <a:close/>
              </a:path>
              <a:path fill="darkenLess" w="21600" h="21600">
                <a:moveTo>
                  <a:pt x="0" y="21600"/>
                </a:moveTo>
                <a:arcTo wR="8684" hR="21600" stAng="10800000" swAng="5400000"/>
                <a:lnTo>
                  <a:pt x="8684" y="0"/>
                </a:lnTo>
                <a:arcTo wR="8684" hR="21600" stAng="-5400000" swAng="75860"/>
                <a:lnTo>
                  <a:pt x="9160" y="32"/>
                </a:lnTo>
                <a:arcTo wR="8684" hR="21600" stAng="-5475860" swAng="-5324140"/>
                <a:close/>
              </a:path>
            </a:pathLst>
          </a:custGeom>
          <a:solidFill>
            <a:srgbClr val="3366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"/>
          <p:cNvPicPr/>
          <p:nvPr/>
        </p:nvPicPr>
        <p:blipFill>
          <a:blip r:embed="rId2"/>
          <a:stretch/>
        </p:blipFill>
        <p:spPr>
          <a:xfrm>
            <a:off x="7238880" y="2060640"/>
            <a:ext cx="1905120" cy="2009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1171440" cy="13525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13"/>
          <p:cNvSpPr/>
          <p:nvPr/>
        </p:nvSpPr>
        <p:spPr>
          <a:xfrm>
            <a:off x="1332000" y="4508640"/>
            <a:ext cx="792000" cy="269640"/>
          </a:xfrm>
          <a:prstGeom prst="leftArrow">
            <a:avLst>
              <a:gd name="adj1" fmla="val 50000"/>
              <a:gd name="adj2" fmla="val 73431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 rot="13733400">
            <a:off x="142920" y="3394080"/>
            <a:ext cx="782640" cy="277920"/>
          </a:xfrm>
          <a:prstGeom prst="leftArrow">
            <a:avLst>
              <a:gd name="adj1" fmla="val 50000"/>
              <a:gd name="adj2" fmla="val 70402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132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 rot="10800000">
            <a:off x="-360" y="407628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 rot="18961800">
            <a:off x="971640" y="3213000"/>
            <a:ext cx="863640" cy="270000"/>
          </a:xfrm>
          <a:prstGeom prst="leftArrow">
            <a:avLst>
              <a:gd name="adj1" fmla="val 50000"/>
              <a:gd name="adj2" fmla="val 79967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80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 rot="4023000">
            <a:off x="863640" y="4905000"/>
            <a:ext cx="720720" cy="216000"/>
          </a:xfrm>
          <a:prstGeom prst="leftArrow">
            <a:avLst>
              <a:gd name="adj1" fmla="val 50000"/>
              <a:gd name="adj2" fmla="val 83417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13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 rot="20023200">
            <a:off x="1428840" y="3903840"/>
            <a:ext cx="720720" cy="269640"/>
          </a:xfrm>
          <a:prstGeom prst="leftArrow">
            <a:avLst>
              <a:gd name="adj1" fmla="val 50000"/>
              <a:gd name="adj2" fmla="val 66822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69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 rot="6903600">
            <a:off x="70920" y="4905360"/>
            <a:ext cx="720720" cy="215640"/>
          </a:xfrm>
          <a:prstGeom prst="leftArrow">
            <a:avLst>
              <a:gd name="adj1" fmla="val 50000"/>
              <a:gd name="adj2" fmla="val 83556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20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2110-21CE-4C62-AC88-727CFDA141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hto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ls jij of (1 van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ouders in het buitenl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jn geboren en opgegroe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niet westerse alloch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westerse alloch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ochto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ls jij en j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ders in het land i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boren en opgegroei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6084720" y="119700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6948360" y="234936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7020000" y="530064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tretch/>
        </p:blipFill>
        <p:spPr>
          <a:xfrm>
            <a:off x="8317080" y="422100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5"/>
          <a:stretch/>
        </p:blipFill>
        <p:spPr>
          <a:xfrm>
            <a:off x="6156360" y="422100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6"/>
          <a:stretch/>
        </p:blipFill>
        <p:spPr>
          <a:xfrm>
            <a:off x="8101080" y="1197000"/>
            <a:ext cx="576360" cy="350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7"/>
          <a:srcRect l="0" t="0" r="0" b="10317"/>
          <a:stretch/>
        </p:blipFill>
        <p:spPr>
          <a:xfrm>
            <a:off x="6804000" y="2637000"/>
            <a:ext cx="961920" cy="1152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8"/>
          <a:stretch/>
        </p:blipFill>
        <p:spPr>
          <a:xfrm>
            <a:off x="5867280" y="1557360"/>
            <a:ext cx="954360" cy="1693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9"/>
          <a:stretch/>
        </p:blipFill>
        <p:spPr>
          <a:xfrm>
            <a:off x="5580000" y="4508640"/>
            <a:ext cx="1209600" cy="1630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"/>
          <p:cNvPicPr/>
          <p:nvPr/>
        </p:nvPicPr>
        <p:blipFill>
          <a:blip r:embed="rId10"/>
          <a:stretch/>
        </p:blipFill>
        <p:spPr>
          <a:xfrm>
            <a:off x="6732720" y="5548320"/>
            <a:ext cx="1279440" cy="1309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11"/>
          <a:stretch/>
        </p:blipFill>
        <p:spPr>
          <a:xfrm>
            <a:off x="8026560" y="4508640"/>
            <a:ext cx="1117440" cy="140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"/>
          <p:cNvPicPr/>
          <p:nvPr/>
        </p:nvPicPr>
        <p:blipFill>
          <a:blip r:embed="rId12"/>
          <a:stretch/>
        </p:blipFill>
        <p:spPr>
          <a:xfrm>
            <a:off x="7740720" y="1557360"/>
            <a:ext cx="12636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BC85-BFAE-428F-8377-29703F04A1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ie is er allochtoon of autocht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1457280" cy="321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0" y="1197000"/>
            <a:ext cx="1338120" cy="316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3780000" y="4210200"/>
            <a:ext cx="1438200" cy="2647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4"/>
          <a:stretch/>
        </p:blipFill>
        <p:spPr>
          <a:xfrm>
            <a:off x="2987640" y="1557360"/>
            <a:ext cx="2333520" cy="24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5"/>
          <a:stretch/>
        </p:blipFill>
        <p:spPr>
          <a:xfrm>
            <a:off x="5435640" y="3068640"/>
            <a:ext cx="2106720" cy="3597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6"/>
          <a:stretch/>
        </p:blipFill>
        <p:spPr>
          <a:xfrm>
            <a:off x="7029360" y="1125360"/>
            <a:ext cx="2114640" cy="2589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7"/>
          <a:stretch/>
        </p:blipFill>
        <p:spPr>
          <a:xfrm>
            <a:off x="971640" y="1208160"/>
            <a:ext cx="64764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8"/>
          <a:stretch/>
        </p:blipFill>
        <p:spPr>
          <a:xfrm>
            <a:off x="0" y="90792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9"/>
          <a:stretch/>
        </p:blipFill>
        <p:spPr>
          <a:xfrm>
            <a:off x="468360" y="242100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"/>
          <p:cNvPicPr/>
          <p:nvPr/>
        </p:nvPicPr>
        <p:blipFill>
          <a:blip r:embed="rId10"/>
          <a:stretch/>
        </p:blipFill>
        <p:spPr>
          <a:xfrm>
            <a:off x="4211640" y="170028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"/>
          <p:cNvPicPr/>
          <p:nvPr/>
        </p:nvPicPr>
        <p:blipFill>
          <a:blip r:embed="rId11"/>
          <a:stretch/>
        </p:blipFill>
        <p:spPr>
          <a:xfrm>
            <a:off x="3132000" y="314172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"/>
          <p:cNvPicPr/>
          <p:nvPr/>
        </p:nvPicPr>
        <p:blipFill>
          <a:blip r:embed="rId12"/>
          <a:stretch/>
        </p:blipFill>
        <p:spPr>
          <a:xfrm>
            <a:off x="5003640" y="155736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"/>
          <p:cNvPicPr/>
          <p:nvPr/>
        </p:nvPicPr>
        <p:blipFill>
          <a:blip r:embed="rId13"/>
          <a:stretch/>
        </p:blipFill>
        <p:spPr>
          <a:xfrm>
            <a:off x="3635280" y="357336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"/>
          <p:cNvPicPr/>
          <p:nvPr/>
        </p:nvPicPr>
        <p:blipFill>
          <a:blip r:embed="rId14"/>
          <a:stretch/>
        </p:blipFill>
        <p:spPr>
          <a:xfrm>
            <a:off x="4140360" y="3357720"/>
            <a:ext cx="428400" cy="28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"/>
          <p:cNvPicPr/>
          <p:nvPr/>
        </p:nvPicPr>
        <p:blipFill>
          <a:blip r:embed="rId15"/>
          <a:stretch/>
        </p:blipFill>
        <p:spPr>
          <a:xfrm>
            <a:off x="4716360" y="321300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"/>
          <p:cNvPicPr/>
          <p:nvPr/>
        </p:nvPicPr>
        <p:blipFill>
          <a:blip r:embed="rId16"/>
          <a:stretch/>
        </p:blipFill>
        <p:spPr>
          <a:xfrm>
            <a:off x="3419640" y="1413000"/>
            <a:ext cx="574560" cy="40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"/>
          <p:cNvPicPr/>
          <p:nvPr/>
        </p:nvPicPr>
        <p:blipFill>
          <a:blip r:embed="rId17"/>
          <a:stretch/>
        </p:blipFill>
        <p:spPr>
          <a:xfrm>
            <a:off x="2268360" y="306864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"/>
          <p:cNvPicPr/>
          <p:nvPr/>
        </p:nvPicPr>
        <p:blipFill>
          <a:blip r:embed="rId18"/>
          <a:stretch/>
        </p:blipFill>
        <p:spPr>
          <a:xfrm>
            <a:off x="2556000" y="422100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"/>
          <p:cNvPicPr/>
          <p:nvPr/>
        </p:nvPicPr>
        <p:blipFill>
          <a:blip r:embed="rId19"/>
          <a:stretch/>
        </p:blipFill>
        <p:spPr>
          <a:xfrm>
            <a:off x="1547640" y="285264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4" descr=""/>
          <p:cNvPicPr/>
          <p:nvPr/>
        </p:nvPicPr>
        <p:blipFill>
          <a:blip r:embed="rId20"/>
          <a:stretch/>
        </p:blipFill>
        <p:spPr>
          <a:xfrm>
            <a:off x="4500720" y="414972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" descr=""/>
          <p:cNvPicPr/>
          <p:nvPr/>
        </p:nvPicPr>
        <p:blipFill>
          <a:blip r:embed="rId21"/>
          <a:stretch/>
        </p:blipFill>
        <p:spPr>
          <a:xfrm>
            <a:off x="3564000" y="429264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"/>
          <p:cNvPicPr/>
          <p:nvPr/>
        </p:nvPicPr>
        <p:blipFill>
          <a:blip r:embed="rId22"/>
          <a:stretch/>
        </p:blipFill>
        <p:spPr>
          <a:xfrm>
            <a:off x="7020000" y="1916280"/>
            <a:ext cx="571320" cy="38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"/>
          <p:cNvPicPr/>
          <p:nvPr/>
        </p:nvPicPr>
        <p:blipFill>
          <a:blip r:embed="rId23"/>
          <a:stretch/>
        </p:blipFill>
        <p:spPr>
          <a:xfrm>
            <a:off x="8532720" y="1773360"/>
            <a:ext cx="428760" cy="28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"/>
          <p:cNvPicPr/>
          <p:nvPr/>
        </p:nvPicPr>
        <p:blipFill>
          <a:blip r:embed="rId24"/>
          <a:stretch/>
        </p:blipFill>
        <p:spPr>
          <a:xfrm>
            <a:off x="7667640" y="2997360"/>
            <a:ext cx="428760" cy="285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"/>
          <p:cNvPicPr/>
          <p:nvPr/>
        </p:nvPicPr>
        <p:blipFill>
          <a:blip r:embed="rId25"/>
          <a:stretch/>
        </p:blipFill>
        <p:spPr>
          <a:xfrm>
            <a:off x="5508720" y="2660760"/>
            <a:ext cx="71892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"/>
          <p:cNvPicPr/>
          <p:nvPr/>
        </p:nvPicPr>
        <p:blipFill>
          <a:blip r:embed="rId26"/>
          <a:stretch/>
        </p:blipFill>
        <p:spPr>
          <a:xfrm>
            <a:off x="5364000" y="5516640"/>
            <a:ext cx="71928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1" descr=""/>
          <p:cNvPicPr/>
          <p:nvPr/>
        </p:nvPicPr>
        <p:blipFill>
          <a:blip r:embed="rId27"/>
          <a:stretch/>
        </p:blipFill>
        <p:spPr>
          <a:xfrm>
            <a:off x="7020000" y="5013360"/>
            <a:ext cx="718920" cy="47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2" descr=""/>
          <p:cNvPicPr/>
          <p:nvPr/>
        </p:nvPicPr>
        <p:blipFill>
          <a:blip r:embed="rId28"/>
          <a:stretch/>
        </p:blipFill>
        <p:spPr>
          <a:xfrm>
            <a:off x="4067280" y="5229360"/>
            <a:ext cx="57600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DAE4-66C6-48B8-A8A4-19A36F5F3F5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arom je land verla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eken naar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olitiek) vlucht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oegere kolon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i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one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derlandse Antille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uba, Bonaire, Curaco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Gezinshere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emancip"/>
          <p:cNvPicPr/>
          <p:nvPr/>
        </p:nvPicPr>
        <p:blipFill>
          <a:blip r:embed="rId1"/>
          <a:stretch/>
        </p:blipFill>
        <p:spPr>
          <a:xfrm>
            <a:off x="5435640" y="1700280"/>
            <a:ext cx="33130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853C-ABC9-4D99-BA3A-6E103B05775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03" descr=""/>
          <p:cNvPicPr/>
          <p:nvPr/>
        </p:nvPicPr>
        <p:blipFill>
          <a:blip r:embed="rId1"/>
          <a:srcRect l="6081" t="20020" r="65297" b="22610"/>
          <a:stretch/>
        </p:blipFill>
        <p:spPr>
          <a:xfrm>
            <a:off x="1189080" y="2421000"/>
            <a:ext cx="5973840" cy="3892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6920" y="2492280"/>
            <a:ext cx="40388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onesië 1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04"/>
          <p:cNvSpPr/>
          <p:nvPr/>
        </p:nvSpPr>
        <p:spPr>
          <a:xfrm>
            <a:off x="673200" y="1816200"/>
            <a:ext cx="6994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r dan 3 miljoen allochtonen in 2005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05"/>
          <p:cNvSpPr/>
          <p:nvPr/>
        </p:nvSpPr>
        <p:spPr>
          <a:xfrm>
            <a:off x="1258920" y="292428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itsland 13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06"/>
          <p:cNvSpPr/>
          <p:nvPr/>
        </p:nvSpPr>
        <p:spPr>
          <a:xfrm>
            <a:off x="1258920" y="335772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kije 12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07"/>
          <p:cNvSpPr/>
          <p:nvPr/>
        </p:nvSpPr>
        <p:spPr>
          <a:xfrm>
            <a:off x="1258920" y="378936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iname 10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08"/>
          <p:cNvSpPr/>
          <p:nvPr/>
        </p:nvSpPr>
        <p:spPr>
          <a:xfrm>
            <a:off x="1258920" y="414972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okko 10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09"/>
          <p:cNvSpPr/>
          <p:nvPr/>
        </p:nvSpPr>
        <p:spPr>
          <a:xfrm>
            <a:off x="1258920" y="458136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 Antillen 4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10"/>
          <p:cNvSpPr/>
          <p:nvPr/>
        </p:nvSpPr>
        <p:spPr>
          <a:xfrm>
            <a:off x="1187280" y="4941720"/>
            <a:ext cx="4038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gië 4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11"/>
          <p:cNvSpPr/>
          <p:nvPr/>
        </p:nvSpPr>
        <p:spPr>
          <a:xfrm>
            <a:off x="1258920" y="537372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eland 3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12"/>
          <p:cNvSpPr/>
          <p:nvPr/>
        </p:nvSpPr>
        <p:spPr>
          <a:xfrm>
            <a:off x="1258920" y="580536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ig 30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F614-56BD-4B42-AC60-D6542664847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2: Integreren, hoe gaat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milati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el veel van je eig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ur vervangen door d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inante cultuur van het l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 je wo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or een de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anpassen aan de cultuu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ar ook je eigen cultuu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derzijdse aanpassing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chtonen en autochton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sen zich aan elkaar aa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an open voor ande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integratie"/>
          <p:cNvPicPr/>
          <p:nvPr/>
        </p:nvPicPr>
        <p:blipFill>
          <a:blip r:embed="rId1"/>
          <a:stretch/>
        </p:blipFill>
        <p:spPr>
          <a:xfrm>
            <a:off x="6516720" y="981000"/>
            <a:ext cx="2381040" cy="2228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4427640" y="3357720"/>
            <a:ext cx="42670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A14D-1479-40AE-BF58-AA1E0EE8165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2: Integreren, hoe gaat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65320"/>
            <a:ext cx="86868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at vindt de politiek erva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beralen/recht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mmige allochtonen passen zich niet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oeg aan en vallen buiten de samenlev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ochtonen moeten de Nederlandse (vrijheids)rechten accepteren en inburg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ocialisten/link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ochtonen moeten integreren om betere kansen te krijgen in N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 overheid heeft een taak om integreren te verbeteren zoals taalonderwij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risten democra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nadrukken vanuit Christelijk geloof het respect voor elkaars relig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ochtonen moeten zich wel aanpassen/ inburger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6334" t="32345" r="9669" b="11999"/>
          <a:stretch/>
        </p:blipFill>
        <p:spPr>
          <a:xfrm>
            <a:off x="6012000" y="836640"/>
            <a:ext cx="266364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869A-1614-45AC-A4EE-A82BF0CE568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3:Integratie geslaag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164960"/>
            <a:ext cx="84582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cultureel deb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Politieke partijen denken anders over integreren en praten erove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2057400" y="2819520"/>
            <a:ext cx="4495680" cy="3047760"/>
          </a:xfrm>
          <a:prstGeom prst="hexagon">
            <a:avLst>
              <a:gd name="adj" fmla="val 3687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219480" y="2209680"/>
            <a:ext cx="27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al achterstan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629400" y="37339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fgebroken schoolopleid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31488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erkloos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0" y="4038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scrimina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124080" y="2895480"/>
            <a:ext cx="2514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aarom         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lukt integreren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niet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18"/>
          <p:cNvCxnSpPr>
            <a:stCxn id="144" idx="3"/>
            <a:endCxn id="145" idx="0"/>
          </p:cNvCxnSpPr>
          <p:nvPr/>
        </p:nvCxnSpPr>
        <p:spPr>
          <a:xfrm>
            <a:off x="5924160" y="2437920"/>
            <a:ext cx="1963080" cy="1296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19"/>
          <p:cNvCxnSpPr>
            <a:stCxn id="146" idx="1"/>
            <a:endCxn id="147" idx="2"/>
          </p:cNvCxnSpPr>
          <p:nvPr/>
        </p:nvCxnSpPr>
        <p:spPr>
          <a:xfrm rot="10800000">
            <a:off x="1104120" y="4494960"/>
            <a:ext cx="2210760" cy="182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0"/>
          <p:cNvCxnSpPr>
            <a:stCxn id="147" idx="0"/>
            <a:endCxn id="144" idx="1"/>
          </p:cNvCxnSpPr>
          <p:nvPr/>
        </p:nvCxnSpPr>
        <p:spPr>
          <a:xfrm flipH="1" flipV="1" rot="5400000">
            <a:off x="1361880" y="2180520"/>
            <a:ext cx="1600920" cy="2115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1"/>
          <p:cNvCxnSpPr>
            <a:stCxn id="145" idx="2"/>
            <a:endCxn id="146" idx="3"/>
          </p:cNvCxnSpPr>
          <p:nvPr/>
        </p:nvCxnSpPr>
        <p:spPr>
          <a:xfrm rot="5400000">
            <a:off x="5977080" y="4415760"/>
            <a:ext cx="1761120" cy="2057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53" name="Picture 22" descr=""/>
          <p:cNvPicPr/>
          <p:nvPr/>
        </p:nvPicPr>
        <p:blipFill>
          <a:blip r:embed="rId1"/>
          <a:srcRect l="79394" t="4686" r="0" b="0"/>
          <a:stretch/>
        </p:blipFill>
        <p:spPr>
          <a:xfrm>
            <a:off x="6877080" y="671400"/>
            <a:ext cx="55548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Floris Hirschfeld</cp:lastModifiedBy>
  <dcterms:modified xsi:type="dcterms:W3CDTF">2011-08-24T07:27:52Z</dcterms:modified>
  <cp:revision>138</cp:revision>
  <dc:subject/>
  <dc:title>Dia 1</dc:title>
</cp:coreProperties>
</file>