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3.gif" ContentType="image/gif"/>
  <Override PartName="/ppt/media/image4.png" ContentType="image/png"/>
  <Override PartName="/ppt/media/image5.jpeg" ContentType="image/jpeg"/>
  <Override PartName="/ppt/media/image2.gif" ContentType="image/gif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43B2-C655-4D28-B870-1BE695BC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7D8-CFAD-4640-B5AF-A153DE0B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BB22-6B4C-40C3-8332-0C8FBB2F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D3B-D040-48E1-AF23-BC295E64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D975-A65B-4747-B737-5973DAB5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41D1-55E6-44E1-B4E7-91B285C8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CC2B-9BA1-4E28-84F2-9D1CA0CC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B65-5354-49D2-A4FA-E7233033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74D2-0D96-45BF-A87E-3C14A5F7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CC95-3843-4350-A163-443002DB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247A-8272-4D2C-9F9C-F061FA3B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E11-C929-4C37-A323-CF275FEF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36A0-A9EC-4D08-A523-B9F53BE618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3F59-16F9-4B44-AB1C-B59F876D70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4" name="Picture 8" descr="zinloosgeweld"/>
          <p:cNvPicPr/>
          <p:nvPr/>
        </p:nvPicPr>
        <p:blipFill>
          <a:blip r:embed="rId1"/>
          <a:stretch/>
        </p:blipFill>
        <p:spPr>
          <a:xfrm rot="1223400">
            <a:off x="5651280" y="1484280"/>
            <a:ext cx="3024000" cy="2884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zinloos_geweld"/>
          <p:cNvPicPr/>
          <p:nvPr/>
        </p:nvPicPr>
        <p:blipFill>
          <a:blip r:embed="rId2"/>
          <a:stretch/>
        </p:blipFill>
        <p:spPr>
          <a:xfrm rot="20426400">
            <a:off x="468000" y="4365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5184720" cy="345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P1050923.JPG"/>
          <p:cNvPicPr/>
          <p:nvPr/>
        </p:nvPicPr>
        <p:blipFill>
          <a:blip r:embed="rId4"/>
          <a:stretch/>
        </p:blipFill>
        <p:spPr>
          <a:xfrm>
            <a:off x="3059280" y="3860640"/>
            <a:ext cx="43210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C10E-84B1-43EF-8BF1-FCDDCFAD270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Normen en w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2133720"/>
          <a:ext cx="7859520" cy="4319640"/>
        </p:xfrm>
        <a:graphic>
          <a:graphicData uri="http://schemas.openxmlformats.org/drawingml/2006/table">
            <a:tbl>
              <a:tblPr/>
              <a:tblGrid>
                <a:gridCol w="2619360"/>
                <a:gridCol w="2620800"/>
                <a:gridCol w="2619360"/>
              </a:tblGrid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BIED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ARDE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k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ool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zin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ortclub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kel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eer: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0F19-22A6-4EEE-84D9-C0A50EC0C10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Oorzaken (van zinloos gewe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Verschillen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vroeger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      en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nu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vroeger"/>
          <p:cNvPicPr/>
          <p:nvPr/>
        </p:nvPicPr>
        <p:blipFill>
          <a:blip r:embed="rId1"/>
          <a:stretch/>
        </p:blipFill>
        <p:spPr>
          <a:xfrm>
            <a:off x="179280" y="3716280"/>
            <a:ext cx="3810240" cy="2752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IMG_9169"/>
          <p:cNvPicPr/>
          <p:nvPr/>
        </p:nvPicPr>
        <p:blipFill>
          <a:blip r:embed="rId2"/>
          <a:stretch/>
        </p:blipFill>
        <p:spPr>
          <a:xfrm>
            <a:off x="4427640" y="3716280"/>
            <a:ext cx="40320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B511-C47B-406E-B030-597096D4656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86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4: Oorzaken (van zinloos gewe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39640" y="2708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916280"/>
          <a:ext cx="8137440" cy="4813200"/>
        </p:xfrm>
        <a:graphic>
          <a:graphicData uri="http://schemas.openxmlformats.org/drawingml/2006/table">
            <a:tbl>
              <a:tblPr/>
              <a:tblGrid>
                <a:gridCol w="2736720"/>
                <a:gridCol w="2592360"/>
                <a:gridCol w="2808360"/>
              </a:tblGrid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oeger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volg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g werken 50 uur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t werken 38 uur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ker uit gaan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ukker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er vrije tijd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vrije tijd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kt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       werken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geld om uit te gaan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ukker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inig €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€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ikter, minder vrij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sser en vrijer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er respect voor elkaar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aker wapens mee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el normen en waarden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minderde normen en waarden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er drank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en jonger drank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er agressie 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nl-NL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meer ruzie</a:t>
                      </a:r>
                      <a:endParaRPr b="0" i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  <p:sp>
        <p:nvSpPr>
          <p:cNvPr id="112" name="Oval 183"/>
          <p:cNvSpPr/>
          <p:nvPr/>
        </p:nvSpPr>
        <p:spPr>
          <a:xfrm>
            <a:off x="3492360" y="3357720"/>
            <a:ext cx="216000" cy="215640"/>
          </a:xfrm>
          <a:prstGeom prst="ellipse">
            <a:avLst/>
          </a:prstGeom>
          <a:solidFill>
            <a:srgbClr val="808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88" descr="symbool_man"/>
          <p:cNvPicPr/>
          <p:nvPr/>
        </p:nvPicPr>
        <p:blipFill>
          <a:blip r:embed="rId1"/>
          <a:stretch/>
        </p:blipFill>
        <p:spPr>
          <a:xfrm>
            <a:off x="684360" y="3387600"/>
            <a:ext cx="358560" cy="352440"/>
          </a:xfrm>
          <a:prstGeom prst="rect">
            <a:avLst/>
          </a:prstGeom>
          <a:ln w="0">
            <a:noFill/>
          </a:ln>
        </p:spPr>
      </p:pic>
      <p:sp>
        <p:nvSpPr>
          <p:cNvPr id="114" name="Line 189"/>
          <p:cNvSpPr/>
          <p:nvPr/>
        </p:nvSpPr>
        <p:spPr>
          <a:xfrm>
            <a:off x="3564000" y="3573360"/>
            <a:ext cx="0" cy="1429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90"/>
          <p:cNvSpPr/>
          <p:nvPr/>
        </p:nvSpPr>
        <p:spPr>
          <a:xfrm flipV="1">
            <a:off x="3492360" y="3645000"/>
            <a:ext cx="1429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1" descr="symbool_man"/>
          <p:cNvPicPr/>
          <p:nvPr/>
        </p:nvPicPr>
        <p:blipFill>
          <a:blip r:embed="rId2"/>
          <a:stretch/>
        </p:blipFill>
        <p:spPr>
          <a:xfrm>
            <a:off x="3995640" y="3357720"/>
            <a:ext cx="35892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E734-200F-4837-ADF7-5A48FF9691E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 (voor zinloos gewe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24000" y="2349360"/>
            <a:ext cx="806436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Wie doet er wat?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Overheid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ik 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wij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reces"/>
          <p:cNvPicPr/>
          <p:nvPr/>
        </p:nvPicPr>
        <p:blipFill>
          <a:blip r:embed="rId1"/>
          <a:stretch/>
        </p:blipFill>
        <p:spPr>
          <a:xfrm>
            <a:off x="395280" y="3716280"/>
            <a:ext cx="2808360" cy="2287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colorbands,50"/>
          <p:cNvPicPr/>
          <p:nvPr/>
        </p:nvPicPr>
        <p:blipFill>
          <a:blip r:embed="rId2"/>
          <a:stretch/>
        </p:blipFill>
        <p:spPr>
          <a:xfrm>
            <a:off x="2843280" y="5445000"/>
            <a:ext cx="3606840" cy="1227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3"/>
          <a:srcRect l="57588" t="46272" r="4769" b="11414"/>
          <a:stretch/>
        </p:blipFill>
        <p:spPr>
          <a:xfrm>
            <a:off x="6300720" y="3716280"/>
            <a:ext cx="244800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A8B6-7F7D-4A04-A71E-73B64562A02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ove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24000" y="2349360"/>
            <a:ext cx="8064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etten verbieden geweld e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en alcohol onder de 16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oppakken van mensen als ze ve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Lik op stuk bel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Camera’s opha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nsen fouill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potjes van postbus 5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reces"/>
          <p:cNvPicPr/>
          <p:nvPr/>
        </p:nvPicPr>
        <p:blipFill>
          <a:blip r:embed="rId1"/>
          <a:stretch/>
        </p:blipFill>
        <p:spPr>
          <a:xfrm>
            <a:off x="6227640" y="1197000"/>
            <a:ext cx="1656000" cy="1349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GeenAlcoholOnder16"/>
          <p:cNvPicPr/>
          <p:nvPr/>
        </p:nvPicPr>
        <p:blipFill>
          <a:blip r:embed="rId2"/>
          <a:stretch/>
        </p:blipFill>
        <p:spPr>
          <a:xfrm rot="20184000">
            <a:off x="4622760" y="4314960"/>
            <a:ext cx="356544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1421-769F-42BD-A785-9FAD1BFC37D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over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24000" y="2349360"/>
            <a:ext cx="8064360" cy="68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potjes van postbus 51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uislijk zinloos gew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lchol en jong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typisch postbus 5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reces"/>
          <p:cNvPicPr/>
          <p:nvPr/>
        </p:nvPicPr>
        <p:blipFill>
          <a:blip r:embed="rId1"/>
          <a:stretch/>
        </p:blipFill>
        <p:spPr>
          <a:xfrm>
            <a:off x="6227640" y="1197000"/>
            <a:ext cx="165600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2A2B-DE7A-4112-AFEF-5AB3FC578C1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“wij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4000" y="2349360"/>
            <a:ext cx="806436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Kijken naar je eigen normen en waard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Aandacht spenderen aan zinloos geweld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Eigenaren disco’s beter opletten dat jongeren niet straalbezop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Drugsgebruik tegenhoud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colorbands,50"/>
          <p:cNvPicPr/>
          <p:nvPr/>
        </p:nvPicPr>
        <p:blipFill>
          <a:blip r:embed="rId1"/>
          <a:stretch/>
        </p:blipFill>
        <p:spPr>
          <a:xfrm>
            <a:off x="5148360" y="1413000"/>
            <a:ext cx="3606840" cy="12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74F5-E730-41DC-92D7-01B881A3965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Oplossingen: “i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24000" y="2349360"/>
            <a:ext cx="8064360" cy="47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Afspraken maken met vriend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amen uit, samen thuis”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Rustig blijven als je wordt gepes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rcRect l="57588" t="46272" r="4769" b="11414"/>
          <a:stretch/>
        </p:blipFill>
        <p:spPr>
          <a:xfrm>
            <a:off x="5940360" y="1197000"/>
            <a:ext cx="19432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D2FC-A6D8-45AC-AE02-7AAFE8B5F1A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t gemiddelde hoger dan een 8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edereen een (mini)appelfla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1179664517geweld"/>
          <p:cNvPicPr/>
          <p:nvPr/>
        </p:nvPicPr>
        <p:blipFill>
          <a:blip r:embed="rId1"/>
          <a:stretch/>
        </p:blipFill>
        <p:spPr>
          <a:xfrm>
            <a:off x="2843280" y="3429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AE42-3F63-479F-83B6-45D44AFB7E1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Wat leer je bij maatschappijl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t is een goede me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: je moet feiten w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: verschillende kanten beli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3: goede argumenten hebben (waarom vind je iet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argument"/>
          <p:cNvPicPr/>
          <p:nvPr/>
        </p:nvPicPr>
        <p:blipFill>
          <a:blip r:embed="rId1"/>
          <a:stretch/>
        </p:blipFill>
        <p:spPr>
          <a:xfrm>
            <a:off x="5867280" y="2133720"/>
            <a:ext cx="28083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98B8-0DAB-4713-BDA8-BB53A76AB68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Wat leer je bij maatschappijl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s je een mening geef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zonder dat je weet wa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r precies gebeurd i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reek je v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argument"/>
          <p:cNvPicPr/>
          <p:nvPr/>
        </p:nvPicPr>
        <p:blipFill>
          <a:blip r:embed="rId1"/>
          <a:stretch/>
        </p:blipFill>
        <p:spPr>
          <a:xfrm>
            <a:off x="5867280" y="2133720"/>
            <a:ext cx="2808360" cy="2108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403280" y="5300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VOOROORDEL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82CF-BD5E-4EAC-AF49-FA629238AD1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Wat leer je bij maatschappijle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t is een maatschappelij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ble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eel mensen hebben er mee te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r zijn verschillende m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 overheid bemoeit zich erm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argument"/>
          <p:cNvPicPr/>
          <p:nvPr/>
        </p:nvPicPr>
        <p:blipFill>
          <a:blip r:embed="rId1"/>
          <a:stretch/>
        </p:blipFill>
        <p:spPr>
          <a:xfrm>
            <a:off x="6084720" y="2133720"/>
            <a:ext cx="28083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D611-C7BF-45BF-8079-62FE0D4C67A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2: Bela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elangen, emoties en meningen"/>
          <p:cNvPicPr/>
          <p:nvPr/>
        </p:nvPicPr>
        <p:blipFill>
          <a:blip r:embed="rId1"/>
          <a:stretch/>
        </p:blipFill>
        <p:spPr>
          <a:xfrm>
            <a:off x="6877080" y="1197000"/>
            <a:ext cx="1800360" cy="128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468360" y="2349360"/>
          <a:ext cx="8218440" cy="4364280"/>
        </p:xfrm>
        <a:graphic>
          <a:graphicData uri="http://schemas.openxmlformats.org/drawingml/2006/table">
            <a:tbl>
              <a:tblPr/>
              <a:tblGrid>
                <a:gridCol w="4110120"/>
                <a:gridCol w="410832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ITGAAN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ANG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itgaande jongeren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ezier maken, veiligheid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reca ondernemers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ge omzet, goede naam, geen vechtpartijen, etc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litie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de, rust, veiligheid, weinig dronke mensen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rgemeester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d goede naam houden, niet negatief in het nieuws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urtbewoners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en overlast, strenge politie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7F6D-CE76-403E-8756-BAAABCB40C3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Bel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an uitgaan naar zinloosgew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der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 veel alcohol, te veel drug, thrillseekers, vechtersbaas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lachtoffer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erkeerde plek, verkeer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Belangen, emoties en meningen"/>
          <p:cNvPicPr/>
          <p:nvPr/>
        </p:nvPicPr>
        <p:blipFill>
          <a:blip r:embed="rId1"/>
          <a:stretch/>
        </p:blipFill>
        <p:spPr>
          <a:xfrm>
            <a:off x="6948360" y="1484280"/>
            <a:ext cx="18003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32E8-E21E-4B02-A7DB-87492BFF409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2: Bela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t voordeel dat je ergens bij he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meenschappelijke belan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Zowel jij als de politie wil veiligheid bij het uitga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gengestelde belang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reca wil veel drank verkopen, de politie wil geen dronken mensen op str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Belangen, emoties en meningen"/>
          <p:cNvPicPr/>
          <p:nvPr/>
        </p:nvPicPr>
        <p:blipFill>
          <a:blip r:embed="rId1"/>
          <a:stretch/>
        </p:blipFill>
        <p:spPr>
          <a:xfrm>
            <a:off x="6948360" y="1484280"/>
            <a:ext cx="18003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DE27-3D79-4735-B29F-A413D805D9C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62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3: Normen en wa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39640" y="2708280"/>
            <a:ext cx="7848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Norm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gedragsregels; regels hoe iemand zich moet gedra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d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principes die iemand belangrijk vindt in het leven (vaak 1 woord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69A5-2814-4C0F-A087-CDEEF5E2712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UITGAAN &amp; ZINLOOS GEW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Normen en waa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gengestelde normen en waarden bij zinloos  gew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0" y="3357720"/>
            <a:ext cx="57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Gezelligheid                      Gewel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0" y="4653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Geen ruzie maken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      Vechten is leuk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476360" y="5013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Nor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403280" y="27082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Waard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264360" y="5084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Nor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6084720" y="270828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00"/>
                </a:solidFill>
                <a:latin typeface="Arial"/>
              </a:rPr>
              <a:t>Waard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4462560" y="472428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Rustig met drank       Dronken worden mo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4857840" y="3357720"/>
            <a:ext cx="42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Veiligheid                  Uit je dak gaa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1692360" y="357336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6156360" y="3573360"/>
            <a:ext cx="10796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2050920" y="4869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6372360" y="494172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>
            <a:off x="39528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817236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543564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3419640" y="3789360"/>
            <a:ext cx="0" cy="9349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Floris Hirschfeld</cp:lastModifiedBy>
  <dcterms:modified xsi:type="dcterms:W3CDTF">2011-08-24T07:32:26Z</dcterms:modified>
  <cp:revision>80</cp:revision>
  <dc:subject/>
  <dc:title>Dia 1</dc:title>
</cp:coreProperties>
</file>