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10.gif" ContentType="image/gif"/>
  <Override PartName="/ppt/media/image12.jpeg" ContentType="image/jpeg"/>
  <Override PartName="/ppt/media/image9.png" ContentType="image/png"/>
  <Override PartName="/ppt/media/image8.gif" ContentType="image/gif"/>
  <Override PartName="/ppt/media/image7.gif" ContentType="image/gif"/>
  <Override PartName="/ppt/media/image6.png" ContentType="image/png"/>
  <Override PartName="/ppt/media/image3.gif" ContentType="image/gif"/>
  <Override PartName="/ppt/media/image26.gif" ContentType="image/gif"/>
  <Override PartName="/ppt/media/image5.png" ContentType="image/png"/>
  <Override PartName="/ppt/media/image25.gif" ContentType="image/gif"/>
  <Override PartName="/ppt/media/image23.gif" ContentType="image/gif"/>
  <Override PartName="/ppt/media/image15.png" ContentType="image/png"/>
  <Override PartName="/ppt/media/image20.png" ContentType="image/png"/>
  <Override PartName="/ppt/media/image17.gif" ContentType="image/gif"/>
  <Override PartName="/ppt/media/image16.png" ContentType="image/png"/>
  <Override PartName="/ppt/media/image21.gif" ContentType="image/gif"/>
  <Override PartName="/ppt/media/image19.gif" ContentType="image/gif"/>
  <Override PartName="/ppt/media/image1.png" ContentType="image/png"/>
  <Override PartName="/ppt/media/image22.gif" ContentType="image/gif"/>
  <Override PartName="/ppt/media/image2.png" ContentType="image/png"/>
  <Override PartName="/ppt/media/image24.gif" ContentType="image/gif"/>
  <Override PartName="/ppt/media/image4.png" ContentType="image/png"/>
  <Override PartName="/ppt/media/image13.jpeg" ContentType="image/jpeg"/>
  <Override PartName="/ppt/media/image1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4CB8-EFB5-4713-A5C8-5029C024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9233-BE95-4760-BEAA-6EAA434B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D909-575A-46AC-BD09-84AD406CD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A824-5288-4751-8F2D-49227E99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A9DB-12FD-4D8F-9C58-65F539FA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94E9-8343-4ED8-9443-021DE82F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0927-18D4-4E9E-B975-AFF82AAB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4F81-45FA-4AA9-80C7-40BA348C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9EE1-996A-410E-9FB8-2543936B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5655-AE20-406E-A87F-2197A728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D37E-CC1B-4AD3-942B-AF9F75E3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FC15-166F-4713-8EF5-29103F0D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533C-F224-4450-92E0-94EF57C1825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nl.youtube.com/watch?v=1HF35xuN0vQ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C94F-E3B9-4709-BAFC-683ECAD6E0B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7236000" y="4869000"/>
            <a:ext cx="19080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a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4 t/m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1117013462jongeren"/>
          <p:cNvPicPr/>
          <p:nvPr/>
        </p:nvPicPr>
        <p:blipFill>
          <a:blip r:embed="rId1"/>
          <a:stretch/>
        </p:blipFill>
        <p:spPr>
          <a:xfrm>
            <a:off x="1042920" y="1197000"/>
            <a:ext cx="6226200" cy="50259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2"/>
          <p:cNvSpPr/>
          <p:nvPr/>
        </p:nvSpPr>
        <p:spPr>
          <a:xfrm>
            <a:off x="2372040" y="333360"/>
            <a:ext cx="328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ONGEREN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BD2C-8590-4574-AA31-D65D7767EE5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82872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Ieder zijn stij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50920" y="2276640"/>
            <a:ext cx="80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ocialis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543640" y="3357720"/>
            <a:ext cx="360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ociale control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-900000" y="3357720"/>
            <a:ext cx="5543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Normen en </a:t>
            </a:r>
            <a:br>
              <a:rPr sz="3000"/>
            </a:b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waarden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4000" y="5805360"/>
            <a:ext cx="80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Internalis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-973080" y="5157720"/>
            <a:ext cx="554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Cultuu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5543640" y="4869000"/>
            <a:ext cx="360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ancties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7"/>
          <p:cNvSpPr/>
          <p:nvPr/>
        </p:nvSpPr>
        <p:spPr>
          <a:xfrm rot="19491000">
            <a:off x="1763640" y="2420640"/>
            <a:ext cx="1368360" cy="71892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96120 h 718920"/>
              <a:gd name="textAreaBottom" fmla="*/ 6228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8"/>
          <p:cNvSpPr/>
          <p:nvPr/>
        </p:nvSpPr>
        <p:spPr>
          <a:xfrm rot="3993000">
            <a:off x="5615640" y="2385000"/>
            <a:ext cx="1368360" cy="71928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9"/>
          <p:cNvSpPr/>
          <p:nvPr/>
        </p:nvSpPr>
        <p:spPr>
          <a:xfrm rot="3993000">
            <a:off x="6584760" y="4064040"/>
            <a:ext cx="1225440" cy="574560"/>
          </a:xfrm>
          <a:custGeom>
            <a:avLst/>
            <a:gdLst>
              <a:gd name="textAreaLeft" fmla="*/ 214200 w 1225440"/>
              <a:gd name="textAreaRight" fmla="*/ 888480 w 1225440"/>
              <a:gd name="textAreaTop" fmla="*/ 76680 h 574560"/>
              <a:gd name="textAreaBottom" fmla="*/ 497880 h 57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0"/>
          <p:cNvSpPr/>
          <p:nvPr/>
        </p:nvSpPr>
        <p:spPr>
          <a:xfrm rot="8839800">
            <a:off x="5940000" y="5660640"/>
            <a:ext cx="1368360" cy="71928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1"/>
          <p:cNvSpPr/>
          <p:nvPr/>
        </p:nvSpPr>
        <p:spPr>
          <a:xfrm rot="12125400">
            <a:off x="1618920" y="5876280"/>
            <a:ext cx="1368360" cy="71892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96120 h 718920"/>
              <a:gd name="textAreaBottom" fmla="*/ 622800 h 71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2"/>
          <p:cNvSpPr/>
          <p:nvPr/>
        </p:nvSpPr>
        <p:spPr>
          <a:xfrm rot="15039000">
            <a:off x="1206360" y="4565520"/>
            <a:ext cx="1082880" cy="501840"/>
          </a:xfrm>
          <a:custGeom>
            <a:avLst/>
            <a:gdLst>
              <a:gd name="textAreaLeft" fmla="*/ 189360 w 1082880"/>
              <a:gd name="textAreaRight" fmla="*/ 785160 w 1082880"/>
              <a:gd name="textAreaTop" fmla="*/ 66960 h 501840"/>
              <a:gd name="textAreaBottom" fmla="*/ 434880 h 501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3"/>
          <p:cNvSpPr/>
          <p:nvPr/>
        </p:nvSpPr>
        <p:spPr>
          <a:xfrm>
            <a:off x="2916360" y="2852640"/>
            <a:ext cx="2952720" cy="2881440"/>
          </a:xfrm>
          <a:custGeom>
            <a:avLst/>
            <a:gdLst>
              <a:gd name="textAreaLeft" fmla="*/ 432360 w 2952720"/>
              <a:gd name="textAreaRight" fmla="*/ 2520360 w 2952720"/>
              <a:gd name="textAreaTop" fmla="*/ 421920 h 2881440"/>
              <a:gd name="textAreaBottom" fmla="*/ 2459520 h 2881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7469-148F-4CC1-94A6-BCD3F86DDD8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Jongerencult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24000" y="2349360"/>
            <a:ext cx="80643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De eerste jeugdculturen ontstonden in de jaren 60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Komt door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eer welvaar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eer vrije tij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Lonen gingen omhoo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Kans om door te l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9" descr="teenager.gif"/>
          <p:cNvPicPr/>
          <p:nvPr/>
        </p:nvPicPr>
        <p:blipFill>
          <a:blip r:embed="rId1"/>
          <a:stretch/>
        </p:blipFill>
        <p:spPr>
          <a:xfrm>
            <a:off x="5508720" y="4365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3A8A-03D0-486E-B3FD-7FA25D8F3A0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Jongerencult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24000" y="2349360"/>
            <a:ext cx="806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aarom bij een groep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eer vrije tijd en geld </a:t>
            </a:r>
            <a:r>
              <a:rPr b="1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 dingen kopen/do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Bij een groep willen ho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nders zij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ndere ideeën/normen/waarden dan je ouders =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Generatie conflic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teenager"/>
          <p:cNvPicPr/>
          <p:nvPr/>
        </p:nvPicPr>
        <p:blipFill>
          <a:blip r:embed="rId1"/>
          <a:stretch/>
        </p:blipFill>
        <p:spPr>
          <a:xfrm>
            <a:off x="6372360" y="549360"/>
            <a:ext cx="22190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71E2-3AF5-4513-9A98-9052B060048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eeldvorming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het beeld dat je van iemand 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rmt door bijvoorbeeld gedrag en uiterlij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Rolgedrag: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 jij j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volgens anderen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et </a:t>
            </a:r>
            <a:br>
              <a:rPr sz="2400"/>
            </a:b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dragen in bepaalde situa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ensen hebben verschillende ro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it je rol vallen: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s je even anders gedraagd, je rol ‘los laten’ en helemaal jezelf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Roldoorbrekend gedrag: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B: dat mannen traditionele vrouwentaken verrichten en vrouwen traditionele mannen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jongeren"/>
          <p:cNvPicPr/>
          <p:nvPr/>
        </p:nvPicPr>
        <p:blipFill>
          <a:blip r:embed="rId1"/>
          <a:stretch/>
        </p:blipFill>
        <p:spPr>
          <a:xfrm>
            <a:off x="7308720" y="1916280"/>
            <a:ext cx="1428840" cy="18475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684360" y="1197000"/>
            <a:ext cx="76435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6: Hoe kijk je tegen anderen aan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41A6-1F9E-4B58-B7D5-79ED31B31749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24000" y="2349360"/>
            <a:ext cx="8064360" cy="36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ensen zijn afhankelijk van anderen. </a:t>
            </a:r>
            <a:br>
              <a:rPr sz="2400"/>
            </a:b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Je hebt ‘bindingen’ met ze.</a:t>
            </a:r>
            <a:br>
              <a:rPr sz="2400"/>
            </a:b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Zo hebben er mensen gezorgd voor jouw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pullen (fiets, wekker, kleding, leidingen voor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ater etc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9F2D-92ED-4427-90CA-EC16B67424A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4000" y="2349360"/>
            <a:ext cx="806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gevoels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economische 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kennis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politieke 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60AE-3F09-456D-9301-5A7D6C77D3B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24000" y="2349360"/>
            <a:ext cx="806436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 gevoels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mensen hebben elkaar nodig voor v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riendschap, steun en liefd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relaties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gezinnen/ families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vriend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Zijn (vaak) positieve 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gevoelens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Beating_Hearts"/>
          <p:cNvPicPr/>
          <p:nvPr/>
        </p:nvPicPr>
        <p:blipFill>
          <a:blip r:embed="rId1"/>
          <a:stretch/>
        </p:blipFill>
        <p:spPr>
          <a:xfrm>
            <a:off x="6300720" y="476280"/>
            <a:ext cx="2619360" cy="2381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Hearts"/>
          <p:cNvPicPr/>
          <p:nvPr/>
        </p:nvPicPr>
        <p:blipFill>
          <a:blip r:embed="rId2"/>
          <a:stretch/>
        </p:blipFill>
        <p:spPr>
          <a:xfrm>
            <a:off x="395280" y="4005360"/>
            <a:ext cx="2197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397B-94ED-4C89-9431-C9B29B98EF8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24000" y="2349360"/>
            <a:ext cx="80643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 economische 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Alles wat me je levensondehoud te maken heeft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wat je eet/ drinkt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wat je gebruikt/ koop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Je bent afhankelijk van zakgeld of lo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rembrandt.gif"/>
          <p:cNvPicPr/>
          <p:nvPr/>
        </p:nvPicPr>
        <p:blipFill>
          <a:blip r:embed="rId1"/>
          <a:stretch/>
        </p:blipFill>
        <p:spPr>
          <a:xfrm>
            <a:off x="6659640" y="692280"/>
            <a:ext cx="213984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A387-2D3E-42AC-9513-ED59DF848C7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24000" y="2349360"/>
            <a:ext cx="80643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 kennis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heeft te maken met alles wat je leer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via school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via je ouders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via vrienden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- etc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aangeleerd"/>
          <p:cNvPicPr/>
          <p:nvPr/>
        </p:nvPicPr>
        <p:blipFill>
          <a:blip r:embed="rId1"/>
          <a:stretch/>
        </p:blipFill>
        <p:spPr>
          <a:xfrm>
            <a:off x="4788000" y="3429000"/>
            <a:ext cx="29401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7209-300D-42BC-BBFC-843857A13C3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99760" y="162828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7: Hoe we samenl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324000" y="2349360"/>
            <a:ext cx="8064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Bindingen:</a:t>
            </a: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 politieke bindinge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Omdat je onmogelijk alles zelf 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kan regelen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Overheid beschermt ons, legt 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weten aan, zorgt voor politie </a:t>
            </a:r>
            <a:br>
              <a:rPr sz="2800"/>
            </a:b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en onderwijs, etc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ffff"/>
                </a:solidFill>
                <a:latin typeface="Arial"/>
              </a:rPr>
              <a:t>Wetten en regel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balkenende"/>
          <p:cNvPicPr/>
          <p:nvPr/>
        </p:nvPicPr>
        <p:blipFill>
          <a:blip r:embed="rId1"/>
          <a:stretch/>
        </p:blipFill>
        <p:spPr>
          <a:xfrm>
            <a:off x="6012000" y="184464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FED0-2FBD-4354-961C-8CF59A1D4AA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1 Hoe word je wie je b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angeboren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pvoe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genschappe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  fats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riftig zij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  pr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erlegen zij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  l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uzikaal zij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  naar wc g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tc..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 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angebor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angelee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1" descr="Teenager"/>
          <p:cNvPicPr/>
          <p:nvPr/>
        </p:nvPicPr>
        <p:blipFill>
          <a:blip r:embed="rId1"/>
          <a:stretch/>
        </p:blipFill>
        <p:spPr>
          <a:xfrm>
            <a:off x="3564000" y="2708280"/>
            <a:ext cx="1649520" cy="3672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12"/>
          <p:cNvSpPr/>
          <p:nvPr/>
        </p:nvSpPr>
        <p:spPr>
          <a:xfrm rot="10800000">
            <a:off x="1331640" y="1628280"/>
            <a:ext cx="6048360" cy="936720"/>
          </a:xfrm>
          <a:custGeom>
            <a:avLst/>
            <a:gdLst>
              <a:gd name="textAreaLeft" fmla="*/ 604800 w 6048360"/>
              <a:gd name="textAreaRight" fmla="*/ 5443560 w 6048360"/>
              <a:gd name="textAreaTop" fmla="*/ 535320 h 936720"/>
              <a:gd name="textAreaBottom" fmla="*/ 803160 h 9367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1258920" y="5013360"/>
            <a:ext cx="288720" cy="936720"/>
          </a:xfrm>
          <a:prstGeom prst="upDownArrow">
            <a:avLst>
              <a:gd name="adj1" fmla="val 50000"/>
              <a:gd name="adj2" fmla="val 6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"/>
          <p:cNvSpPr/>
          <p:nvPr/>
        </p:nvSpPr>
        <p:spPr>
          <a:xfrm>
            <a:off x="6443640" y="4941720"/>
            <a:ext cx="289080" cy="936720"/>
          </a:xfrm>
          <a:prstGeom prst="upDownArrow">
            <a:avLst>
              <a:gd name="adj1" fmla="val 50000"/>
              <a:gd name="adj2" fmla="val 645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5BDE-1E57-4567-A985-F7619CFDBE2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eb je hoger dan een 8.5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n iets lekk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Afbeelding 13" descr="child.gif"/>
          <p:cNvPicPr/>
          <p:nvPr/>
        </p:nvPicPr>
        <p:blipFill>
          <a:blip r:embed="rId1"/>
          <a:stretch/>
        </p:blipFill>
        <p:spPr>
          <a:xfrm>
            <a:off x="5508720" y="465300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68" name="Afbeelding 14" descr="preteen.gif"/>
          <p:cNvPicPr/>
          <p:nvPr/>
        </p:nvPicPr>
        <p:blipFill>
          <a:blip r:embed="rId2"/>
          <a:stretch/>
        </p:blipFill>
        <p:spPr>
          <a:xfrm>
            <a:off x="3995640" y="465300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169" name="Afbeelding 15" descr="schoolchild.gif"/>
          <p:cNvPicPr/>
          <p:nvPr/>
        </p:nvPicPr>
        <p:blipFill>
          <a:blip r:embed="rId3"/>
          <a:stretch/>
        </p:blipFill>
        <p:spPr>
          <a:xfrm>
            <a:off x="755640" y="465300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70" name="Afbeelding 16" descr="wirish.gif"/>
          <p:cNvPicPr/>
          <p:nvPr/>
        </p:nvPicPr>
        <p:blipFill>
          <a:blip r:embed="rId4"/>
          <a:stretch/>
        </p:blipFill>
        <p:spPr>
          <a:xfrm>
            <a:off x="2411280" y="465300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171" name="Afbeelding 17" descr="teenagers.gif"/>
          <p:cNvPicPr/>
          <p:nvPr/>
        </p:nvPicPr>
        <p:blipFill>
          <a:blip r:embed="rId5"/>
          <a:stretch/>
        </p:blipFill>
        <p:spPr>
          <a:xfrm>
            <a:off x="6948360" y="4653000"/>
            <a:ext cx="1656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F1AD-9FAC-4CB1-A68C-2A2C37DAE08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296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 Hoe word je wie je b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95280" y="458136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Belonen en straffe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C0DCB-give"/>
          <p:cNvPicPr/>
          <p:nvPr/>
        </p:nvPicPr>
        <p:blipFill>
          <a:blip r:embed="rId1"/>
          <a:stretch/>
        </p:blipFill>
        <p:spPr>
          <a:xfrm>
            <a:off x="0" y="1773360"/>
            <a:ext cx="1944720" cy="1598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3708360" y="47242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Imitati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227640" y="47242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Informati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" descr="illustratie"/>
          <p:cNvPicPr/>
          <p:nvPr/>
        </p:nvPicPr>
        <p:blipFill>
          <a:blip r:embed="rId2"/>
          <a:stretch/>
        </p:blipFill>
        <p:spPr>
          <a:xfrm>
            <a:off x="1835280" y="2708280"/>
            <a:ext cx="1552320" cy="19652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179280" y="5661000"/>
            <a:ext cx="26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=</a:t>
            </a:r>
            <a:br>
              <a:rPr sz="3200"/>
            </a:b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Sanctie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5" descr="information"/>
          <p:cNvPicPr/>
          <p:nvPr/>
        </p:nvPicPr>
        <p:blipFill>
          <a:blip r:embed="rId3"/>
          <a:stretch/>
        </p:blipFill>
        <p:spPr>
          <a:xfrm>
            <a:off x="6156360" y="2276640"/>
            <a:ext cx="2414520" cy="2414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elastic_parrot"/>
          <p:cNvPicPr/>
          <p:nvPr/>
        </p:nvPicPr>
        <p:blipFill>
          <a:blip r:embed="rId4"/>
          <a:stretch/>
        </p:blipFill>
        <p:spPr>
          <a:xfrm>
            <a:off x="4140360" y="3284640"/>
            <a:ext cx="1207800" cy="1312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pars"/>
          <p:cNvPicPr/>
          <p:nvPr/>
        </p:nvPicPr>
        <p:blipFill>
          <a:blip r:embed="rId5"/>
          <a:stretch/>
        </p:blipFill>
        <p:spPr>
          <a:xfrm>
            <a:off x="4067280" y="1773360"/>
            <a:ext cx="155880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1AA9-4A29-4B69-804A-29354D4D1495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Hoe word je wie je b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755640" y="5084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Identificati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932360" y="508464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ffff"/>
                </a:solidFill>
                <a:latin typeface="Arial"/>
              </a:rPr>
              <a:t>Eigen Persoonlijkheid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California Motorcycle Accident Lawyer Norman Gregory Fernandez discusses Britney Spears situation."/>
          <p:cNvPicPr/>
          <p:nvPr/>
        </p:nvPicPr>
        <p:blipFill>
          <a:blip r:embed="rId1"/>
          <a:stretch/>
        </p:blipFill>
        <p:spPr>
          <a:xfrm>
            <a:off x="900000" y="1773360"/>
            <a:ext cx="2435400" cy="3162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ti-animated"/>
          <p:cNvPicPr/>
          <p:nvPr/>
        </p:nvPicPr>
        <p:blipFill>
          <a:blip r:embed="rId2"/>
          <a:stretch/>
        </p:blipFill>
        <p:spPr>
          <a:xfrm>
            <a:off x="4211640" y="1989000"/>
            <a:ext cx="3809880" cy="30290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2"/>
          <p:cNvSpPr/>
          <p:nvPr/>
        </p:nvSpPr>
        <p:spPr>
          <a:xfrm>
            <a:off x="684360" y="5851440"/>
            <a:ext cx="266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Op iemand willen lijken die je bewonder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4932360" y="6093000"/>
            <a:ext cx="33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Persoonlijke invloeden, ervaringen, karakter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8FEB-E42A-4FE6-B167-9ADC76AF959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627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2: Wat is norma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539640" y="2708280"/>
            <a:ext cx="7993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Normen: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gedragsregels; regels hoe iemand zich moet gedra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aarden: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principes die iemand 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belangrijk vindt in het leven 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(vaak 1 woord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1" descr="avinfun.gif"/>
          <p:cNvPicPr/>
          <p:nvPr/>
        </p:nvPicPr>
        <p:blipFill>
          <a:blip r:embed="rId1"/>
          <a:stretch/>
        </p:blipFill>
        <p:spPr>
          <a:xfrm>
            <a:off x="6012000" y="4221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2"/>
          <p:cNvSpPr/>
          <p:nvPr/>
        </p:nvSpPr>
        <p:spPr>
          <a:xfrm>
            <a:off x="468360" y="3573360"/>
            <a:ext cx="676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fatsoensnormen: “het hoort nou eenmaal zo”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- opstaan in bus voor om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- hand gev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8D3C-A00F-43C6-B8F5-8C9E0DC0DE0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2: Wat is norma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rschillen in waarde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 normen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 De groep waar je bij ho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 plaats waar je wo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 tijd waarin je le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éle grote verschillen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bnorm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9" descr="gay-parade-32"/>
          <p:cNvPicPr/>
          <p:nvPr/>
        </p:nvPicPr>
        <p:blipFill>
          <a:blip r:embed="rId1"/>
          <a:stretch/>
        </p:blipFill>
        <p:spPr>
          <a:xfrm>
            <a:off x="5651640" y="1773360"/>
            <a:ext cx="3138480" cy="47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0B57-EED8-46EA-9FBB-48D46DF8DE0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Social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 de overdracht van kenmerken van een groep of samenlev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cialiserende institu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z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rienden en vriendi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ortclu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l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ss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3785-7B19-4760-A682-103985DAC2F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5000"/>
          </a:bodyPr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Social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ernalisat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e gedraagt je ‘automatisch’ (ongeveer) zoals de groep dat verwach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rechts rijden in het verk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hand geven als je iemand ontmo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- boer/scheet inhouden tijdens het 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5AF9-5774-4E77-838C-F2E16FFA0EA2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82872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JONGER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Ieder zijn stij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24000" y="2349360"/>
            <a:ext cx="80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Cultuu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5219640" y="3933720"/>
            <a:ext cx="360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Subcultuu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-973080" y="3933720"/>
            <a:ext cx="554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Dominante cultuu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324000" y="5589720"/>
            <a:ext cx="80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000" spc="-1" strike="noStrike">
                <a:solidFill>
                  <a:srgbClr val="ffffff"/>
                </a:solidFill>
                <a:latin typeface="Arial"/>
              </a:rPr>
              <a:t>Jongeren cultuur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6" descr="cult"/>
          <p:cNvPicPr/>
          <p:nvPr/>
        </p:nvPicPr>
        <p:blipFill>
          <a:blip r:embed="rId1"/>
          <a:stretch/>
        </p:blipFill>
        <p:spPr>
          <a:xfrm>
            <a:off x="6084720" y="404640"/>
            <a:ext cx="2881440" cy="2492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7"/>
          <p:cNvSpPr/>
          <p:nvPr/>
        </p:nvSpPr>
        <p:spPr>
          <a:xfrm>
            <a:off x="1908000" y="278136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Een groep mensen met dezelfde waarden, normen en gewoon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0" y="443700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cultuur van een grote groep mensen. (in Nederland…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5580000" y="4365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cultuur van een 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kleine groep mens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2411280" y="3573360"/>
            <a:ext cx="576360" cy="503280"/>
          </a:xfrm>
          <a:prstGeom prst="leftArrow">
            <a:avLst>
              <a:gd name="adj1" fmla="val 50000"/>
              <a:gd name="adj2" fmla="val 286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2"/>
          <p:cNvSpPr/>
          <p:nvPr/>
        </p:nvSpPr>
        <p:spPr>
          <a:xfrm>
            <a:off x="5724360" y="3573360"/>
            <a:ext cx="792360" cy="505080"/>
          </a:xfrm>
          <a:prstGeom prst="rightArrow">
            <a:avLst>
              <a:gd name="adj1" fmla="val 50000"/>
              <a:gd name="adj2" fmla="val 392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2268360" y="6035760"/>
            <a:ext cx="49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cultuur van een groep jong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Floris Hirschfeld</cp:lastModifiedBy>
  <dcterms:modified xsi:type="dcterms:W3CDTF">2011-08-24T08:02:17Z</dcterms:modified>
  <cp:revision>91</cp:revision>
  <dc:subject/>
  <dc:title>Dia 1</dc:title>
</cp:coreProperties>
</file>