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5.gif" ContentType="image/gif"/>
  <Override PartName="/ppt/media/image18.png" ContentType="image/png"/>
  <Override PartName="/ppt/media/image22.gif" ContentType="image/gif"/>
  <Override PartName="/ppt/media/image15.png" ContentType="image/png"/>
  <Override PartName="/ppt/media/image20.gif" ContentType="image/gif"/>
  <Override PartName="/ppt/media/image1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.png" ContentType="image/png"/>
  <Override PartName="/ppt/media/image2.jpeg" ContentType="image/jpeg"/>
  <Override PartName="/ppt/media/image36.jpeg" ContentType="image/jpeg"/>
  <Override PartName="/ppt/media/image30.jpeg" ContentType="image/jpeg"/>
  <Override PartName="/ppt/media/image12.gif" ContentType="image/gif"/>
  <Override PartName="/ppt/media/image32.png" ContentType="image/png"/>
  <Override PartName="/ppt/media/image28.jpeg" ContentType="image/jpeg"/>
  <Override PartName="/ppt/media/image37.png" ContentType="image/png"/>
  <Override PartName="/ppt/media/image34.jpeg" ContentType="image/jpeg"/>
  <Override PartName="/ppt/media/image44.gif" ContentType="image/gif"/>
  <Override PartName="/ppt/media/image39.gif" ContentType="image/gif"/>
  <Override PartName="/ppt/media/image40.png" ContentType="image/png"/>
  <Override PartName="/ppt/media/image9.jpeg" ContentType="image/jpeg"/>
  <Override PartName="/ppt/media/image31.jpeg" ContentType="image/jpeg"/>
  <Override PartName="/ppt/media/image41.png" ContentType="image/png"/>
  <Override PartName="/ppt/media/image43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10.png" ContentType="image/png"/>
  <Override PartName="/ppt/media/image27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35.gif" ContentType="image/gif"/>
  <Override PartName="/ppt/media/image5.gif" ContentType="image/gif"/>
  <Override PartName="/ppt/media/image11.gif" ContentType="image/gif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159-53FE-4D9B-BD83-8AD84150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8FA5-0534-4ACF-9FD4-20ECB537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639-A9DE-420B-9078-CADC5DB9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7F0D-5F6D-4F1B-83FB-1A9FAFD0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C923-76EE-4B59-AC53-C7735F83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6ED-882D-4CAB-8390-E6E33D74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F61B-EE02-431F-AB3C-103A372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438-92D9-4368-8295-3AEF6764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A11-F056-4C8F-ACB5-F1C647B7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A52-9514-42CC-9133-5AC434E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E375-A72D-43E5-AF3E-18BA894F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DA77-19BF-46FA-8285-3C04E13F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F330-762C-42B9-9EF1-6C28B871C8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hyperlink" Target="http://www.sodahead.com/united-states/sodahead-slideshow-whos-the-biggest-wall-street-cheat/blog-326933/" TargetMode="External"/><Relationship Id="rId8" Type="http://schemas.openxmlformats.org/officeDocument/2006/relationships/image" Target="../media/image19.gif"/><Relationship Id="rId9" Type="http://schemas.openxmlformats.org/officeDocument/2006/relationships/image" Target="../media/image20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27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ipartsalbum.nl/asp/cliparts.asp?Language=NL&amp;AreaCode=NL&amp;LCID=1043&amp;Source=Categories&amp;Subcategories_ID=53&amp;S=afrika" TargetMode="External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http://www.psychologiemagazine.nl/upload/d5c7564b-e25d-4acb-b0aa-fd5737d8a69f_relaties%20rond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404640"/>
            <a:ext cx="6121440" cy="6262920"/>
          </a:xfrm>
          <a:prstGeom prst="rect">
            <a:avLst/>
          </a:prstGeom>
          <a:ln w="0">
            <a:noFill/>
          </a:ln>
        </p:spPr>
      </p:pic>
      <p:sp>
        <p:nvSpPr>
          <p:cNvPr id="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347D-0C43-446B-8931-DBF3D8AA68C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1: Met elkaar omga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2: Verliefd, verloofd, getrouw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3: Als de relatie stukloopt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4: Samen of alleen?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§ -: Soms loopt het ander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1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7"/>
          <p:cNvSpPr/>
          <p:nvPr/>
        </p:nvSpPr>
        <p:spPr>
          <a:xfrm>
            <a:off x="1116000" y="6922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oofdstuk: Relaties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8996-E1A0-4487-AB18-956578724B1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907920"/>
            <a:ext cx="85075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eemdgaan: Wat vind jij dat ma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or jezelf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Voor de partn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itgaa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n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ijen met een a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Tekstvak 5"/>
          <p:cNvGrpSpPr/>
          <p:nvPr/>
        </p:nvGrpSpPr>
        <p:grpSpPr>
          <a:xfrm>
            <a:off x="378000" y="3840120"/>
            <a:ext cx="2116080" cy="493920"/>
            <a:chOff x="378000" y="3840120"/>
            <a:chExt cx="2116080" cy="493920"/>
          </a:xfrm>
        </p:grpSpPr>
        <p:pic>
          <p:nvPicPr>
            <p:cNvPr id="90" name="Tekstvak 5" descr=""/>
            <p:cNvPicPr/>
            <p:nvPr/>
          </p:nvPicPr>
          <p:blipFill>
            <a:blip r:embed="rId1"/>
            <a:stretch/>
          </p:blipFill>
          <p:spPr>
            <a:xfrm>
              <a:off x="378000" y="3840120"/>
              <a:ext cx="21160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95280" y="386064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91,1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Tekstvak 7"/>
          <p:cNvGrpSpPr/>
          <p:nvPr/>
        </p:nvGrpSpPr>
        <p:grpSpPr>
          <a:xfrm>
            <a:off x="1311120" y="4419720"/>
            <a:ext cx="1182960" cy="493560"/>
            <a:chOff x="1311120" y="4419720"/>
            <a:chExt cx="1182960" cy="493560"/>
          </a:xfrm>
        </p:grpSpPr>
        <p:pic>
          <p:nvPicPr>
            <p:cNvPr id="93" name="Tekstvak 7" descr=""/>
            <p:cNvPicPr/>
            <p:nvPr/>
          </p:nvPicPr>
          <p:blipFill>
            <a:blip r:embed="rId2"/>
            <a:stretch/>
          </p:blipFill>
          <p:spPr>
            <a:xfrm>
              <a:off x="1311120" y="4419720"/>
              <a:ext cx="118296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332000" y="44370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39,8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Tekstvak 8"/>
          <p:cNvGrpSpPr/>
          <p:nvPr/>
        </p:nvGrpSpPr>
        <p:grpSpPr>
          <a:xfrm>
            <a:off x="1603440" y="4992840"/>
            <a:ext cx="890640" cy="433080"/>
            <a:chOff x="1603440" y="4992840"/>
            <a:chExt cx="890640" cy="433080"/>
          </a:xfrm>
        </p:grpSpPr>
        <p:pic>
          <p:nvPicPr>
            <p:cNvPr id="96" name="Tekstvak 8" descr=""/>
            <p:cNvPicPr/>
            <p:nvPr/>
          </p:nvPicPr>
          <p:blipFill>
            <a:blip r:embed="rId3"/>
            <a:stretch/>
          </p:blipFill>
          <p:spPr>
            <a:xfrm>
              <a:off x="1603440" y="4992840"/>
              <a:ext cx="890640" cy="43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19280" y="501336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17 %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Tekstvak 9"/>
          <p:cNvGrpSpPr/>
          <p:nvPr/>
        </p:nvGrpSpPr>
        <p:grpSpPr>
          <a:xfrm>
            <a:off x="6784920" y="5065560"/>
            <a:ext cx="609480" cy="401760"/>
            <a:chOff x="6784920" y="5065560"/>
            <a:chExt cx="609480" cy="401760"/>
          </a:xfrm>
        </p:grpSpPr>
        <p:pic>
          <p:nvPicPr>
            <p:cNvPr id="99" name="Tekstvak 9" descr=""/>
            <p:cNvPicPr/>
            <p:nvPr/>
          </p:nvPicPr>
          <p:blipFill>
            <a:blip r:embed="rId4"/>
            <a:stretch/>
          </p:blipFill>
          <p:spPr>
            <a:xfrm>
              <a:off x="6784920" y="5065560"/>
              <a:ext cx="6094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680400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1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Tekstvak 10"/>
          <p:cNvGrpSpPr/>
          <p:nvPr/>
        </p:nvGrpSpPr>
        <p:grpSpPr>
          <a:xfrm>
            <a:off x="6784920" y="4492800"/>
            <a:ext cx="822240" cy="396720"/>
            <a:chOff x="6784920" y="4492800"/>
            <a:chExt cx="822240" cy="396720"/>
          </a:xfrm>
        </p:grpSpPr>
        <p:pic>
          <p:nvPicPr>
            <p:cNvPr id="102" name="Tekstvak 10" descr=""/>
            <p:cNvPicPr/>
            <p:nvPr/>
          </p:nvPicPr>
          <p:blipFill>
            <a:blip r:embed="rId5"/>
            <a:stretch/>
          </p:blipFill>
          <p:spPr>
            <a:xfrm>
              <a:off x="6784920" y="4492800"/>
              <a:ext cx="82224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04000" y="450864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9 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Tekstvak 11"/>
          <p:cNvGrpSpPr/>
          <p:nvPr/>
        </p:nvGrpSpPr>
        <p:grpSpPr>
          <a:xfrm>
            <a:off x="6784920" y="3913200"/>
            <a:ext cx="1762200" cy="493560"/>
            <a:chOff x="6784920" y="3913200"/>
            <a:chExt cx="1762200" cy="493560"/>
          </a:xfrm>
        </p:grpSpPr>
        <p:pic>
          <p:nvPicPr>
            <p:cNvPr id="105" name="Tekstvak 11" descr=""/>
            <p:cNvPicPr/>
            <p:nvPr/>
          </p:nvPicPr>
          <p:blipFill>
            <a:blip r:embed="rId6"/>
            <a:stretch/>
          </p:blipFill>
          <p:spPr>
            <a:xfrm>
              <a:off x="6784920" y="3913200"/>
              <a:ext cx="176220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6804000" y="39337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Arial"/>
                </a:rPr>
                <a:t>62%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4" descr="http://i223.photobucket.com/albums/dd54/Kylepotvin95/kick.gi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1773360"/>
            <a:ext cx="2592360" cy="21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" descr="http://i1.glitter-graphics.org/pub/72/72811rmag856ydm.gif"/>
          <p:cNvPicPr/>
          <p:nvPr/>
        </p:nvPicPr>
        <p:blipFill>
          <a:blip r:embed="rId9"/>
          <a:stretch/>
        </p:blipFill>
        <p:spPr>
          <a:xfrm>
            <a:off x="6156360" y="2492280"/>
            <a:ext cx="1655640" cy="119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http://www.jongingestel.nl/fckeditor/editor/images/smiley/msn/hug.gif"/>
          <p:cNvPicPr/>
          <p:nvPr/>
        </p:nvPicPr>
        <p:blipFill>
          <a:blip r:embed="rId10"/>
          <a:stretch/>
        </p:blipFill>
        <p:spPr>
          <a:xfrm>
            <a:off x="539640" y="2565360"/>
            <a:ext cx="22989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71C-CF25-4C9B-AB23-5E9E826C35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 gelukkigste dag van mijn leven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ar ook rechten en plich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elkaar bijstaan en hel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mee betalen aan huishoudko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kinderen verzorgen en opvoe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Ouderlijk gezag: wettelijke plicht om je kind op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 voeden en te verzorgen. Tot je 18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ok dingen verbieden (tatoeage, bromm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 Financieel gezag: kosten van een kind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alen. Tot je 21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407280" y="692280"/>
            <a:ext cx="273672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51D-3D4A-43B1-96BA-2B0E7773335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mag je trouwen?4 belangrijke eis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 je nog niet getrouwd bent (dus niet met meer dan 1 perso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 moet weten wat je doet (niet dronken, onder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erderjarig zijn. (jo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leen als het meisje zwanger is + 16/17 jaar + toestemming oud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trouwen met familie (neef/nicht mag we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7236000" y="47628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7524720" y="3490920"/>
            <a:ext cx="12952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6" descr="leuke en gratis Liefde animaties"/>
          <p:cNvPicPr/>
          <p:nvPr/>
        </p:nvPicPr>
        <p:blipFill>
          <a:blip r:embed="rId1"/>
          <a:stretch/>
        </p:blipFill>
        <p:spPr>
          <a:xfrm>
            <a:off x="684360" y="1413000"/>
            <a:ext cx="1942920" cy="2574720"/>
          </a:xfrm>
          <a:prstGeom prst="rect">
            <a:avLst/>
          </a:prstGeom>
          <a:ln w="0">
            <a:noFill/>
          </a:ln>
        </p:spPr>
      </p:pic>
      <p:sp>
        <p:nvSpPr>
          <p:cNvPr id="1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8288-C807-4103-B5EB-56FB46EA166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 3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gen zij trouw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6443640" y="1628640"/>
            <a:ext cx="2019240" cy="2114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3"/>
          <a:stretch/>
        </p:blipFill>
        <p:spPr>
          <a:xfrm>
            <a:off x="611280" y="1557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4"/>
          <a:stretch/>
        </p:blipFill>
        <p:spPr>
          <a:xfrm>
            <a:off x="468360" y="4321080"/>
            <a:ext cx="2298600" cy="253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http://www.haarlemsdagblad.nl/multimedia/dynamic/01706/contracorriente_1706051j.jpg"/>
          <p:cNvPicPr/>
          <p:nvPr/>
        </p:nvPicPr>
        <p:blipFill>
          <a:blip r:embed="rId5"/>
          <a:srcRect l="13287" t="1904" r="17317" b="-914"/>
          <a:stretch/>
        </p:blipFill>
        <p:spPr>
          <a:xfrm>
            <a:off x="3348000" y="1628640"/>
            <a:ext cx="2016000" cy="2230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http://t2.gstatic.com/images?q=tbn:-JW2iZH6LHDylM:http://effatha0.punt.nl/upload/Johan_van_Arkel.jpg&amp;t=1"/>
          <p:cNvPicPr/>
          <p:nvPr/>
        </p:nvPicPr>
        <p:blipFill>
          <a:blip r:embed="rId6"/>
          <a:srcRect l="0" t="0" r="40157" b="0"/>
          <a:stretch/>
        </p:blipFill>
        <p:spPr>
          <a:xfrm>
            <a:off x="3203640" y="4437000"/>
            <a:ext cx="2520720" cy="2246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http://estb.msn.com/i/BE/A79E5521BDD84E9BF434F09781D3B2.jpg"/>
          <p:cNvPicPr/>
          <p:nvPr/>
        </p:nvPicPr>
        <p:blipFill>
          <a:blip r:embed="rId7"/>
          <a:srcRect l="22182" t="-315" r="6143" b="61268"/>
          <a:stretch/>
        </p:blipFill>
        <p:spPr>
          <a:xfrm>
            <a:off x="6227640" y="4437000"/>
            <a:ext cx="27320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8"/>
          <a:stretch/>
        </p:blipFill>
        <p:spPr>
          <a:xfrm>
            <a:off x="6372360" y="16286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http://t2.gstatic.com/images?q=tbn:soqufzbALk8FeM:http://api.ning.com/files/IQj5U-1bKx6qtLyTeZ8ss1o6tt*GobFuJ6HXoJF6u6aoV2oEsZPMNvmXadHmebSG6VnitchwRNNpw89mpchcLZgJ6aIm6Uw1/banmarriagebig.gif&amp;t=1"/>
          <p:cNvPicPr/>
          <p:nvPr/>
        </p:nvPicPr>
        <p:blipFill>
          <a:blip r:embed="rId9"/>
          <a:stretch/>
        </p:blipFill>
        <p:spPr>
          <a:xfrm>
            <a:off x="3203640" y="4221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§ 2: Verliefd, verloofd, getrouw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Emancipati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roeger was de vrouw: huisvrouw en moeder, geen stemrecht, geen stud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- Vrouwen niet meer tevreden: ook werken, ook studeren en stemrecht sinds 1919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ECBD-E8FA-486C-82C9-2A19A048952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050920" y="3860640"/>
            <a:ext cx="39038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BB31-40CA-4AB2-BB81-5704C88D2D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tretch/>
        </p:blipFill>
        <p:spPr>
          <a:xfrm>
            <a:off x="0" y="681120"/>
            <a:ext cx="914400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5891-2D79-405F-8265-FA76A2D9975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 je ouders gaan schei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llen ver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mentatie betalen (maandelijks een geldbedr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nderalimentatie: betaalt de ouder die de kinderen niet verzorgt aan de andere ouder tot 21 jaar ou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alimentatie: betalen als je inkomen veel hoger is dan die van je e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gangsregeling voor de kinderen: ouderlijkgezag bij 1 ou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-ouderschap: kinderen blijven deels bij de ene ouder, deels bij de ander. Ouderlijkgezag verdee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7236000" y="5370480"/>
            <a:ext cx="162072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2A1C-8157-42A3-BC25-18163506BA2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ls jullie het niet eens wor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hter bes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ind beslist als hij 12 jaar of ouder i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indbeslissing is voor de rech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http://www.gelderlander.nl/multimedia/archive/00273/echtscheiding_273568b.jpg"/>
          <p:cNvPicPr/>
          <p:nvPr/>
        </p:nvPicPr>
        <p:blipFill>
          <a:blip r:embed="rId1"/>
          <a:stretch/>
        </p:blipFill>
        <p:spPr>
          <a:xfrm>
            <a:off x="5881680" y="3716280"/>
            <a:ext cx="297504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BA4C-D4DE-4D6D-B2DA-B19D07A374E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n wie is het ge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rouwen in algehele gemeenschap van goeder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 bezittingen, geld én schulden, van beide partners s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j scheiding: ieder krijgt 50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se 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 het moment van trouwen bij een notaris vast leggen wat van wie is. Bij scheiding: je krijgt wat van jou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kstvak 4"/>
          <p:cNvSpPr/>
          <p:nvPr/>
        </p:nvSpPr>
        <p:spPr>
          <a:xfrm>
            <a:off x="250920" y="3068640"/>
            <a:ext cx="115236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kstvak 5"/>
          <p:cNvSpPr/>
          <p:nvPr/>
        </p:nvSpPr>
        <p:spPr>
          <a:xfrm>
            <a:off x="2484360" y="5373720"/>
            <a:ext cx="11509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kstvak 6"/>
          <p:cNvSpPr/>
          <p:nvPr/>
        </p:nvSpPr>
        <p:spPr>
          <a:xfrm>
            <a:off x="179280" y="5373720"/>
            <a:ext cx="1152720" cy="4618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kstvak 7"/>
          <p:cNvSpPr/>
          <p:nvPr/>
        </p:nvSpPr>
        <p:spPr>
          <a:xfrm>
            <a:off x="250920" y="3716280"/>
            <a:ext cx="115236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kstvak 8"/>
          <p:cNvSpPr/>
          <p:nvPr/>
        </p:nvSpPr>
        <p:spPr>
          <a:xfrm>
            <a:off x="2700360" y="3357720"/>
            <a:ext cx="1150920" cy="4600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kstvak 9"/>
          <p:cNvSpPr/>
          <p:nvPr/>
        </p:nvSpPr>
        <p:spPr>
          <a:xfrm>
            <a:off x="179280" y="6093000"/>
            <a:ext cx="11527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kstvak 10"/>
          <p:cNvSpPr/>
          <p:nvPr/>
        </p:nvSpPr>
        <p:spPr>
          <a:xfrm>
            <a:off x="2484360" y="6093000"/>
            <a:ext cx="1150920" cy="461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IJL-RECHTS 11"/>
          <p:cNvSpPr/>
          <p:nvPr/>
        </p:nvSpPr>
        <p:spPr>
          <a:xfrm>
            <a:off x="1547640" y="551664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IJL-RECHTS 12"/>
          <p:cNvSpPr/>
          <p:nvPr/>
        </p:nvSpPr>
        <p:spPr>
          <a:xfrm>
            <a:off x="1547640" y="6237360"/>
            <a:ext cx="863640" cy="216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JL-RECHTS 13"/>
          <p:cNvSpPr/>
          <p:nvPr/>
        </p:nvSpPr>
        <p:spPr>
          <a:xfrm rot="1484400">
            <a:off x="1391760" y="3252600"/>
            <a:ext cx="1265400" cy="20952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IJL-RECHTS 14"/>
          <p:cNvSpPr/>
          <p:nvPr/>
        </p:nvSpPr>
        <p:spPr>
          <a:xfrm rot="20759400">
            <a:off x="1409760" y="3795480"/>
            <a:ext cx="1266840" cy="20952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5867280" y="2852640"/>
            <a:ext cx="21607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55B4-6FDD-467E-A231-ABD6D3F3DDB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4680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oeger ni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k keurde het a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genoeg welvaart om op jezelf te w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 w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en financiele middellen/ economisch onafhank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fde is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standshuwelij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lkaar blijven voor de kinderen of voor het g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ar niet meer van elkaar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www.math4all.nl/MathAdoreOpgaven/Images/va-fa15-op5-t1.jpg"/>
          <p:cNvPicPr/>
          <p:nvPr/>
        </p:nvPicPr>
        <p:blipFill>
          <a:blip r:embed="rId1"/>
          <a:srcRect l="0" t="29990" r="34202" b="39497"/>
          <a:stretch/>
        </p:blipFill>
        <p:spPr>
          <a:xfrm>
            <a:off x="1763640" y="4400640"/>
            <a:ext cx="5472360" cy="2457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maineiac.com/marriage/divorce_settlement_pic.gif"/>
          <p:cNvPicPr/>
          <p:nvPr/>
        </p:nvPicPr>
        <p:blipFill>
          <a:blip r:embed="rId2"/>
          <a:srcRect l="4344" t="6080" r="10209" b="0"/>
          <a:stretch/>
        </p:blipFill>
        <p:spPr>
          <a:xfrm>
            <a:off x="6834240" y="836640"/>
            <a:ext cx="2309760" cy="18144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4A45-3ECA-4CE7-9C3E-3841E434EE8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e doet bijna nooit iets</a:t>
            </a:r>
            <a:br>
              <a:rPr sz="3200"/>
            </a:b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écht all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 klein kind ben j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hankelijk van je ou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oefte aan vri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efdes relatie krij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 je werk collega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s je bent als mens:            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kstvak 9"/>
          <p:cNvSpPr/>
          <p:nvPr/>
        </p:nvSpPr>
        <p:spPr>
          <a:xfrm>
            <a:off x="5580000" y="5661000"/>
            <a:ext cx="1944720" cy="5508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Sociaal!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http://noplacelikehome.punt.nl/upload/friendship_quote_graphic_c2.gif"/>
          <p:cNvPicPr/>
          <p:nvPr/>
        </p:nvPicPr>
        <p:blipFill>
          <a:blip r:embed="rId1"/>
          <a:stretch/>
        </p:blipFill>
        <p:spPr>
          <a:xfrm>
            <a:off x="5580000" y="1413000"/>
            <a:ext cx="298764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C0B9-79D3-4D21-916C-EA3550CCF69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om sche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ek 5" descr=""/>
          <p:cNvPicPr/>
          <p:nvPr/>
        </p:nvPicPr>
        <p:blipFill>
          <a:blip r:embed="rId1"/>
          <a:stretch/>
        </p:blipFill>
        <p:spPr>
          <a:xfrm>
            <a:off x="971640" y="1919160"/>
            <a:ext cx="7315200" cy="4938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leuke en gratis Liefde animaties"/>
          <p:cNvPicPr/>
          <p:nvPr/>
        </p:nvPicPr>
        <p:blipFill>
          <a:blip r:embed="rId2"/>
          <a:stretch/>
        </p:blipFill>
        <p:spPr>
          <a:xfrm>
            <a:off x="7164360" y="1197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A6E5-F83A-458F-B993-400B271AD7D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3: Als de relatie stuklo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14716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ar gaan de kinderen wonen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om denk je dat dit zo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afiek 4" descr=""/>
          <p:cNvPicPr/>
          <p:nvPr/>
        </p:nvPicPr>
        <p:blipFill>
          <a:blip r:embed="rId1"/>
          <a:stretch/>
        </p:blipFill>
        <p:spPr>
          <a:xfrm>
            <a:off x="519120" y="2327400"/>
            <a:ext cx="4649760" cy="4003560"/>
          </a:xfrm>
          <a:prstGeom prst="rect">
            <a:avLst/>
          </a:prstGeom>
          <a:ln w="0">
            <a:noFill/>
          </a:ln>
        </p:spPr>
      </p:pic>
      <p:pic>
        <p:nvPicPr>
          <p:cNvPr id="176" name="Grafiek 5" descr=""/>
          <p:cNvPicPr/>
          <p:nvPr/>
        </p:nvPicPr>
        <p:blipFill>
          <a:blip r:embed="rId2"/>
          <a:stretch/>
        </p:blipFill>
        <p:spPr>
          <a:xfrm>
            <a:off x="4478400" y="2184480"/>
            <a:ext cx="517824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1A7E-B3A1-40F3-BF6A-29FED12993F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677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 denk en voel je als kind na een sch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Moet ik bij mijn vader of moeder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12 jaar en ouder beslist samen met rec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onger dan 1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je kan wel naar de rechter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Zal ik weglop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jeughulpverlening kan be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ia bureau jeugdzorg naar een pleeg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naar een wegloop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huis speciaal voor islamitische meisjes of jon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 Wil ik op mezelf won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ot je 18e jaar heb je toestemming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egeleid-kamer-wonen of kamertrain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oet inkomen hebb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iqeneq.nl/attachments/Image/boos.gif"/>
          <p:cNvPicPr/>
          <p:nvPr/>
        </p:nvPicPr>
        <p:blipFill>
          <a:blip r:embed="rId1"/>
          <a:stretch/>
        </p:blipFill>
        <p:spPr>
          <a:xfrm>
            <a:off x="6875640" y="1805040"/>
            <a:ext cx="2268360" cy="2266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52C-BA4B-4AC9-837D-31DC77021B0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105228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kan je liefdesleven eruit z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welijk (en gez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-relati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ving Apart Together: wel vaste relatie, niet samen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schei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epsw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t een hele groep in 1 huis w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eenstaand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eeds meer mensen: individualisering. Men is economisch onafhanke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nwonene + samenlevings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6948360" y="-243000"/>
            <a:ext cx="1800360" cy="2760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leuke en gratis Liefde animaties"/>
          <p:cNvPicPr/>
          <p:nvPr/>
        </p:nvPicPr>
        <p:blipFill>
          <a:blip r:embed="rId2"/>
          <a:stretch/>
        </p:blipFill>
        <p:spPr>
          <a:xfrm>
            <a:off x="0" y="5089680"/>
            <a:ext cx="1979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CF9-7ED9-4D61-B162-C971C9908E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 4: Samen of alle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zi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ard gezin: vader, moeder, broer(s) of zus(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adopt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et je biologische 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d binnen een homohuw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ef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egou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n-oudergez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gde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meestal een bekende, kan ook maatschappelijk werker zij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www.smitvernooij.nl/images/BordScheidenopmaat.gif"/>
          <p:cNvPicPr/>
          <p:nvPr/>
        </p:nvPicPr>
        <p:blipFill>
          <a:blip r:embed="rId1"/>
          <a:stretch/>
        </p:blipFill>
        <p:spPr>
          <a:xfrm>
            <a:off x="5364000" y="26370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al je een 8.5 of hoger…trak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2C9A-E0AF-4829-A6D7-84E3C60A129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http://4.bp.blogspot.com/_Qd3OP89xEQU/Rnj7feykZ3I/AAAAAAAAACE/po8iv7OKfSM/s400/theEnd.gif"/>
          <p:cNvPicPr/>
          <p:nvPr/>
        </p:nvPicPr>
        <p:blipFill>
          <a:blip r:embed="rId1"/>
          <a:stretch/>
        </p:blipFill>
        <p:spPr>
          <a:xfrm>
            <a:off x="1979640" y="1413000"/>
            <a:ext cx="50403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73AD-4966-494C-B30D-92E94030DB2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ar denk je aan bij het woo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Tekstvak 9"/>
          <p:cNvGrpSpPr/>
          <p:nvPr/>
        </p:nvGrpSpPr>
        <p:grpSpPr>
          <a:xfrm>
            <a:off x="2828880" y="2981160"/>
            <a:ext cx="3121200" cy="584280"/>
            <a:chOff x="2828880" y="2981160"/>
            <a:chExt cx="3121200" cy="584280"/>
          </a:xfrm>
        </p:grpSpPr>
        <p:pic>
          <p:nvPicPr>
            <p:cNvPr id="54" name="Tekstvak 9" descr=""/>
            <p:cNvPicPr/>
            <p:nvPr/>
          </p:nvPicPr>
          <p:blipFill>
            <a:blip r:embed="rId1"/>
            <a:stretch/>
          </p:blipFill>
          <p:spPr>
            <a:xfrm>
              <a:off x="2828880" y="2981160"/>
              <a:ext cx="31212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843280" y="2997360"/>
              <a:ext cx="309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ffffff"/>
                  </a:solidFill>
                  <a:latin typeface="Arial"/>
                </a:rPr>
                <a:t>Relaties</a:t>
              </a:r>
              <a:endParaRPr b="0" i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E77-1318-47AB-8EAD-11479560021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on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riendschap en lief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vrienden, familie,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le re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en onderlinge verplichtende af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oon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W.I.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2421000"/>
            <a:ext cx="1758960" cy="24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leuke en gratis Liefde animaties"/>
          <p:cNvPicPr/>
          <p:nvPr/>
        </p:nvPicPr>
        <p:blipFill>
          <a:blip r:embed="rId3"/>
          <a:stretch/>
        </p:blipFill>
        <p:spPr>
          <a:xfrm>
            <a:off x="395280" y="501336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0C5A-9BA1-45C0-9964-E2005A685AA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soorten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kelijke rela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langen of verplicht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b je met leraar, sporttrainer, 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ele relatie: taken en bevoegd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derlinge verplichtende adspr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voelens minder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een heeft meer macht dan de ander: machtsversch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t0.gstatic.com/images?q=tbn:hmFsyCarMEv9SM:b"/>
          <p:cNvPicPr/>
          <p:nvPr/>
        </p:nvPicPr>
        <p:blipFill>
          <a:blip r:embed="rId1"/>
          <a:stretch/>
        </p:blipFill>
        <p:spPr>
          <a:xfrm>
            <a:off x="6516720" y="1125360"/>
            <a:ext cx="208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28B-6EAC-42A1-9B5B-E646408775D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onlijk- of zakelijke relat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www.kleurplatenwereld.nl/kleurplaten/sporten/voetbal-trainer.gif"/>
          <p:cNvPicPr/>
          <p:nvPr/>
        </p:nvPicPr>
        <p:blipFill>
          <a:blip r:embed="rId1"/>
          <a:stretch/>
        </p:blipFill>
        <p:spPr>
          <a:xfrm>
            <a:off x="250920" y="1844640"/>
            <a:ext cx="262260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http://www.gnoe.nu/wp-content/uploads/2009/05/ouders-van-nu-300x272.jpg"/>
          <p:cNvPicPr/>
          <p:nvPr/>
        </p:nvPicPr>
        <p:blipFill>
          <a:blip r:embed="rId2"/>
          <a:stretch/>
        </p:blipFill>
        <p:spPr>
          <a:xfrm>
            <a:off x="3059280" y="3068640"/>
            <a:ext cx="285732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www.goedemorgenontbijtservice.nl/specialeontbijten/images/secretaresse.gif"/>
          <p:cNvPicPr/>
          <p:nvPr/>
        </p:nvPicPr>
        <p:blipFill>
          <a:blip r:embed="rId3"/>
          <a:srcRect l="6776" t="0" r="7376" b="0"/>
          <a:stretch/>
        </p:blipFill>
        <p:spPr>
          <a:xfrm>
            <a:off x="6156360" y="1700280"/>
            <a:ext cx="2736720" cy="2579760"/>
          </a:xfrm>
          <a:prstGeom prst="rect">
            <a:avLst/>
          </a:prstGeom>
          <a:ln w="0">
            <a:noFill/>
          </a:ln>
        </p:spPr>
      </p:pic>
      <p:sp>
        <p:nvSpPr>
          <p:cNvPr id="71" name="Tekstvak 7"/>
          <p:cNvSpPr/>
          <p:nvPr/>
        </p:nvSpPr>
        <p:spPr>
          <a:xfrm>
            <a:off x="395280" y="47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kstvak 8"/>
          <p:cNvSpPr/>
          <p:nvPr/>
        </p:nvSpPr>
        <p:spPr>
          <a:xfrm>
            <a:off x="3276720" y="573264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ersoon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9"/>
          <p:cNvSpPr/>
          <p:nvPr/>
        </p:nvSpPr>
        <p:spPr>
          <a:xfrm>
            <a:off x="6516720" y="4437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akelij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5AC9-D929-4A46-884B-0EBB7165B0D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sen hebben verwachtingen bij rela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 is spann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liefd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im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ksuele moraal: hoe je over seks den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wel of geen seks voor het huwelij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leuke en gratis Liefde animaties"/>
          <p:cNvPicPr/>
          <p:nvPr/>
        </p:nvPicPr>
        <p:blipFill>
          <a:blip r:embed="rId1"/>
          <a:stretch/>
        </p:blipFill>
        <p:spPr>
          <a:xfrm>
            <a:off x="3419640" y="4869000"/>
            <a:ext cx="158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ueel moraal: hoe je over seks den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o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eks voor het huwe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reemdgaan moet ku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ubbele moraal: andere normen voor jongens dan voor meisj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ongen veel seks: st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isje veel seks: s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D9C-998B-47A8-8D8E-D4447D2C58A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chtverhoudin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eraar kan je straf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gent kan je laten sto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Je moet naar je ouders lui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Jij moet dan gehoorz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xtreem machtsverschi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over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leeftijdsverschil (meisje 14, man 40: verbo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30D-0298-4F3A-8C7E-B82C6A9711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Met elkaar omga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dvocaat"/>
          <p:cNvPicPr/>
          <p:nvPr/>
        </p:nvPicPr>
        <p:blipFill>
          <a:blip r:embed="rId1"/>
          <a:stretch/>
        </p:blipFill>
        <p:spPr>
          <a:xfrm>
            <a:off x="6804000" y="1268280"/>
            <a:ext cx="1979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12-02-28T16:25:05Z</dcterms:modified>
  <cp:revision>161</cp:revision>
  <dc:subject/>
  <dc:title>Dia 1</dc:title>
</cp:coreProperties>
</file>