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7.png" ContentType="image/png"/>
  <Override PartName="/ppt/media/image4.gif" ContentType="image/gif"/>
  <Override PartName="/ppt/media/image24.gif" ContentType="image/gif"/>
  <Override PartName="/ppt/media/image17.png" ContentType="image/png"/>
  <Override PartName="/ppt/media/image26.png" ContentType="image/png"/>
  <Override PartName="/ppt/media/image3.gif" ContentType="image/gif"/>
  <Override PartName="/ppt/media/image9.png" ContentType="image/png"/>
  <Override PartName="/ppt/media/image13.png" ContentType="image/png"/>
  <Override PartName="/ppt/media/image8.png" ContentType="image/png"/>
  <Override PartName="/ppt/media/image33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gif" ContentType="image/gif"/>
  <Override PartName="/ppt/media/image29.png" ContentType="image/png"/>
  <Override PartName="/ppt/media/image11.png" ContentType="image/png"/>
  <Override PartName="/ppt/media/image5.gif" ContentType="image/gif"/>
  <Override PartName="/ppt/media/image28.png" ContentType="image/png"/>
  <Override PartName="/ppt/media/image35.gif" ContentType="image/gif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6.png" ContentType="image/pn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C9CD-EDBF-4D81-82CE-DE7D0518980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673B-5563-4937-99BE-8CC642F687E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7F9-5BF2-4ACA-991C-EE2D7118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D664-E930-4505-B5EF-B6E2E0A6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93E-E639-434D-92AE-B61DF1A9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673-1891-42C1-9341-2C55BCE3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39C-0E77-435E-8D1D-6F611F07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09F-0A39-4286-A1DC-EC5DF0C4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D4F-CA59-4155-A641-5E537FAF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9BF-40B3-46E2-AC05-EF4918C1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D48-2572-4803-AB70-9C9AC792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3EE-D9DF-42A2-A9C6-52B974E4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4A2-D702-4F86-9D0F-D61F6675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C72-8E42-4419-869B-96697F21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220F-B202-41BD-8CA0-81C5769E99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44364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495D-FA21-4081-ADD4-8EAA088F108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636560" y="836640"/>
            <a:ext cx="341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Criminalitei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443280" y="2637000"/>
            <a:ext cx="2484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32 tot 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t 1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GIF_boef"/>
          <p:cNvPicPr/>
          <p:nvPr/>
        </p:nvPicPr>
        <p:blipFill>
          <a:blip r:embed="rId1"/>
          <a:stretch/>
        </p:blipFill>
        <p:spPr>
          <a:xfrm>
            <a:off x="1825560" y="2359080"/>
            <a:ext cx="26370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0922-BD84-44A9-8400-9FB145A330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1840" cy="237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02912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4032000" cy="855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3456000" cy="671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20FE-F61F-4168-9AB0-C91677857FE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032360" cy="230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4572000" y="206064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179280" y="4437000"/>
            <a:ext cx="80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Pieter wordt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opgepakt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oor de politie. Hij moet mee naar het bureau. Daar wordt besloten dat hij voor de rechter moet komen. Enkele weken voor de rechtszitting krijgt Pieter een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. Dat is de oproep om voor de rechter te verschijnen.Pieter moet niet voor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24FF-B213-477B-AD73-199E3ECDCBA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24000" y="2349360"/>
            <a:ext cx="849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kan een aantal dingen do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90000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900000" y="5589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oeken naar bewijsmateriaal. Huiszoekingsbevel nodig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4" descr="politie"/>
          <p:cNvPicPr/>
          <p:nvPr/>
        </p:nvPicPr>
        <p:blipFill>
          <a:blip r:embed="rId1"/>
          <a:stretch/>
        </p:blipFill>
        <p:spPr>
          <a:xfrm>
            <a:off x="6804000" y="549360"/>
            <a:ext cx="149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F360-126F-4A2E-A780-0D843566754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5410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chikking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9"/>
          <p:cNvGraphicFramePr/>
          <p:nvPr/>
        </p:nvGraphicFramePr>
        <p:xfrm>
          <a:off x="6516720" y="1125360"/>
          <a:ext cx="2228760" cy="12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1125360"/>
                    <a:ext cx="22287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FDB1-7FE5-48DA-B701-EF272EC600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t gebeurt er met verd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2"/>
          <p:cNvGraphicFramePr/>
          <p:nvPr/>
        </p:nvGraphicFramePr>
        <p:xfrm>
          <a:off x="684360" y="2349360"/>
          <a:ext cx="8001000" cy="354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800100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7B39-8E79-4509-B982-4AF13713C5B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9066-184A-4F71-A3BF-02BD3C5C12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sp>
        <p:nvSpPr>
          <p:cNvPr id="156" name="Tekstvak 6"/>
          <p:cNvSpPr/>
          <p:nvPr/>
        </p:nvSpPr>
        <p:spPr>
          <a:xfrm>
            <a:off x="7020000" y="306864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cassatie gaa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kstvak 7"/>
          <p:cNvSpPr/>
          <p:nvPr/>
        </p:nvSpPr>
        <p:spPr>
          <a:xfrm>
            <a:off x="7020000" y="436572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hoger beroep gaa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kstvak 8"/>
          <p:cNvSpPr/>
          <p:nvPr/>
        </p:nvSpPr>
        <p:spPr>
          <a:xfrm>
            <a:off x="539640" y="227664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1 hoge ra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kstvak 9"/>
          <p:cNvSpPr/>
          <p:nvPr/>
        </p:nvSpPr>
        <p:spPr>
          <a:xfrm>
            <a:off x="179280" y="350028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 gerechts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o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kstvak 10"/>
          <p:cNvSpPr/>
          <p:nvPr/>
        </p:nvSpPr>
        <p:spPr>
          <a:xfrm>
            <a:off x="395280" y="508464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19 recht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an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AE5E-72BB-48ED-B9F7-25A51A5ACB4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24000" y="2205000"/>
            <a:ext cx="8280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leest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rechter, de OvJ en de advocaat gaan Pieter nu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Bvb of hij wel eens eerder met de politie te maken heeft geh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judge"/>
          <p:cNvPicPr/>
          <p:nvPr/>
        </p:nvPicPr>
        <p:blipFill>
          <a:blip r:embed="rId1"/>
          <a:stretch/>
        </p:blipFill>
        <p:spPr>
          <a:xfrm>
            <a:off x="6804000" y="907920"/>
            <a:ext cx="18572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157B-BCDD-4F46-AA90-FCEA2BAD619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0" y="206064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.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6. De advocaat neemt het dan op voor Pieter en vraagt om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7. Pieter mag als verdachte zelf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hebben en spijt betui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8. De rechter spreekt het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nni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uit: Hij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Enter Taylors Solicitors web pages"/>
          <p:cNvPicPr/>
          <p:nvPr/>
        </p:nvPicPr>
        <p:blipFill>
          <a:blip r:embed="rId1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jail"/>
          <p:cNvPicPr/>
          <p:nvPr/>
        </p:nvPicPr>
        <p:blipFill>
          <a:blip r:embed="rId2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2BD7-0F13-45FD-B46B-A10247978BD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15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0" y="194616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68360" y="3357720"/>
            <a:ext cx="799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gevangenisstraf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468360" y="386064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rijbewijs inleveren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95280" y="4365720"/>
            <a:ext cx="799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TBS (ter Beschikking stelling aan de staat), agressietrain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4" descr="police"/>
          <p:cNvPicPr/>
          <p:nvPr/>
        </p:nvPicPr>
        <p:blipFill>
          <a:blip r:embed="rId1"/>
          <a:stretch/>
        </p:blipFill>
        <p:spPr>
          <a:xfrm>
            <a:off x="6659640" y="76500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F0BC-F169-40B2-A1AE-019FA4D8328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79280" y="1844640"/>
            <a:ext cx="8064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Strafbaar gedrag: 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at je wetregels overtreed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Criminaliteit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: alle misdrijven die in de wet st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misdrijf: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overtreding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Vernieling, diefstal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inbraak, verkrachting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oor rood rijd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Strafblad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geen strafbla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vangenis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hechteni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edeplichtig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niet medeplichti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Zwaardere straf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minder zware straf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Crimineel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overtreder/ of niet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stopPolitie"/>
          <p:cNvPicPr/>
          <p:nvPr/>
        </p:nvPicPr>
        <p:blipFill>
          <a:blip r:embed="rId1"/>
          <a:stretch/>
        </p:blipFill>
        <p:spPr>
          <a:xfrm>
            <a:off x="7308720" y="549360"/>
            <a:ext cx="15843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5F45-56ED-41B2-B807-70E5F4258E7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Wat doen we era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23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om straffen we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British_police"/>
          <p:cNvPicPr/>
          <p:nvPr/>
        </p:nvPicPr>
        <p:blipFill>
          <a:blip r:embed="rId1"/>
          <a:stretch/>
        </p:blipFill>
        <p:spPr>
          <a:xfrm>
            <a:off x="6804000" y="549360"/>
            <a:ext cx="1371600" cy="1323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2"/>
          <p:cNvSpPr/>
          <p:nvPr/>
        </p:nvSpPr>
        <p:spPr>
          <a:xfrm>
            <a:off x="1311120" y="28004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95280" y="2997360"/>
            <a:ext cx="79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fschrikking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ensen moeten niet crimineel willen 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socialisa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drag verbeteren, zodat criminelen terug kunnen in de samenlev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iliger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elen zitten in de gevangenis, dus is het daarbuiten veilig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raak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lachtoffers en familiedaarvoor wilden vergelding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0EDF-ABAC-4CD2-8688-FA2E576C282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0920" y="407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aak- en leerstraffen: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ternatieve straffen: helpen in de winkel waar je hebt gestolen, dronken iemand aangereden: gehandicapte slachtoffers help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24000" y="2708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renger straffen: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raffen hoger maken, hogere boetes, langere gevangenisstraf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250920" y="357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Lik-op-stukbeleid: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ader sneller pakken én bere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50920" y="53006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Preventie: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voorkomen dat er criminaliteit plaats heeft. Meer politie op straat, meer camera’s bij winkels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3"/>
          <p:cNvSpPr/>
          <p:nvPr/>
        </p:nvSpPr>
        <p:spPr>
          <a:xfrm>
            <a:off x="250920" y="1341360"/>
            <a:ext cx="7643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Wat doen we eraan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affen helpt niet voldoende: 4 oploss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9ABF-0868-48ED-B2E1-7E6CC1F6286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0" y="1989000"/>
            <a:ext cx="806436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Pieter was agressief mede door de hoeveelheden drank die hij genomen had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rugs en drank zijn vaak de oorzaak van misdrijv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0" y="3645000"/>
            <a:ext cx="8064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Opiumwet: 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alle regels over drug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5" descr="drugs"/>
          <p:cNvPicPr/>
          <p:nvPr/>
        </p:nvPicPr>
        <p:blipFill>
          <a:blip r:embed="rId1"/>
          <a:stretch/>
        </p:blipFill>
        <p:spPr>
          <a:xfrm>
            <a:off x="6877080" y="429264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No_Drugs_gif"/>
          <p:cNvPicPr/>
          <p:nvPr/>
        </p:nvPicPr>
        <p:blipFill>
          <a:blip r:embed="rId2"/>
          <a:stretch/>
        </p:blipFill>
        <p:spPr>
          <a:xfrm>
            <a:off x="6886440" y="3645000"/>
            <a:ext cx="2257560" cy="16761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6"/>
          <p:cNvSpPr/>
          <p:nvPr/>
        </p:nvSpPr>
        <p:spPr>
          <a:xfrm>
            <a:off x="1494360" y="4076640"/>
            <a:ext cx="39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oftdrug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: hasj, wiet </a:t>
            </a: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DOOGD NIET LEGAAL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1425600" y="4941720"/>
            <a:ext cx="47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arddrug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: heroïne, cocaïne, x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LLEG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35640" y="5877000"/>
            <a:ext cx="685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doogbeleid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leine handel en gebruik van sof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ugs wordt met rust gela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5E1D-33C8-40CA-8651-145567722B7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1989000"/>
            <a:ext cx="9144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arddrugs bestrijden door de grote misdaadorganisaties aan te pakken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De politie…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0" y="3429000"/>
            <a:ext cx="8064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akt grote handel in soft- en </a:t>
            </a:r>
            <a:br>
              <a:rPr sz="2200"/>
            </a:b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arddrugs hard 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Laat kleine handel in softdrugs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et rus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Pakt het gebruik van klein beetje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soft- of harddrugs niet 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alcohol"/>
          <p:cNvPicPr/>
          <p:nvPr/>
        </p:nvPicPr>
        <p:blipFill>
          <a:blip r:embed="rId1"/>
          <a:stretch/>
        </p:blipFill>
        <p:spPr>
          <a:xfrm>
            <a:off x="5580000" y="3068640"/>
            <a:ext cx="2624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50E6-7FB0-45EA-8999-D3A31E79DEF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05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Buitenland heeft veel kritiek op het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Nederlandse gedoogbelei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0" y="3284640"/>
            <a:ext cx="39243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Voordelen gedoogbeleid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dogen softdrugs, daardoor minder gebruik harddrug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oor gedogen verkoop in coffeeshops, minder overlast op straa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Criminaliteit"/>
          <p:cNvPicPr/>
          <p:nvPr/>
        </p:nvPicPr>
        <p:blipFill>
          <a:blip r:embed="rId1"/>
          <a:stretch/>
        </p:blipFill>
        <p:spPr>
          <a:xfrm>
            <a:off x="6443640" y="1700280"/>
            <a:ext cx="1619280" cy="1571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9"/>
          <p:cNvSpPr/>
          <p:nvPr/>
        </p:nvSpPr>
        <p:spPr>
          <a:xfrm>
            <a:off x="4140360" y="3357720"/>
            <a:ext cx="500364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Tegenstanders gedoogbeleid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Kleine stap softdrugs </a:t>
            </a:r>
            <a:r>
              <a:rPr b="0" i="1" lang="nl-NL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 harddrug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Risico’s aan sofrdrugs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inder concentrati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estelijk verslaafd aan raken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22B6-BAEB-4AAD-952E-266D1CA5125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oordvrouwen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5" descr="After_the_Criminal"/>
          <p:cNvPicPr/>
          <p:nvPr/>
        </p:nvPicPr>
        <p:blipFill>
          <a:blip r:embed="rId1"/>
          <a:stretch/>
        </p:blipFill>
        <p:spPr>
          <a:xfrm>
            <a:off x="2124000" y="4149720"/>
            <a:ext cx="4657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55F2-0DF0-40B0-A8D9-4496F7ED09E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50920" y="1739880"/>
            <a:ext cx="806436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Veelvoorkomendecriminaliteit: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 misdrijven die relatief vaak voorkomen: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winkeldiefstal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zakkenrollen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voetbal vandalisme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vernieling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Zware criminaliteit: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verkrachting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moord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roofoverva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Verborgen criminaliteit: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belastingfraude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onterechte uitkering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internetcriminalitei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politie"/>
          <p:cNvPicPr/>
          <p:nvPr/>
        </p:nvPicPr>
        <p:blipFill>
          <a:blip r:embed="rId1"/>
          <a:stretch/>
        </p:blipFill>
        <p:spPr>
          <a:xfrm>
            <a:off x="5435640" y="2781360"/>
            <a:ext cx="22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916B-05FA-4147-9F95-F4380704F9A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50920" y="234936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ateriele schade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aliteit kost miljarden euro’s per j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tv die uit je huis gehaald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fiets die gejat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-materiele schad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apeloze nachten omdat er ooit is ingebro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ng zijn op straat, wegens een overv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politie"/>
          <p:cNvPicPr/>
          <p:nvPr/>
        </p:nvPicPr>
        <p:blipFill>
          <a:blip r:embed="rId1"/>
          <a:stretch/>
        </p:blipFill>
        <p:spPr>
          <a:xfrm>
            <a:off x="6012000" y="350028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DBF0-59D4-4BC6-A238-7CEFC8E4B06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arom gebeurt h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523880" y="2286000"/>
            <a:ext cx="72392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rsoonlijke kenmerken van een crimineel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: uiterlijk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: Lagere maatschappelijke posi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: - vaker door mannen dan door vrouw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slechte opvoeding leidt vaker tot crimineel gedr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Groepsgedrag: als je vrienden het doen..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Spijbelaars/zonder dipl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annen vaker dan vrouwen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politie"/>
          <p:cNvPicPr/>
          <p:nvPr/>
        </p:nvPicPr>
        <p:blipFill>
          <a:blip r:embed="rId1"/>
          <a:stretch/>
        </p:blipFill>
        <p:spPr>
          <a:xfrm>
            <a:off x="395280" y="3933720"/>
            <a:ext cx="15192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E7CC-4E53-4EAE-95F9-6AE26632340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arom gebeurt h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50920" y="191628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aatschappelijke oorza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826920" y="3645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een grote stad gebeurd het vak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900000" y="263700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ociale controle is minder ge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pakkans is daardoor kleiner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826920" y="22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Normen en waarden zijn minder stre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95280" y="472428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Bindingstheorie van Hirschi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aliteit een combinatie van individuele en maatschappelijke oorzaken. Niemand is alleen meer goed, iedereen kan misdadiger zijn. Ligt aan de bindingen die je hebt: vrienden, band met familie, werk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826920" y="40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Alcohol en drugs gebruik toegenom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7" descr="politie"/>
          <p:cNvPicPr/>
          <p:nvPr/>
        </p:nvPicPr>
        <p:blipFill>
          <a:blip r:embed="rId1"/>
          <a:stretch/>
        </p:blipFill>
        <p:spPr>
          <a:xfrm>
            <a:off x="6732720" y="1557360"/>
            <a:ext cx="12380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995A-EC9B-4383-856E-44A90EB9CB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0" y="198900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56200" cy="223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0" y="4637160"/>
            <a:ext cx="414036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4"/>
          <a:srcRect l="1705" t="0" r="5168" b="0"/>
          <a:stretch/>
        </p:blipFill>
        <p:spPr>
          <a:xfrm>
            <a:off x="4427640" y="4653000"/>
            <a:ext cx="3960720" cy="56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us van Pieter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on: rechtvoorjou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74F2-0B1C-4546-9B73-CEF27AE10B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237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03640" cy="2376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A8D8-7B32-40BA-9ADA-38049F1C8A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102200" cy="230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3816360" cy="117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4249800" cy="1012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SD1</cp:lastModifiedBy>
  <dcterms:modified xsi:type="dcterms:W3CDTF">2013-07-08T11:43:56Z</dcterms:modified>
  <cp:revision>135</cp:revision>
  <dc:subject/>
  <dc:title>Dia 1</dc:title>
</cp:coreProperties>
</file>