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4.png" ContentType="image/png"/>
  <Override PartName="/ppt/media/image10.gif" ContentType="image/gif"/>
  <Override PartName="/ppt/media/image12.jpeg" ContentType="image/jpeg"/>
  <Override PartName="/ppt/media/image9.png" ContentType="image/png"/>
  <Override PartName="/ppt/media/image8.gif" ContentType="image/gif"/>
  <Override PartName="/ppt/media/image7.gif" ContentType="image/gif"/>
  <Override PartName="/ppt/media/image6.png" ContentType="image/png"/>
  <Override PartName="/ppt/media/image3.gif" ContentType="image/gif"/>
  <Override PartName="/ppt/media/image26.gif" ContentType="image/gif"/>
  <Override PartName="/ppt/media/image5.png" ContentType="image/png"/>
  <Override PartName="/ppt/media/image25.gif" ContentType="image/gif"/>
  <Override PartName="/ppt/media/image23.gif" ContentType="image/gif"/>
  <Override PartName="/ppt/media/image15.png" ContentType="image/png"/>
  <Override PartName="/ppt/media/image20.png" ContentType="image/png"/>
  <Override PartName="/ppt/media/image17.gif" ContentType="image/gif"/>
  <Override PartName="/ppt/media/image16.png" ContentType="image/png"/>
  <Override PartName="/ppt/media/image21.gif" ContentType="image/gif"/>
  <Override PartName="/ppt/media/image19.gif" ContentType="image/gif"/>
  <Override PartName="/ppt/media/image1.png" ContentType="image/png"/>
  <Override PartName="/ppt/media/image22.gif" ContentType="image/gif"/>
  <Override PartName="/ppt/media/image2.png" ContentType="image/png"/>
  <Override PartName="/ppt/media/image24.gif" ContentType="image/gif"/>
  <Override PartName="/ppt/media/image4.png" ContentType="image/png"/>
  <Override PartName="/ppt/media/image13.jpeg" ContentType="image/jpeg"/>
  <Override PartName="/ppt/media/image1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F238-32E4-4237-8277-36492B9C1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B86C-0786-4168-8CD1-ECD762C0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9210-A809-4A32-B0D3-831A5AD1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F6FA-0CD1-4F92-B2E5-CB22F64F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5D99-FA6C-47B2-8BD6-39301EB9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72D6-26AE-4F19-983D-6FED6049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5C1E-40C1-4F5E-8BA1-D223E48C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BACB-1F34-40B3-AC69-3790FEEE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4FFE-FCEF-44BD-8E96-9346C4AD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EF55-FFDB-41F4-9D7A-E9E779D6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B4F8-0C8B-4E9B-B280-3631F51B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67E8-FB2B-4D5C-BD71-FF22F0F5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321B-40A8-4247-B357-C65FFAF8F58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nl.youtube.com/watch?v=1HF35xuN0vQ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image" Target="../media/image26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31F2-F5CA-4472-8151-C3E40D930A1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7236000" y="4869000"/>
            <a:ext cx="19080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a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24 t/m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1117013462jongeren"/>
          <p:cNvPicPr/>
          <p:nvPr/>
        </p:nvPicPr>
        <p:blipFill>
          <a:blip r:embed="rId1"/>
          <a:stretch/>
        </p:blipFill>
        <p:spPr>
          <a:xfrm>
            <a:off x="1042920" y="1197000"/>
            <a:ext cx="6226200" cy="50259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2"/>
          <p:cNvSpPr/>
          <p:nvPr/>
        </p:nvSpPr>
        <p:spPr>
          <a:xfrm>
            <a:off x="2372040" y="333360"/>
            <a:ext cx="3288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ONGEREN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EF9A-CB0E-451A-956F-0C476C6CA6F0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82872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4: Ieder zijn stij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50920" y="2276640"/>
            <a:ext cx="806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Socialisati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543640" y="3357720"/>
            <a:ext cx="360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Sociale control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-900000" y="3357720"/>
            <a:ext cx="554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Normen en </a:t>
            </a:r>
            <a:br>
              <a:rPr sz="3000"/>
            </a:b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waarden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4000" y="5805360"/>
            <a:ext cx="806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Internalisati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-973080" y="5157720"/>
            <a:ext cx="554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Cultuur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5543640" y="4869000"/>
            <a:ext cx="360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Sancties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7"/>
          <p:cNvSpPr/>
          <p:nvPr/>
        </p:nvSpPr>
        <p:spPr>
          <a:xfrm rot="19491000">
            <a:off x="1763640" y="2420640"/>
            <a:ext cx="1368360" cy="71892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96120 h 718920"/>
              <a:gd name="textAreaBottom" fmla="*/ 622800 h 71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8"/>
          <p:cNvSpPr/>
          <p:nvPr/>
        </p:nvSpPr>
        <p:spPr>
          <a:xfrm rot="3993000">
            <a:off x="5615640" y="2385000"/>
            <a:ext cx="1368360" cy="71928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9"/>
          <p:cNvSpPr/>
          <p:nvPr/>
        </p:nvSpPr>
        <p:spPr>
          <a:xfrm rot="3993000">
            <a:off x="6584760" y="4064040"/>
            <a:ext cx="1225440" cy="574560"/>
          </a:xfrm>
          <a:custGeom>
            <a:avLst/>
            <a:gdLst>
              <a:gd name="textAreaLeft" fmla="*/ 214200 w 1225440"/>
              <a:gd name="textAreaRight" fmla="*/ 888480 w 1225440"/>
              <a:gd name="textAreaTop" fmla="*/ 76680 h 574560"/>
              <a:gd name="textAreaBottom" fmla="*/ 497880 h 57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0"/>
          <p:cNvSpPr/>
          <p:nvPr/>
        </p:nvSpPr>
        <p:spPr>
          <a:xfrm rot="8839800">
            <a:off x="5940000" y="5660640"/>
            <a:ext cx="1368360" cy="71928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1"/>
          <p:cNvSpPr/>
          <p:nvPr/>
        </p:nvSpPr>
        <p:spPr>
          <a:xfrm rot="12125400">
            <a:off x="1618920" y="5876280"/>
            <a:ext cx="1368360" cy="71892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96120 h 718920"/>
              <a:gd name="textAreaBottom" fmla="*/ 622800 h 71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2"/>
          <p:cNvSpPr/>
          <p:nvPr/>
        </p:nvSpPr>
        <p:spPr>
          <a:xfrm rot="15039000">
            <a:off x="1206360" y="4565520"/>
            <a:ext cx="1082880" cy="501840"/>
          </a:xfrm>
          <a:custGeom>
            <a:avLst/>
            <a:gdLst>
              <a:gd name="textAreaLeft" fmla="*/ 189360 w 1082880"/>
              <a:gd name="textAreaRight" fmla="*/ 785160 w 1082880"/>
              <a:gd name="textAreaTop" fmla="*/ 66960 h 501840"/>
              <a:gd name="textAreaBottom" fmla="*/ 434880 h 501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3"/>
          <p:cNvSpPr/>
          <p:nvPr/>
        </p:nvSpPr>
        <p:spPr>
          <a:xfrm>
            <a:off x="2916360" y="2852640"/>
            <a:ext cx="2952720" cy="2881440"/>
          </a:xfrm>
          <a:custGeom>
            <a:avLst/>
            <a:gdLst>
              <a:gd name="textAreaLeft" fmla="*/ 432360 w 2952720"/>
              <a:gd name="textAreaRight" fmla="*/ 2520360 w 2952720"/>
              <a:gd name="textAreaTop" fmla="*/ 421920 h 2881440"/>
              <a:gd name="textAreaBottom" fmla="*/ 2459520 h 288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B49E-E0B4-487C-A5FB-BFC38CF51C4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Jongerencult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24000" y="2349360"/>
            <a:ext cx="80643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De eerste jeugdculturen ontstonden in de jaren 60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Komt door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eer welvaar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eer vrije tij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Lonen gingen omhoo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Kans om door te le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9" descr="teenager.gif"/>
          <p:cNvPicPr/>
          <p:nvPr/>
        </p:nvPicPr>
        <p:blipFill>
          <a:blip r:embed="rId1"/>
          <a:stretch/>
        </p:blipFill>
        <p:spPr>
          <a:xfrm>
            <a:off x="5508720" y="43657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5C29-BC93-4BBE-B0C3-6DD53D31F05A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Jongerencult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24000" y="2349360"/>
            <a:ext cx="806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Waarom bij een groep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eer vrije tijd en geld </a:t>
            </a:r>
            <a:r>
              <a:rPr b="1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 dingen kopen/do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Bij een groep willen ho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nders zij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ndere ideeën/normen/waarden dan je ouders =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Generatie conflic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teenager"/>
          <p:cNvPicPr/>
          <p:nvPr/>
        </p:nvPicPr>
        <p:blipFill>
          <a:blip r:embed="rId1"/>
          <a:stretch/>
        </p:blipFill>
        <p:spPr>
          <a:xfrm>
            <a:off x="6372360" y="549360"/>
            <a:ext cx="22190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B5E7-18C5-47D7-8843-11FE9106177B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eeldvorming: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het beeld dat je van iemand 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rmt door bijvoorbeeld gedrag en uiterlij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Rolgedrag: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 jij j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volgens anderen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oet 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dragen in bepaalde situa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ensen hebben verschillende ro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it je rol vallen: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s je even anders gedraagd, je rol ‘los laten’ en helemaal jezelf 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Roldoorbrekend gedrag: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B: dat mannen traditionele vrouwentaken verrichten en vrouwen traditionele mannen 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jongeren"/>
          <p:cNvPicPr/>
          <p:nvPr/>
        </p:nvPicPr>
        <p:blipFill>
          <a:blip r:embed="rId1"/>
          <a:stretch/>
        </p:blipFill>
        <p:spPr>
          <a:xfrm>
            <a:off x="7308720" y="1916280"/>
            <a:ext cx="1428840" cy="18475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684360" y="1197000"/>
            <a:ext cx="764352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6: Hoe kijk je tegen anderen aan?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72F2-1844-42E5-A925-C6F65E939A8E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7: Hoe we samen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24000" y="2349360"/>
            <a:ext cx="8064360" cy="36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Bindingen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ensen zijn afhankelijk van anderen. </a:t>
            </a:r>
            <a:br>
              <a:rPr sz="2400"/>
            </a:b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Je hebt ‘bindingen’ met ze.</a:t>
            </a:r>
            <a:br>
              <a:rPr sz="2400"/>
            </a:b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Zo hebben er mensen gezorgd voor jouw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pullen (fiets, wekker, kleding, leidingen voor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water etc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560A-EE2D-4432-B179-E06181CE7EC0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7: Hoe we samen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24000" y="2349360"/>
            <a:ext cx="8064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Bindingen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gevoels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economische 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kennis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politieke 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31D1-D557-4DE1-8157-CA802996C90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7: Hoe we samen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24000" y="2349360"/>
            <a:ext cx="806436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Bindingen: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 gevoels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mensen hebben elkaar nodig voor v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riendschap, steun en liefd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relaties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gezinnen/ families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vriend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Zijn (vaak) positieve 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gevoelens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Beating_Hearts"/>
          <p:cNvPicPr/>
          <p:nvPr/>
        </p:nvPicPr>
        <p:blipFill>
          <a:blip r:embed="rId1"/>
          <a:stretch/>
        </p:blipFill>
        <p:spPr>
          <a:xfrm>
            <a:off x="6300720" y="476280"/>
            <a:ext cx="2619360" cy="2381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Hearts"/>
          <p:cNvPicPr/>
          <p:nvPr/>
        </p:nvPicPr>
        <p:blipFill>
          <a:blip r:embed="rId2"/>
          <a:stretch/>
        </p:blipFill>
        <p:spPr>
          <a:xfrm>
            <a:off x="395280" y="4005360"/>
            <a:ext cx="2197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C0DB-F104-4190-885A-E1C4BACB215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7: Hoe we samen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324000" y="2349360"/>
            <a:ext cx="806436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Bindingen: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 economische 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Alles wat me je levensondehoud te maken heeft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wat je eet/ drinkt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wat je gebruikt/ koop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Je bent afhankelijk van zakgeld of lo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rembrandt.gif"/>
          <p:cNvPicPr/>
          <p:nvPr/>
        </p:nvPicPr>
        <p:blipFill>
          <a:blip r:embed="rId1"/>
          <a:stretch/>
        </p:blipFill>
        <p:spPr>
          <a:xfrm>
            <a:off x="6659640" y="692280"/>
            <a:ext cx="213984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F1C6-D51F-443C-9155-9762591CA193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7: Hoe we samen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24000" y="2349360"/>
            <a:ext cx="806436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Bindingen: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 kennis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heeft te maken met alles wat je leer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via school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via je ouders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via vrienden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etc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aangeleerd"/>
          <p:cNvPicPr/>
          <p:nvPr/>
        </p:nvPicPr>
        <p:blipFill>
          <a:blip r:embed="rId1"/>
          <a:stretch/>
        </p:blipFill>
        <p:spPr>
          <a:xfrm>
            <a:off x="4788000" y="3429000"/>
            <a:ext cx="29401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9156-D05B-4A37-B358-AE76203D49D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99760" y="162828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7: Hoe we samen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24000" y="234936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Bindingen: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 politieke 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Omdat je onmogelijk alles zelf 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kan regelen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Overheid beschermt ons, legt 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weten aan, zorgt voor politie 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en onderwijs, etc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Wetten en regel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balkenende"/>
          <p:cNvPicPr/>
          <p:nvPr/>
        </p:nvPicPr>
        <p:blipFill>
          <a:blip r:embed="rId1"/>
          <a:stretch/>
        </p:blipFill>
        <p:spPr>
          <a:xfrm>
            <a:off x="6012000" y="1844640"/>
            <a:ext cx="2857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A3A1-2701-4AC9-B7E1-7AA6BF2E3CAE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1 Hoe word je wie je b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angeboren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pvoe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genschappe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  fatso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riftig zij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  pr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erlegen zij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  l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uzikaal zij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  naar wc g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tc..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 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angebor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angelee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Teenager"/>
          <p:cNvPicPr/>
          <p:nvPr/>
        </p:nvPicPr>
        <p:blipFill>
          <a:blip r:embed="rId1"/>
          <a:stretch/>
        </p:blipFill>
        <p:spPr>
          <a:xfrm>
            <a:off x="3564000" y="2708280"/>
            <a:ext cx="1649520" cy="36720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12"/>
          <p:cNvSpPr/>
          <p:nvPr/>
        </p:nvSpPr>
        <p:spPr>
          <a:xfrm rot="10800000">
            <a:off x="1331640" y="1628280"/>
            <a:ext cx="6048360" cy="936720"/>
          </a:xfrm>
          <a:custGeom>
            <a:avLst/>
            <a:gdLst>
              <a:gd name="textAreaLeft" fmla="*/ 604800 w 6048360"/>
              <a:gd name="textAreaRight" fmla="*/ 5443560 w 6048360"/>
              <a:gd name="textAreaTop" fmla="*/ 535320 h 936720"/>
              <a:gd name="textAreaBottom" fmla="*/ 803160 h 9367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1258920" y="5013360"/>
            <a:ext cx="288720" cy="936720"/>
          </a:xfrm>
          <a:prstGeom prst="upDownArrow">
            <a:avLst>
              <a:gd name="adj1" fmla="val 50000"/>
              <a:gd name="adj2" fmla="val 6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4"/>
          <p:cNvSpPr/>
          <p:nvPr/>
        </p:nvSpPr>
        <p:spPr>
          <a:xfrm>
            <a:off x="6443640" y="4941720"/>
            <a:ext cx="289080" cy="936720"/>
          </a:xfrm>
          <a:prstGeom prst="upDownArrow">
            <a:avLst>
              <a:gd name="adj1" fmla="val 50000"/>
              <a:gd name="adj2" fmla="val 645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A4C8-5E4A-4B04-9FAD-C66C592EE63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cces met l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eb je hoger dan een 8.5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an iets lekker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Afbeelding 13" descr="child.gif"/>
          <p:cNvPicPr/>
          <p:nvPr/>
        </p:nvPicPr>
        <p:blipFill>
          <a:blip r:embed="rId1"/>
          <a:stretch/>
        </p:blipFill>
        <p:spPr>
          <a:xfrm>
            <a:off x="5508720" y="465300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68" name="Afbeelding 14" descr="preteen.gif"/>
          <p:cNvPicPr/>
          <p:nvPr/>
        </p:nvPicPr>
        <p:blipFill>
          <a:blip r:embed="rId2"/>
          <a:stretch/>
        </p:blipFill>
        <p:spPr>
          <a:xfrm>
            <a:off x="3995640" y="465300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169" name="Afbeelding 15" descr="schoolchild.gif"/>
          <p:cNvPicPr/>
          <p:nvPr/>
        </p:nvPicPr>
        <p:blipFill>
          <a:blip r:embed="rId3"/>
          <a:stretch/>
        </p:blipFill>
        <p:spPr>
          <a:xfrm>
            <a:off x="755640" y="465300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70" name="Afbeelding 16" descr="wirish.gif"/>
          <p:cNvPicPr/>
          <p:nvPr/>
        </p:nvPicPr>
        <p:blipFill>
          <a:blip r:embed="rId4"/>
          <a:stretch/>
        </p:blipFill>
        <p:spPr>
          <a:xfrm>
            <a:off x="2411280" y="465300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171" name="Afbeelding 17" descr="teenagers.gif"/>
          <p:cNvPicPr/>
          <p:nvPr/>
        </p:nvPicPr>
        <p:blipFill>
          <a:blip r:embed="rId5"/>
          <a:stretch/>
        </p:blipFill>
        <p:spPr>
          <a:xfrm>
            <a:off x="6948360" y="4653000"/>
            <a:ext cx="1656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FCE4-A70E-44C7-92A0-DE6CC341D3D9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2960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 Hoe word je wie je b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95280" y="4581360"/>
            <a:ext cx="26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Belonen en straffe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C0DCB-give"/>
          <p:cNvPicPr/>
          <p:nvPr/>
        </p:nvPicPr>
        <p:blipFill>
          <a:blip r:embed="rId1"/>
          <a:stretch/>
        </p:blipFill>
        <p:spPr>
          <a:xfrm>
            <a:off x="0" y="1773360"/>
            <a:ext cx="1944720" cy="1598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9"/>
          <p:cNvSpPr/>
          <p:nvPr/>
        </p:nvSpPr>
        <p:spPr>
          <a:xfrm>
            <a:off x="3708360" y="472428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Imitati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6227640" y="472428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Informati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illustratie"/>
          <p:cNvPicPr/>
          <p:nvPr/>
        </p:nvPicPr>
        <p:blipFill>
          <a:blip r:embed="rId2"/>
          <a:stretch/>
        </p:blipFill>
        <p:spPr>
          <a:xfrm>
            <a:off x="1835280" y="2708280"/>
            <a:ext cx="1552320" cy="19652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3"/>
          <p:cNvSpPr/>
          <p:nvPr/>
        </p:nvSpPr>
        <p:spPr>
          <a:xfrm>
            <a:off x="179280" y="5661000"/>
            <a:ext cx="26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=</a:t>
            </a:r>
            <a:br>
              <a:rPr sz="3200"/>
            </a:b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Sanctie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5" descr="information"/>
          <p:cNvPicPr/>
          <p:nvPr/>
        </p:nvPicPr>
        <p:blipFill>
          <a:blip r:embed="rId3"/>
          <a:stretch/>
        </p:blipFill>
        <p:spPr>
          <a:xfrm>
            <a:off x="6156360" y="2276640"/>
            <a:ext cx="2414520" cy="2414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elastic_parrot"/>
          <p:cNvPicPr/>
          <p:nvPr/>
        </p:nvPicPr>
        <p:blipFill>
          <a:blip r:embed="rId4"/>
          <a:stretch/>
        </p:blipFill>
        <p:spPr>
          <a:xfrm>
            <a:off x="4140360" y="3284640"/>
            <a:ext cx="1207800" cy="1312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pars"/>
          <p:cNvPicPr/>
          <p:nvPr/>
        </p:nvPicPr>
        <p:blipFill>
          <a:blip r:embed="rId5"/>
          <a:stretch/>
        </p:blipFill>
        <p:spPr>
          <a:xfrm>
            <a:off x="4067280" y="1773360"/>
            <a:ext cx="155880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D83B-B2FA-4273-8803-778CB8A6FF8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Hoe word je wie je b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755640" y="5084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Identificati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4932360" y="5084640"/>
            <a:ext cx="33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Eigen Persoonlijkheid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California Motorcycle Accident Lawyer Norman Gregory Fernandez discusses Britney Spears situation."/>
          <p:cNvPicPr/>
          <p:nvPr/>
        </p:nvPicPr>
        <p:blipFill>
          <a:blip r:embed="rId1"/>
          <a:stretch/>
        </p:blipFill>
        <p:spPr>
          <a:xfrm>
            <a:off x="900000" y="1773360"/>
            <a:ext cx="2435400" cy="3162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ti-animated"/>
          <p:cNvPicPr/>
          <p:nvPr/>
        </p:nvPicPr>
        <p:blipFill>
          <a:blip r:embed="rId2"/>
          <a:stretch/>
        </p:blipFill>
        <p:spPr>
          <a:xfrm>
            <a:off x="4211640" y="1989000"/>
            <a:ext cx="3809880" cy="30290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2"/>
          <p:cNvSpPr/>
          <p:nvPr/>
        </p:nvSpPr>
        <p:spPr>
          <a:xfrm>
            <a:off x="684360" y="5851440"/>
            <a:ext cx="266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Op iemand willen lijken die je bewonder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4932360" y="6093000"/>
            <a:ext cx="33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Persoonlijke invloeden, ervaringen, karakter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1A6F-82B7-43E6-B8C5-F9F37181FB1B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62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2: Wat is norma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539640" y="2708280"/>
            <a:ext cx="79930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Normen: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gedragsregels; regels hoe iemand zich moet gedra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Waarden: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principes die iemand 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belangrijk vindt in het leven 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(vaak 1 woord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1" descr="avinfun.gif"/>
          <p:cNvPicPr/>
          <p:nvPr/>
        </p:nvPicPr>
        <p:blipFill>
          <a:blip r:embed="rId1"/>
          <a:stretch/>
        </p:blipFill>
        <p:spPr>
          <a:xfrm>
            <a:off x="6012000" y="4221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2"/>
          <p:cNvSpPr/>
          <p:nvPr/>
        </p:nvSpPr>
        <p:spPr>
          <a:xfrm>
            <a:off x="468360" y="3573360"/>
            <a:ext cx="676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fatsoensnormen: “het hoort nou eenmaal zo”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- opstaan in bus voor om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- hand gev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D7A8-4698-4AAB-A3E9-2B90F93555DE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2: Wat is norma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erschillen in waarde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n normen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 De groep waar je bij ho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 plaats waar je wo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 tijd waarin je le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éle grote verschillen: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bnorm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9" descr="gay-parade-32"/>
          <p:cNvPicPr/>
          <p:nvPr/>
        </p:nvPicPr>
        <p:blipFill>
          <a:blip r:embed="rId1"/>
          <a:stretch/>
        </p:blipFill>
        <p:spPr>
          <a:xfrm>
            <a:off x="5651640" y="1773360"/>
            <a:ext cx="3138480" cy="47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9E0B-C2D5-45B0-B68C-3DED1039F9E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marL="41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3: Socialis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= de overdracht van kenmerken van een groep of samenlev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cialiserende institu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z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rienden en vriendi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ortcl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l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ss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BC08-20DB-468C-9DCE-D88AA4C541AE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5000"/>
          </a:bodyPr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3: Socialis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ternalisat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e gedraagt je ‘automatisch’ (ongeveer) zoals de groep dat verwacht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rechts rijden in het verk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hand geven als je iemand ontmo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boer/scheet inhouden tijdens het 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EDD3-6876-4489-805A-DA6E545B977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82872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4: Ieder zijn stij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24000" y="2349360"/>
            <a:ext cx="806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Cultuur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5219640" y="3933720"/>
            <a:ext cx="360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Subcultuur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-973080" y="3933720"/>
            <a:ext cx="554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Dominante cultuur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324000" y="5589720"/>
            <a:ext cx="806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Jongeren cultuur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6" descr="cult"/>
          <p:cNvPicPr/>
          <p:nvPr/>
        </p:nvPicPr>
        <p:blipFill>
          <a:blip r:embed="rId1"/>
          <a:stretch/>
        </p:blipFill>
        <p:spPr>
          <a:xfrm>
            <a:off x="6084720" y="404640"/>
            <a:ext cx="2881440" cy="2492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7"/>
          <p:cNvSpPr/>
          <p:nvPr/>
        </p:nvSpPr>
        <p:spPr>
          <a:xfrm>
            <a:off x="1908000" y="278136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Een groep mensen met dezelfde waarden, normen en gewoon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0" y="443700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cultuur van een grote groep mensen. (in Nederland…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5580000" y="436572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cultuur van een 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kleine groep mens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2411280" y="3573360"/>
            <a:ext cx="576360" cy="503280"/>
          </a:xfrm>
          <a:prstGeom prst="leftArrow">
            <a:avLst>
              <a:gd name="adj1" fmla="val 50000"/>
              <a:gd name="adj2" fmla="val 286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2"/>
          <p:cNvSpPr/>
          <p:nvPr/>
        </p:nvSpPr>
        <p:spPr>
          <a:xfrm>
            <a:off x="5724360" y="3573360"/>
            <a:ext cx="792360" cy="505080"/>
          </a:xfrm>
          <a:prstGeom prst="rightArrow">
            <a:avLst>
              <a:gd name="adj1" fmla="val 50000"/>
              <a:gd name="adj2" fmla="val 392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2268360" y="6035760"/>
            <a:ext cx="49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cultuur van een groep jonge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Floris Hirschfeld</cp:lastModifiedBy>
  <dcterms:modified xsi:type="dcterms:W3CDTF">2011-08-24T08:02:17Z</dcterms:modified>
  <cp:revision>91</cp:revision>
  <dc:subject/>
  <dc:title>Dia 1</dc:title>
</cp:coreProperties>
</file>