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71E-568E-4C3C-9ABD-2C8BBF8B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954-4461-4CEE-8AA1-35FA70EE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C9E-103E-446E-B6E9-8697F748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255-D648-4948-BFED-3B2796FA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A54-6CBC-4E54-8EF4-F0926D35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181-F743-4F7E-B8BA-8F9077EA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646-3F9B-4831-A668-6601D5AE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816-F5B2-4A9B-BD00-CFA7F1D4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26C-B6FC-49A3-A2BB-882CF599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31D-3D2E-4061-9792-21A21C9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71E-45BA-4DB8-A21C-33B0D731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9B9-1CD3-460C-9A2A-86BE314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D2C-9063-43B3-BAC5-93EF08C35B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660-198C-4F3E-A0AE-77F33FAFBB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zinloosgeweld"/>
          <p:cNvPicPr/>
          <p:nvPr/>
        </p:nvPicPr>
        <p:blipFill>
          <a:blip r:embed="rId1"/>
          <a:stretch/>
        </p:blipFill>
        <p:spPr>
          <a:xfrm rot="1223400">
            <a:off x="5651280" y="1484280"/>
            <a:ext cx="3024000" cy="28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inloos_geweld"/>
          <p:cNvPicPr/>
          <p:nvPr/>
        </p:nvPicPr>
        <p:blipFill>
          <a:blip r:embed="rId2"/>
          <a:stretch/>
        </p:blipFill>
        <p:spPr>
          <a:xfrm rot="20426400">
            <a:off x="468000" y="436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1050923.JPG"/>
          <p:cNvPicPr/>
          <p:nvPr/>
        </p:nvPicPr>
        <p:blipFill>
          <a:blip r:embed="rId4"/>
          <a:stretch/>
        </p:blipFill>
        <p:spPr>
          <a:xfrm>
            <a:off x="3059280" y="386064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F27D-497B-416A-97B1-02F64399EA2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133720"/>
          <a:ext cx="7859520" cy="431964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BIED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ARD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zin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club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eer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B25-922A-4F53-99E1-326C233405B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erschillen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roeger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en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roeger"/>
          <p:cNvPicPr/>
          <p:nvPr/>
        </p:nvPicPr>
        <p:blipFill>
          <a:blip r:embed="rId1"/>
          <a:stretch/>
        </p:blipFill>
        <p:spPr>
          <a:xfrm>
            <a:off x="179280" y="3716280"/>
            <a:ext cx="3810240" cy="275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9169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4EC9-CF93-46D7-B7D4-8CAC94B19E2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86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270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916280"/>
          <a:ext cx="8137440" cy="48132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2808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oeger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vol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 werken 50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t werken 38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er uit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t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       werk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geld om uit te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nig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kter, minder vrij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r en vrije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respect voor elkaa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aker wapens me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el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inderde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en jong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agressi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12" name="Oval 183"/>
          <p:cNvSpPr/>
          <p:nvPr/>
        </p:nvSpPr>
        <p:spPr>
          <a:xfrm>
            <a:off x="3492360" y="3357720"/>
            <a:ext cx="216000" cy="21564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8" descr="symbool_man"/>
          <p:cNvPicPr/>
          <p:nvPr/>
        </p:nvPicPr>
        <p:blipFill>
          <a:blip r:embed="rId1"/>
          <a:stretch/>
        </p:blipFill>
        <p:spPr>
          <a:xfrm>
            <a:off x="684360" y="3387600"/>
            <a:ext cx="358560" cy="352440"/>
          </a:xfrm>
          <a:prstGeom prst="rect">
            <a:avLst/>
          </a:prstGeom>
          <a:ln w="0">
            <a:noFill/>
          </a:ln>
        </p:spPr>
      </p:pic>
      <p:sp>
        <p:nvSpPr>
          <p:cNvPr id="114" name="Line 189"/>
          <p:cNvSpPr/>
          <p:nvPr/>
        </p:nvSpPr>
        <p:spPr>
          <a:xfrm>
            <a:off x="3564000" y="35733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0"/>
          <p:cNvSpPr/>
          <p:nvPr/>
        </p:nvSpPr>
        <p:spPr>
          <a:xfrm flipV="1">
            <a:off x="3492360" y="3645000"/>
            <a:ext cx="142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1" descr="symbool_man"/>
          <p:cNvPicPr/>
          <p:nvPr/>
        </p:nvPicPr>
        <p:blipFill>
          <a:blip r:embed="rId2"/>
          <a:stretch/>
        </p:blipFill>
        <p:spPr>
          <a:xfrm>
            <a:off x="3995640" y="3357720"/>
            <a:ext cx="358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2B5-DD9F-4296-B0F4-AF9CCA17908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 (voor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349360"/>
            <a:ext cx="80643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e doet er wat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Overheid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k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j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ces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2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lorbands,50"/>
          <p:cNvPicPr/>
          <p:nvPr/>
        </p:nvPicPr>
        <p:blipFill>
          <a:blip r:embed="rId2"/>
          <a:stretch/>
        </p:blipFill>
        <p:spPr>
          <a:xfrm>
            <a:off x="2843280" y="5445000"/>
            <a:ext cx="3606840" cy="12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rcRect l="57588" t="46272" r="4769" b="11414"/>
          <a:stretch/>
        </p:blipFill>
        <p:spPr>
          <a:xfrm>
            <a:off x="6300720" y="3716280"/>
            <a:ext cx="2448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DF54-36B1-48D6-ADDF-638D87CD1B5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etten verbieden geweld 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en alcohol onder de 1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pakken van mensen als ze ve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ik op stuk bel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Camera’s opha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fouil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eenAlcoholOnder16"/>
          <p:cNvPicPr/>
          <p:nvPr/>
        </p:nvPicPr>
        <p:blipFill>
          <a:blip r:embed="rId2"/>
          <a:stretch/>
        </p:blipFill>
        <p:spPr>
          <a:xfrm rot="20184000">
            <a:off x="4622760" y="4314960"/>
            <a:ext cx="3565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2C90-CE25-47B8-ADCD-98EBF966CBA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2349360"/>
            <a:ext cx="806436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lijk zinloos gew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lchol en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ypisch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8802-596F-4D06-B36A-5F52C528B6F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wi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349360"/>
            <a:ext cx="806436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Kijken naar je eigen normen en waard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andacht spenderen aan zinloos gewel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Eigenaren disco’s beter opletten dat jongeren niet straalbezop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rugsgebruik tegenhou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lorbands,50"/>
          <p:cNvPicPr/>
          <p:nvPr/>
        </p:nvPicPr>
        <p:blipFill>
          <a:blip r:embed="rId1"/>
          <a:stretch/>
        </p:blipFill>
        <p:spPr>
          <a:xfrm>
            <a:off x="5148360" y="1413000"/>
            <a:ext cx="3606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3F82-2543-4165-8622-CB8D3D72457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2349360"/>
            <a:ext cx="806436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fspraken maken met vrien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men uit, samen thuis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Rustig blijven als je wordt gepes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57588" t="46272" r="4769" b="11414"/>
          <a:stretch/>
        </p:blipFill>
        <p:spPr>
          <a:xfrm>
            <a:off x="5940360" y="1197000"/>
            <a:ext cx="1943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DFF8-766B-4C63-AE01-E55B52067B4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 gemiddelde hoger dan een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dereen een (mini)appelfl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179664517geweld"/>
          <p:cNvPicPr/>
          <p:nvPr/>
        </p:nvPicPr>
        <p:blipFill>
          <a:blip r:embed="rId1"/>
          <a:stretch/>
        </p:blipFill>
        <p:spPr>
          <a:xfrm>
            <a:off x="284328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1CF-6BE4-4413-B851-BE06720220D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goede m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 je moet feiten w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 verschillende kanten be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 goede argumenten hebben (waarom vind je iet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52E9-110C-4A70-8D7C-CEE9181DCDF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s je een mening ge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nder dat je weet w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precies gebeurd 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ek j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0328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VOOROORDEL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2F0-02AD-4C34-B724-3FDBBDF79E6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maatschappelij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el mensen hebben er mee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zijn verschillende m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overheid bemoeit zich er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gument"/>
          <p:cNvPicPr/>
          <p:nvPr/>
        </p:nvPicPr>
        <p:blipFill>
          <a:blip r:embed="rId1"/>
          <a:stretch/>
        </p:blipFill>
        <p:spPr>
          <a:xfrm>
            <a:off x="608472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A9A-3CCA-4451-8797-5DA032F3C26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877080" y="1197000"/>
            <a:ext cx="180036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8360" y="2349360"/>
          <a:ext cx="8218440" cy="436428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N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de jonger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zier maken, veiligheid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eca ondernemer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e omzet, goede naam, geen vechtpartijen, etc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, rust, veiligheid, weinig dronke mens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gemeester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d goede naam houden, niet negatief in het nieuw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urtbewoners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en overlast, strenge 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9BF-65D6-4622-B511-9FF151CE0E8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n uitgaan naar zinloosgew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d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 veel alcohol, te veel drug, thrillseekers, vechtersbaa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lachtoff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keerde plek, verkeer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5B40-FAA2-4FF8-B371-E7AC5852090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t voordeel dat je ergens bij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meenschappelijke bela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owel jij als de politie wil veiligheid bij het uit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belang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reca wil veel drank verkopen, de politie wil geen dronken mensen op str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451-AB3D-4BE0-803F-0579A75F512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9640" y="27082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belangrijk vindt in het leven 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EA0B-DEDB-4182-AE25-440236C5162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normen en waarden bij zinloos  gew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3357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zelligheid                      Gewel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6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Geen ruzie maken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      Vechten is leu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70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26436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84720" y="2708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462560" y="4724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Rustig met drank       Dronken worden mo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7840" y="335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eiligheid                  Uit je dak ga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92360" y="3573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6156360" y="357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050920" y="486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9528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35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4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32:26Z</dcterms:modified>
  <cp:revision>80</cp:revision>
  <dc:subject/>
  <dc:title>Dia 1</dc:title>
</cp:coreProperties>
</file>