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90C-27B8-4017-9894-E69CE1C0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BF2-44B1-4EA5-8838-67E83C81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F31-2226-4B85-BC70-B6A33A5B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C20-C56E-49E0-9D1B-10F68F6A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602-0115-4611-81AB-B3EAEAAA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27C-588A-4C87-97EC-DCCD335B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D9E-1B08-4CB0-843A-55C9696A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E39-61C8-4AB1-A01D-827C2A48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2B1-DF5E-4BC8-A440-DA1284FC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FA5-8733-40B3-B873-5582FA0F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1EB-5457-4E08-B29E-48C6C517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40E-0AC7-4D59-B4C0-654B98C6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74E0-A893-4C7C-BBE2-D30DD7BEA9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FA18-42F6-4BD7-9569-D13494EAB0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Picture 8" descr="zinloosgeweld"/>
          <p:cNvPicPr/>
          <p:nvPr/>
        </p:nvPicPr>
        <p:blipFill>
          <a:blip r:embed="rId1"/>
          <a:stretch/>
        </p:blipFill>
        <p:spPr>
          <a:xfrm rot="1223400">
            <a:off x="5651280" y="1484280"/>
            <a:ext cx="3024000" cy="288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zinloos_geweld"/>
          <p:cNvPicPr/>
          <p:nvPr/>
        </p:nvPicPr>
        <p:blipFill>
          <a:blip r:embed="rId2"/>
          <a:stretch/>
        </p:blipFill>
        <p:spPr>
          <a:xfrm rot="20426400">
            <a:off x="468000" y="436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1050923.JPG"/>
          <p:cNvPicPr/>
          <p:nvPr/>
        </p:nvPicPr>
        <p:blipFill>
          <a:blip r:embed="rId4"/>
          <a:stretch/>
        </p:blipFill>
        <p:spPr>
          <a:xfrm>
            <a:off x="3059280" y="386064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E063-9FAE-41D1-8E83-874CC89470D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133720"/>
          <a:ext cx="7859520" cy="4319640"/>
        </p:xfrm>
        <a:graphic>
          <a:graphicData uri="http://schemas.openxmlformats.org/drawingml/2006/table">
            <a:tbl>
              <a:tblPr/>
              <a:tblGrid>
                <a:gridCol w="2619360"/>
                <a:gridCol w="2620800"/>
                <a:gridCol w="26193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BIED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ARDE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zin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rtclub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eer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C981-E9DB-4752-B465-00080FF2848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erschillen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roeger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en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u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vroeger"/>
          <p:cNvPicPr/>
          <p:nvPr/>
        </p:nvPicPr>
        <p:blipFill>
          <a:blip r:embed="rId1"/>
          <a:stretch/>
        </p:blipFill>
        <p:spPr>
          <a:xfrm>
            <a:off x="179280" y="3716280"/>
            <a:ext cx="3810240" cy="275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G_9169"/>
          <p:cNvPicPr/>
          <p:nvPr/>
        </p:nvPicPr>
        <p:blipFill>
          <a:blip r:embed="rId2"/>
          <a:stretch/>
        </p:blipFill>
        <p:spPr>
          <a:xfrm>
            <a:off x="4427640" y="3716280"/>
            <a:ext cx="40320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BBDB-35B5-4932-BAF5-632BE0DCE56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86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2708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916280"/>
          <a:ext cx="8137440" cy="481320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280836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oeger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vol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g werken 50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t werken 38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ker uit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t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       werk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geld om uit te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inig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kter, minder vrij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r en vrije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respect voor elkaa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aker wapens me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el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inderde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en jong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agressi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112" name="Oval 183"/>
          <p:cNvSpPr/>
          <p:nvPr/>
        </p:nvSpPr>
        <p:spPr>
          <a:xfrm>
            <a:off x="3492360" y="3357720"/>
            <a:ext cx="216000" cy="21564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8" descr="symbool_man"/>
          <p:cNvPicPr/>
          <p:nvPr/>
        </p:nvPicPr>
        <p:blipFill>
          <a:blip r:embed="rId1"/>
          <a:stretch/>
        </p:blipFill>
        <p:spPr>
          <a:xfrm>
            <a:off x="684360" y="3387600"/>
            <a:ext cx="358560" cy="352440"/>
          </a:xfrm>
          <a:prstGeom prst="rect">
            <a:avLst/>
          </a:prstGeom>
          <a:ln w="0">
            <a:noFill/>
          </a:ln>
        </p:spPr>
      </p:pic>
      <p:sp>
        <p:nvSpPr>
          <p:cNvPr id="114" name="Line 189"/>
          <p:cNvSpPr/>
          <p:nvPr/>
        </p:nvSpPr>
        <p:spPr>
          <a:xfrm>
            <a:off x="3564000" y="35733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0"/>
          <p:cNvSpPr/>
          <p:nvPr/>
        </p:nvSpPr>
        <p:spPr>
          <a:xfrm flipV="1">
            <a:off x="3492360" y="3645000"/>
            <a:ext cx="142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1" descr="symbool_man"/>
          <p:cNvPicPr/>
          <p:nvPr/>
        </p:nvPicPr>
        <p:blipFill>
          <a:blip r:embed="rId2"/>
          <a:stretch/>
        </p:blipFill>
        <p:spPr>
          <a:xfrm>
            <a:off x="3995640" y="3357720"/>
            <a:ext cx="358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4FD2-E5B6-4F77-B7F4-D13D7A75356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 (voor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4000" y="2349360"/>
            <a:ext cx="806436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e doet er wat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Overheid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k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j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reces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28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olorbands,50"/>
          <p:cNvPicPr/>
          <p:nvPr/>
        </p:nvPicPr>
        <p:blipFill>
          <a:blip r:embed="rId2"/>
          <a:stretch/>
        </p:blipFill>
        <p:spPr>
          <a:xfrm>
            <a:off x="2843280" y="5445000"/>
            <a:ext cx="3606840" cy="122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rcRect l="57588" t="46272" r="4769" b="11414"/>
          <a:stretch/>
        </p:blipFill>
        <p:spPr>
          <a:xfrm>
            <a:off x="6300720" y="3716280"/>
            <a:ext cx="2448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1955-52E7-4A60-A825-4CA00A6E0FA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etten verbieden geweld 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en alcohol onder de 16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pakken van mensen als ze ve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ik op stuk bel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Camera’s opha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fouil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eenAlcoholOnder16"/>
          <p:cNvPicPr/>
          <p:nvPr/>
        </p:nvPicPr>
        <p:blipFill>
          <a:blip r:embed="rId2"/>
          <a:stretch/>
        </p:blipFill>
        <p:spPr>
          <a:xfrm rot="20184000">
            <a:off x="4622760" y="4314960"/>
            <a:ext cx="35654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742C-E507-4BAB-844A-37005768226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000" y="2349360"/>
            <a:ext cx="806436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lijk zinloos gew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lchol en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ypisch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5C51-6D1A-4185-91AF-0CA512BE5DA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wij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4000" y="2349360"/>
            <a:ext cx="806436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Kijken naar je eigen normen en waard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andacht spenderen aan zinloos geweld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Eigenaren disco’s beter opletten dat jongeren niet straalbezop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rugsgebruik tegenhou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lorbands,50"/>
          <p:cNvPicPr/>
          <p:nvPr/>
        </p:nvPicPr>
        <p:blipFill>
          <a:blip r:embed="rId1"/>
          <a:stretch/>
        </p:blipFill>
        <p:spPr>
          <a:xfrm>
            <a:off x="5148360" y="1413000"/>
            <a:ext cx="360684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D81C-4054-4B70-BDDD-1E787C1A922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i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24000" y="2349360"/>
            <a:ext cx="806436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fspraken maken met vrien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men uit, samen thuis”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Rustig blijven als je wordt gepes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57588" t="46272" r="4769" b="11414"/>
          <a:stretch/>
        </p:blipFill>
        <p:spPr>
          <a:xfrm>
            <a:off x="5940360" y="1197000"/>
            <a:ext cx="1943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CBA1-81B3-4C13-B07D-13566EDC11E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 gemiddelde hoger dan een 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dereen een (mini)appelfl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1179664517geweld"/>
          <p:cNvPicPr/>
          <p:nvPr/>
        </p:nvPicPr>
        <p:blipFill>
          <a:blip r:embed="rId1"/>
          <a:stretch/>
        </p:blipFill>
        <p:spPr>
          <a:xfrm>
            <a:off x="284328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D11C-EE4F-4BEA-A007-517FE4A1799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goede m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 je moet feiten w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 verschillende kanten be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 goede argumenten hebben (waarom vind je iet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0281-E4A5-4CE2-824C-089E4AFFD07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s je een mening gee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onder dat je weet w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precies gebeurd i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reek je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403280" y="530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VOOROORDEL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CBF4-4A10-4273-94EE-A73030FEBE5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maatschappelij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el mensen hebben er mee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zijn verschillende m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 overheid bemoeit zich er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rgument"/>
          <p:cNvPicPr/>
          <p:nvPr/>
        </p:nvPicPr>
        <p:blipFill>
          <a:blip r:embed="rId1"/>
          <a:stretch/>
        </p:blipFill>
        <p:spPr>
          <a:xfrm>
            <a:off x="608472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9F17-8BD3-4C14-8011-79AC575E715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877080" y="1197000"/>
            <a:ext cx="1800360" cy="12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68360" y="2349360"/>
          <a:ext cx="8218440" cy="436428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AN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de jonger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zier maken, veiligheid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eca ondernemer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ge omzet, goede naam, geen vechtpartijen, etc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e, rust, veiligheid, weinig dronke mens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rgemeester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d goede naam houden, niet negatief in het nieuw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urtbewoners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en overlast, strenge 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A923-E370-4010-9198-9C44DD72FF1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n uitgaan naar zinloosgew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d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 veel alcohol, te veel drug, thrillseekers, vechtersbaa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lachtoff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rkeerde plek, verkeer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12BE-789F-4DCD-A1B9-0632DC5A1F4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t voordeel dat je ergens bij h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meenschappelijke bela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owel jij als de politie wil veiligheid bij het uit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belang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reca wil veel drank verkopen, de politie wil geen dronken mensen op str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EF0F-8316-4059-BE82-57685D62AC4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9640" y="270828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belangrijk vindt in het leven 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BE00-D692-46AD-8814-F8CEC6F0597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normen en waarden bij zinloos  gew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3357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ezelligheid                      Gewel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465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Geen ruzie maken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      Vechten is leu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01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403280" y="2708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264360" y="508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084720" y="2708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462560" y="47242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Rustig met drank       Dronken worden mo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857840" y="3357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eiligheid                  Uit je dak ga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1692360" y="357336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6156360" y="357336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050920" y="4869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372360" y="49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9528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817236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35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3419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32:26Z</dcterms:modified>
  <cp:revision>80</cp:revision>
  <dc:subject/>
  <dc:title>Dia 1</dc:title>
</cp:coreProperties>
</file>